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501-5F2D-4BEB-BA17-3E22EDF1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997-40F9-41E7-B841-2A6FF81A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739-0215-4256-836E-099A9906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FAE-B20C-43D7-837B-17AAFBDE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001-58B5-4CCE-A562-8C48B5B4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696-E667-4D83-95A1-75D80242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379-1C3E-49DF-995C-D76906A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7AA-8F40-4564-8BF7-40C1468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168-4E0D-49CA-BB36-074918E3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B92-B7E9-42EA-8B8E-9BEAF37C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712-71C1-4842-B7EE-F9659EB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089-A22C-4452-B5FF-4511CED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2840-602F-43EF-BFD9-08B65EDBFA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ws_E8E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ws_EA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ws_EA2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ws_EA4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ws_EA7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ws_EA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ws_EAB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ws_EAD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ws_EAF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ws_EB1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ws_EB3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ws_E9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ws_EB5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ws_EB7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ws_EB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ws_EBC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ws_EBE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ws_E92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ws_E94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ws_E9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ws_E98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ws_E9A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ws_E9C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ws_E9E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02:32:36Z</dcterms:created>
  <dc:creator/>
  <dc:description/>
  <cp:keywords/>
  <dc:language>en-US</dc:language>
  <cp:lastModifiedBy>ABC</cp:lastModifiedBy>
  <dcterms:modified xsi:type="dcterms:W3CDTF">2015-06-09T03:59:55Z</dcterms:modified>
  <cp:revision>1</cp:revision>
  <dc:subject/>
  <dc:title>PowerPoint 演示文稿</dc:title>
</cp:coreProperties>
</file>