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FFA-D73E-4CF2-8FD7-A7A7D4EE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71A-517A-4DAD-8F15-829ABA5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F99-AA1C-4F93-846B-AEB296E5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054-2E5E-4BCC-A908-350BC98A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4DF-17EC-43B4-981D-30022213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18F-95D0-4507-9D76-57DA339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7DC-B4E4-4DE9-A6D2-B0AADE20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734-4F0F-4C3B-9596-E614AB2C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008-FE47-45EC-8B73-979A58C0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E35-8E35-4CDF-9E3F-C57F080D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D2C-E2DD-4CD4-B7A7-64B1A25E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082-46BB-4A2E-9DD1-626D0F3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02D-2BC9-4757-A9EE-799EEB5651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1CB-C091-40B3-BA8B-E476A5E2C6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4067280" y="3257640"/>
            <a:ext cx="4502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标题 1"/>
          <p:cNvSpPr/>
          <p:nvPr/>
        </p:nvSpPr>
        <p:spPr>
          <a:xfrm>
            <a:off x="3894120" y="389088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5"/>
          <p:cNvSpPr/>
          <p:nvPr/>
        </p:nvSpPr>
        <p:spPr>
          <a:xfrm>
            <a:off x="4199040" y="4614840"/>
            <a:ext cx="387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西软件园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cr173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864D-B42D-4D15-9C83-38102F77B8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58" name="矩形 7"/>
          <p:cNvSpPr/>
          <p:nvPr/>
        </p:nvSpPr>
        <p:spPr>
          <a:xfrm>
            <a:off x="842652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2703600" y="876240"/>
            <a:ext cx="4681440" cy="720720"/>
            <a:chOff x="2703600" y="876240"/>
            <a:chExt cx="4681440" cy="720720"/>
          </a:xfrm>
        </p:grpSpPr>
        <p:sp>
          <p:nvSpPr>
            <p:cNvPr id="66" name="矩形 26"/>
            <p:cNvSpPr/>
            <p:nvPr/>
          </p:nvSpPr>
          <p:spPr>
            <a:xfrm>
              <a:off x="2703600" y="1308600"/>
              <a:ext cx="4681440" cy="28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25"/>
            <p:cNvSpPr/>
            <p:nvPr/>
          </p:nvSpPr>
          <p:spPr>
            <a:xfrm>
              <a:off x="3385080" y="9842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4"/>
            <p:cNvSpPr/>
            <p:nvPr/>
          </p:nvSpPr>
          <p:spPr>
            <a:xfrm>
              <a:off x="2919600" y="8762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7"/>
            <p:cNvSpPr/>
            <p:nvPr/>
          </p:nvSpPr>
          <p:spPr>
            <a:xfrm>
              <a:off x="3022200" y="877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6"/>
          <p:cNvGrpSpPr/>
          <p:nvPr/>
        </p:nvGrpSpPr>
        <p:grpSpPr>
          <a:xfrm>
            <a:off x="2703600" y="1784520"/>
            <a:ext cx="4681440" cy="720720"/>
            <a:chOff x="2703600" y="1784520"/>
            <a:chExt cx="4681440" cy="720720"/>
          </a:xfrm>
        </p:grpSpPr>
        <p:sp>
          <p:nvSpPr>
            <p:cNvPr id="71" name="矩形 30"/>
            <p:cNvSpPr/>
            <p:nvPr/>
          </p:nvSpPr>
          <p:spPr>
            <a:xfrm>
              <a:off x="2703600" y="2216880"/>
              <a:ext cx="4681440" cy="28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1"/>
            <p:cNvSpPr/>
            <p:nvPr/>
          </p:nvSpPr>
          <p:spPr>
            <a:xfrm>
              <a:off x="3385080" y="189252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2919600" y="178452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3036600" y="178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2703600" y="2692440"/>
            <a:ext cx="4681440" cy="720720"/>
            <a:chOff x="2703600" y="2692440"/>
            <a:chExt cx="4681440" cy="720720"/>
          </a:xfrm>
        </p:grpSpPr>
        <p:sp>
          <p:nvSpPr>
            <p:cNvPr id="76" name="矩形 35"/>
            <p:cNvSpPr/>
            <p:nvPr/>
          </p:nvSpPr>
          <p:spPr>
            <a:xfrm>
              <a:off x="2703600" y="3124800"/>
              <a:ext cx="4681440" cy="28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6"/>
            <p:cNvSpPr/>
            <p:nvPr/>
          </p:nvSpPr>
          <p:spPr>
            <a:xfrm>
              <a:off x="3385080" y="28004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2919600" y="26924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8"/>
            <p:cNvSpPr/>
            <p:nvPr/>
          </p:nvSpPr>
          <p:spPr>
            <a:xfrm>
              <a:off x="3002760" y="270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6"/>
          <p:cNvGrpSpPr/>
          <p:nvPr/>
        </p:nvGrpSpPr>
        <p:grpSpPr>
          <a:xfrm>
            <a:off x="2703600" y="3600360"/>
            <a:ext cx="4681440" cy="720720"/>
            <a:chOff x="2703600" y="3600360"/>
            <a:chExt cx="4681440" cy="720720"/>
          </a:xfrm>
        </p:grpSpPr>
        <p:sp>
          <p:nvSpPr>
            <p:cNvPr id="81" name="矩形 40"/>
            <p:cNvSpPr/>
            <p:nvPr/>
          </p:nvSpPr>
          <p:spPr>
            <a:xfrm>
              <a:off x="2703600" y="4032720"/>
              <a:ext cx="4681440" cy="28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41"/>
            <p:cNvSpPr/>
            <p:nvPr/>
          </p:nvSpPr>
          <p:spPr>
            <a:xfrm>
              <a:off x="3385080" y="370836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42"/>
            <p:cNvSpPr/>
            <p:nvPr/>
          </p:nvSpPr>
          <p:spPr>
            <a:xfrm>
              <a:off x="2919600" y="360036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3"/>
            <p:cNvSpPr/>
            <p:nvPr/>
          </p:nvSpPr>
          <p:spPr>
            <a:xfrm>
              <a:off x="3025440" y="3617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44"/>
          <p:cNvSpPr/>
          <p:nvPr/>
        </p:nvSpPr>
        <p:spPr>
          <a:xfrm>
            <a:off x="1188000" y="365040"/>
            <a:ext cx="72936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BC26-5080-4203-91B5-2A01A133BD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章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2289600" y="1346040"/>
            <a:ext cx="1761480" cy="877320"/>
            <a:chOff x="2289600" y="1346040"/>
            <a:chExt cx="1761480" cy="877320"/>
          </a:xfrm>
        </p:grpSpPr>
        <p:sp>
          <p:nvSpPr>
            <p:cNvPr id="98" name="AutoShape 5"/>
            <p:cNvSpPr/>
            <p:nvPr/>
          </p:nvSpPr>
          <p:spPr>
            <a:xfrm rot="12420000">
              <a:off x="2266920" y="1802880"/>
              <a:ext cx="1132560" cy="172800"/>
            </a:xfrm>
            <a:custGeom>
              <a:avLst/>
              <a:gdLst>
                <a:gd name="textAreaLeft" fmla="*/ 0 w 1132560"/>
                <a:gd name="textAreaRight" fmla="*/ 1132560 w 1132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2367720" y="1346040"/>
              <a:ext cx="1683360" cy="63360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未知"/>
          <p:cNvSpPr/>
          <p:nvPr/>
        </p:nvSpPr>
        <p:spPr>
          <a:xfrm>
            <a:off x="3635280" y="1978200"/>
            <a:ext cx="2059200" cy="8618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3946680" y="1576440"/>
            <a:ext cx="1841400" cy="6238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5214240" y="2479680"/>
            <a:ext cx="3613680" cy="1822320"/>
            <a:chOff x="5214240" y="2479680"/>
            <a:chExt cx="3613680" cy="1822320"/>
          </a:xfrm>
        </p:grpSpPr>
        <p:sp>
          <p:nvSpPr>
            <p:cNvPr id="103" name="AutoShape 11"/>
            <p:cNvSpPr/>
            <p:nvPr/>
          </p:nvSpPr>
          <p:spPr>
            <a:xfrm rot="12420000">
              <a:off x="5176440" y="3253320"/>
              <a:ext cx="1333080" cy="15480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5271840" y="2479680"/>
              <a:ext cx="3532320" cy="1492920"/>
            </a:xfrm>
            <a:custGeom>
              <a:avLst/>
              <a:gdLst>
                <a:gd name="textAreaLeft" fmla="*/ 0 w 3532320"/>
                <a:gd name="textAreaRight" fmla="*/ 3532680 w 353232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3283" h="1388">
                  <a:moveTo>
                    <a:pt x="0" y="332"/>
                  </a:moveTo>
                  <a:lnTo>
                    <a:pt x="1065" y="869"/>
                  </a:lnTo>
                  <a:lnTo>
                    <a:pt x="177" y="1388"/>
                  </a:lnTo>
                  <a:lnTo>
                    <a:pt x="3283" y="1388"/>
                  </a:lnTo>
                  <a:lnTo>
                    <a:pt x="2529" y="96"/>
                  </a:lnTo>
                  <a:lnTo>
                    <a:pt x="1981" y="414"/>
                  </a:lnTo>
                  <a:lnTo>
                    <a:pt x="685" y="0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3"/>
            <p:cNvSpPr/>
            <p:nvPr/>
          </p:nvSpPr>
          <p:spPr>
            <a:xfrm rot="10800000">
              <a:off x="5479920" y="4086000"/>
              <a:ext cx="3348000" cy="2160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1"/>
          <p:cNvGrpSpPr/>
          <p:nvPr/>
        </p:nvGrpSpPr>
        <p:grpSpPr>
          <a:xfrm>
            <a:off x="5694480" y="1889280"/>
            <a:ext cx="1861920" cy="1719000"/>
            <a:chOff x="5694480" y="1889280"/>
            <a:chExt cx="1861920" cy="1719000"/>
          </a:xfrm>
        </p:grpSpPr>
        <p:sp>
          <p:nvSpPr>
            <p:cNvPr id="107" name="Oval 4"/>
            <p:cNvSpPr/>
            <p:nvPr/>
          </p:nvSpPr>
          <p:spPr>
            <a:xfrm>
              <a:off x="5694480" y="2507760"/>
              <a:ext cx="1861920" cy="1100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6"/>
            <p:cNvSpPr/>
            <p:nvPr/>
          </p:nvSpPr>
          <p:spPr>
            <a:xfrm>
              <a:off x="6072480" y="1889280"/>
              <a:ext cx="1169640" cy="116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4051440" y="630360"/>
            <a:ext cx="1643040" cy="1569960"/>
            <a:chOff x="4051440" y="630360"/>
            <a:chExt cx="1643040" cy="1569960"/>
          </a:xfrm>
        </p:grpSpPr>
        <p:sp>
          <p:nvSpPr>
            <p:cNvPr id="110" name="Oval 4"/>
            <p:cNvSpPr/>
            <p:nvPr/>
          </p:nvSpPr>
          <p:spPr>
            <a:xfrm>
              <a:off x="4051440" y="1554120"/>
              <a:ext cx="164304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79"/>
            <p:cNvSpPr/>
            <p:nvPr/>
          </p:nvSpPr>
          <p:spPr>
            <a:xfrm>
              <a:off x="4298400" y="630360"/>
              <a:ext cx="1203120" cy="1203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7"/>
          <p:cNvGrpSpPr/>
          <p:nvPr/>
        </p:nvGrpSpPr>
        <p:grpSpPr>
          <a:xfrm>
            <a:off x="2579760" y="915840"/>
            <a:ext cx="1150920" cy="1062360"/>
            <a:chOff x="2579760" y="915840"/>
            <a:chExt cx="1150920" cy="1062360"/>
          </a:xfrm>
        </p:grpSpPr>
        <p:sp>
          <p:nvSpPr>
            <p:cNvPr id="113" name="Oval 4"/>
            <p:cNvSpPr/>
            <p:nvPr/>
          </p:nvSpPr>
          <p:spPr>
            <a:xfrm>
              <a:off x="2579760" y="1297800"/>
              <a:ext cx="1150920" cy="680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82"/>
            <p:cNvSpPr/>
            <p:nvPr/>
          </p:nvSpPr>
          <p:spPr>
            <a:xfrm>
              <a:off x="2813400" y="915840"/>
              <a:ext cx="723240" cy="72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12"/>
          <p:cNvSpPr/>
          <p:nvPr/>
        </p:nvSpPr>
        <p:spPr>
          <a:xfrm flipH="1">
            <a:off x="4968720" y="2476440"/>
            <a:ext cx="1678320" cy="13654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1857240" y="3076560"/>
            <a:ext cx="3111480" cy="15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83"/>
          <p:cNvSpPr/>
          <p:nvPr/>
        </p:nvSpPr>
        <p:spPr>
          <a:xfrm flipH="1">
            <a:off x="4905000" y="768240"/>
            <a:ext cx="1467000" cy="4636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4"/>
          <p:cNvSpPr/>
          <p:nvPr/>
        </p:nvSpPr>
        <p:spPr>
          <a:xfrm>
            <a:off x="6372360" y="355680"/>
            <a:ext cx="2411280" cy="11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D96-64D2-480F-B81B-3F558DF467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2340000" y="1633680"/>
            <a:ext cx="591984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3"/>
          <p:cNvGrpSpPr/>
          <p:nvPr/>
        </p:nvGrpSpPr>
        <p:grpSpPr>
          <a:xfrm>
            <a:off x="4140360" y="1128600"/>
            <a:ext cx="720720" cy="720720"/>
            <a:chOff x="4140360" y="1128600"/>
            <a:chExt cx="720720" cy="720720"/>
          </a:xfrm>
        </p:grpSpPr>
        <p:sp>
          <p:nvSpPr>
            <p:cNvPr id="132" name="直接连接符 4"/>
            <p:cNvSpPr/>
            <p:nvPr/>
          </p:nvSpPr>
          <p:spPr>
            <a:xfrm>
              <a:off x="4500720" y="1488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0"/>
            <p:cNvSpPr/>
            <p:nvPr/>
          </p:nvSpPr>
          <p:spPr>
            <a:xfrm>
              <a:off x="4140360" y="1128600"/>
              <a:ext cx="72072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6372360" y="1558800"/>
            <a:ext cx="576000" cy="574920"/>
            <a:chOff x="6372360" y="1558800"/>
            <a:chExt cx="576000" cy="574920"/>
          </a:xfrm>
        </p:grpSpPr>
        <p:sp>
          <p:nvSpPr>
            <p:cNvPr id="135" name="直接连接符 24"/>
            <p:cNvSpPr/>
            <p:nvPr/>
          </p:nvSpPr>
          <p:spPr>
            <a:xfrm>
              <a:off x="6660360" y="184608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25"/>
            <p:cNvSpPr/>
            <p:nvPr/>
          </p:nvSpPr>
          <p:spPr>
            <a:xfrm>
              <a:off x="6372360" y="1558800"/>
              <a:ext cx="576000" cy="287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9"/>
          <p:cNvGrpSpPr/>
          <p:nvPr/>
        </p:nvGrpSpPr>
        <p:grpSpPr>
          <a:xfrm>
            <a:off x="2340000" y="2168640"/>
            <a:ext cx="431640" cy="431640"/>
            <a:chOff x="2340000" y="2168640"/>
            <a:chExt cx="431640" cy="431640"/>
          </a:xfrm>
        </p:grpSpPr>
        <p:sp>
          <p:nvSpPr>
            <p:cNvPr id="138" name="直接连接符 27"/>
            <p:cNvSpPr/>
            <p:nvPr/>
          </p:nvSpPr>
          <p:spPr>
            <a:xfrm>
              <a:off x="2555640" y="2384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8"/>
            <p:cNvSpPr/>
            <p:nvPr/>
          </p:nvSpPr>
          <p:spPr>
            <a:xfrm>
              <a:off x="2340000" y="2168640"/>
              <a:ext cx="43164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4643280" y="2384280"/>
            <a:ext cx="432000" cy="432000"/>
            <a:chOff x="4643280" y="2384280"/>
            <a:chExt cx="432000" cy="432000"/>
          </a:xfrm>
        </p:grpSpPr>
        <p:sp>
          <p:nvSpPr>
            <p:cNvPr id="141" name="直接连接符 30"/>
            <p:cNvSpPr/>
            <p:nvPr/>
          </p:nvSpPr>
          <p:spPr>
            <a:xfrm>
              <a:off x="4859280" y="2600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1"/>
            <p:cNvSpPr/>
            <p:nvPr/>
          </p:nvSpPr>
          <p:spPr>
            <a:xfrm>
              <a:off x="4643280" y="2384280"/>
              <a:ext cx="432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5"/>
          <p:cNvGrpSpPr/>
          <p:nvPr/>
        </p:nvGrpSpPr>
        <p:grpSpPr>
          <a:xfrm>
            <a:off x="7432560" y="2695680"/>
            <a:ext cx="432000" cy="390600"/>
            <a:chOff x="7432560" y="2695680"/>
            <a:chExt cx="432000" cy="390600"/>
          </a:xfrm>
        </p:grpSpPr>
        <p:sp>
          <p:nvSpPr>
            <p:cNvPr id="144" name="直接连接符 33"/>
            <p:cNvSpPr/>
            <p:nvPr/>
          </p:nvSpPr>
          <p:spPr>
            <a:xfrm>
              <a:off x="7648560" y="2890800"/>
              <a:ext cx="0" cy="19548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4"/>
            <p:cNvSpPr/>
            <p:nvPr/>
          </p:nvSpPr>
          <p:spPr>
            <a:xfrm>
              <a:off x="7432560" y="2695680"/>
              <a:ext cx="432000" cy="195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8D60-851F-4860-AE60-34317CFB58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150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7"/>
          <p:cNvSpPr/>
          <p:nvPr/>
        </p:nvSpPr>
        <p:spPr>
          <a:xfrm flipH="1">
            <a:off x="3707640" y="3433680"/>
            <a:ext cx="8745480" cy="51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06:00Z</dcterms:created>
  <dc:creator>Windows 用户</dc:creator>
  <dc:description/>
  <cp:keywords/>
  <dc:language>en-US</dc:language>
  <cp:lastModifiedBy>Administrator</cp:lastModifiedBy>
  <dcterms:modified xsi:type="dcterms:W3CDTF">2015-07-08T03:09:33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