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%20am%20alive_03,28.00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</p:sldIdLst>
  <p:sldSz cx="1025207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7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Img"/>
          </p:nvPr>
        </p:nvSpPr>
        <p:spPr>
          <a:xfrm>
            <a:off x="866880" y="685440"/>
            <a:ext cx="5124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7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 type="sldNum" idx="7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B435-4B43-4758-88F4-F3C454C3D5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866880" y="685800"/>
            <a:ext cx="512424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每天或至少每周一次，你的“至高财富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幸福感”一定会不断上升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9AB1-398E-4985-9510-A061C3BE3B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866880" y="685800"/>
            <a:ext cx="512424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哈佛大学最受欢迎的选修课是“幸福课”，听课人数超过了王牌课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经济学导论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而教这门课的是一位名不见经传的年轻讲师，名叫塔尔宾－夏哈尔，哈佛大学哲学与心理学博士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许多学生向学校反应，这两门课“改变了他们的一生”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SzPct val="82000"/>
              <a:buFont typeface="Times New Roman"/>
              <a:buChar char="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美国主流媒体争相报导，包括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波士顿全球报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纽约时报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，以及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NN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CBS</a:t>
            </a:r>
            <a:r>
              <a:rPr b="1" lang="zh-CN" sz="1200" spc="-1" strike="noStrike">
                <a:solidFill>
                  <a:srgbClr val="ffffff"/>
                </a:solidFill>
                <a:latin typeface="Times New Roman"/>
              </a:rPr>
              <a:t>、美国国家公共广播电台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ECD6-FCC9-43EE-842F-308CC4E071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F7F-10B0-40F1-8565-2F5862E3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8D51-4518-4208-AE7B-2EE1C9EF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2B0B5-A643-4A5B-A58D-27519CE5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EEEA5-F714-44CB-BF50-6F04B6F7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FA24C-38F2-4D4B-AE31-F5AEB98E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1F39-5EA5-45A1-9548-16B238A5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F6493-2D64-466D-B42E-662E750F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515E9-4ECE-4629-BF24-81435172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A167-7F05-40A9-8DB6-F284913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8A1BB-0ACC-4050-8597-9F981105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206FE-D783-4337-B132-2EB15324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C1B9D-0164-4ACD-96F4-F1AF8766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2506-95D4-42CB-982C-5983DC09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ACF29-9812-4401-8A08-A3171B97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2B722-09BD-4787-96D9-245E2CCE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A0413-2BA9-4AA9-AFCB-732AA1F3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BAF41-4410-459D-9DD7-F4C3E3E5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9A905-2486-4643-9097-1735BC70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5876D-5040-4B35-BAB6-F363B1D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B0DE1-F0C8-4DE1-A7CB-CBBA25E1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FA398-AE0A-4699-85EF-561602DB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A287E-3257-40DB-A1B3-5C56B8F5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E7C1B-552B-4C09-8455-D48C83B8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546-9231-4505-BB4E-A367869E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D327E-0827-4E71-AADF-297F9BDD2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E3706-9191-4609-AE2C-C62DCE5D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8D9C8-D195-4B7F-A3BB-4EC7359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578C5-A225-49BA-AEBC-71ACE0BD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6DD5B-ACEC-447E-ABF3-910B78E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CA456-C782-44E2-900B-59ABAF01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4159C-7621-494D-A44C-CE212BA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B6F5D-B93B-4B8E-A082-85AF79B5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589C-586F-47AF-92E3-370997D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29A7-80EE-430B-89D7-9A0AFBBD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841A-88B6-41AC-B7D0-0133A55D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780B6-BE6E-4452-AE2F-6D32BF2F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1E0FE-B912-4ACA-8E20-0192EF1E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5A04E-3A83-4F07-ADB2-655EA2DC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2A7E6-E53D-45F1-8271-4A5C101F9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C1408-AAEE-4901-9961-B05E7E9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04D91-0EBB-436A-B4FD-AC678C13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ED44C-1AFC-4F8E-BFB4-41A94F4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CA76-8869-4A79-8A23-3E3111BF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9B32D-D59F-45D8-85A2-9BE80D04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861EA-690A-43FA-9392-51A975FC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8490-E879-4FEE-9571-4373A4F4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9B555-4534-40D6-B202-A9C35C22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D4E25-7038-479B-AD0E-4A29B70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AAB34-061A-43BD-AA2F-F1B69691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254D-9DA8-479C-92FD-2A35AF92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3DF67-FE3D-411F-B31A-0CC0B74D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EB349-D489-472F-9A27-D50A6D76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7A3D6-37FD-428C-A8CD-9AF31FD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B68E0-B281-4E5F-B1F8-441AF4CF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A9F99-4736-4B33-983F-4D1BCD23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C203D-1BF7-4A0C-8924-8AD76F6C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F674-E328-4EE8-8E05-EC8B2968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8116D-87C4-429E-8875-6C7B56A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1E34A-7B28-4B8A-9238-3B7E7A1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B8935-58FD-46F8-931A-20B69D3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DB7F8-05F2-410A-9D52-2A7C7A4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5108D-03CA-4C9F-96BA-582305D8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81BA8-4EE8-4A6A-B408-654D101C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5461F-CFC0-468E-AB30-364B5EDB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20152-7B08-4A29-9F2A-4AD9BDC9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908868-4A62-4565-8355-8608B3E3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8A73F-0938-41BE-81EA-B6F5ADF8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7BF-16DD-43B8-B2D7-4371549F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74315-0289-46CC-8D36-D5FC5481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5E6BF-0304-494A-9931-DC8BBCFE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26184-94FD-4364-ABA9-B9D8B2B4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EFBAF9-E11B-4736-B3AA-2C166B63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43280-1156-4698-819E-0400C3C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C08F4-70DA-41C8-A3E0-F675697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85814-7F04-46C6-B652-CDDF30DC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570E4-CB9A-43FB-A4E8-B25C95BD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64023-B7FA-4884-9FEA-96716C94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C22F7-18BB-434C-ADE3-15F3E462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8E70-B9C8-4401-A5DF-B5D721A0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8477E-FCB4-4B55-8E15-EE8432C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914641-6815-4EE1-B279-36A34C94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9436F-4B10-4630-8947-7E980701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67AC5-6DBB-489E-8A3C-818E264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7D8381-969D-4CC7-B80D-FB3EE48D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C8706-CD3F-4969-9973-EACF57D1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A8952-8532-4191-B0EB-D97018CE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63C87-BA62-416E-967C-9E4EE78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2284A-9916-411A-B13C-A031BC16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BB65D-08C9-4087-A379-C0CC9DDB1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35FC-0D30-4953-BD19-06865CF8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BF475-3004-4D4D-8486-53C2501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87801-71C3-4593-BC63-B033CD27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F6CF3-38D6-40C7-BD7A-2BB8CECF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C4485-D768-47C1-8D76-9EFDDA32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D1C8A-1CE1-4A09-B047-440C789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F076B-ADBE-4E02-ADFC-529E73B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654D2D-8657-4BE3-A9B1-E5C651D1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85341-9A46-4AFA-B27C-8D5892F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94769-6A7E-46DF-BE34-54F981D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F6165-353E-494C-8831-BB59AB4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68B5-8074-4A4F-902D-C0E578D6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944A6-2C2D-4847-BA43-9A424928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DFA08-0E98-4324-A4C5-A745675D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C5491-25BD-42E2-862A-FF13F14A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6D914-A27B-4E0D-9114-2694531F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3709A7-6C9D-42CA-8407-DE6548CF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8320D-8030-4C19-A498-4947F5C4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11CBF-D02F-43D1-87DE-BCE5D6EC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5879E-D0F5-4838-8580-50630A6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87A8CE-341A-483A-8FC9-24E6F630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51C66-DE87-4D48-A2D8-5BC17BD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485-C441-4139-979D-F0EFDA15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E0EB-FD7C-44A4-91D7-B08FDC9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1A922-2C8C-4132-BF8E-F0C3B09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41D2D-819A-4575-A391-2C8B898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7375E-E5DD-48D5-A463-E67C9FC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B226F-6EEB-40A0-AE51-BD7CC6E2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60F857-C8B3-433C-A294-C0DD25EB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63BD83-BB7D-4817-BD19-136E3403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471B0-2198-494C-9E4B-EBB9906A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5AA1A-DC22-49E3-A5F4-221304E9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86169-9311-4F0B-A3DC-0DE91215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B95F5-8D8D-447E-A611-1C561833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FDB6-313F-4F04-BFFD-D128E41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07504-A3E9-4ABD-AA1F-05DFBEF1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8162D-138C-4E4C-AB8D-0A8AB10E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64406-75F6-4B7F-8F84-C70890F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12B3D-681F-456C-9A1B-AE4061C3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861DD-6F4D-4BBD-96B4-482B62E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793A9A-3CA0-4CF4-92DF-422BA831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FC358-EA91-439E-AE32-A3AB893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C74F3-17EA-4CFB-ADE0-C703FF29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8355F-1DEB-4489-A4CF-9D0C653E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AC25A-D274-4D37-B94B-3A682F18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C905-5575-482B-9603-9F2FBA43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477A6-1554-4C09-B089-C228F7E1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2ACBF-5BF3-4329-B56C-97F4558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FA8A0-0C98-4135-A54F-2852D093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AF5A8F-99DA-40C7-8799-9280E6B4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EC4AA-5787-4E04-8650-C5762318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7DA659-658B-4D82-9513-CD47F26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A869D-6487-4B30-8B03-6915CEE7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62E98-A85D-4D73-B58A-CB82A555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951D90-FE74-46FA-831C-025B5E1E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480760-76D0-46B9-A716-196E541C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0124-1D95-4BB3-AA76-74DE49CE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1403E-840B-4B46-837D-5148301C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DD16AA-A17C-49A8-9896-45211929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D1346-24C3-4E88-B644-DE3D25C0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FF9B1-8252-4E16-A133-0B69DA5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566F6-E6FE-435D-8174-14EF098A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98A33-37EF-40AE-B5E2-C626A8D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9826C-D340-4A1B-8C66-0782F318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478EB-68F9-4C61-83E8-7C4E0E9F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6E97C-41B8-4B7F-8896-9720304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7B4118-F5EF-4B2A-BC3A-96F944CE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4A24-5DD7-482B-8A27-4483C128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7FB45-CA04-46C1-ACF3-BC731275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E8AE9-0061-4E3C-847F-F94E746B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6FD26B-E669-4011-9A6B-691BED72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CE7DD4-9889-4A18-B2C5-0E2ABC49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71E0D-8E8B-4821-8114-6C18AB9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356CF-25AA-4AC2-A779-05484C77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11FA7-44B0-4073-9172-B554D2ED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55B62F-33C4-4FE1-99A2-51B47779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DA94A-2FE5-417E-97BB-B44BDC8B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13E54-0B52-43DA-A0B9-0347127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98236-A576-41E4-8F58-A49A9881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776B17-1209-40B3-B764-44DE78DF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DEE855-B451-43F2-BE93-CFB4BAA4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8A22D-3609-480F-9C0D-B57F5FFA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07D06-5C7B-4B51-8EE2-6BDF7E97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72519B-DA6F-444F-9C86-8DB7DB3A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C15BFB-CBDB-4313-A41E-DF8ECB2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4C7E5D-D875-4D8A-A745-AF348EB6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BCE81-566F-4E8C-BEF4-F8FBF461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FBAC18-7572-432F-9907-C7B5AB9D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B246B-36EC-45BF-9031-5BBA7F79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E6D2-6A96-44BA-9570-86539544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2019A-2D14-4967-AFC6-A0DE9730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1E3C8-8FBB-4A61-9503-15EB527C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534FD-01F8-4A32-B520-815F671D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D93DF-67E1-4456-BCEE-6C0BF3B5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31B6B7-07E2-4AEB-825C-462ECD1A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632ECC-FA59-411B-B51E-F2D17775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DC3E64-0FF7-4D92-A7E6-A8A81AB5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84768-DA91-4EA6-A7B9-5867ACD7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115DA3-0B15-4351-929E-3BB6C6D2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B4C683-160C-48E1-A681-EDC1555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28FC-368A-4CBB-8730-C44C1D9C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22DAF0-6E15-450C-AE7A-B5E0892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11BE2F-E544-46C3-B337-9055DAFD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96864E-442C-4082-8F1A-C9734790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E3E67E-CBE7-4B0A-B08C-412FF3F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2853D2-7B6D-463B-9E8B-A96A1A1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179BC-4F5C-467D-9534-A49DA3D2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AC9DC3-FAD6-43FC-9BD4-ACE08BEF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01DB-A36A-41D7-83FD-5FE5835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EEC6B-F2DE-4C81-B67C-B265DEDC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DDA-A4B5-4FBD-8BE2-76C2BDDC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08943-89DC-4157-9786-A0A652FD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B538-82D5-4A68-9E45-8D4E8657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4E51-76CA-4937-8E61-A8E6EC5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2D04-34AF-4D44-A6C3-537419DB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7D034-BBDE-4EAF-81BF-217A51DE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DAFD-3A17-4922-AE9A-E711E499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972B-4BA3-4327-A628-2D7826FA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1C18-7A04-45DD-B106-7592A4C9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4D684-0933-44B5-9576-01E28477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E8934-47AC-437F-BD96-23DF6045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238-495E-4E76-87E3-10374990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D5BAA-D7BD-458A-B84C-B97464A8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B5F6-1DC1-48B1-948D-BF5A57E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C5BE9-5C95-4806-ACA6-41E1054E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DF732-91AE-43C1-AAB3-D13A5F6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8ED3-A6D3-48B9-8B68-7C670E57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69C10-B28A-4B21-9CF9-E280C624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98EC-66D5-4884-99EC-34788B2D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1E80-A296-4158-8055-0387396A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8B0E-CCE7-4FF9-884E-6C0DEE89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ABFD-A259-4765-935F-5DCD47CC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31B-921F-4EAF-928D-4A2BB0C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37D3C-3411-4B5E-95DD-75F2C54F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B214-9D98-4A16-B1A7-62D5C18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DE8E-3F71-4F40-8C76-142AECDA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40B64-5B6B-4272-B632-8C4DD295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6D18-AD0E-40B9-98A8-A66B98D1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ECD8F-E70A-4161-BDF7-8F3DCD0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900E1-2A73-48B4-A4FC-4BEF792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CA99B-A0AD-4020-9ECD-C84B9F4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42E3-34C3-47B0-8945-82EA93AC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9F205-AF89-4FC6-B210-8A7ED875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C9E-4CE5-4E1A-969B-07C51FAE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42B3-4D2B-4FCE-A17A-06EE75D1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BFDDF-7993-4077-A535-603602E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99BB1-437F-4FB4-901F-3EB85B83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64128-89B1-45EA-A855-7D207A5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623B9-B3EA-4C18-81EC-3049E834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3987-11E3-4182-BDFD-96C92F10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3F32D-60E2-4A47-A3BC-862F623D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AB7F8-E4F0-4E8E-82A6-64F18EE2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AB2AF-2E1D-41EF-A93F-FDF97C7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36BA-43D5-4878-9CB9-004058E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614-4992-4CB8-90C4-515622F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DC0DC-140C-43A8-9539-43E7372B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F97D-63CB-41A6-BEE4-352B4C6A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C19E-B0CE-404A-B7CC-03CED7D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C771C-FC3A-4856-829C-FF675997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7410-74A2-4D7E-8326-B3D1C6F1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D0C1C-85CA-4ADC-930D-6366A191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D74D-12DC-4967-882C-A04E824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77BE-306F-46AC-84FE-20401763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E57C-E7E2-4E47-BBB1-73E1D8E0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F4BC9-0000-4A49-BE0F-D5CE637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ABA-7904-4EA7-9505-80D4D86E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76620-78CE-4C8F-B396-522BADC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06CE9-F5AB-45C1-BB45-ADE0292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83DB9-E664-4522-856E-B3864EDF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A8930-F669-4D02-A897-C29D8C4E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914D8-E21B-45BD-B84F-A8FBB782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DA379-8321-4088-8DE6-8511366B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F0EE6-580B-42F1-995D-0128725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4E21B-F74B-4FB2-BCA5-BC48AF49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F66D-2B04-4113-8102-263D2099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531F-FABE-487F-9015-33B40A99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828-6113-4836-A14F-C52FC67B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768240" y="609120"/>
            <a:ext cx="871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821E-4A08-4E71-BED7-209B01DE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AF7CB-39EB-44FD-B4DA-DF8AF64E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6697B-E7B3-45D4-B23E-227F242C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176C7-BC8A-4C4B-97B9-48597C2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68240" y="4130640"/>
            <a:ext cx="8717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E7884-8436-4702-9D3A-1E80D587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6824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425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57BCB-2BF0-4091-92A0-6839F39A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556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62880" y="198108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6824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556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62880" y="4130640"/>
            <a:ext cx="280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70CDC-D04F-4141-996A-BC20396F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CA888-2629-4892-A916-AAC0FE0C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8E340-F340-424B-A797-1D147BFE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A038-0DBC-4E7B-A311-75DB22B3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C98-695C-4F47-A3E8-7D81F326E6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2FD-3DC1-4CFC-A2D1-20D700220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B34-DDD3-4A0C-835A-5E92F2512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57A8-6EEC-46F1-AA71-D796F3FB3A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C08-AB96-4158-B7D8-66B577B4C1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25CB-0054-4D9A-B0A0-83427E1328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A9B-524E-420B-8BF1-67DEB964F5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DA64-13A3-4C09-BF53-65A68D4CB4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6E7A-6499-4593-9BC1-6BFB4EAEB1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D04-89F6-4AEE-8BC8-FF44A9AE4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A8D5-3AF6-42BF-A3E4-4DD8CD8148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22C-CC53-47DB-A827-B5D202477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C2C5-5C77-4954-B02D-583162511F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BA1B-71E7-42C7-AB9C-56B26FF1CA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CD4B-97E1-45A5-BD95-23C21DECA2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F45-65BA-4172-879B-8FD34F74D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061-015D-4B5D-9A2D-B63C06C059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1975-547E-48DD-A5A4-E6F7319867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33B-622B-4224-8B10-86CB31889A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3DE5-8E66-4789-9E00-5D8F88ECE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58F7-3A30-49EE-98F1-528E3D1AB8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F366-2F42-4AF4-86FC-02BB729348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609120"/>
            <a:ext cx="871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68240" y="1981080"/>
            <a:ext cx="871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768240" y="6248520"/>
            <a:ext cx="21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03520" y="6248520"/>
            <a:ext cx="3246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348320" y="6248520"/>
            <a:ext cx="213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7A1-18F8-4E79-B552-7A5DAC8C1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I%20am%20alive_03,28.00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4" descr="42-23074306.jpg"/>
          <p:cNvPicPr/>
          <p:nvPr/>
        </p:nvPicPr>
        <p:blipFill>
          <a:blip r:embed="rId1"/>
          <a:srcRect l="0" t="0" r="277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6" descr="图片3.png"/>
          <p:cNvPicPr/>
          <p:nvPr/>
        </p:nvPicPr>
        <p:blipFill>
          <a:blip r:embed="rId2"/>
          <a:stretch/>
        </p:blipFill>
        <p:spPr>
          <a:xfrm>
            <a:off x="4176720" y="727200"/>
            <a:ext cx="5821200" cy="5046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I%20am%20alive_03,28.00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5" descr="C:\Documents and Settings\Administrator\桌面\mf700-02217447.jpg"/>
          <p:cNvPicPr/>
          <p:nvPr/>
        </p:nvPicPr>
        <p:blipFill>
          <a:blip r:embed="rId1"/>
          <a:srcRect l="1845" t="0" r="5606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93" name="矩形 5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直接连接符 6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Box 7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受自己全然为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矩形 8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失望、烦乱、悲伤，是人性的一部分。接纳这些，并把它们当成自然之事，允许自己偶尔的失落和伤感。然后问问自己，能做些什么来让自己感觉好过一点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图片 8" descr="is098te2r.jpg"/>
          <p:cNvPicPr/>
          <p:nvPr/>
        </p:nvPicPr>
        <p:blipFill>
          <a:blip r:embed="rId1"/>
          <a:srcRect l="0" t="0" r="0" b="10935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98" name="矩形 3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直接连接符 5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Box 6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规律地锻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矩形 7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体育运动是你生活中最重要的事情之一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每周只要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次，每次只要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分钟，就能大大改善你的身心健康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图片 1" descr="42-16274915.jpg"/>
          <p:cNvPicPr/>
          <p:nvPr/>
        </p:nvPicPr>
        <p:blipFill>
          <a:blip r:embed="rId1"/>
          <a:srcRect l="0" t="0" r="277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矩形 3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直接连接符 5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6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5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睡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虽然有时“熬通宵”是不可避免的，但每天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小时的睡眠，是一笔非常棒的投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这样，在醒着的时候，你会更有效率、更有创造力，也会更开心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4" descr="1h-1420.jpg"/>
          <p:cNvPicPr/>
          <p:nvPr/>
        </p:nvPicPr>
        <p:blipFill>
          <a:blip r:embed="rId1"/>
          <a:srcRect l="0" t="0" r="321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1008" name="矩形 5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直接连接符 6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Box 7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慷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矩形 8"/>
          <p:cNvSpPr/>
          <p:nvPr/>
        </p:nvSpPr>
        <p:spPr>
          <a:xfrm>
            <a:off x="662040" y="5967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给予”和“接受”是一件事的两个面。当我们帮助别人时，我们也在帮助自己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当我们帮助自己时，也是在间接地帮助他人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Picture 2" descr="C:\Documents and Settings\Administrator\桌面\mf700-02081984.jpg"/>
          <p:cNvPicPr/>
          <p:nvPr/>
        </p:nvPicPr>
        <p:blipFill>
          <a:blip r:embed="rId1"/>
          <a:srcRect l="0" t="0" r="300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1013" name="矩形 2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直接连接符 3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Box 4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7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勇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662040" y="5967360"/>
            <a:ext cx="896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勇气并不是不恐惧，而是虽然心中恐惧，仍依然向前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5" descr="C:\Documents and Settings\Administrator\桌面\bld022789.jpg"/>
          <p:cNvPicPr/>
          <p:nvPr/>
        </p:nvPicPr>
        <p:blipFill>
          <a:blip r:embed="rId1"/>
          <a:srcRect l="0" t="0" r="300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1018" name="矩形 5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直接连接符 6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Box 7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达感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矩形 8"/>
          <p:cNvSpPr/>
          <p:nvPr/>
        </p:nvSpPr>
        <p:spPr>
          <a:xfrm>
            <a:off x="662040" y="5967360"/>
            <a:ext cx="896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生活中，不要把你的家人、朋友、健康、教育等这一切当成理所当然的。它们都是你回味无穷的礼物。记录他人的点滴恩惠，始终保持感恩之心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E:\PPT\PPT素材\Thanks\1n-0090.jpg"/>
          <p:cNvPicPr/>
          <p:nvPr/>
        </p:nvPicPr>
        <p:blipFill>
          <a:blip r:embed="rId1"/>
          <a:stretch/>
        </p:blipFill>
        <p:spPr>
          <a:xfrm>
            <a:off x="0" y="0"/>
            <a:ext cx="10290240" cy="685800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9"/>
          <p:cNvSpPr/>
          <p:nvPr/>
        </p:nvSpPr>
        <p:spPr>
          <a:xfrm>
            <a:off x="3154320" y="1311120"/>
            <a:ext cx="71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朋友，祝您愉快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2"/>
          <p:cNvSpPr/>
          <p:nvPr/>
        </p:nvSpPr>
        <p:spPr>
          <a:xfrm>
            <a:off x="8886960" y="6019920"/>
            <a:ext cx="1195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直接连接符 6"/>
          <p:cNvSpPr/>
          <p:nvPr/>
        </p:nvSpPr>
        <p:spPr>
          <a:xfrm>
            <a:off x="4284720" y="2590920"/>
            <a:ext cx="53038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直接连接符 7"/>
          <p:cNvSpPr/>
          <p:nvPr/>
        </p:nvSpPr>
        <p:spPr>
          <a:xfrm>
            <a:off x="4284720" y="2643120"/>
            <a:ext cx="53038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2" descr="2194955108_b6c8b0856b.jpg"/>
          <p:cNvPicPr/>
          <p:nvPr/>
        </p:nvPicPr>
        <p:blipFill>
          <a:blip r:embed="rId1"/>
          <a:srcRect l="38950" t="0" r="0" b="0"/>
          <a:stretch/>
        </p:blipFill>
        <p:spPr>
          <a:xfrm>
            <a:off x="0" y="0"/>
            <a:ext cx="383544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矩形 3"/>
          <p:cNvSpPr/>
          <p:nvPr/>
        </p:nvSpPr>
        <p:spPr>
          <a:xfrm>
            <a:off x="1073160" y="0"/>
            <a:ext cx="277488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矩形 4"/>
          <p:cNvSpPr/>
          <p:nvPr/>
        </p:nvSpPr>
        <p:spPr>
          <a:xfrm>
            <a:off x="3687840" y="1274760"/>
            <a:ext cx="40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Ben-Shah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矩形 5"/>
          <p:cNvSpPr/>
          <p:nvPr/>
        </p:nvSpPr>
        <p:spPr>
          <a:xfrm>
            <a:off x="7908840" y="142236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塔尔宾－夏哈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直接连接符 6"/>
          <p:cNvSpPr/>
          <p:nvPr/>
        </p:nvSpPr>
        <p:spPr>
          <a:xfrm>
            <a:off x="3809880" y="1968480"/>
            <a:ext cx="58150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直接连接符 7"/>
          <p:cNvSpPr/>
          <p:nvPr/>
        </p:nvSpPr>
        <p:spPr>
          <a:xfrm>
            <a:off x="3809880" y="2021040"/>
            <a:ext cx="58150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矩形 8"/>
          <p:cNvSpPr/>
          <p:nvPr/>
        </p:nvSpPr>
        <p:spPr>
          <a:xfrm>
            <a:off x="3699000" y="2260440"/>
            <a:ext cx="585144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哈佛大学哲学与心理学博士，最受欢迎的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哈佛幸福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主讲老师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幸福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听课人数超过王牌课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经济学导论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美国主流媒体（包括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波士顿全球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纽约时报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，以及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NN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BS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、美国国家公共广播电台）争相报导对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2" descr="mf822-02124420.jpg"/>
          <p:cNvPicPr/>
          <p:nvPr/>
        </p:nvPicPr>
        <p:blipFill>
          <a:blip r:embed="rId1"/>
          <a:srcRect l="0" t="0" r="0" b="8201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" descr="图片2.png"/>
          <p:cNvPicPr/>
          <p:nvPr/>
        </p:nvPicPr>
        <p:blipFill>
          <a:blip r:embed="rId2"/>
          <a:srcRect l="0" t="0" r="9664" b="0"/>
          <a:stretch/>
        </p:blipFill>
        <p:spPr>
          <a:xfrm>
            <a:off x="4030560" y="1938240"/>
            <a:ext cx="6222960" cy="2981520"/>
          </a:xfrm>
          <a:prstGeom prst="rect">
            <a:avLst/>
          </a:prstGeom>
          <a:ln w="0">
            <a:noFill/>
          </a:ln>
        </p:spPr>
      </p:pic>
      <p:sp>
        <p:nvSpPr>
          <p:cNvPr id="961" name="Text Box 3"/>
          <p:cNvSpPr/>
          <p:nvPr/>
        </p:nvSpPr>
        <p:spPr>
          <a:xfrm>
            <a:off x="4286160" y="2670120"/>
            <a:ext cx="558792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Times New Roman"/>
              </a:rPr>
              <a:t>到底追求什么才是最重要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夏哈尔教授坚定地认为：“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幸福感</a:t>
            </a: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”是衡量人生的唯一标准，是所有目标的最终目标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直接连接符 5"/>
          <p:cNvSpPr/>
          <p:nvPr/>
        </p:nvSpPr>
        <p:spPr>
          <a:xfrm>
            <a:off x="4437000" y="3301920"/>
            <a:ext cx="5813640" cy="180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直接连接符 6"/>
          <p:cNvSpPr/>
          <p:nvPr/>
        </p:nvSpPr>
        <p:spPr>
          <a:xfrm>
            <a:off x="4437000" y="3354480"/>
            <a:ext cx="5813640" cy="144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" descr="is098r4je.jpg"/>
          <p:cNvPicPr/>
          <p:nvPr/>
        </p:nvPicPr>
        <p:blipFill>
          <a:blip r:embed="rId1"/>
          <a:srcRect l="0" t="0" r="0" b="10357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Rectangle 5"/>
          <p:cNvSpPr/>
          <p:nvPr/>
        </p:nvSpPr>
        <p:spPr>
          <a:xfrm>
            <a:off x="0" y="3292560"/>
            <a:ext cx="1025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6"/>
          <p:cNvSpPr/>
          <p:nvPr/>
        </p:nvSpPr>
        <p:spPr>
          <a:xfrm>
            <a:off x="512640" y="3292560"/>
            <a:ext cx="9228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矩形 7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直接连接符 8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Box 9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钱到底有多重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矩形 10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人们衡量商业成就时，标准是钱。用钱去评估资产和债务、利润和亏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所有与钱无关的，都不会被考虑进去，金钱是最高的财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4" descr="gwl10000913副本.jpg"/>
          <p:cNvPicPr/>
          <p:nvPr/>
        </p:nvPicPr>
        <p:blipFill>
          <a:blip r:embed="rId1"/>
          <a:stretch/>
        </p:blipFill>
        <p:spPr>
          <a:xfrm>
            <a:off x="0" y="0"/>
            <a:ext cx="10253520" cy="6838920"/>
          </a:xfrm>
          <a:prstGeom prst="rect">
            <a:avLst/>
          </a:prstGeom>
          <a:ln w="0">
            <a:noFill/>
          </a:ln>
        </p:spPr>
      </p:pic>
      <p:sp>
        <p:nvSpPr>
          <p:cNvPr id="972" name="矩形 2"/>
          <p:cNvSpPr/>
          <p:nvPr/>
        </p:nvSpPr>
        <p:spPr>
          <a:xfrm>
            <a:off x="662040" y="1128600"/>
            <a:ext cx="5560920" cy="21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Times New Roman"/>
              </a:rPr>
              <a:t>人生也有盈利和亏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Times New Roman"/>
              </a:rPr>
              <a:t>在看待自己的生命时，可以把负面情绪当作支出，把正面情绪当作收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Times New Roman"/>
              </a:rPr>
              <a:t>当正面情绪多于负面情绪时，我们在幸福这一“至高财富”上就盈利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直接连接符 6"/>
          <p:cNvSpPr/>
          <p:nvPr/>
        </p:nvSpPr>
        <p:spPr>
          <a:xfrm>
            <a:off x="814320" y="2041560"/>
            <a:ext cx="5400720" cy="144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直接连接符 7"/>
          <p:cNvSpPr/>
          <p:nvPr/>
        </p:nvSpPr>
        <p:spPr>
          <a:xfrm>
            <a:off x="814320" y="2093760"/>
            <a:ext cx="5400720" cy="180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2" descr="bld078957.jpg"/>
          <p:cNvPicPr/>
          <p:nvPr/>
        </p:nvPicPr>
        <p:blipFill>
          <a:blip r:embed="rId1"/>
          <a:stretch/>
        </p:blipFill>
        <p:spPr>
          <a:xfrm>
            <a:off x="0" y="0"/>
            <a:ext cx="1028232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矩形 5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直接连接符 6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Box 7"/>
          <p:cNvSpPr/>
          <p:nvPr/>
        </p:nvSpPr>
        <p:spPr>
          <a:xfrm>
            <a:off x="662040" y="5456160"/>
            <a:ext cx="52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幸福应该是快乐与意义的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矩形 8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一个幸福的人，必须有一个明确的、可以带来快乐和意义的目标，然后努力地去追求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真正快乐的人，会在自己觉得有意义的生活方式里，享受它的点点滴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图片 4" descr="42-18577137.jpg"/>
          <p:cNvPicPr/>
          <p:nvPr/>
        </p:nvPicPr>
        <p:blipFill>
          <a:blip r:embed="rId1"/>
          <a:srcRect l="0" t="0" r="277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81" name="Text Box 15"/>
          <p:cNvSpPr/>
          <p:nvPr/>
        </p:nvSpPr>
        <p:spPr>
          <a:xfrm rot="481200">
            <a:off x="3423960" y="2291400"/>
            <a:ext cx="4757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夏哈尔希望他的学生学会接受自己，</a:t>
            </a:r>
            <a:br>
              <a:rPr sz="2000"/>
            </a:b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不要忽略自己所拥有的独特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要摆脱“完美主义”，要“学会失败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夏哈尔还为学生简化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八</a:t>
            </a:r>
            <a:r>
              <a:rPr b="1" lang="zh-CN" sz="2000" spc="-1" strike="noStrike">
                <a:solidFill>
                  <a:srgbClr val="404040"/>
                </a:solidFill>
                <a:latin typeface="Times New Roman"/>
              </a:rPr>
              <a:t>条小贴纸：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4" descr="rdf00057.jpg"/>
          <p:cNvPicPr/>
          <p:nvPr/>
        </p:nvPicPr>
        <p:blipFill>
          <a:blip r:embed="rId1"/>
          <a:srcRect l="0" t="0" r="273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83" name="矩形 5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直接连接符 6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Box 7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遵从你内心的热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矩形 8"/>
          <p:cNvSpPr/>
          <p:nvPr/>
        </p:nvSpPr>
        <p:spPr>
          <a:xfrm>
            <a:off x="662040" y="5919840"/>
            <a:ext cx="896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选择做对你有意义并且能让你快乐的事情，不要只是为了轻松而选择，或选择只是别人认为你应该做的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C:\Documents and Settings\Administrator\桌面\42-17779620.jpg"/>
          <p:cNvPicPr/>
          <p:nvPr/>
        </p:nvPicPr>
        <p:blipFill>
          <a:blip r:embed="rId1"/>
          <a:srcRect l="0" t="0" r="681" b="0"/>
          <a:stretch/>
        </p:blipFill>
        <p:spPr>
          <a:xfrm>
            <a:off x="0" y="0"/>
            <a:ext cx="10253520" cy="6858000"/>
          </a:xfrm>
          <a:prstGeom prst="rect">
            <a:avLst/>
          </a:prstGeom>
          <a:ln w="0">
            <a:noFill/>
          </a:ln>
        </p:spPr>
      </p:pic>
      <p:sp>
        <p:nvSpPr>
          <p:cNvPr id="988" name="矩形 2"/>
          <p:cNvSpPr/>
          <p:nvPr/>
        </p:nvSpPr>
        <p:spPr>
          <a:xfrm>
            <a:off x="0" y="5437080"/>
            <a:ext cx="10253520" cy="1420920"/>
          </a:xfrm>
          <a:prstGeom prst="rect">
            <a:avLst/>
          </a:prstGeom>
          <a:solidFill>
            <a:srgbClr val="00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直接连接符 3"/>
          <p:cNvSpPr/>
          <p:nvPr/>
        </p:nvSpPr>
        <p:spPr>
          <a:xfrm>
            <a:off x="662040" y="5948280"/>
            <a:ext cx="8953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Box 4"/>
          <p:cNvSpPr/>
          <p:nvPr/>
        </p:nvSpPr>
        <p:spPr>
          <a:xfrm>
            <a:off x="662040" y="5456160"/>
            <a:ext cx="33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.2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会失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矩形 5"/>
          <p:cNvSpPr/>
          <p:nvPr/>
        </p:nvSpPr>
        <p:spPr>
          <a:xfrm>
            <a:off x="662040" y="59198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成功没有快捷方式，历史上有成就的人，总是敢于行动，也会经常失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不要让对失败的恐惧，绊住你尝试新事物的脚步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22:45:57Z</dcterms:created>
  <dc:creator>zhbing56</dc:creator>
  <dc:description/>
  <cp:keywords/>
  <dc:language>en-US</dc:language>
  <cp:lastModifiedBy>Administrator</cp:lastModifiedBy>
  <dcterms:modified xsi:type="dcterms:W3CDTF">2015-07-15T00:53:15Z</dcterms:modified>
  <cp:revision>148</cp:revision>
  <dc:subject/>
  <dc:title>I's not from me!!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