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jpeg" ContentType="image/jpeg"/>
  <Override PartName="/ppt/media/image26.jpeg" ContentType="image/jpeg"/>
  <Override PartName="/ppt/media/image17.jpeg" ContentType="image/jpeg"/>
  <Override PartName="/ppt/media/image3.png" ContentType="image/png"/>
  <Override PartName="/ppt/media/image29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28.png" ContentType="image/png"/>
  <Override PartName="/ppt/media/image8.jpeg" ContentType="image/jpeg"/>
  <Override PartName="/ppt/media/image5.png" ContentType="image/png"/>
  <Override PartName="/ppt/media/image10.jpeg" ContentType="image/jpeg"/>
  <Override PartName="/ppt/media/image30.png" ContentType="image/png"/>
  <Override PartName="/ppt/media/image4.png" ContentType="image/png"/>
  <Override PartName="/ppt/media/image13.png" ContentType="image/png"/>
  <Override PartName="/ppt/media/image11.png" ContentType="image/png"/>
  <Override PartName="/ppt/media/image9.jpeg" ContentType="image/jpeg"/>
  <Override PartName="/ppt/media/image2.png" ContentType="image/png"/>
  <Override PartName="/ppt/media/image25.jpeg" ContentType="image/jpeg"/>
  <Override PartName="/ppt/media/image31.png" ContentType="image/png"/>
  <Override PartName="/ppt/media/image1.png" ContentType="image/png"/>
  <Override PartName="/ppt/media/image24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8.png" ContentType="image/png"/>
  <Override PartName="/ppt/media/image20.jpeg" ContentType="image/jpe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0658A-E8B5-453F-8624-B1E16F278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FA7AB-C0C6-4FB2-BF0A-592F7582C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1FB7B-B1F1-483E-AAF6-64C90A332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60FC7-6D48-4A82-8BEB-E8E47AAB0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BFD17-2653-4AF7-B942-B5DA84AD1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D4147-6999-4873-9B81-428D29ED9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65580-DE85-423A-962D-5134E3C42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CB46E-F7DF-4211-8005-17E2A8310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0906F-3169-4E35-B30A-B973B32A5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0868B-F9F9-4A0D-8659-D7C90869B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23573-4E44-45F6-844A-4EB139C38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EFF5C-1787-4460-AF08-CAC774547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algun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TheSerif 2-ExtraLight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TheSerif 2-ExtraLight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TheSerif 2-ExtraLight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TheSerif 2-ExtraLight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TheSerif 2-ExtraLight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TheSerif 2-ExtraLight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TheSerif 2-ExtraLight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Malgun Gothic"/>
                <a:ea typeface="MS PGothic"/>
              </a:defRPr>
            </a:lvl1pPr>
          </a:lstStyle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2C368-D74B-4FE2-B2E3-21512642991D}" type="datetime">
              <a:rPr b="0" lang="en-US" sz="1200" spc="-1" strike="noStrike">
                <a:solidFill>
                  <a:srgbClr val="898989"/>
                </a:solidFill>
                <a:latin typeface="Malgun Gothic"/>
                <a:ea typeface="MS PGothic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Malgun Gothic"/>
                <a:ea typeface="MS PGothic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0AAF6-09ED-47D7-A587-74830A4DBE0A}" type="slidenum">
              <a:rPr b="0" lang="en-US" sz="1200" spc="-1" strike="noStrike">
                <a:solidFill>
                  <a:srgbClr val="898989"/>
                </a:solidFill>
                <a:latin typeface="Malgun Gothic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직사각형 1"/>
          <p:cNvSpPr/>
          <p:nvPr/>
        </p:nvSpPr>
        <p:spPr>
          <a:xfrm>
            <a:off x="34920" y="476280"/>
            <a:ext cx="9144000" cy="585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직사각형 3"/>
          <p:cNvSpPr/>
          <p:nvPr/>
        </p:nvSpPr>
        <p:spPr>
          <a:xfrm>
            <a:off x="0" y="0"/>
            <a:ext cx="9144000" cy="500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직사각형 4"/>
          <p:cNvSpPr/>
          <p:nvPr/>
        </p:nvSpPr>
        <p:spPr>
          <a:xfrm>
            <a:off x="0" y="6357960"/>
            <a:ext cx="9144000" cy="500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10"/>
          <p:cNvSpPr/>
          <p:nvPr/>
        </p:nvSpPr>
        <p:spPr>
          <a:xfrm>
            <a:off x="2021040" y="2286000"/>
            <a:ext cx="510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heSerif 2-ExtraLight"/>
                <a:ea typeface="Malgun Gothic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heSerif 2-ExtraLight"/>
                <a:ea typeface="Malgun Gothic"/>
              </a:rPr>
              <a:t>esign a  </a:t>
            </a:r>
            <a:r>
              <a:rPr b="0" lang="en-US" sz="3200" spc="-1" strike="noStrike">
                <a:solidFill>
                  <a:srgbClr val="e53d09"/>
                </a:solidFill>
                <a:latin typeface="TheSerif 2-ExtraLight"/>
                <a:ea typeface="Malgun Gothic"/>
              </a:rPr>
              <a:t>G</a:t>
            </a:r>
            <a:r>
              <a:rPr b="0" lang="en-US" sz="2800" spc="-1" strike="noStrike">
                <a:solidFill>
                  <a:srgbClr val="e53d09"/>
                </a:solidFill>
                <a:latin typeface="TheSerif 2-ExtraLight"/>
                <a:ea typeface="Malgun Gothic"/>
              </a:rPr>
              <a:t>roup </a:t>
            </a:r>
            <a:r>
              <a:rPr b="0" lang="en-US" sz="3200" spc="-1" strike="noStrike">
                <a:solidFill>
                  <a:srgbClr val="e53d09"/>
                </a:solidFill>
                <a:latin typeface="TheSerif 2-ExtraLight"/>
                <a:ea typeface="Malgun Gothic"/>
              </a:rPr>
              <a:t>C</a:t>
            </a:r>
            <a:r>
              <a:rPr b="0" lang="en-US" sz="2800" spc="-1" strike="noStrike">
                <a:solidFill>
                  <a:srgbClr val="e53d09"/>
                </a:solidFill>
                <a:latin typeface="TheSerif 2-ExtraLight"/>
                <a:ea typeface="Malgun Gothic"/>
              </a:rPr>
              <a:t>rea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7"/>
          <p:cNvSpPr/>
          <p:nvPr/>
        </p:nvSpPr>
        <p:spPr>
          <a:xfrm>
            <a:off x="2021040" y="3214800"/>
            <a:ext cx="510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Yoon 윤고딕 520_TT"/>
                <a:ea typeface="Yoon 윤고딕 520_TT"/>
              </a:rPr>
              <a:t>- </a:t>
            </a:r>
            <a:r>
              <a:rPr b="0" lang="zh-CN" sz="1600" spc="-1" strike="noStrike">
                <a:solidFill>
                  <a:srgbClr val="000000"/>
                </a:solidFill>
                <a:latin typeface="Yoon 윤고딕 520_TT"/>
                <a:ea typeface="Yoon 윤고딕 520_TT"/>
              </a:rPr>
              <a:t>미래의 혁신 메커니즘</a:t>
            </a:r>
            <a:r>
              <a:rPr b="0" lang="en-US" sz="1600" spc="-1" strike="noStrike">
                <a:solidFill>
                  <a:srgbClr val="000000"/>
                </a:solidFill>
                <a:latin typeface="Yoon 윤고딕 520_TT"/>
                <a:ea typeface="Yoon 윤고딕 520_TT"/>
              </a:rPr>
              <a:t>, </a:t>
            </a:r>
            <a:r>
              <a:rPr b="0" lang="zh-CN" sz="1600" spc="-1" strike="noStrike">
                <a:solidFill>
                  <a:srgbClr val="000000"/>
                </a:solidFill>
                <a:latin typeface="Yoon 윤고딕 520_TT"/>
                <a:ea typeface="Yoon 윤고딕 520_TT"/>
              </a:rPr>
              <a:t>집단 창의성 </a:t>
            </a:r>
            <a:r>
              <a:rPr b="0" lang="en-US" sz="1600" spc="-1" strike="noStrike">
                <a:solidFill>
                  <a:srgbClr val="000000"/>
                </a:solidFill>
                <a:latin typeface="Yoon 윤고딕 520_TT"/>
                <a:ea typeface="Yoon 윤고딕 520_TT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8" descr=""/>
          <p:cNvPicPr/>
          <p:nvPr/>
        </p:nvPicPr>
        <p:blipFill>
          <a:blip r:embed="rId1"/>
          <a:srcRect l="0" t="0" r="0" b="12727"/>
          <a:stretch/>
        </p:blipFill>
        <p:spPr>
          <a:xfrm>
            <a:off x="7861320" y="6489720"/>
            <a:ext cx="1260360" cy="210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직사각형 1"/>
          <p:cNvSpPr/>
          <p:nvPr/>
        </p:nvSpPr>
        <p:spPr>
          <a:xfrm>
            <a:off x="0" y="500040"/>
            <a:ext cx="9144000" cy="585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2" descr=""/>
          <p:cNvPicPr/>
          <p:nvPr/>
        </p:nvPicPr>
        <p:blipFill>
          <a:blip r:embed="rId1"/>
          <a:stretch/>
        </p:blipFill>
        <p:spPr>
          <a:xfrm>
            <a:off x="0" y="1785960"/>
            <a:ext cx="7488360" cy="4560840"/>
          </a:xfrm>
          <a:prstGeom prst="rect">
            <a:avLst/>
          </a:prstGeom>
          <a:ln w="0">
            <a:noFill/>
          </a:ln>
        </p:spPr>
      </p:pic>
      <p:sp>
        <p:nvSpPr>
          <p:cNvPr id="147" name="직사각형 3"/>
          <p:cNvSpPr/>
          <p:nvPr/>
        </p:nvSpPr>
        <p:spPr>
          <a:xfrm>
            <a:off x="0" y="0"/>
            <a:ext cx="9144000" cy="500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직사각형 4"/>
          <p:cNvSpPr/>
          <p:nvPr/>
        </p:nvSpPr>
        <p:spPr>
          <a:xfrm>
            <a:off x="0" y="6357960"/>
            <a:ext cx="9144000" cy="500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8" descr=""/>
          <p:cNvPicPr/>
          <p:nvPr/>
        </p:nvPicPr>
        <p:blipFill>
          <a:blip r:embed="rId2"/>
          <a:srcRect l="0" t="0" r="0" b="12727"/>
          <a:stretch/>
        </p:blipFill>
        <p:spPr>
          <a:xfrm>
            <a:off x="7861320" y="6489720"/>
            <a:ext cx="1260360" cy="210960"/>
          </a:xfrm>
          <a:prstGeom prst="rect">
            <a:avLst/>
          </a:prstGeom>
          <a:ln w="0">
            <a:noFill/>
          </a:ln>
        </p:spPr>
      </p:pic>
      <p:sp>
        <p:nvSpPr>
          <p:cNvPr id="150" name="직사각형 8"/>
          <p:cNvSpPr/>
          <p:nvPr/>
        </p:nvSpPr>
        <p:spPr>
          <a:xfrm>
            <a:off x="3688560" y="785880"/>
            <a:ext cx="397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3d09"/>
                </a:solidFill>
                <a:latin typeface="TheMix 5-Regular Caps"/>
                <a:ea typeface="Malgun Gothic"/>
              </a:rPr>
              <a:t>Leader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10"/>
          <p:cNvSpPr/>
          <p:nvPr/>
        </p:nvSpPr>
        <p:spPr>
          <a:xfrm>
            <a:off x="4643280" y="1371600"/>
            <a:ext cx="44294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53d09"/>
                </a:solidFill>
                <a:latin typeface="Yoon 윤고딕 520_TT"/>
                <a:ea typeface="Yoon 윤고딕 520_TT"/>
              </a:rPr>
              <a:t>구성원 개개인에 잠재해 있는 창의성을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53d09"/>
                </a:solidFill>
                <a:latin typeface="Yoon 윤고딕 520_TT"/>
                <a:ea typeface="Yoon 윤고딕 520_TT"/>
              </a:rPr>
              <a:t>최대한 발현하게 하는 것은 리더들의 몫이다</a:t>
            </a:r>
            <a:r>
              <a:rPr b="0" lang="en-US" sz="1200" spc="-1" strike="noStrike">
                <a:solidFill>
                  <a:srgbClr val="e53d09"/>
                </a:solidFill>
                <a:latin typeface="Yoon 윤고딕 520_TT"/>
                <a:ea typeface="Yoon 윤고딕 520_TT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53d09"/>
                </a:solidFill>
                <a:latin typeface="Yoon 윤고딕 520_TT"/>
                <a:ea typeface="Yoon 윤고딕 520_TT"/>
              </a:rPr>
              <a:t>의사결정을 주도하는 리더들이 일상 업무 수행 과정에서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53d09"/>
                </a:solidFill>
                <a:latin typeface="Yoon 윤고딕 520_TT"/>
                <a:ea typeface="Yoon 윤고딕 520_TT"/>
              </a:rPr>
              <a:t>어떤 방식으로 구성원들을 이끌어 가느냐에 따라 창의성이 좌우된다</a:t>
            </a:r>
            <a:r>
              <a:rPr b="0" lang="en-US" sz="1200" spc="-1" strike="noStrike">
                <a:solidFill>
                  <a:srgbClr val="e53d09"/>
                </a:solidFill>
                <a:latin typeface="Yoon 윤고딕 520_TT"/>
                <a:ea typeface="Yoon 윤고딕 520_TT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직사각형 1"/>
          <p:cNvSpPr/>
          <p:nvPr/>
        </p:nvSpPr>
        <p:spPr>
          <a:xfrm>
            <a:off x="0" y="500040"/>
            <a:ext cx="9144000" cy="585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직사각형 3"/>
          <p:cNvSpPr/>
          <p:nvPr/>
        </p:nvSpPr>
        <p:spPr>
          <a:xfrm>
            <a:off x="0" y="0"/>
            <a:ext cx="9144000" cy="500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직사각형 4"/>
          <p:cNvSpPr/>
          <p:nvPr/>
        </p:nvSpPr>
        <p:spPr>
          <a:xfrm>
            <a:off x="0" y="6357960"/>
            <a:ext cx="9144000" cy="500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8" descr=""/>
          <p:cNvPicPr/>
          <p:nvPr/>
        </p:nvPicPr>
        <p:blipFill>
          <a:blip r:embed="rId1"/>
          <a:srcRect l="0" t="0" r="0" b="12727"/>
          <a:stretch/>
        </p:blipFill>
        <p:spPr>
          <a:xfrm>
            <a:off x="7861320" y="6489720"/>
            <a:ext cx="1260360" cy="210960"/>
          </a:xfrm>
          <a:prstGeom prst="rect">
            <a:avLst/>
          </a:prstGeom>
          <a:ln w="0">
            <a:noFill/>
          </a:ln>
        </p:spPr>
      </p:pic>
      <p:sp>
        <p:nvSpPr>
          <p:cNvPr id="156" name="직사각형 8"/>
          <p:cNvSpPr/>
          <p:nvPr/>
        </p:nvSpPr>
        <p:spPr>
          <a:xfrm>
            <a:off x="-150120" y="1143000"/>
            <a:ext cx="443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53d09"/>
                </a:solidFill>
                <a:latin typeface="Yoon 윤고딕 520_TT"/>
                <a:ea typeface="Yoon 윤고딕 520_TT"/>
              </a:rPr>
              <a:t>창</a:t>
            </a:r>
            <a:r>
              <a:rPr b="1" lang="zh-CN" sz="2800" spc="-1" strike="noStrike">
                <a:solidFill>
                  <a:srgbClr val="e53d09"/>
                </a:solidFill>
                <a:latin typeface="Yoon 윤고딕 520_TT"/>
                <a:ea typeface="Yoon 윤고딕 520_TT"/>
              </a:rPr>
              <a:t>의성을 살리는 리더</a:t>
            </a:r>
            <a:r>
              <a:rPr b="1" lang="en-US" sz="2800" spc="-1" strike="noStrike">
                <a:solidFill>
                  <a:srgbClr val="e53d09"/>
                </a:solidFill>
                <a:latin typeface="Yoon 윤고딕 520_TT"/>
                <a:ea typeface="Yoon 윤고딕 520_TT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10"/>
          <p:cNvSpPr/>
          <p:nvPr/>
        </p:nvSpPr>
        <p:spPr>
          <a:xfrm>
            <a:off x="285840" y="2292480"/>
            <a:ext cx="442908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53d09"/>
                </a:solidFill>
                <a:latin typeface="Yoon 윤고딕 520_TT"/>
                <a:ea typeface="Yoon 윤고딕 520_TT"/>
              </a:rPr>
              <a:t>리</a:t>
            </a:r>
            <a:r>
              <a:rPr b="0" lang="zh-CN" sz="1400" spc="-1" strike="noStrike">
                <a:solidFill>
                  <a:srgbClr val="e53d09"/>
                </a:solidFill>
                <a:latin typeface="Yoon 윤고딕 520_TT"/>
                <a:ea typeface="Yoon 윤고딕 520_TT"/>
              </a:rPr>
              <a:t>더가 창의적인 아이디어의 잠재 가치를 간파하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53d09"/>
                </a:solidFill>
                <a:latin typeface="Yoon 윤고딕 520_TT"/>
                <a:ea typeface="Yoon 윤고딕 520_TT"/>
              </a:rPr>
              <a:t>활용하지 못하면 무용지물이 된다</a:t>
            </a:r>
            <a:r>
              <a:rPr b="0" lang="en-US" sz="1400" spc="-1" strike="noStrike">
                <a:solidFill>
                  <a:srgbClr val="e53d09"/>
                </a:solidFill>
                <a:latin typeface="Yoon 윤고딕 520_TT"/>
                <a:ea typeface="Yoon 윤고딕 520_TT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직사각형 9"/>
          <p:cNvSpPr/>
          <p:nvPr/>
        </p:nvSpPr>
        <p:spPr>
          <a:xfrm>
            <a:off x="4572000" y="500040"/>
            <a:ext cx="4572000" cy="5857920"/>
          </a:xfrm>
          <a:prstGeom prst="rect">
            <a:avLst/>
          </a:prstGeom>
          <a:solidFill>
            <a:srgbClr val="e36c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11"/>
          <p:cNvSpPr/>
          <p:nvPr/>
        </p:nvSpPr>
        <p:spPr>
          <a:xfrm>
            <a:off x="285840" y="3139920"/>
            <a:ext cx="442908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53d09"/>
                </a:solidFill>
                <a:latin typeface="Yoon 윤고딕 520_TT"/>
                <a:ea typeface="Yoon 윤고딕 520_TT"/>
              </a:rPr>
              <a:t>상</a:t>
            </a:r>
            <a:r>
              <a:rPr b="0" lang="zh-CN" sz="1400" spc="-1" strike="noStrike">
                <a:solidFill>
                  <a:srgbClr val="e53d09"/>
                </a:solidFill>
                <a:latin typeface="Yoon 윤고딕 520_TT"/>
                <a:ea typeface="Yoon 윤고딕 520_TT"/>
              </a:rPr>
              <a:t>사가 지나치게 일 중심으로 움직이고</a:t>
            </a:r>
            <a:r>
              <a:rPr b="0" lang="en-US" sz="1400" spc="-1" strike="noStrike">
                <a:solidFill>
                  <a:srgbClr val="e53d09"/>
                </a:solidFill>
                <a:latin typeface="Yoon 윤고딕 520_TT"/>
                <a:ea typeface="Yoon 윤고딕 520_TT"/>
              </a:rPr>
              <a:t>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53d09"/>
                </a:solidFill>
                <a:latin typeface="Yoon 윤고딕 520_TT"/>
                <a:ea typeface="Yoon 윤고딕 520_TT"/>
              </a:rPr>
              <a:t>부하의 정서에 무감각하면 창의성이 저해된다</a:t>
            </a:r>
            <a:r>
              <a:rPr b="0" lang="en-US" sz="1400" spc="-1" strike="noStrike">
                <a:solidFill>
                  <a:srgbClr val="e53d09"/>
                </a:solidFill>
                <a:latin typeface="Yoon 윤고딕 520_TT"/>
                <a:ea typeface="Yoon 윤고딕 520_TT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12"/>
          <p:cNvSpPr/>
          <p:nvPr/>
        </p:nvSpPr>
        <p:spPr>
          <a:xfrm>
            <a:off x="285840" y="3987720"/>
            <a:ext cx="442908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53d09"/>
                </a:solidFill>
                <a:latin typeface="Yoon 윤고딕 520_TT"/>
                <a:ea typeface="Yoon 윤고딕 520_TT"/>
              </a:rPr>
              <a:t>리</a:t>
            </a:r>
            <a:r>
              <a:rPr b="0" lang="zh-CN" sz="1400" spc="-1" strike="noStrike">
                <a:solidFill>
                  <a:srgbClr val="e53d09"/>
                </a:solidFill>
                <a:latin typeface="Yoon 윤고딕 520_TT"/>
                <a:ea typeface="Yoon 윤고딕 520_TT"/>
              </a:rPr>
              <a:t>더들은 실패를 두려워하지 않고</a:t>
            </a:r>
            <a:r>
              <a:rPr b="0" lang="en-US" sz="1400" spc="-1" strike="noStrike">
                <a:solidFill>
                  <a:srgbClr val="e53d09"/>
                </a:solidFill>
                <a:latin typeface="Yoon 윤고딕 520_TT"/>
                <a:ea typeface="Yoon 윤고딕 520_TT"/>
              </a:rPr>
              <a:t>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53d09"/>
                </a:solidFill>
                <a:latin typeface="Yoon 윤고딕 520_TT"/>
                <a:ea typeface="Yoon 윤고딕 520_TT"/>
              </a:rPr>
              <a:t>모험을 감수하도록 하는 역동적인 문화를 창조해야 한다</a:t>
            </a:r>
            <a:r>
              <a:rPr b="0" lang="en-US" sz="1400" spc="-1" strike="noStrike">
                <a:solidFill>
                  <a:srgbClr val="e53d09"/>
                </a:solidFill>
                <a:latin typeface="Yoon 윤고딕 520_TT"/>
                <a:ea typeface="Yoon 윤고딕 520_TT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13"/>
          <p:cNvSpPr/>
          <p:nvPr/>
        </p:nvSpPr>
        <p:spPr>
          <a:xfrm>
            <a:off x="285840" y="4835520"/>
            <a:ext cx="442908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53d09"/>
                </a:solidFill>
                <a:latin typeface="Yoon 윤고딕 520_TT"/>
                <a:ea typeface="Yoon 윤고딕 520_TT"/>
              </a:rPr>
              <a:t>리</a:t>
            </a:r>
            <a:r>
              <a:rPr b="0" lang="zh-CN" sz="1400" spc="-1" strike="noStrike">
                <a:solidFill>
                  <a:srgbClr val="e53d09"/>
                </a:solidFill>
                <a:latin typeface="Yoon 윤고딕 520_TT"/>
                <a:ea typeface="Yoon 윤고딕 520_TT"/>
              </a:rPr>
              <a:t>더는 기존에 없었던 참신한 아이디어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53d09"/>
                </a:solidFill>
                <a:latin typeface="Yoon 윤고딕 520_TT"/>
                <a:ea typeface="Yoon 윤고딕 520_TT"/>
              </a:rPr>
              <a:t>과감하게 실행할 수 있는 용기가 있어야 한다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직사각형 14"/>
          <p:cNvSpPr/>
          <p:nvPr/>
        </p:nvSpPr>
        <p:spPr>
          <a:xfrm>
            <a:off x="4708440" y="1143000"/>
            <a:ext cx="438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8d8d8"/>
                </a:solidFill>
                <a:latin typeface="Yoon 윤고딕 520_TT"/>
                <a:ea typeface="Yoon 윤고딕 520_TT"/>
              </a:rPr>
              <a:t>현</a:t>
            </a:r>
            <a:r>
              <a:rPr b="1" lang="zh-CN" sz="2800" spc="-1" strike="noStrike">
                <a:solidFill>
                  <a:srgbClr val="d8d8d8"/>
                </a:solidFill>
                <a:latin typeface="Yoon 윤고딕 520_TT"/>
                <a:ea typeface="Yoon 윤고딕 520_TT"/>
              </a:rPr>
              <a:t>대카드의 리더쉽 사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그림 15" descr=""/>
          <p:cNvPicPr/>
          <p:nvPr/>
        </p:nvPicPr>
        <p:blipFill>
          <a:blip r:embed="rId2"/>
          <a:stretch/>
        </p:blipFill>
        <p:spPr>
          <a:xfrm>
            <a:off x="5143680" y="2144880"/>
            <a:ext cx="2504880" cy="1682640"/>
          </a:xfrm>
          <a:prstGeom prst="rect">
            <a:avLst/>
          </a:prstGeom>
          <a:ln w="9360">
            <a:solidFill>
              <a:srgbClr val="e53d09"/>
            </a:solidFill>
            <a:miter/>
          </a:ln>
        </p:spPr>
      </p:pic>
      <p:pic>
        <p:nvPicPr>
          <p:cNvPr id="164" name="그림 16" descr=""/>
          <p:cNvPicPr/>
          <p:nvPr/>
        </p:nvPicPr>
        <p:blipFill>
          <a:blip r:embed="rId3"/>
          <a:srcRect l="0" t="0" r="2707" b="0"/>
          <a:stretch/>
        </p:blipFill>
        <p:spPr>
          <a:xfrm>
            <a:off x="7429680" y="3357720"/>
            <a:ext cx="1549080" cy="2031840"/>
          </a:xfrm>
          <a:prstGeom prst="rect">
            <a:avLst/>
          </a:prstGeom>
          <a:ln w="9360">
            <a:solidFill>
              <a:srgbClr val="e53d09"/>
            </a:solidFill>
            <a:miter/>
          </a:ln>
        </p:spPr>
      </p:pic>
      <p:pic>
        <p:nvPicPr>
          <p:cNvPr id="165" name="Picture 2" descr=""/>
          <p:cNvPicPr/>
          <p:nvPr/>
        </p:nvPicPr>
        <p:blipFill>
          <a:blip r:embed="rId4"/>
          <a:stretch/>
        </p:blipFill>
        <p:spPr>
          <a:xfrm>
            <a:off x="5357880" y="4572000"/>
            <a:ext cx="2106720" cy="1571760"/>
          </a:xfrm>
          <a:prstGeom prst="rect">
            <a:avLst/>
          </a:prstGeom>
          <a:ln w="9360">
            <a:solidFill>
              <a:srgbClr val="e53d09"/>
            </a:solidFill>
            <a:miter/>
          </a:ln>
        </p:spPr>
      </p:pic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직사각형 1"/>
          <p:cNvSpPr/>
          <p:nvPr/>
        </p:nvSpPr>
        <p:spPr>
          <a:xfrm>
            <a:off x="0" y="500040"/>
            <a:ext cx="9144000" cy="585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직사각형 3"/>
          <p:cNvSpPr/>
          <p:nvPr/>
        </p:nvSpPr>
        <p:spPr>
          <a:xfrm>
            <a:off x="0" y="0"/>
            <a:ext cx="9144000" cy="500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직사각형 4"/>
          <p:cNvSpPr/>
          <p:nvPr/>
        </p:nvSpPr>
        <p:spPr>
          <a:xfrm>
            <a:off x="0" y="6357960"/>
            <a:ext cx="9144000" cy="500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8" descr=""/>
          <p:cNvPicPr/>
          <p:nvPr/>
        </p:nvPicPr>
        <p:blipFill>
          <a:blip r:embed="rId1"/>
          <a:srcRect l="0" t="0" r="0" b="12727"/>
          <a:stretch/>
        </p:blipFill>
        <p:spPr>
          <a:xfrm>
            <a:off x="7861320" y="6489720"/>
            <a:ext cx="1260360" cy="210960"/>
          </a:xfrm>
          <a:prstGeom prst="rect">
            <a:avLst/>
          </a:prstGeom>
          <a:ln w="0">
            <a:noFill/>
          </a:ln>
        </p:spPr>
      </p:pic>
      <p:sp>
        <p:nvSpPr>
          <p:cNvPr id="170" name="직사각형 9"/>
          <p:cNvSpPr/>
          <p:nvPr/>
        </p:nvSpPr>
        <p:spPr>
          <a:xfrm>
            <a:off x="4572000" y="500040"/>
            <a:ext cx="4572000" cy="5857920"/>
          </a:xfrm>
          <a:prstGeom prst="rect">
            <a:avLst/>
          </a:prstGeom>
          <a:solidFill>
            <a:srgbClr val="e36c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14"/>
          <p:cNvSpPr/>
          <p:nvPr/>
        </p:nvSpPr>
        <p:spPr>
          <a:xfrm>
            <a:off x="4708440" y="1143000"/>
            <a:ext cx="438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8d8d8"/>
                </a:solidFill>
                <a:latin typeface="Yoon 윤고딕 520_TT"/>
                <a:ea typeface="Yoon 윤고딕 520_TT"/>
              </a:rPr>
              <a:t>현</a:t>
            </a:r>
            <a:r>
              <a:rPr b="1" lang="zh-CN" sz="2800" spc="-1" strike="noStrike">
                <a:solidFill>
                  <a:srgbClr val="d8d8d8"/>
                </a:solidFill>
                <a:latin typeface="Yoon 윤고딕 520_TT"/>
                <a:ea typeface="Yoon 윤고딕 520_TT"/>
              </a:rPr>
              <a:t>대카드의 리더쉽 사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그림 18" descr=""/>
          <p:cNvPicPr/>
          <p:nvPr/>
        </p:nvPicPr>
        <p:blipFill>
          <a:blip r:embed="rId2"/>
          <a:stretch/>
        </p:blipFill>
        <p:spPr>
          <a:xfrm>
            <a:off x="793800" y="3112920"/>
            <a:ext cx="2633760" cy="3245040"/>
          </a:xfrm>
          <a:prstGeom prst="rect">
            <a:avLst/>
          </a:prstGeom>
          <a:ln w="0">
            <a:noFill/>
          </a:ln>
        </p:spPr>
      </p:pic>
      <p:pic>
        <p:nvPicPr>
          <p:cNvPr id="173" name="내용 개체 틀 3" descr=""/>
          <p:cNvPicPr/>
          <p:nvPr/>
        </p:nvPicPr>
        <p:blipFill>
          <a:blip r:embed="rId3"/>
          <a:srcRect l="0" t="1427" r="0" b="40606"/>
          <a:stretch/>
        </p:blipFill>
        <p:spPr>
          <a:xfrm>
            <a:off x="865080" y="903240"/>
            <a:ext cx="2648160" cy="1882800"/>
          </a:xfrm>
          <a:prstGeom prst="rect">
            <a:avLst/>
          </a:prstGeom>
          <a:ln w="0">
            <a:noFill/>
          </a:ln>
        </p:spPr>
      </p:pic>
      <p:pic>
        <p:nvPicPr>
          <p:cNvPr id="174" name="그림 19" descr=""/>
          <p:cNvPicPr/>
          <p:nvPr/>
        </p:nvPicPr>
        <p:blipFill>
          <a:blip r:embed="rId4"/>
          <a:stretch/>
        </p:blipFill>
        <p:spPr>
          <a:xfrm>
            <a:off x="5143680" y="2144880"/>
            <a:ext cx="2504880" cy="1682640"/>
          </a:xfrm>
          <a:prstGeom prst="rect">
            <a:avLst/>
          </a:prstGeom>
          <a:ln w="9360">
            <a:solidFill>
              <a:srgbClr val="e53d09"/>
            </a:solidFill>
            <a:miter/>
          </a:ln>
        </p:spPr>
      </p:pic>
      <p:pic>
        <p:nvPicPr>
          <p:cNvPr id="175" name="그림 20" descr=""/>
          <p:cNvPicPr/>
          <p:nvPr/>
        </p:nvPicPr>
        <p:blipFill>
          <a:blip r:embed="rId5"/>
          <a:srcRect l="0" t="0" r="2707" b="0"/>
          <a:stretch/>
        </p:blipFill>
        <p:spPr>
          <a:xfrm>
            <a:off x="7429680" y="3357720"/>
            <a:ext cx="1549080" cy="2031840"/>
          </a:xfrm>
          <a:prstGeom prst="rect">
            <a:avLst/>
          </a:prstGeom>
          <a:ln w="9360">
            <a:solidFill>
              <a:srgbClr val="e53d09"/>
            </a:solidFill>
            <a:miter/>
          </a:ln>
        </p:spPr>
      </p:pic>
      <p:pic>
        <p:nvPicPr>
          <p:cNvPr id="176" name="Picture 2" descr=""/>
          <p:cNvPicPr/>
          <p:nvPr/>
        </p:nvPicPr>
        <p:blipFill>
          <a:blip r:embed="rId6"/>
          <a:stretch/>
        </p:blipFill>
        <p:spPr>
          <a:xfrm>
            <a:off x="5357880" y="4572000"/>
            <a:ext cx="2106720" cy="1571760"/>
          </a:xfrm>
          <a:prstGeom prst="rect">
            <a:avLst/>
          </a:prstGeom>
          <a:ln w="9360">
            <a:solidFill>
              <a:srgbClr val="e53d09"/>
            </a:solidFill>
            <a:miter/>
          </a:ln>
        </p:spPr>
      </p:pic>
      <p:sp>
        <p:nvSpPr>
          <p:cNvPr id="177" name="모서리가 둥근 직사각형 22"/>
          <p:cNvSpPr/>
          <p:nvPr/>
        </p:nvSpPr>
        <p:spPr>
          <a:xfrm>
            <a:off x="932040" y="858960"/>
            <a:ext cx="1136520" cy="282600"/>
          </a:xfrm>
          <a:prstGeom prst="roundRect">
            <a:avLst>
              <a:gd name="adj" fmla="val 16667"/>
            </a:avLst>
          </a:prstGeom>
          <a:noFill/>
          <a:ln w="3240">
            <a:solidFill>
              <a:srgbClr val="e53d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모서리가 둥근 직사각형 23"/>
          <p:cNvSpPr/>
          <p:nvPr/>
        </p:nvSpPr>
        <p:spPr>
          <a:xfrm>
            <a:off x="932040" y="3095640"/>
            <a:ext cx="1136520" cy="282600"/>
          </a:xfrm>
          <a:prstGeom prst="roundRect">
            <a:avLst>
              <a:gd name="adj" fmla="val 16667"/>
            </a:avLst>
          </a:prstGeom>
          <a:noFill/>
          <a:ln w="3240">
            <a:solidFill>
              <a:srgbClr val="e53d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직사각형 1"/>
          <p:cNvSpPr/>
          <p:nvPr/>
        </p:nvSpPr>
        <p:spPr>
          <a:xfrm>
            <a:off x="0" y="500040"/>
            <a:ext cx="9144000" cy="585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"/>
          <p:cNvSpPr/>
          <p:nvPr/>
        </p:nvSpPr>
        <p:spPr>
          <a:xfrm>
            <a:off x="0" y="0"/>
            <a:ext cx="9144000" cy="500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8"/>
          <p:cNvSpPr/>
          <p:nvPr/>
        </p:nvSpPr>
        <p:spPr>
          <a:xfrm>
            <a:off x="-368640" y="1184400"/>
            <a:ext cx="483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3d09"/>
                </a:solidFill>
                <a:latin typeface="TheMix 5-Regular Caps"/>
                <a:ea typeface="Malgun Gothic"/>
              </a:rPr>
              <a:t>Commun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Box 10"/>
          <p:cNvSpPr/>
          <p:nvPr/>
        </p:nvSpPr>
        <p:spPr>
          <a:xfrm>
            <a:off x="550800" y="1770120"/>
            <a:ext cx="5092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53d09"/>
                </a:solidFill>
                <a:latin typeface="Yoon 윤고딕 520_TT"/>
                <a:ea typeface="Yoon 윤고딕 520_TT"/>
              </a:rPr>
              <a:t>다양한 사람들의 생각과 아이디어를 융합시키는 것은 바로 커뮤니케이션이다</a:t>
            </a:r>
            <a:r>
              <a:rPr b="0" lang="en-US" sz="1200" spc="-1" strike="noStrike">
                <a:solidFill>
                  <a:srgbClr val="e53d09"/>
                </a:solidFill>
                <a:latin typeface="Yoon 윤고딕 520_TT"/>
                <a:ea typeface="Yoon 윤고딕 520_TT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53d09"/>
                </a:solidFill>
                <a:latin typeface="Yoon 윤고딕 520_TT"/>
                <a:ea typeface="Yoon 윤고딕 520_TT"/>
              </a:rPr>
              <a:t>조직에서 생각의 속도로 실천하기 위해서는</a:t>
            </a:r>
            <a:r>
              <a:rPr b="0" lang="en-US" sz="1200" spc="-1" strike="noStrike">
                <a:solidFill>
                  <a:srgbClr val="e53d09"/>
                </a:solidFill>
                <a:latin typeface="Yoon 윤고딕 520_TT"/>
                <a:ea typeface="Yoon 윤고딕 520_TT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53d09"/>
                </a:solidFill>
                <a:latin typeface="Yoon 윤고딕 520_TT"/>
                <a:ea typeface="Yoon 윤고딕 520_TT"/>
              </a:rPr>
              <a:t>유기적이고 빠른 커뮤니케이션이 필요하다</a:t>
            </a:r>
            <a:r>
              <a:rPr b="0" lang="en-US" sz="1200" spc="-1" strike="noStrike">
                <a:solidFill>
                  <a:srgbClr val="e53d09"/>
                </a:solidFill>
                <a:latin typeface="Yoon 윤고딕 520_TT"/>
                <a:ea typeface="Yoon 윤고딕 520_TT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2" descr=""/>
          <p:cNvPicPr/>
          <p:nvPr/>
        </p:nvPicPr>
        <p:blipFill>
          <a:blip r:embed="rId1"/>
          <a:stretch/>
        </p:blipFill>
        <p:spPr>
          <a:xfrm>
            <a:off x="4762440" y="2657520"/>
            <a:ext cx="4381560" cy="3705120"/>
          </a:xfrm>
          <a:prstGeom prst="rect">
            <a:avLst/>
          </a:prstGeom>
          <a:ln w="0">
            <a:noFill/>
          </a:ln>
        </p:spPr>
      </p:pic>
      <p:sp>
        <p:nvSpPr>
          <p:cNvPr id="184" name="직사각형 4"/>
          <p:cNvSpPr/>
          <p:nvPr/>
        </p:nvSpPr>
        <p:spPr>
          <a:xfrm>
            <a:off x="0" y="6357960"/>
            <a:ext cx="9144000" cy="500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8" descr=""/>
          <p:cNvPicPr/>
          <p:nvPr/>
        </p:nvPicPr>
        <p:blipFill>
          <a:blip r:embed="rId2"/>
          <a:srcRect l="0" t="0" r="0" b="12727"/>
          <a:stretch/>
        </p:blipFill>
        <p:spPr>
          <a:xfrm>
            <a:off x="7861320" y="6489720"/>
            <a:ext cx="1260360" cy="210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직사각형 1"/>
          <p:cNvSpPr/>
          <p:nvPr/>
        </p:nvSpPr>
        <p:spPr>
          <a:xfrm>
            <a:off x="0" y="500040"/>
            <a:ext cx="9144000" cy="585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직사각형 3"/>
          <p:cNvSpPr/>
          <p:nvPr/>
        </p:nvSpPr>
        <p:spPr>
          <a:xfrm>
            <a:off x="0" y="0"/>
            <a:ext cx="9144000" cy="500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직사각형 4"/>
          <p:cNvSpPr/>
          <p:nvPr/>
        </p:nvSpPr>
        <p:spPr>
          <a:xfrm>
            <a:off x="0" y="6357960"/>
            <a:ext cx="9144000" cy="500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8" descr=""/>
          <p:cNvPicPr/>
          <p:nvPr/>
        </p:nvPicPr>
        <p:blipFill>
          <a:blip r:embed="rId1"/>
          <a:srcRect l="0" t="0" r="0" b="12727"/>
          <a:stretch/>
        </p:blipFill>
        <p:spPr>
          <a:xfrm>
            <a:off x="7861320" y="6489720"/>
            <a:ext cx="1260360" cy="210960"/>
          </a:xfrm>
          <a:prstGeom prst="rect">
            <a:avLst/>
          </a:prstGeom>
          <a:ln w="0">
            <a:noFill/>
          </a:ln>
        </p:spPr>
      </p:pic>
      <p:sp>
        <p:nvSpPr>
          <p:cNvPr id="190" name="직사각형 8"/>
          <p:cNvSpPr/>
          <p:nvPr/>
        </p:nvSpPr>
        <p:spPr>
          <a:xfrm>
            <a:off x="-156240" y="1143000"/>
            <a:ext cx="433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53d09"/>
                </a:solidFill>
                <a:latin typeface="Yoon 윤고딕 520_TT"/>
                <a:ea typeface="Yoon 윤고딕 520_TT"/>
              </a:rPr>
              <a:t>창</a:t>
            </a:r>
            <a:r>
              <a:rPr b="1" lang="zh-CN" sz="2800" spc="-1" strike="noStrike">
                <a:solidFill>
                  <a:srgbClr val="e53d09"/>
                </a:solidFill>
                <a:latin typeface="Yoon 윤고딕 520_TT"/>
                <a:ea typeface="Yoon 윤고딕 520_TT"/>
              </a:rPr>
              <a:t>조적 커뮤니케이션</a:t>
            </a:r>
            <a:r>
              <a:rPr b="1" lang="en-US" sz="2800" spc="-1" strike="noStrike">
                <a:solidFill>
                  <a:srgbClr val="e53d09"/>
                </a:solidFill>
                <a:latin typeface="Yoon 윤고딕 520_TT"/>
                <a:ea typeface="Yoon 윤고딕 520_TT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Box 10"/>
          <p:cNvSpPr/>
          <p:nvPr/>
        </p:nvSpPr>
        <p:spPr>
          <a:xfrm>
            <a:off x="285840" y="2292480"/>
            <a:ext cx="442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53d09"/>
                </a:solidFill>
                <a:latin typeface="Yoon 윤고딕 520_TT"/>
                <a:ea typeface="Yoon 윤고딕 520_TT"/>
              </a:rPr>
              <a:t>비공식적 대화의 장을 만들어라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직사각형 9"/>
          <p:cNvSpPr/>
          <p:nvPr/>
        </p:nvSpPr>
        <p:spPr>
          <a:xfrm>
            <a:off x="4572000" y="500040"/>
            <a:ext cx="4572000" cy="5857920"/>
          </a:xfrm>
          <a:prstGeom prst="rect">
            <a:avLst/>
          </a:prstGeom>
          <a:solidFill>
            <a:srgbClr val="e36c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Box 11"/>
          <p:cNvSpPr/>
          <p:nvPr/>
        </p:nvSpPr>
        <p:spPr>
          <a:xfrm>
            <a:off x="285840" y="3139920"/>
            <a:ext cx="442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53d09"/>
                </a:solidFill>
                <a:latin typeface="Yoon 윤고딕 520_TT"/>
                <a:ea typeface="Yoon 윤고딕 520_TT"/>
              </a:rPr>
              <a:t>건설적 충돌</a:t>
            </a:r>
            <a:r>
              <a:rPr b="0" lang="en-US" sz="1600" spc="-1" strike="noStrike">
                <a:solidFill>
                  <a:srgbClr val="e53d09"/>
                </a:solidFill>
                <a:latin typeface="Yoon 윤고딕 520_TT"/>
                <a:ea typeface="Yoon 윤고딕 520_TT"/>
              </a:rPr>
              <a:t>, </a:t>
            </a:r>
            <a:r>
              <a:rPr b="0" lang="zh-CN" sz="1600" spc="-1" strike="noStrike">
                <a:solidFill>
                  <a:srgbClr val="e53d09"/>
                </a:solidFill>
                <a:latin typeface="Yoon 윤고딕 520_TT"/>
                <a:ea typeface="Yoon 윤고딕 520_TT"/>
              </a:rPr>
              <a:t>비판을 피하지 마라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Box 12"/>
          <p:cNvSpPr/>
          <p:nvPr/>
        </p:nvSpPr>
        <p:spPr>
          <a:xfrm>
            <a:off x="285840" y="3987720"/>
            <a:ext cx="44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53d09"/>
                </a:solidFill>
                <a:latin typeface="Yoon 윤고딕 520_TT"/>
                <a:ea typeface="Yoon 윤고딕 520_TT"/>
              </a:rPr>
              <a:t>직급을 떠나 상대방의 생각을 존중하라</a:t>
            </a:r>
            <a:r>
              <a:rPr b="0" lang="en-US" sz="1400" spc="-1" strike="noStrike">
                <a:solidFill>
                  <a:srgbClr val="e53d09"/>
                </a:solidFill>
                <a:latin typeface="Yoon 윤고딕 520_TT"/>
                <a:ea typeface="Yoon 윤고딕 520_TT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Box 13"/>
          <p:cNvSpPr/>
          <p:nvPr/>
        </p:nvSpPr>
        <p:spPr>
          <a:xfrm>
            <a:off x="285840" y="4835520"/>
            <a:ext cx="44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53d09"/>
                </a:solidFill>
                <a:latin typeface="Yoon 윤고딕 520_TT"/>
                <a:ea typeface="Yoon 윤고딕 520_TT"/>
              </a:rPr>
              <a:t>불필요한 문서화는 아이디어를 막는 장벽이다</a:t>
            </a:r>
            <a:r>
              <a:rPr b="0" lang="en-US" sz="1400" spc="-1" strike="noStrike">
                <a:solidFill>
                  <a:srgbClr val="e53d09"/>
                </a:solidFill>
                <a:latin typeface="Yoon 윤고딕 520_TT"/>
                <a:ea typeface="Yoon 윤고딕 520_TT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직사각형 14"/>
          <p:cNvSpPr/>
          <p:nvPr/>
        </p:nvSpPr>
        <p:spPr>
          <a:xfrm>
            <a:off x="4708440" y="1143000"/>
            <a:ext cx="438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8d8d8"/>
                </a:solidFill>
                <a:latin typeface="Yoon 윤고딕 520_TT"/>
                <a:ea typeface="Yoon 윤고딕 520_TT"/>
              </a:rPr>
              <a:t>구</a:t>
            </a:r>
            <a:r>
              <a:rPr b="1" lang="zh-CN" sz="2800" spc="-1" strike="noStrike">
                <a:solidFill>
                  <a:srgbClr val="d8d8d8"/>
                </a:solidFill>
                <a:latin typeface="Yoon 윤고딕 520_TT"/>
                <a:ea typeface="Yoon 윤고딕 520_TT"/>
              </a:rPr>
              <a:t>글 커뮤니케이션 사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직사각형 1"/>
          <p:cNvSpPr/>
          <p:nvPr/>
        </p:nvSpPr>
        <p:spPr>
          <a:xfrm>
            <a:off x="0" y="500040"/>
            <a:ext cx="9144000" cy="585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직사각형 3"/>
          <p:cNvSpPr/>
          <p:nvPr/>
        </p:nvSpPr>
        <p:spPr>
          <a:xfrm>
            <a:off x="0" y="0"/>
            <a:ext cx="9144000" cy="500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직사각형 8"/>
          <p:cNvSpPr/>
          <p:nvPr/>
        </p:nvSpPr>
        <p:spPr>
          <a:xfrm>
            <a:off x="-354960" y="857160"/>
            <a:ext cx="640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3d09"/>
                </a:solidFill>
                <a:latin typeface="TheMix 5-Regular Caps"/>
                <a:ea typeface="Malgun Gothic"/>
              </a:rPr>
              <a:t>Design for Creative Mi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Box 10"/>
          <p:cNvSpPr/>
          <p:nvPr/>
        </p:nvSpPr>
        <p:spPr>
          <a:xfrm>
            <a:off x="550800" y="1442880"/>
            <a:ext cx="5378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53d09"/>
                </a:solidFill>
                <a:latin typeface="Yoon 윤고딕 520_TT"/>
                <a:ea typeface="Yoon 윤고딕 520_TT"/>
              </a:rPr>
              <a:t>최근에</a:t>
            </a:r>
            <a:r>
              <a:rPr b="0" lang="en-US" sz="1200" spc="-1" strike="noStrike">
                <a:solidFill>
                  <a:srgbClr val="e53d09"/>
                </a:solidFill>
                <a:latin typeface="Yoon 윤고딕 520_TT"/>
                <a:ea typeface="Yoon 윤고딕 520_TT"/>
              </a:rPr>
              <a:t>, </a:t>
            </a:r>
            <a:r>
              <a:rPr b="0" lang="zh-CN" sz="1200" spc="-1" strike="noStrike">
                <a:solidFill>
                  <a:srgbClr val="e53d09"/>
                </a:solidFill>
                <a:latin typeface="Yoon 윤고딕 520_TT"/>
                <a:ea typeface="Yoon 윤고딕 520_TT"/>
              </a:rPr>
              <a:t>회사 내 공간을 디자인하여 창조성을 늘리려는 노력이 이루어 지고 있다</a:t>
            </a:r>
            <a:r>
              <a:rPr b="0" lang="en-US" sz="1200" spc="-1" strike="noStrike">
                <a:solidFill>
                  <a:srgbClr val="e53d09"/>
                </a:solidFill>
                <a:latin typeface="Yoon 윤고딕 520_TT"/>
                <a:ea typeface="Yoon 윤고딕 520_TT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53d09"/>
                </a:solidFill>
                <a:latin typeface="Yoon 윤고딕 520_TT"/>
                <a:ea typeface="Yoon 윤고딕 520_TT"/>
              </a:rPr>
              <a:t>편안하고 자유로운 환경에서 더욱 참신하고 다양한 아이디어가 나온다는 주장이다</a:t>
            </a:r>
            <a:r>
              <a:rPr b="0" lang="en-US" sz="1200" spc="-1" strike="noStrike">
                <a:solidFill>
                  <a:srgbClr val="e53d09"/>
                </a:solidFill>
                <a:latin typeface="Yoon 윤고딕 520_TT"/>
                <a:ea typeface="Yoon 윤고딕 520_TT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직사각형 4"/>
          <p:cNvSpPr/>
          <p:nvPr/>
        </p:nvSpPr>
        <p:spPr>
          <a:xfrm>
            <a:off x="0" y="6357960"/>
            <a:ext cx="9144000" cy="500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8" descr=""/>
          <p:cNvPicPr/>
          <p:nvPr/>
        </p:nvPicPr>
        <p:blipFill>
          <a:blip r:embed="rId1"/>
          <a:srcRect l="0" t="0" r="0" b="12727"/>
          <a:stretch/>
        </p:blipFill>
        <p:spPr>
          <a:xfrm>
            <a:off x="7861320" y="6489720"/>
            <a:ext cx="1260360" cy="210960"/>
          </a:xfrm>
          <a:prstGeom prst="rect">
            <a:avLst/>
          </a:prstGeom>
          <a:ln w="0">
            <a:noFill/>
          </a:ln>
        </p:spPr>
      </p:pic>
      <p:pic>
        <p:nvPicPr>
          <p:cNvPr id="203" name="_x93241800" descr=""/>
          <p:cNvPicPr/>
          <p:nvPr/>
        </p:nvPicPr>
        <p:blipFill>
          <a:blip r:embed="rId2"/>
          <a:stretch/>
        </p:blipFill>
        <p:spPr>
          <a:xfrm>
            <a:off x="2071800" y="2786040"/>
            <a:ext cx="2286000" cy="1704960"/>
          </a:xfrm>
          <a:prstGeom prst="rect">
            <a:avLst/>
          </a:prstGeom>
          <a:ln w="9360">
            <a:solidFill>
              <a:srgbClr val="e53d09"/>
            </a:solidFill>
            <a:miter/>
          </a:ln>
        </p:spPr>
      </p:pic>
      <p:pic>
        <p:nvPicPr>
          <p:cNvPr id="204" name="_x93244360" descr=""/>
          <p:cNvPicPr/>
          <p:nvPr/>
        </p:nvPicPr>
        <p:blipFill>
          <a:blip r:embed="rId3"/>
          <a:stretch/>
        </p:blipFill>
        <p:spPr>
          <a:xfrm>
            <a:off x="4143240" y="3143160"/>
            <a:ext cx="4548240" cy="3029040"/>
          </a:xfrm>
          <a:prstGeom prst="rect">
            <a:avLst/>
          </a:prstGeom>
          <a:ln w="9360">
            <a:solidFill>
              <a:srgbClr val="e53d09"/>
            </a:solidFill>
            <a:miter/>
          </a:ln>
        </p:spPr>
      </p:pic>
      <p:pic>
        <p:nvPicPr>
          <p:cNvPr id="205" name="_x93196264" descr=""/>
          <p:cNvPicPr/>
          <p:nvPr/>
        </p:nvPicPr>
        <p:blipFill>
          <a:blip r:embed="rId4"/>
          <a:stretch/>
        </p:blipFill>
        <p:spPr>
          <a:xfrm>
            <a:off x="357120" y="4286160"/>
            <a:ext cx="2857680" cy="1911600"/>
          </a:xfrm>
          <a:prstGeom prst="rect">
            <a:avLst/>
          </a:prstGeom>
          <a:ln w="9360">
            <a:solidFill>
              <a:srgbClr val="e53d09"/>
            </a:solidFill>
            <a:miter/>
          </a:ln>
        </p:spPr>
      </p:pic>
      <p:pic>
        <p:nvPicPr>
          <p:cNvPr id="206" name="_x93243640" descr=""/>
          <p:cNvPicPr/>
          <p:nvPr/>
        </p:nvPicPr>
        <p:blipFill>
          <a:blip r:embed="rId5"/>
          <a:stretch/>
        </p:blipFill>
        <p:spPr>
          <a:xfrm>
            <a:off x="6643800" y="1643040"/>
            <a:ext cx="2206440" cy="1662120"/>
          </a:xfrm>
          <a:prstGeom prst="rect">
            <a:avLst/>
          </a:prstGeom>
          <a:ln w="9360">
            <a:solidFill>
              <a:srgbClr val="e53d09"/>
            </a:solidFill>
            <a:miter/>
          </a:ln>
        </p:spPr>
      </p:pic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직사각형 1"/>
          <p:cNvSpPr/>
          <p:nvPr/>
        </p:nvSpPr>
        <p:spPr>
          <a:xfrm>
            <a:off x="0" y="500040"/>
            <a:ext cx="9144000" cy="585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직사각형 3"/>
          <p:cNvSpPr/>
          <p:nvPr/>
        </p:nvSpPr>
        <p:spPr>
          <a:xfrm>
            <a:off x="0" y="0"/>
            <a:ext cx="9144000" cy="500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직사각형 8"/>
          <p:cNvSpPr/>
          <p:nvPr/>
        </p:nvSpPr>
        <p:spPr>
          <a:xfrm>
            <a:off x="2936160" y="857160"/>
            <a:ext cx="607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3d09"/>
                </a:solidFill>
                <a:latin typeface="TheMix 5-Regular Caps"/>
                <a:ea typeface="Malgun Gothic"/>
              </a:rPr>
              <a:t>Organizational Cul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10"/>
          <p:cNvSpPr/>
          <p:nvPr/>
        </p:nvSpPr>
        <p:spPr>
          <a:xfrm>
            <a:off x="3765600" y="1442880"/>
            <a:ext cx="5378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53d09"/>
                </a:solidFill>
                <a:latin typeface="Yoon 윤고딕 520_TT"/>
                <a:ea typeface="Yoon 윤고딕 520_TT"/>
              </a:rPr>
              <a:t>조직 문화란 구성원들의 사고와 행동 에  방향과 힘을 주는 바탕</a:t>
            </a:r>
            <a:r>
              <a:rPr b="0" lang="en-US" sz="1200" spc="-1" strike="noStrike">
                <a:solidFill>
                  <a:srgbClr val="e53d09"/>
                </a:solidFill>
                <a:latin typeface="Yoon 윤고딕 520_TT"/>
                <a:ea typeface="Yoon 윤고딕 520_TT"/>
              </a:rPr>
              <a:t>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53d09"/>
                </a:solidFill>
                <a:latin typeface="Yoon 윤고딕 520_TT"/>
                <a:ea typeface="Yoon 윤고딕 520_TT"/>
              </a:rPr>
              <a:t>창조적 조직문화는 기업의 미래를 위한 필수적인 핵심 역량이다</a:t>
            </a:r>
            <a:r>
              <a:rPr b="0" lang="en-US" sz="1200" spc="-1" strike="noStrike">
                <a:solidFill>
                  <a:srgbClr val="e53d09"/>
                </a:solidFill>
                <a:latin typeface="Yoon 윤고딕 520_TT"/>
                <a:ea typeface="Yoon 윤고딕 520_TT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2" descr=""/>
          <p:cNvPicPr/>
          <p:nvPr/>
        </p:nvPicPr>
        <p:blipFill>
          <a:blip r:embed="rId1"/>
          <a:stretch/>
        </p:blipFill>
        <p:spPr>
          <a:xfrm flipH="1">
            <a:off x="0" y="2362320"/>
            <a:ext cx="6678720" cy="4174920"/>
          </a:xfrm>
          <a:prstGeom prst="rect">
            <a:avLst/>
          </a:prstGeom>
          <a:ln w="0">
            <a:noFill/>
          </a:ln>
        </p:spPr>
      </p:pic>
      <p:sp>
        <p:nvSpPr>
          <p:cNvPr id="212" name="직사각형 4"/>
          <p:cNvSpPr/>
          <p:nvPr/>
        </p:nvSpPr>
        <p:spPr>
          <a:xfrm>
            <a:off x="0" y="6357960"/>
            <a:ext cx="9144000" cy="500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8" descr=""/>
          <p:cNvPicPr/>
          <p:nvPr/>
        </p:nvPicPr>
        <p:blipFill>
          <a:blip r:embed="rId2"/>
          <a:srcRect l="0" t="0" r="0" b="12727"/>
          <a:stretch/>
        </p:blipFill>
        <p:spPr>
          <a:xfrm>
            <a:off x="7861320" y="6489720"/>
            <a:ext cx="1260360" cy="210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직사각형 1"/>
          <p:cNvSpPr/>
          <p:nvPr/>
        </p:nvSpPr>
        <p:spPr>
          <a:xfrm>
            <a:off x="0" y="500040"/>
            <a:ext cx="9144000" cy="585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직사각형 3"/>
          <p:cNvSpPr/>
          <p:nvPr/>
        </p:nvSpPr>
        <p:spPr>
          <a:xfrm>
            <a:off x="0" y="0"/>
            <a:ext cx="9144000" cy="500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직사각형 4"/>
          <p:cNvSpPr/>
          <p:nvPr/>
        </p:nvSpPr>
        <p:spPr>
          <a:xfrm>
            <a:off x="0" y="6357960"/>
            <a:ext cx="9144000" cy="500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8" descr=""/>
          <p:cNvPicPr/>
          <p:nvPr/>
        </p:nvPicPr>
        <p:blipFill>
          <a:blip r:embed="rId1"/>
          <a:srcRect l="0" t="0" r="0" b="12727"/>
          <a:stretch/>
        </p:blipFill>
        <p:spPr>
          <a:xfrm>
            <a:off x="7861320" y="6489720"/>
            <a:ext cx="1260360" cy="210960"/>
          </a:xfrm>
          <a:prstGeom prst="rect">
            <a:avLst/>
          </a:prstGeom>
          <a:ln w="0">
            <a:noFill/>
          </a:ln>
        </p:spPr>
      </p:pic>
      <p:sp>
        <p:nvSpPr>
          <p:cNvPr id="218" name="직사각형 8"/>
          <p:cNvSpPr/>
          <p:nvPr/>
        </p:nvSpPr>
        <p:spPr>
          <a:xfrm>
            <a:off x="-10800" y="1143000"/>
            <a:ext cx="460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53d09"/>
                </a:solidFill>
                <a:latin typeface="Yoon 윤고딕 520_TT"/>
                <a:ea typeface="Yoon 윤고딕 520_TT"/>
              </a:rPr>
              <a:t>창</a:t>
            </a:r>
            <a:r>
              <a:rPr b="1" lang="zh-CN" sz="2800" spc="-1" strike="noStrike">
                <a:solidFill>
                  <a:srgbClr val="e53d09"/>
                </a:solidFill>
                <a:latin typeface="Yoon 윤고딕 520_TT"/>
                <a:ea typeface="Yoon 윤고딕 520_TT"/>
              </a:rPr>
              <a:t>의성을 살리는 조직문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Box 10"/>
          <p:cNvSpPr/>
          <p:nvPr/>
        </p:nvSpPr>
        <p:spPr>
          <a:xfrm>
            <a:off x="285840" y="2292480"/>
            <a:ext cx="442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53d09"/>
                </a:solidFill>
                <a:latin typeface="Yoon 윤고딕 520_TT"/>
                <a:ea typeface="Yoon 윤고딕 520_TT"/>
              </a:rPr>
              <a:t>일</a:t>
            </a:r>
            <a:r>
              <a:rPr b="0" lang="zh-CN" sz="1400" spc="-1" strike="noStrike">
                <a:solidFill>
                  <a:srgbClr val="e53d09"/>
                </a:solidFill>
                <a:latin typeface="Yoon 윤고딕 520_TT"/>
                <a:ea typeface="Yoon 윤고딕 520_TT"/>
              </a:rPr>
              <a:t>체감 형성을 통한 집합적 창의성 창출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직사각형 9"/>
          <p:cNvSpPr/>
          <p:nvPr/>
        </p:nvSpPr>
        <p:spPr>
          <a:xfrm>
            <a:off x="4572000" y="500040"/>
            <a:ext cx="4572000" cy="5857920"/>
          </a:xfrm>
          <a:prstGeom prst="rect">
            <a:avLst/>
          </a:prstGeom>
          <a:solidFill>
            <a:srgbClr val="e36c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Box 11"/>
          <p:cNvSpPr/>
          <p:nvPr/>
        </p:nvSpPr>
        <p:spPr>
          <a:xfrm>
            <a:off x="285840" y="2951280"/>
            <a:ext cx="442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53d09"/>
                </a:solidFill>
                <a:latin typeface="Yoon 윤고딕 520_TT"/>
                <a:ea typeface="Yoon 윤고딕 520_TT"/>
              </a:rPr>
              <a:t>기</a:t>
            </a:r>
            <a:r>
              <a:rPr b="0" lang="zh-CN" sz="1400" spc="-1" strike="noStrike">
                <a:solidFill>
                  <a:srgbClr val="e53d09"/>
                </a:solidFill>
                <a:latin typeface="Yoon 윤고딕 520_TT"/>
                <a:ea typeface="Yoon 윤고딕 520_TT"/>
              </a:rPr>
              <a:t>존 업무 관행 및 타성 뛰어넘기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12"/>
          <p:cNvSpPr/>
          <p:nvPr/>
        </p:nvSpPr>
        <p:spPr>
          <a:xfrm>
            <a:off x="285840" y="3610080"/>
            <a:ext cx="442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53d09"/>
                </a:solidFill>
                <a:latin typeface="Yoon 윤고딕 520_TT"/>
                <a:ea typeface="Yoon 윤고딕 520_TT"/>
              </a:rPr>
              <a:t>K</a:t>
            </a:r>
            <a:r>
              <a:rPr b="0" lang="en-US" sz="1400" spc="-1" strike="noStrike">
                <a:solidFill>
                  <a:srgbClr val="e53d09"/>
                </a:solidFill>
                <a:latin typeface="Yoon 윤고딕 520_TT"/>
                <a:ea typeface="Yoon 윤고딕 520_TT"/>
              </a:rPr>
              <a:t>now-Where</a:t>
            </a:r>
            <a:r>
              <a:rPr b="0" lang="zh-CN" sz="1400" spc="-1" strike="noStrike">
                <a:solidFill>
                  <a:srgbClr val="e53d09"/>
                </a:solidFill>
                <a:latin typeface="Yoon 윤고딕 520_TT"/>
                <a:ea typeface="Yoon 윤고딕 520_TT"/>
              </a:rPr>
              <a:t>를 강화하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Box 13"/>
          <p:cNvSpPr/>
          <p:nvPr/>
        </p:nvSpPr>
        <p:spPr>
          <a:xfrm>
            <a:off x="285840" y="4270320"/>
            <a:ext cx="442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53d09"/>
                </a:solidFill>
                <a:latin typeface="Yoon 윤고딕 520_TT"/>
                <a:ea typeface="Yoon 윤고딕 520_TT"/>
              </a:rPr>
              <a:t>실</a:t>
            </a:r>
            <a:r>
              <a:rPr b="0" lang="zh-CN" sz="1400" spc="-1" strike="noStrike">
                <a:solidFill>
                  <a:srgbClr val="e53d09"/>
                </a:solidFill>
                <a:latin typeface="Yoon 윤고딕 520_TT"/>
                <a:ea typeface="Yoon 윤고딕 520_TT"/>
              </a:rPr>
              <a:t>천를 두려워하지 않는 도전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직사각형 14"/>
          <p:cNvSpPr/>
          <p:nvPr/>
        </p:nvSpPr>
        <p:spPr>
          <a:xfrm>
            <a:off x="4545360" y="1143000"/>
            <a:ext cx="365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8d8d8"/>
                </a:solidFill>
                <a:latin typeface="Yoon 윤고딕 520_TT"/>
                <a:ea typeface="Yoon 윤고딕 520_TT"/>
              </a:rPr>
              <a:t>픽</a:t>
            </a:r>
            <a:r>
              <a:rPr b="1" lang="zh-CN" sz="2800" spc="-1" strike="noStrike">
                <a:solidFill>
                  <a:srgbClr val="d8d8d8"/>
                </a:solidFill>
                <a:latin typeface="Yoon 윤고딕 520_TT"/>
                <a:ea typeface="Yoon 윤고딕 520_TT"/>
              </a:rPr>
              <a:t>사의 조직문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Box 17"/>
          <p:cNvSpPr/>
          <p:nvPr/>
        </p:nvSpPr>
        <p:spPr>
          <a:xfrm>
            <a:off x="285840" y="4929120"/>
            <a:ext cx="442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53d09"/>
                </a:solidFill>
                <a:latin typeface="Yoon 윤고딕 520_TT"/>
                <a:ea typeface="Yoon 윤고딕 520_TT"/>
              </a:rPr>
              <a:t>고</a:t>
            </a:r>
            <a:r>
              <a:rPr b="0" lang="zh-CN" sz="1400" spc="-1" strike="noStrike">
                <a:solidFill>
                  <a:srgbClr val="e53d09"/>
                </a:solidFill>
                <a:latin typeface="Yoon 윤고딕 520_TT"/>
                <a:ea typeface="Yoon 윤고딕 520_TT"/>
              </a:rPr>
              <a:t>객 중심적 사고와 문화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2" descr=""/>
          <p:cNvPicPr/>
          <p:nvPr/>
        </p:nvPicPr>
        <p:blipFill>
          <a:blip r:embed="rId2"/>
          <a:stretch/>
        </p:blipFill>
        <p:spPr>
          <a:xfrm>
            <a:off x="4857840" y="2336760"/>
            <a:ext cx="4044960" cy="3044880"/>
          </a:xfrm>
          <a:prstGeom prst="rect">
            <a:avLst/>
          </a:prstGeom>
          <a:ln w="3240">
            <a:solidFill>
              <a:srgbClr val="ffffff"/>
            </a:solidFill>
            <a:miter/>
          </a:ln>
        </p:spPr>
      </p:pic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직사각형 1"/>
          <p:cNvSpPr/>
          <p:nvPr/>
        </p:nvSpPr>
        <p:spPr>
          <a:xfrm>
            <a:off x="0" y="500040"/>
            <a:ext cx="9144000" cy="585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2" descr=""/>
          <p:cNvPicPr/>
          <p:nvPr/>
        </p:nvPicPr>
        <p:blipFill>
          <a:blip r:embed="rId1"/>
          <a:srcRect l="0" t="1983" r="11830" b="0"/>
          <a:stretch/>
        </p:blipFill>
        <p:spPr>
          <a:xfrm>
            <a:off x="2357280" y="1127160"/>
            <a:ext cx="6786720" cy="5478480"/>
          </a:xfrm>
          <a:prstGeom prst="rect">
            <a:avLst/>
          </a:prstGeom>
          <a:ln w="0">
            <a:noFill/>
          </a:ln>
        </p:spPr>
      </p:pic>
      <p:sp>
        <p:nvSpPr>
          <p:cNvPr id="229" name="직사각형 3"/>
          <p:cNvSpPr/>
          <p:nvPr/>
        </p:nvSpPr>
        <p:spPr>
          <a:xfrm>
            <a:off x="0" y="0"/>
            <a:ext cx="9144000" cy="500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8"/>
          <p:cNvSpPr/>
          <p:nvPr/>
        </p:nvSpPr>
        <p:spPr>
          <a:xfrm>
            <a:off x="29880" y="1173240"/>
            <a:ext cx="395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3d09"/>
                </a:solidFill>
                <a:latin typeface="TheMix 5-Regular Caps"/>
                <a:ea typeface="Malgun Gothic"/>
              </a:rPr>
              <a:t>Motiv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Box 10"/>
          <p:cNvSpPr/>
          <p:nvPr/>
        </p:nvSpPr>
        <p:spPr>
          <a:xfrm>
            <a:off x="907920" y="1758960"/>
            <a:ext cx="53787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53d09"/>
                </a:solidFill>
                <a:latin typeface="Yoon 윤고딕 520_TT"/>
                <a:ea typeface="Yoon 윤고딕 520_TT"/>
              </a:rPr>
              <a:t>창의성이 발현되기 위해서는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53d09"/>
                </a:solidFill>
                <a:latin typeface="Yoon 윤고딕 520_TT"/>
                <a:ea typeface="Yoon 윤고딕 520_TT"/>
              </a:rPr>
              <a:t>창의적으로 사고할 수 있는 능력</a:t>
            </a:r>
            <a:r>
              <a:rPr b="0" lang="en-US" sz="1200" spc="-1" strike="noStrike">
                <a:solidFill>
                  <a:srgbClr val="e53d09"/>
                </a:solidFill>
                <a:latin typeface="Yoon 윤고딕 520_TT"/>
                <a:ea typeface="Yoon 윤고딕 520_TT"/>
              </a:rPr>
              <a:t>(creative thinking skill)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53d09"/>
                </a:solidFill>
                <a:latin typeface="Yoon 윤고딕 520_TT"/>
                <a:ea typeface="Yoon 윤고딕 520_TT"/>
              </a:rPr>
              <a:t>열정과 같은 동기</a:t>
            </a:r>
            <a:r>
              <a:rPr b="0" lang="en-US" sz="1200" spc="-1" strike="noStrike">
                <a:solidFill>
                  <a:srgbClr val="e53d09"/>
                </a:solidFill>
                <a:latin typeface="Yoon 윤고딕 520_TT"/>
                <a:ea typeface="Yoon 윤고딕 520_TT"/>
              </a:rPr>
              <a:t>(intrinsic motivation)</a:t>
            </a:r>
            <a:r>
              <a:rPr b="0" lang="zh-CN" sz="1200" spc="-1" strike="noStrike">
                <a:solidFill>
                  <a:srgbClr val="e53d09"/>
                </a:solidFill>
                <a:latin typeface="Yoon 윤고딕 520_TT"/>
                <a:ea typeface="Yoon 윤고딕 520_TT"/>
              </a:rPr>
              <a:t>가 필요하다</a:t>
            </a:r>
            <a:r>
              <a:rPr b="0" lang="en-US" sz="1200" spc="-1" strike="noStrike">
                <a:solidFill>
                  <a:srgbClr val="e53d09"/>
                </a:solidFill>
                <a:latin typeface="Yoon 윤고딕 520_TT"/>
                <a:ea typeface="Yoon 윤고딕 520_TT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4"/>
          <p:cNvSpPr/>
          <p:nvPr/>
        </p:nvSpPr>
        <p:spPr>
          <a:xfrm>
            <a:off x="0" y="6357960"/>
            <a:ext cx="9144000" cy="500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8" descr=""/>
          <p:cNvPicPr/>
          <p:nvPr/>
        </p:nvPicPr>
        <p:blipFill>
          <a:blip r:embed="rId2"/>
          <a:srcRect l="0" t="0" r="0" b="12727"/>
          <a:stretch/>
        </p:blipFill>
        <p:spPr>
          <a:xfrm>
            <a:off x="7861320" y="6489720"/>
            <a:ext cx="1260360" cy="210960"/>
          </a:xfrm>
          <a:prstGeom prst="rect">
            <a:avLst/>
          </a:prstGeom>
          <a:ln w="0">
            <a:noFill/>
          </a:ln>
        </p:spPr>
      </p:pic>
      <p:sp>
        <p:nvSpPr>
          <p:cNvPr id="234" name="TextBox 9"/>
          <p:cNvSpPr/>
          <p:nvPr/>
        </p:nvSpPr>
        <p:spPr>
          <a:xfrm>
            <a:off x="2622600" y="2397240"/>
            <a:ext cx="537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53d09"/>
                </a:solidFill>
                <a:latin typeface="Yoon 윤고딕 520_TT"/>
                <a:ea typeface="Yoon 윤고딕 520_TT"/>
              </a:rPr>
              <a:t>- Richard Luecke(Harvard Univ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직사각형 1"/>
          <p:cNvSpPr/>
          <p:nvPr/>
        </p:nvSpPr>
        <p:spPr>
          <a:xfrm>
            <a:off x="0" y="500040"/>
            <a:ext cx="9144000" cy="585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"/>
          <p:cNvSpPr/>
          <p:nvPr/>
        </p:nvSpPr>
        <p:spPr>
          <a:xfrm>
            <a:off x="0" y="0"/>
            <a:ext cx="9144000" cy="500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4"/>
          <p:cNvSpPr/>
          <p:nvPr/>
        </p:nvSpPr>
        <p:spPr>
          <a:xfrm>
            <a:off x="0" y="6357960"/>
            <a:ext cx="9144000" cy="500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8" descr=""/>
          <p:cNvPicPr/>
          <p:nvPr/>
        </p:nvPicPr>
        <p:blipFill>
          <a:blip r:embed="rId1"/>
          <a:srcRect l="0" t="0" r="0" b="12727"/>
          <a:stretch/>
        </p:blipFill>
        <p:spPr>
          <a:xfrm>
            <a:off x="7861320" y="6489720"/>
            <a:ext cx="1260360" cy="21096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2" descr=""/>
          <p:cNvPicPr/>
          <p:nvPr/>
        </p:nvPicPr>
        <p:blipFill>
          <a:blip r:embed="rId2"/>
          <a:srcRect l="10254" t="24414" r="9179" b="8789"/>
          <a:stretch/>
        </p:blipFill>
        <p:spPr>
          <a:xfrm>
            <a:off x="1500120" y="1785960"/>
            <a:ext cx="6164280" cy="3832200"/>
          </a:xfrm>
          <a:prstGeom prst="rect">
            <a:avLst/>
          </a:prstGeom>
          <a:ln w="9360">
            <a:solidFill>
              <a:srgbClr val="e53d09"/>
            </a:solidFill>
            <a:miter/>
          </a:ln>
        </p:spPr>
      </p:pic>
      <p:sp>
        <p:nvSpPr>
          <p:cNvPr id="240" name="직사각형 13"/>
          <p:cNvSpPr/>
          <p:nvPr/>
        </p:nvSpPr>
        <p:spPr>
          <a:xfrm>
            <a:off x="750240" y="1096920"/>
            <a:ext cx="764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3d09"/>
                </a:solidFill>
                <a:latin typeface="TheMix 5-Regular Caps"/>
                <a:ea typeface="Malgun Gothic"/>
              </a:rPr>
              <a:t>C</a:t>
            </a:r>
            <a:r>
              <a:rPr b="1" lang="en-US" sz="2000" spc="-1" strike="noStrike">
                <a:solidFill>
                  <a:srgbClr val="e53d09"/>
                </a:solidFill>
                <a:latin typeface="TheMix 5-Regular Caps"/>
                <a:ea typeface="Malgun Gothic"/>
              </a:rPr>
              <a:t>reativity/Innovation </a:t>
            </a:r>
            <a:r>
              <a:rPr b="1" lang="zh-CN" sz="1600" spc="-1" strike="noStrike">
                <a:solidFill>
                  <a:srgbClr val="e53d09"/>
                </a:solidFill>
                <a:latin typeface="TheMix 5-Regular Caps"/>
                <a:ea typeface="Malgun Gothic"/>
              </a:rPr>
              <a:t>을 위한  </a:t>
            </a:r>
            <a:r>
              <a:rPr b="1" lang="en-US" sz="1600" spc="-1" strike="noStrike">
                <a:solidFill>
                  <a:srgbClr val="e53d09"/>
                </a:solidFill>
                <a:latin typeface="TheMix 5-Regular Caps"/>
                <a:ea typeface="Malgun Gothic"/>
              </a:rPr>
              <a:t>4</a:t>
            </a:r>
            <a:r>
              <a:rPr b="1" lang="zh-CN" sz="1600" spc="-1" strike="noStrike">
                <a:solidFill>
                  <a:srgbClr val="e53d09"/>
                </a:solidFill>
                <a:latin typeface="TheMix 5-Regular Caps"/>
                <a:ea typeface="Malgun Gothic"/>
              </a:rPr>
              <a:t>가지</a:t>
            </a:r>
            <a:r>
              <a:rPr b="1" lang="en-US" sz="1600" spc="-1" strike="noStrike">
                <a:solidFill>
                  <a:srgbClr val="e53d09"/>
                </a:solidFill>
                <a:latin typeface="TheMix 5-Regular Caps"/>
                <a:ea typeface="Malgun Gothic"/>
              </a:rPr>
              <a:t> </a:t>
            </a:r>
            <a:r>
              <a:rPr b="1" lang="zh-CN" sz="1600" spc="-1" strike="noStrike">
                <a:solidFill>
                  <a:srgbClr val="e53d09"/>
                </a:solidFill>
                <a:latin typeface="TheMix 5-Regular Caps"/>
                <a:ea typeface="Malgun Gothic"/>
              </a:rPr>
              <a:t>차원 </a:t>
            </a:r>
            <a:r>
              <a:rPr b="1" lang="en-US" sz="1400" spc="-1" strike="noStrike">
                <a:solidFill>
                  <a:srgbClr val="e53d09"/>
                </a:solidFill>
                <a:latin typeface="TheMix 5-Regular Caps"/>
                <a:ea typeface="Malgun Gothic"/>
              </a:rPr>
              <a:t>(Prather, 1998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직사각형 1"/>
          <p:cNvSpPr/>
          <p:nvPr/>
        </p:nvSpPr>
        <p:spPr>
          <a:xfrm>
            <a:off x="0" y="500040"/>
            <a:ext cx="9144000" cy="585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직사각형 3"/>
          <p:cNvSpPr/>
          <p:nvPr/>
        </p:nvSpPr>
        <p:spPr>
          <a:xfrm>
            <a:off x="0" y="0"/>
            <a:ext cx="9144000" cy="500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직사각형 4"/>
          <p:cNvSpPr/>
          <p:nvPr/>
        </p:nvSpPr>
        <p:spPr>
          <a:xfrm>
            <a:off x="0" y="6357960"/>
            <a:ext cx="9144000" cy="500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10"/>
          <p:cNvSpPr/>
          <p:nvPr/>
        </p:nvSpPr>
        <p:spPr>
          <a:xfrm>
            <a:off x="928800" y="1100160"/>
            <a:ext cx="200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TheSerif 5-Regular"/>
                <a:ea typeface="Malgun Gothic"/>
              </a:rPr>
              <a:t>Cont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30"/>
          <p:cNvSpPr/>
          <p:nvPr/>
        </p:nvSpPr>
        <p:spPr>
          <a:xfrm>
            <a:off x="5857920" y="5889600"/>
            <a:ext cx="3071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heSerif 2-ExtraLight"/>
                <a:ea typeface="Malgun Gothic"/>
              </a:rPr>
              <a:t>@ Analysis of Organization Behavior Perspecti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직선 연결선 32"/>
          <p:cNvSpPr/>
          <p:nvPr/>
        </p:nvSpPr>
        <p:spPr>
          <a:xfrm>
            <a:off x="214200" y="1500120"/>
            <a:ext cx="2000520" cy="1800"/>
          </a:xfrm>
          <a:prstGeom prst="line">
            <a:avLst/>
          </a:prstGeom>
          <a:ln w="3240">
            <a:solidFill>
              <a:srgbClr val="e53d09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33"/>
          <p:cNvSpPr/>
          <p:nvPr/>
        </p:nvSpPr>
        <p:spPr>
          <a:xfrm>
            <a:off x="2214720" y="1643040"/>
            <a:ext cx="5100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Yoon 윤고딕 520_TT"/>
                <a:ea typeface="Yoon 윤고딕 520_TT"/>
              </a:rPr>
              <a:t>1.1   </a:t>
            </a:r>
            <a:r>
              <a:rPr b="0" lang="zh-CN" sz="1400" spc="-1" strike="noStrike">
                <a:solidFill>
                  <a:srgbClr val="262626"/>
                </a:solidFill>
                <a:latin typeface="Yoon 윤고딕 520_TT"/>
                <a:ea typeface="Yoon 윤고딕 520_TT"/>
              </a:rPr>
              <a:t>창의성이란</a:t>
            </a:r>
            <a:r>
              <a:rPr b="0" lang="en-US" sz="1400" spc="-1" strike="noStrike">
                <a:solidFill>
                  <a:srgbClr val="262626"/>
                </a:solidFill>
                <a:latin typeface="Yoon 윤고딕 520_TT"/>
                <a:ea typeface="Yoon 윤고딕 520_TT"/>
              </a:rPr>
              <a:t>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Yoon 윤고딕 520_TT"/>
                <a:ea typeface="Yoon 윤고딕 520_TT"/>
              </a:rPr>
              <a:t>1.2   </a:t>
            </a:r>
            <a:r>
              <a:rPr b="0" lang="zh-CN" sz="1400" spc="-1" strike="noStrike">
                <a:solidFill>
                  <a:srgbClr val="262626"/>
                </a:solidFill>
                <a:latin typeface="Yoon 윤고딕 520_TT"/>
                <a:ea typeface="Yoon 윤고딕 520_TT"/>
              </a:rPr>
              <a:t>개인 창의성과 집단 창의성의 차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직선 연결선 34"/>
          <p:cNvSpPr/>
          <p:nvPr/>
        </p:nvSpPr>
        <p:spPr>
          <a:xfrm>
            <a:off x="2216160" y="2427120"/>
            <a:ext cx="3598920" cy="1800"/>
          </a:xfrm>
          <a:prstGeom prst="line">
            <a:avLst/>
          </a:prstGeom>
          <a:ln w="324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직선 연결선 36"/>
          <p:cNvSpPr/>
          <p:nvPr/>
        </p:nvSpPr>
        <p:spPr>
          <a:xfrm>
            <a:off x="2216160" y="4370400"/>
            <a:ext cx="3598920" cy="1440"/>
          </a:xfrm>
          <a:prstGeom prst="line">
            <a:avLst/>
          </a:prstGeom>
          <a:ln w="324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37"/>
          <p:cNvSpPr/>
          <p:nvPr/>
        </p:nvSpPr>
        <p:spPr>
          <a:xfrm>
            <a:off x="2214720" y="2549520"/>
            <a:ext cx="5100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Yoon 윤고딕 520_TT"/>
                <a:ea typeface="Yoon 윤고딕 520_TT"/>
              </a:rPr>
              <a:t>2.1   </a:t>
            </a:r>
            <a:r>
              <a:rPr b="0" lang="zh-CN" sz="1400" spc="-1" strike="noStrike">
                <a:solidFill>
                  <a:srgbClr val="262626"/>
                </a:solidFill>
                <a:latin typeface="Yoon 윤고딕 520_TT"/>
                <a:ea typeface="Yoon 윤고딕 520_TT"/>
              </a:rPr>
              <a:t>집단 창의성의 중요성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Yoon 윤고딕 520_TT"/>
                <a:ea typeface="Yoon 윤고딕 520_TT"/>
              </a:rPr>
              <a:t>2.2   </a:t>
            </a:r>
            <a:r>
              <a:rPr b="0" lang="zh-CN" sz="1400" spc="-1" strike="noStrike">
                <a:solidFill>
                  <a:srgbClr val="262626"/>
                </a:solidFill>
                <a:latin typeface="Yoon 윤고딕 520_TT"/>
                <a:ea typeface="Yoon 윤고딕 520_TT"/>
              </a:rPr>
              <a:t>집단 창의성을 위한 요소들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38"/>
          <p:cNvSpPr/>
          <p:nvPr/>
        </p:nvSpPr>
        <p:spPr>
          <a:xfrm>
            <a:off x="2571840" y="3209760"/>
            <a:ext cx="51022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262626"/>
              </a:buClr>
              <a:buFont typeface="Yoon 윤고딕 520_TT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Yoon 윤고딕 520_TT"/>
                <a:ea typeface="Yoon 윤고딕 520_TT"/>
              </a:rPr>
              <a:t>리더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262626"/>
              </a:buClr>
              <a:buFont typeface="Yoon 윤고딕 520_TT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Yoon 윤고딕 520_TT"/>
                <a:ea typeface="Yoon 윤고딕 520_TT"/>
              </a:rPr>
              <a:t>커뮤니케이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262626"/>
              </a:buClr>
              <a:buFont typeface="Yoon 윤고딕 520_TT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Yoon 윤고딕 520_TT"/>
                <a:ea typeface="Yoon 윤고딕 520_TT"/>
              </a:rPr>
              <a:t>공간적 요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262626"/>
              </a:buClr>
              <a:buFont typeface="Yoon 윤고딕 520_TT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Yoon 윤고딕 520_TT"/>
                <a:ea typeface="Yoon 윤고딕 520_TT"/>
              </a:rPr>
              <a:t>조직 문화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262626"/>
              </a:buClr>
              <a:buFont typeface="Yoon 윤고딕 520_TT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Yoon 윤고딕 520_TT"/>
                <a:ea typeface="Yoon 윤고딕 520_TT"/>
              </a:rPr>
              <a:t>동기 부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39"/>
          <p:cNvSpPr/>
          <p:nvPr/>
        </p:nvSpPr>
        <p:spPr>
          <a:xfrm>
            <a:off x="2214720" y="4486320"/>
            <a:ext cx="5100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Yoon 윤고딕 520_TT"/>
                <a:ea typeface="Yoon 윤고딕 520_TT"/>
              </a:rPr>
              <a:t>3.1   Conclu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Yoon 윤고딕 520_TT"/>
                <a:ea typeface="Yoon 윤고딕 520_TT"/>
              </a:rPr>
              <a:t>3.2   Q&amp;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8" descr=""/>
          <p:cNvPicPr/>
          <p:nvPr/>
        </p:nvPicPr>
        <p:blipFill>
          <a:blip r:embed="rId1"/>
          <a:srcRect l="0" t="0" r="0" b="12727"/>
          <a:stretch/>
        </p:blipFill>
        <p:spPr>
          <a:xfrm>
            <a:off x="7861320" y="6489720"/>
            <a:ext cx="1260360" cy="210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직사각형 1"/>
          <p:cNvSpPr/>
          <p:nvPr/>
        </p:nvSpPr>
        <p:spPr>
          <a:xfrm>
            <a:off x="0" y="500040"/>
            <a:ext cx="9144000" cy="585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직사각형 3"/>
          <p:cNvSpPr/>
          <p:nvPr/>
        </p:nvSpPr>
        <p:spPr>
          <a:xfrm>
            <a:off x="0" y="0"/>
            <a:ext cx="9144000" cy="500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직사각형 4"/>
          <p:cNvSpPr/>
          <p:nvPr/>
        </p:nvSpPr>
        <p:spPr>
          <a:xfrm>
            <a:off x="0" y="6357960"/>
            <a:ext cx="9144000" cy="500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Box 21"/>
          <p:cNvSpPr/>
          <p:nvPr/>
        </p:nvSpPr>
        <p:spPr>
          <a:xfrm>
            <a:off x="3643200" y="3000240"/>
            <a:ext cx="185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53d09"/>
                </a:solidFill>
                <a:latin typeface="Yoon 윤고딕 520_TT"/>
                <a:ea typeface="Malgun Gothic"/>
              </a:rPr>
              <a:t>So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8" descr=""/>
          <p:cNvPicPr/>
          <p:nvPr/>
        </p:nvPicPr>
        <p:blipFill>
          <a:blip r:embed="rId1"/>
          <a:srcRect l="0" t="0" r="0" b="12727"/>
          <a:stretch/>
        </p:blipFill>
        <p:spPr>
          <a:xfrm>
            <a:off x="7861320" y="6489720"/>
            <a:ext cx="1260360" cy="210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직사각형 1"/>
          <p:cNvSpPr/>
          <p:nvPr/>
        </p:nvSpPr>
        <p:spPr>
          <a:xfrm>
            <a:off x="0" y="500040"/>
            <a:ext cx="9144000" cy="585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직사각형 3"/>
          <p:cNvSpPr/>
          <p:nvPr/>
        </p:nvSpPr>
        <p:spPr>
          <a:xfrm>
            <a:off x="0" y="0"/>
            <a:ext cx="9144000" cy="500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직사각형 4"/>
          <p:cNvSpPr/>
          <p:nvPr/>
        </p:nvSpPr>
        <p:spPr>
          <a:xfrm>
            <a:off x="0" y="6357960"/>
            <a:ext cx="9144000" cy="500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직사각형 5"/>
          <p:cNvSpPr/>
          <p:nvPr/>
        </p:nvSpPr>
        <p:spPr>
          <a:xfrm>
            <a:off x="-7920" y="500040"/>
            <a:ext cx="2927160" cy="5857920"/>
          </a:xfrm>
          <a:prstGeom prst="rect">
            <a:avLst/>
          </a:prstGeom>
          <a:solidFill>
            <a:srgbClr val="e36c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직사각형 19"/>
          <p:cNvSpPr/>
          <p:nvPr/>
        </p:nvSpPr>
        <p:spPr>
          <a:xfrm>
            <a:off x="-664560" y="1071720"/>
            <a:ext cx="411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8d8d8"/>
                </a:solidFill>
                <a:latin typeface="TheMix 5-Regular Caps"/>
                <a:ea typeface="Malgun Gothic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Picture 8" descr=""/>
          <p:cNvPicPr/>
          <p:nvPr/>
        </p:nvPicPr>
        <p:blipFill>
          <a:blip r:embed="rId1"/>
          <a:srcRect l="0" t="0" r="0" b="12727"/>
          <a:stretch/>
        </p:blipFill>
        <p:spPr>
          <a:xfrm>
            <a:off x="7861320" y="6489720"/>
            <a:ext cx="1260360" cy="210960"/>
          </a:xfrm>
          <a:prstGeom prst="rect">
            <a:avLst/>
          </a:prstGeom>
          <a:ln w="0">
            <a:noFill/>
          </a:ln>
        </p:spPr>
      </p:pic>
      <p:sp>
        <p:nvSpPr>
          <p:cNvPr id="252" name="직사각형 22"/>
          <p:cNvSpPr/>
          <p:nvPr/>
        </p:nvSpPr>
        <p:spPr>
          <a:xfrm>
            <a:off x="3643200" y="3714840"/>
            <a:ext cx="462780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Box 23"/>
          <p:cNvSpPr/>
          <p:nvPr/>
        </p:nvSpPr>
        <p:spPr>
          <a:xfrm>
            <a:off x="3500280" y="1214280"/>
            <a:ext cx="50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53d09"/>
                </a:solidFill>
                <a:latin typeface="Yoon 윤고딕 520_TT"/>
                <a:ea typeface="Yoon 윤고딕 520_TT"/>
              </a:rPr>
              <a:t>“</a:t>
            </a:r>
            <a:r>
              <a:rPr b="0" lang="zh-CN" sz="2000" spc="-1" strike="noStrike">
                <a:solidFill>
                  <a:srgbClr val="e53d09"/>
                </a:solidFill>
                <a:latin typeface="Yoon 윤고딕 520_TT"/>
                <a:ea typeface="Yoon 윤고딕 520_TT"/>
              </a:rPr>
              <a:t>구</a:t>
            </a:r>
            <a:r>
              <a:rPr b="0" lang="zh-CN" sz="1600" spc="-1" strike="noStrike">
                <a:solidFill>
                  <a:srgbClr val="e53d09"/>
                </a:solidFill>
                <a:latin typeface="Yoon 윤고딕 520_TT"/>
                <a:ea typeface="Yoon 윤고딕 520_TT"/>
              </a:rPr>
              <a:t>슬이 서 말이라도 꿰어야 보배</a:t>
            </a:r>
            <a:r>
              <a:rPr b="0" lang="en-US" sz="1600" spc="-1" strike="noStrike">
                <a:solidFill>
                  <a:srgbClr val="e53d09"/>
                </a:solidFill>
                <a:latin typeface="Yoon 윤고딕 520_TT"/>
                <a:ea typeface="Yoon 윤고딕 520_TT"/>
              </a:rPr>
              <a:t>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직사각형 24"/>
          <p:cNvSpPr/>
          <p:nvPr/>
        </p:nvSpPr>
        <p:spPr>
          <a:xfrm>
            <a:off x="3500280" y="1833480"/>
            <a:ext cx="510552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b0f0"/>
                </a:solidFill>
                <a:latin typeface="Yoon 윤고딕 520_TT"/>
                <a:ea typeface="Yoon 윤고딕 520_TT"/>
              </a:rPr>
              <a:t>창</a:t>
            </a:r>
            <a:r>
              <a:rPr b="0" lang="zh-CN" sz="1400" spc="-1" strike="noStrike">
                <a:solidFill>
                  <a:srgbClr val="00b0f0"/>
                </a:solidFill>
                <a:latin typeface="Yoon 윤고딕 520_TT"/>
                <a:ea typeface="Yoon 윤고딕 520_TT"/>
              </a:rPr>
              <a:t>의력이 뛰어난 인재를 뽑는 것이 중요한 것이 아니라</a:t>
            </a:r>
            <a:r>
              <a:rPr b="0" lang="en-US" sz="1400" spc="-1" strike="noStrike">
                <a:solidFill>
                  <a:srgbClr val="00b0f0"/>
                </a:solidFill>
                <a:latin typeface="Yoon 윤고딕 520_TT"/>
                <a:ea typeface="Yoon 윤고딕 520_TT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b0f0"/>
                </a:solidFill>
                <a:latin typeface="Yoon 윤고딕 520_TT"/>
                <a:ea typeface="Yoon 윤고딕 520_TT"/>
              </a:rPr>
              <a:t>개인의 창의성이‘기업 창의성’으로 발전되도록 하기 위해서는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53d09"/>
                </a:solidFill>
                <a:latin typeface="Yoon 윤고딕 520_TT"/>
                <a:ea typeface="Yoon 윤고딕 520_TT"/>
              </a:rPr>
              <a:t>조직 환경에 대한 적극적인 관리가 필요</a:t>
            </a:r>
            <a:r>
              <a:rPr b="0" lang="zh-CN" sz="1400" spc="-1" strike="noStrike">
                <a:solidFill>
                  <a:srgbClr val="00b0f0"/>
                </a:solidFill>
                <a:latin typeface="Yoon 윤고딕 520_TT"/>
                <a:ea typeface="Yoon 윤고딕 520_TT"/>
              </a:rPr>
              <a:t>하다</a:t>
            </a:r>
            <a:r>
              <a:rPr b="0" lang="en-US" sz="1400" spc="-1" strike="noStrike">
                <a:solidFill>
                  <a:srgbClr val="00b0f0"/>
                </a:solidFill>
                <a:latin typeface="Yoon 윤고딕 520_TT"/>
                <a:ea typeface="Yoon 윤고딕 520_TT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2" descr=""/>
          <p:cNvPicPr/>
          <p:nvPr/>
        </p:nvPicPr>
        <p:blipFill>
          <a:blip r:embed="rId2"/>
          <a:stretch/>
        </p:blipFill>
        <p:spPr>
          <a:xfrm>
            <a:off x="4124160" y="3214800"/>
            <a:ext cx="3711600" cy="270504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4" descr=""/>
          <p:cNvPicPr/>
          <p:nvPr/>
        </p:nvPicPr>
        <p:blipFill>
          <a:blip r:embed="rId3">
            <a:lum contrast="-20000"/>
          </a:blip>
          <a:stretch/>
        </p:blipFill>
        <p:spPr>
          <a:xfrm>
            <a:off x="714240" y="2500200"/>
            <a:ext cx="1649520" cy="15368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직사각형 1"/>
          <p:cNvSpPr/>
          <p:nvPr/>
        </p:nvSpPr>
        <p:spPr>
          <a:xfrm>
            <a:off x="0" y="500040"/>
            <a:ext cx="9144000" cy="585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직사각형 3"/>
          <p:cNvSpPr/>
          <p:nvPr/>
        </p:nvSpPr>
        <p:spPr>
          <a:xfrm>
            <a:off x="0" y="0"/>
            <a:ext cx="9144000" cy="500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직사각형 4"/>
          <p:cNvSpPr/>
          <p:nvPr/>
        </p:nvSpPr>
        <p:spPr>
          <a:xfrm>
            <a:off x="0" y="6357960"/>
            <a:ext cx="9144000" cy="500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직사각형 5"/>
          <p:cNvSpPr/>
          <p:nvPr/>
        </p:nvSpPr>
        <p:spPr>
          <a:xfrm>
            <a:off x="-7920" y="500040"/>
            <a:ext cx="2927160" cy="5857920"/>
          </a:xfrm>
          <a:prstGeom prst="rect">
            <a:avLst/>
          </a:prstGeom>
          <a:solidFill>
            <a:srgbClr val="e36c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직사각형 19"/>
          <p:cNvSpPr/>
          <p:nvPr/>
        </p:nvSpPr>
        <p:spPr>
          <a:xfrm>
            <a:off x="-426960" y="1071720"/>
            <a:ext cx="382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8d8d8"/>
                </a:solidFill>
                <a:latin typeface="TheMix 5-Regular Caps"/>
                <a:ea typeface="Malgun Gothic"/>
              </a:rPr>
              <a:t>Append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8" descr=""/>
          <p:cNvPicPr/>
          <p:nvPr/>
        </p:nvPicPr>
        <p:blipFill>
          <a:blip r:embed="rId1"/>
          <a:srcRect l="0" t="0" r="0" b="12727"/>
          <a:stretch/>
        </p:blipFill>
        <p:spPr>
          <a:xfrm>
            <a:off x="7861320" y="6489720"/>
            <a:ext cx="1260360" cy="210960"/>
          </a:xfrm>
          <a:prstGeom prst="rect">
            <a:avLst/>
          </a:prstGeom>
          <a:ln w="0">
            <a:noFill/>
          </a:ln>
        </p:spPr>
      </p:pic>
      <p:sp>
        <p:nvSpPr>
          <p:cNvPr id="263" name="직사각형 8"/>
          <p:cNvSpPr/>
          <p:nvPr/>
        </p:nvSpPr>
        <p:spPr>
          <a:xfrm>
            <a:off x="3652920" y="1496880"/>
            <a:ext cx="3576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buClr>
                <a:srgbClr val="262626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Yoon 윤고딕 520_TT"/>
                <a:ea typeface="Yoon 윤고딕 520_TT"/>
              </a:rPr>
              <a:t> </a:t>
            </a:r>
            <a:r>
              <a:rPr b="0" lang="zh-CN" sz="1200" spc="-1" strike="noStrike">
                <a:solidFill>
                  <a:srgbClr val="262626"/>
                </a:solidFill>
                <a:latin typeface="Yoon 윤고딕 520_TT"/>
                <a:ea typeface="Yoon 윤고딕 520_TT"/>
              </a:rPr>
              <a:t>조직행동과 창의성</a:t>
            </a:r>
            <a:r>
              <a:rPr b="0" lang="en-US" sz="1200" spc="-1" strike="noStrike">
                <a:solidFill>
                  <a:srgbClr val="262626"/>
                </a:solidFill>
                <a:latin typeface="Yoon 윤고딕 520_TT"/>
                <a:ea typeface="Yoon 윤고딕 520_TT"/>
              </a:rPr>
              <a:t>, </a:t>
            </a:r>
            <a:r>
              <a:rPr b="0" lang="zh-CN" sz="1200" spc="-1" strike="noStrike">
                <a:solidFill>
                  <a:srgbClr val="262626"/>
                </a:solidFill>
                <a:latin typeface="Yoon 윤고딕 520_TT"/>
                <a:ea typeface="Yoon 윤고딕 520_TT"/>
              </a:rPr>
              <a:t>손태원</a:t>
            </a:r>
            <a:r>
              <a:rPr b="0" lang="en-US" sz="1200" spc="-1" strike="noStrike">
                <a:solidFill>
                  <a:srgbClr val="262626"/>
                </a:solidFill>
                <a:latin typeface="Yoon 윤고딕 520_TT"/>
                <a:ea typeface="Yoon 윤고딕 520_TT"/>
              </a:rPr>
              <a:t>, </a:t>
            </a:r>
            <a:r>
              <a:rPr b="0" lang="zh-CN" sz="1200" spc="-1" strike="noStrike">
                <a:solidFill>
                  <a:srgbClr val="262626"/>
                </a:solidFill>
                <a:latin typeface="Yoon 윤고딕 520_TT"/>
                <a:ea typeface="Yoon 윤고딕 520_TT"/>
              </a:rPr>
              <a:t>法文社</a:t>
            </a:r>
            <a:r>
              <a:rPr b="0" lang="en-US" sz="1200" spc="-1" strike="noStrike">
                <a:solidFill>
                  <a:srgbClr val="262626"/>
                </a:solidFill>
                <a:latin typeface="Yoon 윤고딕 520_TT"/>
                <a:ea typeface="Yoon 윤고딕 520_TT"/>
              </a:rPr>
              <a:t>, 200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buClr>
                <a:srgbClr val="262626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Yoon 윤고딕 520_TT"/>
                <a:ea typeface="Yoon 윤고딕 520_TT"/>
              </a:rPr>
              <a:t> </a:t>
            </a:r>
            <a:r>
              <a:rPr b="0" lang="zh-CN" sz="1200" spc="-1" strike="noStrike">
                <a:solidFill>
                  <a:srgbClr val="262626"/>
                </a:solidFill>
                <a:latin typeface="Yoon 윤고딕 520_TT"/>
                <a:ea typeface="Yoon 윤고딕 520_TT"/>
              </a:rPr>
              <a:t>날카로운 상상력</a:t>
            </a:r>
            <a:r>
              <a:rPr b="0" lang="en-US" sz="1200" spc="-1" strike="noStrike">
                <a:solidFill>
                  <a:srgbClr val="262626"/>
                </a:solidFill>
                <a:latin typeface="Yoon 윤고딕 520_TT"/>
                <a:ea typeface="Yoon 윤고딕 520_TT"/>
              </a:rPr>
              <a:t>, </a:t>
            </a:r>
            <a:r>
              <a:rPr b="0" lang="zh-CN" sz="1200" spc="-1" strike="noStrike">
                <a:solidFill>
                  <a:srgbClr val="262626"/>
                </a:solidFill>
                <a:latin typeface="Yoon 윤고딕 520_TT"/>
                <a:ea typeface="Yoon 윤고딕 520_TT"/>
              </a:rPr>
              <a:t>김용섭</a:t>
            </a:r>
            <a:r>
              <a:rPr b="0" lang="en-US" sz="1200" spc="-1" strike="noStrike">
                <a:solidFill>
                  <a:srgbClr val="262626"/>
                </a:solidFill>
                <a:latin typeface="Yoon 윤고딕 520_TT"/>
                <a:ea typeface="Yoon 윤고딕 520_TT"/>
              </a:rPr>
              <a:t>, </a:t>
            </a:r>
            <a:r>
              <a:rPr b="0" lang="zh-CN" sz="1200" spc="-1" strike="noStrike">
                <a:solidFill>
                  <a:srgbClr val="262626"/>
                </a:solidFill>
                <a:latin typeface="Yoon 윤고딕 520_TT"/>
                <a:ea typeface="Yoon 윤고딕 520_TT"/>
              </a:rPr>
              <a:t>미래지식</a:t>
            </a:r>
            <a:r>
              <a:rPr b="0" lang="en-US" sz="1200" spc="-1" strike="noStrike">
                <a:solidFill>
                  <a:srgbClr val="262626"/>
                </a:solidFill>
                <a:latin typeface="Yoon 윤고딕 520_TT"/>
                <a:ea typeface="Yoon 윤고딕 520_TT"/>
              </a:rPr>
              <a:t>, 2008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buClr>
                <a:srgbClr val="262626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Yoon 윤고딕 520_TT"/>
                <a:ea typeface="Yoon 윤고딕 520_TT"/>
              </a:rPr>
              <a:t>  </a:t>
            </a:r>
            <a:r>
              <a:rPr b="0" lang="zh-CN" sz="1200" spc="-1" strike="noStrike">
                <a:solidFill>
                  <a:srgbClr val="262626"/>
                </a:solidFill>
                <a:latin typeface="Yoon 윤고딕 520_TT"/>
                <a:ea typeface="Yoon 윤고딕 520_TT"/>
              </a:rPr>
              <a:t>창조적 리더</a:t>
            </a:r>
            <a:r>
              <a:rPr b="0" lang="en-US" sz="1200" spc="-1" strike="noStrike">
                <a:solidFill>
                  <a:srgbClr val="262626"/>
                </a:solidFill>
                <a:latin typeface="Yoon 윤고딕 520_TT"/>
                <a:ea typeface="Yoon 윤고딕 520_TT"/>
              </a:rPr>
              <a:t>, </a:t>
            </a:r>
            <a:r>
              <a:rPr b="0" lang="zh-CN" sz="1200" spc="-1" strike="noStrike">
                <a:solidFill>
                  <a:srgbClr val="262626"/>
                </a:solidFill>
                <a:latin typeface="Yoon 윤고딕 520_TT"/>
                <a:ea typeface="Yoon 윤고딕 520_TT"/>
              </a:rPr>
              <a:t>조직창의성연구회</a:t>
            </a:r>
            <a:r>
              <a:rPr b="0" lang="en-US" sz="1200" spc="-1" strike="noStrike">
                <a:solidFill>
                  <a:srgbClr val="262626"/>
                </a:solidFill>
                <a:latin typeface="Yoon 윤고딕 520_TT"/>
                <a:ea typeface="Yoon 윤고딕 520_TT"/>
              </a:rPr>
              <a:t>, </a:t>
            </a:r>
            <a:r>
              <a:rPr b="0" lang="zh-CN" sz="1200" spc="-1" strike="noStrike">
                <a:solidFill>
                  <a:srgbClr val="262626"/>
                </a:solidFill>
                <a:latin typeface="Yoon 윤고딕 520_TT"/>
                <a:ea typeface="Yoon 윤고딕 520_TT"/>
              </a:rPr>
              <a:t>파인트리</a:t>
            </a:r>
            <a:r>
              <a:rPr b="0" lang="en-US" sz="1200" spc="-1" strike="noStrike">
                <a:solidFill>
                  <a:srgbClr val="262626"/>
                </a:solidFill>
                <a:latin typeface="Yoon 윤고딕 520_TT"/>
                <a:ea typeface="Yoon 윤고딕 520_TT"/>
              </a:rPr>
              <a:t>, 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직사각형 9"/>
          <p:cNvSpPr/>
          <p:nvPr/>
        </p:nvSpPr>
        <p:spPr>
          <a:xfrm>
            <a:off x="3307680" y="4425840"/>
            <a:ext cx="288900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buClr>
                <a:srgbClr val="262626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Yoon 윤고딕 520_TT"/>
                <a:ea typeface="Yoon 윤고딕 520_TT"/>
              </a:rPr>
              <a:t>http://www.cretopia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buClr>
                <a:srgbClr val="262626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Yoon 윤고딕 520_TT"/>
                <a:ea typeface="Yoon 윤고딕 520_TT"/>
              </a:rPr>
              <a:t>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Yoon 윤고딕 520_TT"/>
                <a:ea typeface="Yoon 윤고딕 520_TT"/>
              </a:rPr>
              <a:t>http: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Yoon 윤고딕 520_TT"/>
                <a:ea typeface="Yoon 윤고딕 520_TT"/>
              </a:rPr>
              <a:t>/www.seri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buClr>
                <a:srgbClr val="262626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Yoon 윤고딕 520_TT"/>
                <a:ea typeface="Yoon 윤고딕 520_TT"/>
              </a:rPr>
              <a:t> 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Malgun Gothic"/>
                <a:ea typeface="Malgun Gothic"/>
              </a:rPr>
              <a:t>http://www.lgeri.com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직사각형 10"/>
          <p:cNvSpPr/>
          <p:nvPr/>
        </p:nvSpPr>
        <p:spPr>
          <a:xfrm>
            <a:off x="2370960" y="4140360"/>
            <a:ext cx="278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f0"/>
                </a:solidFill>
                <a:latin typeface="Yoon 윤고딕 520_TT"/>
                <a:ea typeface="Yoon 윤고딕 520_TT"/>
              </a:rPr>
              <a:t>WebSi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직사각형 11"/>
          <p:cNvSpPr/>
          <p:nvPr/>
        </p:nvSpPr>
        <p:spPr>
          <a:xfrm>
            <a:off x="2374920" y="1197000"/>
            <a:ext cx="2492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f0"/>
                </a:solidFill>
                <a:latin typeface="Yoon 윤고딕 520_TT"/>
                <a:ea typeface="Yoon 윤고딕 520_TT"/>
              </a:rPr>
              <a:t>Bo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직사각형 13"/>
          <p:cNvSpPr/>
          <p:nvPr/>
        </p:nvSpPr>
        <p:spPr>
          <a:xfrm>
            <a:off x="3869640" y="2730600"/>
            <a:ext cx="44766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buClr>
                <a:srgbClr val="262626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Yoon 윤고딕 520_TT"/>
                <a:ea typeface="Yoon 윤고딕 520_TT"/>
              </a:rPr>
              <a:t>이런 상사가 창의성을 죽인다</a:t>
            </a:r>
            <a:r>
              <a:rPr b="0" lang="en-US" sz="1200" spc="-1" strike="noStrike">
                <a:solidFill>
                  <a:srgbClr val="262626"/>
                </a:solidFill>
                <a:latin typeface="Yoon 윤고딕 520_TT"/>
                <a:ea typeface="Yoon 윤고딕 520_TT"/>
              </a:rPr>
              <a:t>, </a:t>
            </a:r>
            <a:r>
              <a:rPr b="0" lang="zh-CN" sz="1200" spc="-1" strike="noStrike">
                <a:solidFill>
                  <a:srgbClr val="262626"/>
                </a:solidFill>
                <a:latin typeface="Yoon 윤고딕 520_TT"/>
                <a:ea typeface="Yoon 윤고딕 520_TT"/>
              </a:rPr>
              <a:t>이춘근상무</a:t>
            </a:r>
            <a:r>
              <a:rPr b="0" lang="en-US" sz="1200" spc="-1" strike="noStrike">
                <a:solidFill>
                  <a:srgbClr val="262626"/>
                </a:solidFill>
                <a:latin typeface="Yoon 윤고딕 520_TT"/>
                <a:ea typeface="Yoon 윤고딕 520_TT"/>
              </a:rPr>
              <a:t>, LG</a:t>
            </a:r>
            <a:r>
              <a:rPr b="0" lang="zh-CN" sz="1200" spc="-1" strike="noStrike">
                <a:solidFill>
                  <a:srgbClr val="262626"/>
                </a:solidFill>
                <a:latin typeface="Yoon 윤고딕 520_TT"/>
                <a:ea typeface="Yoon 윤고딕 520_TT"/>
              </a:rPr>
              <a:t>주간경제</a:t>
            </a:r>
            <a:r>
              <a:rPr b="0" lang="en-US" sz="1200" spc="-1" strike="noStrike">
                <a:solidFill>
                  <a:srgbClr val="262626"/>
                </a:solidFill>
                <a:latin typeface="Yoon 윤고딕 520_TT"/>
                <a:ea typeface="Yoon 윤고딕 520_TT"/>
              </a:rPr>
              <a:t>, 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buClr>
                <a:srgbClr val="262626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Yoon 윤고딕 520_TT"/>
                <a:ea typeface="Yoon 윤고딕 520_TT"/>
              </a:rPr>
              <a:t> </a:t>
            </a:r>
            <a:r>
              <a:rPr b="0" lang="zh-CN" sz="1200" spc="-1" strike="noStrike">
                <a:solidFill>
                  <a:srgbClr val="262626"/>
                </a:solidFill>
                <a:latin typeface="Yoon 윤고딕 520_TT"/>
                <a:ea typeface="Yoon 윤고딕 520_TT"/>
              </a:rPr>
              <a:t>창의력을 자극하는 사무실 디자인</a:t>
            </a:r>
            <a:r>
              <a:rPr b="0" lang="en-US" sz="1200" spc="-1" strike="noStrike">
                <a:solidFill>
                  <a:srgbClr val="262626"/>
                </a:solidFill>
                <a:latin typeface="Yoon 윤고딕 520_TT"/>
                <a:ea typeface="Yoon 윤고딕 520_TT"/>
              </a:rPr>
              <a:t>, </a:t>
            </a:r>
            <a:r>
              <a:rPr b="0" lang="zh-CN" sz="1200" spc="-1" strike="noStrike">
                <a:solidFill>
                  <a:srgbClr val="262626"/>
                </a:solidFill>
                <a:latin typeface="Yoon 윤고딕 520_TT"/>
                <a:ea typeface="Yoon 윤고딕 520_TT"/>
              </a:rPr>
              <a:t>한유경</a:t>
            </a:r>
            <a:r>
              <a:rPr b="0" lang="en-US" sz="1200" spc="-1" strike="noStrike">
                <a:solidFill>
                  <a:srgbClr val="262626"/>
                </a:solidFill>
                <a:latin typeface="Yoon 윤고딕 520_TT"/>
                <a:ea typeface="Yoon 윤고딕 520_TT"/>
              </a:rPr>
              <a:t>, FSB</a:t>
            </a:r>
            <a:r>
              <a:rPr b="0" lang="zh-CN" sz="1200" spc="-1" strike="noStrike">
                <a:solidFill>
                  <a:srgbClr val="262626"/>
                </a:solidFill>
                <a:latin typeface="Yoon 윤고딕 520_TT"/>
                <a:ea typeface="Yoon 윤고딕 520_TT"/>
              </a:rPr>
              <a:t>연구소 </a:t>
            </a:r>
            <a:r>
              <a:rPr b="0" lang="en-US" sz="1200" spc="-1" strike="noStrike">
                <a:solidFill>
                  <a:srgbClr val="262626"/>
                </a:solidFill>
                <a:latin typeface="Yoon 윤고딕 520_TT"/>
                <a:ea typeface="Yoon 윤고딕 520_TT"/>
              </a:rPr>
              <a:t>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buClr>
                <a:srgbClr val="262626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Yoon 윤고딕 520_TT"/>
                <a:ea typeface="Yoon 윤고딕 520_TT"/>
              </a:rPr>
              <a:t> </a:t>
            </a:r>
            <a:r>
              <a:rPr b="0" lang="zh-CN" sz="1200" spc="-1" strike="noStrike">
                <a:solidFill>
                  <a:srgbClr val="262626"/>
                </a:solidFill>
                <a:latin typeface="Yoon 윤고딕 520_TT"/>
                <a:ea typeface="Yoon 윤고딕 520_TT"/>
              </a:rPr>
              <a:t>조직 창의성 발현의 비결</a:t>
            </a:r>
            <a:r>
              <a:rPr b="0" lang="en-US" sz="1200" spc="-1" strike="noStrike">
                <a:solidFill>
                  <a:srgbClr val="262626"/>
                </a:solidFill>
                <a:latin typeface="Yoon 윤고딕 520_TT"/>
                <a:ea typeface="Yoon 윤고딕 520_TT"/>
              </a:rPr>
              <a:t>, </a:t>
            </a:r>
            <a:r>
              <a:rPr b="0" lang="zh-CN" sz="1200" spc="-1" strike="noStrike">
                <a:solidFill>
                  <a:srgbClr val="262626"/>
                </a:solidFill>
                <a:latin typeface="Yoon 윤고딕 520_TT"/>
                <a:ea typeface="Yoon 윤고딕 520_TT"/>
              </a:rPr>
              <a:t>허진책임연구원</a:t>
            </a:r>
            <a:r>
              <a:rPr b="0" lang="en-US" sz="1200" spc="-1" strike="noStrike">
                <a:solidFill>
                  <a:srgbClr val="262626"/>
                </a:solidFill>
                <a:latin typeface="Yoon 윤고딕 520_TT"/>
                <a:ea typeface="Yoon 윤고딕 520_TT"/>
              </a:rPr>
              <a:t>, LG</a:t>
            </a:r>
            <a:r>
              <a:rPr b="0" lang="zh-CN" sz="1200" spc="-1" strike="noStrike">
                <a:solidFill>
                  <a:srgbClr val="262626"/>
                </a:solidFill>
                <a:latin typeface="Yoon 윤고딕 520_TT"/>
                <a:ea typeface="Yoon 윤고딕 520_TT"/>
              </a:rPr>
              <a:t>주간경제 </a:t>
            </a:r>
            <a:r>
              <a:rPr b="0" lang="en-US" sz="1200" spc="-1" strike="noStrike">
                <a:solidFill>
                  <a:srgbClr val="262626"/>
                </a:solidFill>
                <a:latin typeface="Yoon 윤고딕 520_TT"/>
                <a:ea typeface="Yoon 윤고딕 520_TT"/>
              </a:rPr>
              <a:t>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buClr>
                <a:srgbClr val="262626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Yoon 윤고딕 520_TT"/>
                <a:ea typeface="Yoon 윤고딕 520_TT"/>
              </a:rPr>
              <a:t> </a:t>
            </a:r>
            <a:r>
              <a:rPr b="0" lang="zh-CN" sz="1200" spc="-1" strike="noStrike">
                <a:solidFill>
                  <a:srgbClr val="262626"/>
                </a:solidFill>
                <a:latin typeface="Yoon 윤고딕 520_TT"/>
                <a:ea typeface="Yoon 윤고딕 520_TT"/>
              </a:rPr>
              <a:t>창의성 경영의 구성차원과 경영성과 관련성 연구</a:t>
            </a:r>
            <a:r>
              <a:rPr b="0" lang="en-US" sz="1200" spc="-1" strike="noStrike">
                <a:solidFill>
                  <a:srgbClr val="262626"/>
                </a:solidFill>
                <a:latin typeface="Yoon 윤고딕 520_TT"/>
                <a:ea typeface="Yoon 윤고딕 520_TT"/>
              </a:rPr>
              <a:t>, </a:t>
            </a:r>
            <a:r>
              <a:rPr b="0" lang="zh-CN" sz="1200" spc="-1" strike="noStrike">
                <a:solidFill>
                  <a:srgbClr val="262626"/>
                </a:solidFill>
                <a:latin typeface="Yoon 윤고딕 520_TT"/>
                <a:ea typeface="Yoon 윤고딕 520_TT"/>
              </a:rPr>
              <a:t>손태원</a:t>
            </a:r>
            <a:r>
              <a:rPr b="0" lang="en-US" sz="1200" spc="-1" strike="noStrike">
                <a:solidFill>
                  <a:srgbClr val="262626"/>
                </a:solidFill>
                <a:latin typeface="Yoon 윤고딕 520_TT"/>
                <a:ea typeface="Yoon 윤고딕 520_TT"/>
              </a:rPr>
              <a:t>, </a:t>
            </a:r>
            <a:r>
              <a:rPr b="0" lang="zh-CN" sz="1200" spc="-1" strike="noStrike">
                <a:solidFill>
                  <a:srgbClr val="262626"/>
                </a:solidFill>
                <a:latin typeface="Yoon 윤고딕 520_TT"/>
                <a:ea typeface="Yoon 윤고딕 520_TT"/>
              </a:rPr>
              <a:t>홍길표 </a:t>
            </a:r>
            <a:r>
              <a:rPr b="0" lang="en-US" sz="1200" spc="-1" strike="noStrike">
                <a:solidFill>
                  <a:srgbClr val="262626"/>
                </a:solidFill>
                <a:latin typeface="Yoon 윤고딕 520_TT"/>
                <a:ea typeface="Yoon 윤고딕 520_TT"/>
              </a:rPr>
              <a:t>20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buClr>
                <a:srgbClr val="262626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Yoon 윤고딕 520_TT"/>
                <a:ea typeface="Yoon 윤고딕 520_TT"/>
              </a:rPr>
              <a:t> </a:t>
            </a:r>
            <a:r>
              <a:rPr b="0" lang="zh-CN" sz="1200" spc="-1" strike="noStrike">
                <a:solidFill>
                  <a:srgbClr val="262626"/>
                </a:solidFill>
                <a:latin typeface="Yoon 윤고딕 520_TT"/>
                <a:ea typeface="Yoon 윤고딕 520_TT"/>
              </a:rPr>
              <a:t>창의성을 위한 조직문화 개발</a:t>
            </a:r>
            <a:r>
              <a:rPr b="0" lang="en-US" sz="1200" spc="-1" strike="noStrike">
                <a:solidFill>
                  <a:srgbClr val="262626"/>
                </a:solidFill>
                <a:latin typeface="Yoon 윤고딕 520_TT"/>
                <a:ea typeface="Yoon 윤고딕 520_TT"/>
              </a:rPr>
              <a:t>, </a:t>
            </a:r>
            <a:r>
              <a:rPr b="0" lang="zh-CN" sz="1200" spc="-1" strike="noStrike">
                <a:solidFill>
                  <a:srgbClr val="262626"/>
                </a:solidFill>
                <a:latin typeface="Yoon 윤고딕 520_TT"/>
                <a:ea typeface="Yoon 윤고딕 520_TT"/>
              </a:rPr>
              <a:t>최종인교수</a:t>
            </a:r>
            <a:r>
              <a:rPr b="0" lang="en-US" sz="1200" spc="-1" strike="noStrike">
                <a:solidFill>
                  <a:srgbClr val="262626"/>
                </a:solidFill>
                <a:latin typeface="Yoon 윤고딕 520_TT"/>
                <a:ea typeface="Yoon 윤고딕 520_TT"/>
              </a:rPr>
              <a:t>, </a:t>
            </a:r>
            <a:r>
              <a:rPr b="0" lang="zh-CN" sz="1200" spc="-1" strike="noStrike">
                <a:solidFill>
                  <a:srgbClr val="262626"/>
                </a:solidFill>
                <a:latin typeface="Yoon 윤고딕 520_TT"/>
                <a:ea typeface="Yoon 윤고딕 520_TT"/>
              </a:rPr>
              <a:t>한밭대학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buClr>
                <a:srgbClr val="262626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Yoon 윤고딕 520_TT"/>
                <a:ea typeface="Yoon 윤고딕 520_TT"/>
              </a:rPr>
              <a:t> </a:t>
            </a:r>
            <a:r>
              <a:rPr b="0" lang="en-US" sz="1200" spc="-1" strike="noStrike">
                <a:solidFill>
                  <a:srgbClr val="262626"/>
                </a:solidFill>
                <a:latin typeface="Yoon 윤고딕 520_TT"/>
                <a:ea typeface="Yoon 윤고딕 520_TT"/>
              </a:rPr>
              <a:t>How to kill Creavity, Teresa M. Amabile Pr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직사각형 14"/>
          <p:cNvSpPr/>
          <p:nvPr/>
        </p:nvSpPr>
        <p:spPr>
          <a:xfrm>
            <a:off x="2362680" y="2444760"/>
            <a:ext cx="3318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f0"/>
                </a:solidFill>
                <a:latin typeface="Yoon 윤고딕 520_TT"/>
                <a:ea typeface="Yoon 윤고딕 520_TT"/>
              </a:rPr>
              <a:t>Thesis, Artic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2" descr=""/>
          <p:cNvPicPr/>
          <p:nvPr/>
        </p:nvPicPr>
        <p:blipFill>
          <a:blip r:embed="rId2"/>
          <a:stretch/>
        </p:blipFill>
        <p:spPr>
          <a:xfrm>
            <a:off x="500040" y="2357280"/>
            <a:ext cx="1925640" cy="1981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직사각형 1"/>
          <p:cNvSpPr/>
          <p:nvPr/>
        </p:nvSpPr>
        <p:spPr>
          <a:xfrm>
            <a:off x="0" y="500040"/>
            <a:ext cx="9144000" cy="585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직사각형 3"/>
          <p:cNvSpPr/>
          <p:nvPr/>
        </p:nvSpPr>
        <p:spPr>
          <a:xfrm>
            <a:off x="0" y="0"/>
            <a:ext cx="9144000" cy="500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직사각형 4"/>
          <p:cNvSpPr/>
          <p:nvPr/>
        </p:nvSpPr>
        <p:spPr>
          <a:xfrm>
            <a:off x="0" y="6357960"/>
            <a:ext cx="9144000" cy="500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직사각형 5"/>
          <p:cNvSpPr/>
          <p:nvPr/>
        </p:nvSpPr>
        <p:spPr>
          <a:xfrm>
            <a:off x="-7920" y="500040"/>
            <a:ext cx="9151920" cy="5857920"/>
          </a:xfrm>
          <a:prstGeom prst="rect">
            <a:avLst/>
          </a:prstGeom>
          <a:solidFill>
            <a:srgbClr val="e36c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직사각형 19"/>
          <p:cNvSpPr/>
          <p:nvPr/>
        </p:nvSpPr>
        <p:spPr>
          <a:xfrm>
            <a:off x="2517840" y="2017800"/>
            <a:ext cx="4018320" cy="21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ctr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8d8d8"/>
                </a:solidFill>
                <a:latin typeface="TheMix 5-Regular Caps"/>
                <a:ea typeface="Malgun Gothic"/>
              </a:rPr>
              <a:t>Thank 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 algn="ctr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8d8d8"/>
                </a:solidFill>
                <a:latin typeface="TheMix 5-Regular Caps"/>
                <a:ea typeface="Malgun Gothic"/>
              </a:rPr>
              <a:t>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 algn="ctr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8d8d8"/>
                </a:solidFill>
                <a:latin typeface="TheMix 5-Regular Caps"/>
                <a:ea typeface="Malgun Gothic"/>
              </a:rPr>
              <a:t>Q&amp;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Picture 8" descr=""/>
          <p:cNvPicPr/>
          <p:nvPr/>
        </p:nvPicPr>
        <p:blipFill>
          <a:blip r:embed="rId1"/>
          <a:srcRect l="0" t="0" r="0" b="12727"/>
          <a:stretch/>
        </p:blipFill>
        <p:spPr>
          <a:xfrm>
            <a:off x="7861320" y="6489720"/>
            <a:ext cx="1260360" cy="210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직사각형 1"/>
          <p:cNvSpPr/>
          <p:nvPr/>
        </p:nvSpPr>
        <p:spPr>
          <a:xfrm>
            <a:off x="0" y="500040"/>
            <a:ext cx="9144000" cy="585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3"/>
          <p:cNvSpPr/>
          <p:nvPr/>
        </p:nvSpPr>
        <p:spPr>
          <a:xfrm>
            <a:off x="0" y="0"/>
            <a:ext cx="9144000" cy="500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"/>
          <p:cNvSpPr/>
          <p:nvPr/>
        </p:nvSpPr>
        <p:spPr>
          <a:xfrm>
            <a:off x="0" y="6357960"/>
            <a:ext cx="9144000" cy="500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21"/>
          <p:cNvSpPr/>
          <p:nvPr/>
        </p:nvSpPr>
        <p:spPr>
          <a:xfrm>
            <a:off x="3643200" y="3000240"/>
            <a:ext cx="18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53d09"/>
                </a:solidFill>
                <a:latin typeface="Yoon 윤고딕 520_TT"/>
                <a:ea typeface="Malgun Gothic"/>
              </a:rPr>
              <a:t>_What is Creativ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8" descr=""/>
          <p:cNvPicPr/>
          <p:nvPr/>
        </p:nvPicPr>
        <p:blipFill>
          <a:blip r:embed="rId1"/>
          <a:srcRect l="0" t="0" r="0" b="12727"/>
          <a:stretch/>
        </p:blipFill>
        <p:spPr>
          <a:xfrm>
            <a:off x="7861320" y="6489720"/>
            <a:ext cx="1260360" cy="210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직사각형 1"/>
          <p:cNvSpPr/>
          <p:nvPr/>
        </p:nvSpPr>
        <p:spPr>
          <a:xfrm>
            <a:off x="0" y="500040"/>
            <a:ext cx="9144000" cy="585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3"/>
          <p:cNvSpPr/>
          <p:nvPr/>
        </p:nvSpPr>
        <p:spPr>
          <a:xfrm>
            <a:off x="0" y="0"/>
            <a:ext cx="9144000" cy="500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"/>
          <p:cNvSpPr/>
          <p:nvPr/>
        </p:nvSpPr>
        <p:spPr>
          <a:xfrm>
            <a:off x="0" y="6357960"/>
            <a:ext cx="9144000" cy="500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5"/>
          <p:cNvSpPr/>
          <p:nvPr/>
        </p:nvSpPr>
        <p:spPr>
          <a:xfrm>
            <a:off x="-7920" y="500040"/>
            <a:ext cx="2927160" cy="5857920"/>
          </a:xfrm>
          <a:prstGeom prst="rect">
            <a:avLst/>
          </a:prstGeom>
          <a:solidFill>
            <a:srgbClr val="e36c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1" descr=""/>
          <p:cNvPicPr/>
          <p:nvPr/>
        </p:nvPicPr>
        <p:blipFill>
          <a:blip r:embed="rId1"/>
          <a:srcRect l="18019" t="0" r="14164" b="0"/>
          <a:stretch/>
        </p:blipFill>
        <p:spPr>
          <a:xfrm>
            <a:off x="500040" y="2357280"/>
            <a:ext cx="2000160" cy="2359080"/>
          </a:xfrm>
          <a:prstGeom prst="rect">
            <a:avLst/>
          </a:prstGeom>
          <a:ln w="0">
            <a:noFill/>
          </a:ln>
        </p:spPr>
      </p:pic>
      <p:sp>
        <p:nvSpPr>
          <p:cNvPr id="70" name="TextBox 10"/>
          <p:cNvSpPr/>
          <p:nvPr/>
        </p:nvSpPr>
        <p:spPr>
          <a:xfrm>
            <a:off x="3500280" y="996840"/>
            <a:ext cx="50724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53d09"/>
                </a:solidFill>
                <a:latin typeface="Yoon 윤고딕 520_TT"/>
                <a:ea typeface="Yoon 윤고딕 520_TT"/>
              </a:rPr>
              <a:t>“</a:t>
            </a:r>
            <a:r>
              <a:rPr b="0" lang="zh-CN" sz="2000" spc="-1" strike="noStrike">
                <a:solidFill>
                  <a:srgbClr val="e53d09"/>
                </a:solidFill>
                <a:latin typeface="Yoon 윤고딕 520_TT"/>
                <a:ea typeface="Yoon 윤고딕 520_TT"/>
              </a:rPr>
              <a:t>과</a:t>
            </a:r>
            <a:r>
              <a:rPr b="0" lang="zh-CN" sz="1600" spc="-1" strike="noStrike">
                <a:solidFill>
                  <a:srgbClr val="e53d09"/>
                </a:solidFill>
                <a:latin typeface="Yoon 윤고딕 520_TT"/>
                <a:ea typeface="Yoon 윤고딕 520_TT"/>
              </a:rPr>
              <a:t>거의 경험과 지식</a:t>
            </a:r>
            <a:r>
              <a:rPr b="0" lang="en-US" sz="1600" spc="-1" strike="noStrike">
                <a:solidFill>
                  <a:srgbClr val="e53d09"/>
                </a:solidFill>
                <a:latin typeface="Yoon 윤고딕 520_TT"/>
                <a:ea typeface="Yoon 윤고딕 520_TT"/>
              </a:rPr>
              <a:t>, </a:t>
            </a:r>
            <a:r>
              <a:rPr b="0" lang="zh-CN" sz="1600" spc="-1" strike="noStrike">
                <a:solidFill>
                  <a:srgbClr val="e53d09"/>
                </a:solidFill>
                <a:latin typeface="Yoon 윤고딕 520_TT"/>
                <a:ea typeface="Yoon 윤고딕 520_TT"/>
              </a:rPr>
              <a:t>정보를 통합</a:t>
            </a:r>
            <a:r>
              <a:rPr b="0" lang="en-US" sz="1600" spc="-1" strike="noStrike">
                <a:solidFill>
                  <a:srgbClr val="e53d09"/>
                </a:solidFill>
                <a:latin typeface="Yoon 윤고딕 520_TT"/>
                <a:ea typeface="Yoon 윤고딕 520_TT"/>
              </a:rPr>
              <a:t>, </a:t>
            </a:r>
            <a:r>
              <a:rPr b="0" lang="zh-CN" sz="1600" spc="-1" strike="noStrike">
                <a:solidFill>
                  <a:srgbClr val="e53d09"/>
                </a:solidFill>
                <a:latin typeface="Yoon 윤고딕 520_TT"/>
                <a:ea typeface="Yoon 윤고딕 520_TT"/>
              </a:rPr>
              <a:t>분해</a:t>
            </a:r>
            <a:r>
              <a:rPr b="0" lang="en-US" sz="1600" spc="-1" strike="noStrike">
                <a:solidFill>
                  <a:srgbClr val="e53d09"/>
                </a:solidFill>
                <a:latin typeface="Yoon 윤고딕 520_TT"/>
                <a:ea typeface="Yoon 윤고딕 520_TT"/>
              </a:rPr>
              <a:t>, </a:t>
            </a:r>
            <a:r>
              <a:rPr b="0" lang="zh-CN" sz="1600" spc="-1" strike="noStrike">
                <a:solidFill>
                  <a:srgbClr val="e53d09"/>
                </a:solidFill>
                <a:latin typeface="Yoon 윤고딕 520_TT"/>
                <a:ea typeface="Yoon 윤고딕 520_TT"/>
              </a:rPr>
              <a:t>연결</a:t>
            </a:r>
            <a:r>
              <a:rPr b="0" lang="en-US" sz="1600" spc="-1" strike="noStrike">
                <a:solidFill>
                  <a:srgbClr val="e53d09"/>
                </a:solidFill>
                <a:latin typeface="Yoon 윤고딕 520_TT"/>
                <a:ea typeface="Yoon 윤고딕 520_TT"/>
              </a:rPr>
              <a:t>, </a:t>
            </a:r>
            <a:r>
              <a:rPr b="0" lang="zh-CN" sz="1600" spc="-1" strike="noStrike">
                <a:solidFill>
                  <a:srgbClr val="e53d09"/>
                </a:solidFill>
                <a:latin typeface="Yoon 윤고딕 520_TT"/>
                <a:ea typeface="Yoon 윤고딕 520_TT"/>
              </a:rPr>
              <a:t>재해석</a:t>
            </a:r>
            <a:r>
              <a:rPr b="0" lang="en-US" sz="1600" spc="-1" strike="noStrike">
                <a:solidFill>
                  <a:srgbClr val="e53d09"/>
                </a:solidFill>
                <a:latin typeface="Yoon 윤고딕 520_TT"/>
                <a:ea typeface="Yoon 윤고딕 520_TT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53d09"/>
                </a:solidFill>
                <a:latin typeface="Yoon 윤고딕 520_TT"/>
                <a:ea typeface="Yoon 윤고딕 520_TT"/>
              </a:rPr>
              <a:t>분리하여 새로운 관점의 해결책을 내놓는 과정</a:t>
            </a:r>
            <a:r>
              <a:rPr b="0" lang="en-US" sz="1200" spc="-1" strike="noStrike">
                <a:solidFill>
                  <a:srgbClr val="e53d09"/>
                </a:solidFill>
                <a:latin typeface="Yoon 윤고딕 520_TT"/>
                <a:ea typeface="Yoon 윤고딕 520_TT"/>
              </a:rPr>
              <a:t>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직사각형 19"/>
          <p:cNvSpPr/>
          <p:nvPr/>
        </p:nvSpPr>
        <p:spPr>
          <a:xfrm>
            <a:off x="-700560" y="1071720"/>
            <a:ext cx="353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8d8d8"/>
                </a:solidFill>
                <a:latin typeface="TheMix 5-Regular Caps"/>
                <a:ea typeface="Malgun Gothic"/>
              </a:rPr>
              <a:t>What is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직사각형 20"/>
          <p:cNvSpPr/>
          <p:nvPr/>
        </p:nvSpPr>
        <p:spPr>
          <a:xfrm>
            <a:off x="203040" y="1441440"/>
            <a:ext cx="264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8d8d8"/>
                </a:solidFill>
                <a:latin typeface="TheMix 5-Regular Caps"/>
                <a:ea typeface="Malgun Gothic"/>
              </a:rPr>
              <a:t>Creativ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직사각형 25"/>
          <p:cNvSpPr/>
          <p:nvPr/>
        </p:nvSpPr>
        <p:spPr>
          <a:xfrm>
            <a:off x="2569320" y="2960640"/>
            <a:ext cx="272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b0f0"/>
                </a:solidFill>
                <a:latin typeface="Yoon 윤고딕 520_TT"/>
                <a:ea typeface="Yoon 윤고딕 520_TT"/>
              </a:rPr>
              <a:t>반</a:t>
            </a:r>
            <a:r>
              <a:rPr b="0" lang="zh-CN" sz="1400" spc="-1" strike="noStrike">
                <a:solidFill>
                  <a:srgbClr val="00b0f0"/>
                </a:solidFill>
                <a:latin typeface="Yoon 윤고딕 520_TT"/>
                <a:ea typeface="Yoon 윤고딕 520_TT"/>
              </a:rPr>
              <a:t>응적 창의성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직사각형 28"/>
          <p:cNvSpPr/>
          <p:nvPr/>
        </p:nvSpPr>
        <p:spPr>
          <a:xfrm>
            <a:off x="2569320" y="3708360"/>
            <a:ext cx="272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b0f0"/>
                </a:solidFill>
                <a:latin typeface="Yoon 윤고딕 520_TT"/>
                <a:ea typeface="Yoon 윤고딕 520_TT"/>
              </a:rPr>
              <a:t>예</a:t>
            </a:r>
            <a:r>
              <a:rPr b="0" lang="zh-CN" sz="1400" spc="-1" strike="noStrike">
                <a:solidFill>
                  <a:srgbClr val="00b0f0"/>
                </a:solidFill>
                <a:latin typeface="Yoon 윤고딕 520_TT"/>
                <a:ea typeface="Yoon 윤고딕 520_TT"/>
              </a:rPr>
              <a:t>상된 창의성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직사각형 29"/>
          <p:cNvSpPr/>
          <p:nvPr/>
        </p:nvSpPr>
        <p:spPr>
          <a:xfrm>
            <a:off x="2569320" y="4454640"/>
            <a:ext cx="272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b0f0"/>
                </a:solidFill>
                <a:latin typeface="Yoon 윤고딕 520_TT"/>
                <a:ea typeface="Yoon 윤고딕 520_TT"/>
              </a:rPr>
              <a:t>능</a:t>
            </a:r>
            <a:r>
              <a:rPr b="0" lang="zh-CN" sz="1400" spc="-1" strike="noStrike">
                <a:solidFill>
                  <a:srgbClr val="00b0f0"/>
                </a:solidFill>
                <a:latin typeface="Yoon 윤고딕 520_TT"/>
                <a:ea typeface="Yoon 윤고딕 520_TT"/>
              </a:rPr>
              <a:t>동적 창의성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직사각형 30"/>
          <p:cNvSpPr/>
          <p:nvPr/>
        </p:nvSpPr>
        <p:spPr>
          <a:xfrm>
            <a:off x="2569320" y="5202360"/>
            <a:ext cx="272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b0f0"/>
                </a:solidFill>
                <a:latin typeface="Yoon 윤고딕 520_TT"/>
                <a:ea typeface="Yoon 윤고딕 520_TT"/>
              </a:rPr>
              <a:t>기</a:t>
            </a:r>
            <a:r>
              <a:rPr b="0" lang="zh-CN" sz="1400" spc="-1" strike="noStrike">
                <a:solidFill>
                  <a:srgbClr val="00b0f0"/>
                </a:solidFill>
                <a:latin typeface="Yoon 윤고딕 520_TT"/>
                <a:ea typeface="Yoon 윤고딕 520_TT"/>
              </a:rPr>
              <a:t>여적 창의성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직사각형 31"/>
          <p:cNvSpPr/>
          <p:nvPr/>
        </p:nvSpPr>
        <p:spPr>
          <a:xfrm>
            <a:off x="3486960" y="3286080"/>
            <a:ext cx="524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Yoon 윤고딕 520_TT"/>
                <a:ea typeface="Yoon 윤고딕 520_TT"/>
              </a:rPr>
              <a:t>- </a:t>
            </a:r>
            <a:r>
              <a:rPr b="0" lang="zh-CN" sz="1200" spc="-1" strike="noStrike">
                <a:solidFill>
                  <a:srgbClr val="262626"/>
                </a:solidFill>
                <a:latin typeface="Yoon 윤고딕 520_TT"/>
                <a:ea typeface="Yoon 윤고딕 520_TT"/>
              </a:rPr>
              <a:t>주어진 특정한 문제</a:t>
            </a:r>
            <a:r>
              <a:rPr b="0" lang="en-US" sz="1200" spc="-1" strike="noStrike">
                <a:solidFill>
                  <a:srgbClr val="262626"/>
                </a:solidFill>
                <a:latin typeface="Yoon 윤고딕 520_TT"/>
                <a:ea typeface="Yoon 윤고딕 520_TT"/>
              </a:rPr>
              <a:t>(</a:t>
            </a:r>
            <a:r>
              <a:rPr b="0" lang="zh-CN" sz="1200" spc="-1" strike="noStrike">
                <a:solidFill>
                  <a:srgbClr val="262626"/>
                </a:solidFill>
                <a:latin typeface="Yoon 윤고딕 520_TT"/>
                <a:ea typeface="Yoon 윤고딕 520_TT"/>
              </a:rPr>
              <a:t>폐쇄적 문제</a:t>
            </a:r>
            <a:r>
              <a:rPr b="0" lang="en-US" sz="1200" spc="-1" strike="noStrike">
                <a:solidFill>
                  <a:srgbClr val="262626"/>
                </a:solidFill>
                <a:latin typeface="Yoon 윤고딕 520_TT"/>
                <a:ea typeface="Yoon 윤고딕 520_TT"/>
              </a:rPr>
              <a:t>)</a:t>
            </a:r>
            <a:r>
              <a:rPr b="0" lang="zh-CN" sz="1200" spc="-1" strike="noStrike">
                <a:solidFill>
                  <a:srgbClr val="262626"/>
                </a:solidFill>
                <a:latin typeface="Yoon 윤고딕 520_TT"/>
                <a:ea typeface="Yoon 윤고딕 520_TT"/>
              </a:rPr>
              <a:t>를 해결하기 위한 팀 구성원들의 활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직사각형 32"/>
          <p:cNvSpPr/>
          <p:nvPr/>
        </p:nvSpPr>
        <p:spPr>
          <a:xfrm>
            <a:off x="3585240" y="4029120"/>
            <a:ext cx="505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Yoon 윤고딕 520_TT"/>
                <a:ea typeface="Yoon 윤고딕 520_TT"/>
              </a:rPr>
              <a:t>- </a:t>
            </a:r>
            <a:r>
              <a:rPr b="0" lang="zh-CN" sz="1200" spc="-1" strike="noStrike">
                <a:solidFill>
                  <a:srgbClr val="262626"/>
                </a:solidFill>
                <a:latin typeface="Yoon 윤고딕 520_TT"/>
                <a:ea typeface="Yoon 윤고딕 520_TT"/>
              </a:rPr>
              <a:t>회사의 요구에 대해 이전에 없던 새로운 아이디어를 생성에 내는 경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직사각형 33"/>
          <p:cNvSpPr/>
          <p:nvPr/>
        </p:nvSpPr>
        <p:spPr>
          <a:xfrm>
            <a:off x="3602520" y="4772160"/>
            <a:ext cx="5194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Yoon 윤고딕 520_TT"/>
                <a:ea typeface="Yoon 윤고딕 520_TT"/>
              </a:rPr>
              <a:t>- </a:t>
            </a:r>
            <a:r>
              <a:rPr b="0" lang="zh-CN" sz="1200" spc="-1" strike="noStrike">
                <a:solidFill>
                  <a:srgbClr val="262626"/>
                </a:solidFill>
                <a:latin typeface="Yoon 윤고딕 520_TT"/>
                <a:ea typeface="Yoon 윤고딕 520_TT"/>
              </a:rPr>
              <a:t>요구하지 않았지만 새로운 제품에 대한 아이디어를 스스로 제안하는 경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직사각형 34"/>
          <p:cNvSpPr/>
          <p:nvPr/>
        </p:nvSpPr>
        <p:spPr>
          <a:xfrm>
            <a:off x="3510360" y="5514840"/>
            <a:ext cx="533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Yoon 윤고딕 520_TT"/>
                <a:ea typeface="Yoon 윤고딕 520_TT"/>
              </a:rPr>
              <a:t>- </a:t>
            </a:r>
            <a:r>
              <a:rPr b="0" lang="zh-CN" sz="1200" spc="-1" strike="noStrike">
                <a:solidFill>
                  <a:srgbClr val="262626"/>
                </a:solidFill>
                <a:latin typeface="Yoon 윤고딕 520_TT"/>
                <a:ea typeface="Yoon 윤고딕 520_TT"/>
              </a:rPr>
              <a:t>분명하게 정의된 문제</a:t>
            </a:r>
            <a:r>
              <a:rPr b="0" lang="en-US" sz="1200" spc="-1" strike="noStrike">
                <a:solidFill>
                  <a:srgbClr val="262626"/>
                </a:solidFill>
                <a:latin typeface="Yoon 윤고딕 520_TT"/>
                <a:ea typeface="Yoon 윤고딕 520_TT"/>
              </a:rPr>
              <a:t>(</a:t>
            </a:r>
            <a:r>
              <a:rPr b="0" lang="zh-CN" sz="1200" spc="-1" strike="noStrike">
                <a:solidFill>
                  <a:srgbClr val="262626"/>
                </a:solidFill>
                <a:latin typeface="Yoon 윤고딕 520_TT"/>
                <a:ea typeface="Yoon 윤고딕 520_TT"/>
              </a:rPr>
              <a:t>폐쇄적 문제</a:t>
            </a:r>
            <a:r>
              <a:rPr b="0" lang="en-US" sz="1200" spc="-1" strike="noStrike">
                <a:solidFill>
                  <a:srgbClr val="262626"/>
                </a:solidFill>
                <a:latin typeface="Yoon 윤고딕 520_TT"/>
                <a:ea typeface="Yoon 윤고딕 520_TT"/>
              </a:rPr>
              <a:t>)</a:t>
            </a:r>
            <a:r>
              <a:rPr b="0" lang="zh-CN" sz="1200" spc="-1" strike="noStrike">
                <a:solidFill>
                  <a:srgbClr val="262626"/>
                </a:solidFill>
                <a:latin typeface="Yoon 윤고딕 520_TT"/>
                <a:ea typeface="Yoon 윤고딕 520_TT"/>
              </a:rPr>
              <a:t>에 대해 자발적으로 도움을 주는 행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8" descr=""/>
          <p:cNvPicPr/>
          <p:nvPr/>
        </p:nvPicPr>
        <p:blipFill>
          <a:blip r:embed="rId2"/>
          <a:srcRect l="0" t="0" r="0" b="12727"/>
          <a:stretch/>
        </p:blipFill>
        <p:spPr>
          <a:xfrm>
            <a:off x="7861320" y="6489720"/>
            <a:ext cx="1260360" cy="210960"/>
          </a:xfrm>
          <a:prstGeom prst="rect">
            <a:avLst/>
          </a:prstGeom>
          <a:ln w="0">
            <a:noFill/>
          </a:ln>
        </p:spPr>
      </p:pic>
      <p:sp>
        <p:nvSpPr>
          <p:cNvPr id="82" name="TextBox 36"/>
          <p:cNvSpPr/>
          <p:nvPr/>
        </p:nvSpPr>
        <p:spPr>
          <a:xfrm>
            <a:off x="3500280" y="1928880"/>
            <a:ext cx="50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53d09"/>
                </a:solidFill>
                <a:latin typeface="Yoon 윤고딕 520_TT"/>
                <a:ea typeface="Yoon 윤고딕 520_TT"/>
              </a:rPr>
              <a:t>“</a:t>
            </a:r>
            <a:r>
              <a:rPr b="0" lang="zh-CN" sz="2000" spc="-1" strike="noStrike">
                <a:solidFill>
                  <a:srgbClr val="e53d09"/>
                </a:solidFill>
                <a:latin typeface="Yoon 윤고딕 520_TT"/>
                <a:ea typeface="Yoon 윤고딕 520_TT"/>
              </a:rPr>
              <a:t>상</a:t>
            </a:r>
            <a:r>
              <a:rPr b="0" lang="zh-CN" sz="1600" spc="-1" strike="noStrike">
                <a:solidFill>
                  <a:srgbClr val="e53d09"/>
                </a:solidFill>
                <a:latin typeface="Yoon 윤고딕 520_TT"/>
                <a:ea typeface="Yoon 윤고딕 520_TT"/>
              </a:rPr>
              <a:t>황에 적절하고 유용한 새로운 아이디어의 생성</a:t>
            </a:r>
            <a:r>
              <a:rPr b="0" lang="en-US" sz="1600" spc="-1" strike="noStrike">
                <a:solidFill>
                  <a:srgbClr val="e53d09"/>
                </a:solidFill>
                <a:latin typeface="Yoon 윤고딕 520_TT"/>
                <a:ea typeface="Yoon 윤고딕 520_TT"/>
              </a:rPr>
              <a:t>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37"/>
          <p:cNvSpPr/>
          <p:nvPr/>
        </p:nvSpPr>
        <p:spPr>
          <a:xfrm>
            <a:off x="5000760" y="2357280"/>
            <a:ext cx="3786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62626"/>
                </a:solidFill>
                <a:latin typeface="TheSerif 2-ExtraLight"/>
                <a:ea typeface="Yoon 윤고딕 520_TT"/>
              </a:rPr>
              <a:t>- K. Unsworth(Academy of Management Review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직사각형 1"/>
          <p:cNvSpPr/>
          <p:nvPr/>
        </p:nvSpPr>
        <p:spPr>
          <a:xfrm>
            <a:off x="0" y="500040"/>
            <a:ext cx="9144000" cy="585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직사각형 3"/>
          <p:cNvSpPr/>
          <p:nvPr/>
        </p:nvSpPr>
        <p:spPr>
          <a:xfrm>
            <a:off x="0" y="0"/>
            <a:ext cx="9144000" cy="500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직사각형 4"/>
          <p:cNvSpPr/>
          <p:nvPr/>
        </p:nvSpPr>
        <p:spPr>
          <a:xfrm>
            <a:off x="0" y="6357960"/>
            <a:ext cx="9144000" cy="500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직사각형 5"/>
          <p:cNvSpPr/>
          <p:nvPr/>
        </p:nvSpPr>
        <p:spPr>
          <a:xfrm>
            <a:off x="4572000" y="500040"/>
            <a:ext cx="4572000" cy="5857920"/>
          </a:xfrm>
          <a:prstGeom prst="rect">
            <a:avLst/>
          </a:prstGeom>
          <a:solidFill>
            <a:srgbClr val="e36c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직사각형 19"/>
          <p:cNvSpPr/>
          <p:nvPr/>
        </p:nvSpPr>
        <p:spPr>
          <a:xfrm>
            <a:off x="3934800" y="3071880"/>
            <a:ext cx="494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d8d8"/>
                </a:solidFill>
                <a:latin typeface="TheMix 5-Regular Caps"/>
                <a:ea typeface="Malgun Gothic"/>
              </a:rPr>
              <a:t>Group Crea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8"/>
          <p:cNvSpPr/>
          <p:nvPr/>
        </p:nvSpPr>
        <p:spPr>
          <a:xfrm>
            <a:off x="4857840" y="3857760"/>
            <a:ext cx="3071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d8d8d8"/>
                </a:solidFill>
                <a:latin typeface="Yoon 윤고딕 520_TT"/>
                <a:ea typeface="Yoon 윤고딕 520_TT"/>
              </a:rPr>
              <a:t>개인을 넘어 조직 차원에서 발현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d8d8d8"/>
                </a:solidFill>
                <a:latin typeface="Yoon 윤고딕 520_TT"/>
                <a:ea typeface="Yoon 윤고딕 520_TT"/>
              </a:rPr>
              <a:t>단순한 개인의 합 이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직사각형 12"/>
          <p:cNvSpPr/>
          <p:nvPr/>
        </p:nvSpPr>
        <p:spPr>
          <a:xfrm>
            <a:off x="-557280" y="3071880"/>
            <a:ext cx="539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2626"/>
                </a:solidFill>
                <a:latin typeface="TheMix 5-Regular Caps"/>
                <a:ea typeface="Malgun Gothic"/>
              </a:rPr>
              <a:t>Personal Crea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13"/>
          <p:cNvSpPr/>
          <p:nvPr/>
        </p:nvSpPr>
        <p:spPr>
          <a:xfrm>
            <a:off x="357120" y="3857760"/>
            <a:ext cx="4071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262626"/>
                </a:solidFill>
                <a:latin typeface="Yoon 윤고딕 520_TT"/>
                <a:ea typeface="Yoon 윤고딕 520_TT"/>
              </a:rPr>
              <a:t>개인이 어떤 새롭고 가치 있는 것을 창출하는 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22"/>
          <p:cNvSpPr/>
          <p:nvPr/>
        </p:nvSpPr>
        <p:spPr>
          <a:xfrm>
            <a:off x="4857840" y="4603680"/>
            <a:ext cx="41432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d8d8d8"/>
                </a:solidFill>
                <a:latin typeface="Yoon 윤고딕 520_TT"/>
                <a:ea typeface="Yoon 윤고딕 520_TT"/>
              </a:rPr>
              <a:t>“</a:t>
            </a:r>
            <a:r>
              <a:rPr b="1" lang="zh-CN" sz="1400" spc="-1" strike="noStrike">
                <a:solidFill>
                  <a:srgbClr val="d8d8d8"/>
                </a:solidFill>
                <a:latin typeface="Yoon 윤고딕 520_TT"/>
                <a:ea typeface="Yoon 윤고딕 520_TT"/>
              </a:rPr>
              <a:t>지속적인 혁신은 한 명의 천재로 이루어지는 것이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d8d8d8"/>
                </a:solidFill>
                <a:latin typeface="Yoon 윤고딕 520_TT"/>
                <a:ea typeface="Yoon 윤고딕 520_TT"/>
              </a:rPr>
              <a:t>아니다</a:t>
            </a:r>
            <a:r>
              <a:rPr b="1" lang="en-US" sz="1400" spc="-1" strike="noStrike">
                <a:solidFill>
                  <a:srgbClr val="d8d8d8"/>
                </a:solidFill>
                <a:latin typeface="Yoon 윤고딕 520_TT"/>
                <a:ea typeface="Yoon 윤고딕 520_TT"/>
              </a:rPr>
              <a:t>.</a:t>
            </a:r>
            <a:r>
              <a:rPr b="1" lang="zh-CN" sz="1400" spc="-1" strike="noStrike">
                <a:solidFill>
                  <a:srgbClr val="d8d8d8"/>
                </a:solidFill>
                <a:latin typeface="Yoon 윤고딕 520_TT"/>
                <a:ea typeface="Yoon 윤고딕 520_TT"/>
              </a:rPr>
              <a:t> </a:t>
            </a:r>
            <a:r>
              <a:rPr b="1" lang="zh-CN" sz="1400" spc="-1" strike="noStrike">
                <a:solidFill>
                  <a:srgbClr val="d8d8d8"/>
                </a:solidFill>
                <a:latin typeface="Yoon 윤고딕 520_TT"/>
                <a:ea typeface="Yoon 윤고딕 520_TT"/>
              </a:rPr>
              <a:t>모든 직원들이 창의적인 아이디어를 지속적으로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d8d8d8"/>
                </a:solidFill>
                <a:latin typeface="Yoon 윤고딕 520_TT"/>
                <a:ea typeface="Yoon 윤고딕 520_TT"/>
              </a:rPr>
              <a:t>제안하고 과감하게 실천할 수 있는 제도와 시스템 등이 갖추어져 있어야 진정한 창의적 기업이 될 수 있다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직사각형 23"/>
          <p:cNvSpPr/>
          <p:nvPr/>
        </p:nvSpPr>
        <p:spPr>
          <a:xfrm>
            <a:off x="5977080" y="5524560"/>
            <a:ext cx="3679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8d8d8"/>
                </a:solidFill>
                <a:latin typeface="TheMix 5-Regular Caps"/>
                <a:ea typeface="Malgun Gothic"/>
              </a:rPr>
              <a:t>- </a:t>
            </a:r>
            <a:r>
              <a:rPr b="0" lang="zh-CN" sz="1100" spc="-1" strike="noStrike">
                <a:solidFill>
                  <a:srgbClr val="d8d8d8"/>
                </a:solidFill>
                <a:latin typeface="TheMix 5-Regular Caps"/>
                <a:ea typeface="Malgun Gothic"/>
              </a:rPr>
              <a:t>샘 서튼 교수</a:t>
            </a:r>
            <a:r>
              <a:rPr b="0" lang="en-US" sz="1100" spc="-1" strike="noStrike">
                <a:solidFill>
                  <a:srgbClr val="d8d8d8"/>
                </a:solidFill>
                <a:latin typeface="TheMix 5-Regular Caps"/>
                <a:ea typeface="Malgun Gothic"/>
              </a:rPr>
              <a:t> </a:t>
            </a:r>
            <a:r>
              <a:rPr b="0" lang="en-US" sz="1100" spc="-1" strike="noStrike">
                <a:solidFill>
                  <a:srgbClr val="d8d8d8"/>
                </a:solidFill>
                <a:latin typeface="TheMix 5-Regular Caps"/>
                <a:ea typeface="Malgun Gothic"/>
              </a:rPr>
              <a:t>(Stanford Univ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24"/>
          <p:cNvSpPr/>
          <p:nvPr/>
        </p:nvSpPr>
        <p:spPr>
          <a:xfrm>
            <a:off x="357120" y="4476600"/>
            <a:ext cx="4071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262626"/>
                </a:solidFill>
                <a:latin typeface="Yoon 윤고딕 520_TT"/>
                <a:ea typeface="Yoon 윤고딕 520_TT"/>
              </a:rPr>
              <a:t>‘</a:t>
            </a:r>
            <a:r>
              <a:rPr b="1" lang="zh-CN" sz="1400" spc="-1" strike="noStrike">
                <a:solidFill>
                  <a:srgbClr val="262626"/>
                </a:solidFill>
                <a:latin typeface="Yoon 윤고딕 520_TT"/>
                <a:ea typeface="Yoon 윤고딕 520_TT"/>
              </a:rPr>
              <a:t>한 사람의 천재가 </a:t>
            </a:r>
            <a:r>
              <a:rPr b="1" lang="en-US" sz="1400" spc="-1" strike="noStrike">
                <a:solidFill>
                  <a:srgbClr val="262626"/>
                </a:solidFill>
                <a:latin typeface="Yoon 윤고딕 520_TT"/>
                <a:ea typeface="Yoon 윤고딕 520_TT"/>
              </a:rPr>
              <a:t>1</a:t>
            </a:r>
            <a:r>
              <a:rPr b="1" lang="zh-CN" sz="1400" spc="-1" strike="noStrike">
                <a:solidFill>
                  <a:srgbClr val="262626"/>
                </a:solidFill>
                <a:latin typeface="Yoon 윤고딕 520_TT"/>
                <a:ea typeface="Yoon 윤고딕 520_TT"/>
              </a:rPr>
              <a:t>만명을 먹여 살린다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2" descr=""/>
          <p:cNvPicPr/>
          <p:nvPr/>
        </p:nvPicPr>
        <p:blipFill>
          <a:blip r:embed="rId1"/>
          <a:stretch/>
        </p:blipFill>
        <p:spPr>
          <a:xfrm>
            <a:off x="928800" y="608040"/>
            <a:ext cx="2249280" cy="22496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3" descr=""/>
          <p:cNvPicPr/>
          <p:nvPr/>
        </p:nvPicPr>
        <p:blipFill>
          <a:blip r:embed="rId2"/>
          <a:stretch/>
        </p:blipFill>
        <p:spPr>
          <a:xfrm>
            <a:off x="5734080" y="608040"/>
            <a:ext cx="2247840" cy="22496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8" descr=""/>
          <p:cNvPicPr/>
          <p:nvPr/>
        </p:nvPicPr>
        <p:blipFill>
          <a:blip r:embed="rId3"/>
          <a:srcRect l="0" t="0" r="0" b="12727"/>
          <a:stretch/>
        </p:blipFill>
        <p:spPr>
          <a:xfrm>
            <a:off x="7861320" y="6489720"/>
            <a:ext cx="1260360" cy="210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직사각형 1"/>
          <p:cNvSpPr/>
          <p:nvPr/>
        </p:nvSpPr>
        <p:spPr>
          <a:xfrm>
            <a:off x="0" y="500040"/>
            <a:ext cx="9144000" cy="585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직사각형 3"/>
          <p:cNvSpPr/>
          <p:nvPr/>
        </p:nvSpPr>
        <p:spPr>
          <a:xfrm>
            <a:off x="0" y="0"/>
            <a:ext cx="9144000" cy="500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직사각형 4"/>
          <p:cNvSpPr/>
          <p:nvPr/>
        </p:nvSpPr>
        <p:spPr>
          <a:xfrm>
            <a:off x="0" y="6357960"/>
            <a:ext cx="9144000" cy="500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21"/>
          <p:cNvSpPr/>
          <p:nvPr/>
        </p:nvSpPr>
        <p:spPr>
          <a:xfrm>
            <a:off x="3571920" y="2876400"/>
            <a:ext cx="185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53d09"/>
                </a:solidFill>
                <a:latin typeface="Yoon 윤고딕 520_TT"/>
                <a:ea typeface="Malgun Gothic"/>
              </a:rPr>
              <a:t>_Group Creativ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8" descr=""/>
          <p:cNvPicPr/>
          <p:nvPr/>
        </p:nvPicPr>
        <p:blipFill>
          <a:blip r:embed="rId1"/>
          <a:srcRect l="0" t="0" r="0" b="12727"/>
          <a:stretch/>
        </p:blipFill>
        <p:spPr>
          <a:xfrm>
            <a:off x="7861320" y="6489720"/>
            <a:ext cx="1260360" cy="210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직사각형 1"/>
          <p:cNvSpPr/>
          <p:nvPr/>
        </p:nvSpPr>
        <p:spPr>
          <a:xfrm>
            <a:off x="0" y="500040"/>
            <a:ext cx="9144000" cy="585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직사각형 3"/>
          <p:cNvSpPr/>
          <p:nvPr/>
        </p:nvSpPr>
        <p:spPr>
          <a:xfrm>
            <a:off x="0" y="0"/>
            <a:ext cx="9144000" cy="500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직사각형 4"/>
          <p:cNvSpPr/>
          <p:nvPr/>
        </p:nvSpPr>
        <p:spPr>
          <a:xfrm>
            <a:off x="0" y="6357960"/>
            <a:ext cx="9144000" cy="500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직사각형 5"/>
          <p:cNvSpPr/>
          <p:nvPr/>
        </p:nvSpPr>
        <p:spPr>
          <a:xfrm>
            <a:off x="-7920" y="500040"/>
            <a:ext cx="2651040" cy="5857920"/>
          </a:xfrm>
          <a:prstGeom prst="rect">
            <a:avLst/>
          </a:prstGeom>
          <a:solidFill>
            <a:srgbClr val="e36c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10"/>
          <p:cNvSpPr/>
          <p:nvPr/>
        </p:nvSpPr>
        <p:spPr>
          <a:xfrm>
            <a:off x="36360" y="928800"/>
            <a:ext cx="2560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8d8d8"/>
                </a:solidFill>
                <a:latin typeface="Yoon 윤고딕 520_TT"/>
                <a:ea typeface="Yoon 윤고딕 520_TT"/>
              </a:rPr>
              <a:t>집단 창의성</a:t>
            </a:r>
            <a:r>
              <a:rPr b="1" lang="en-US" sz="3200" spc="-1" strike="noStrike">
                <a:solidFill>
                  <a:srgbClr val="d8d8d8"/>
                </a:solidFill>
                <a:latin typeface="Yoon 윤고딕 520_TT"/>
                <a:ea typeface="Yoon 윤고딕 520_TT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8d8d8"/>
                </a:solidFill>
                <a:latin typeface="Yoon 윤고딕 520_TT"/>
                <a:ea typeface="Yoon 윤고딕 520_TT"/>
              </a:rPr>
              <a:t> </a:t>
            </a:r>
            <a:r>
              <a:rPr b="1" lang="zh-CN" sz="3200" spc="-1" strike="noStrike">
                <a:solidFill>
                  <a:srgbClr val="d8d8d8"/>
                </a:solidFill>
                <a:latin typeface="Yoon 윤고딕 520_TT"/>
                <a:ea typeface="Yoon 윤고딕 520_TT"/>
              </a:rPr>
              <a:t>왜 중요한가</a:t>
            </a:r>
            <a:r>
              <a:rPr b="1" lang="en-US" sz="3200" spc="-1" strike="noStrike">
                <a:solidFill>
                  <a:srgbClr val="d8d8d8"/>
                </a:solidFill>
                <a:latin typeface="Yoon 윤고딕 520_TT"/>
                <a:ea typeface="Yoon 윤고딕 520_TT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직사각형 25"/>
          <p:cNvSpPr/>
          <p:nvPr/>
        </p:nvSpPr>
        <p:spPr>
          <a:xfrm>
            <a:off x="2916360" y="3714840"/>
            <a:ext cx="462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b0f0"/>
                </a:solidFill>
                <a:latin typeface="Yoon 윤고딕 520_TT"/>
                <a:ea typeface="Yoon 윤고딕 520_TT"/>
              </a:rPr>
              <a:t>천</a:t>
            </a:r>
            <a:r>
              <a:rPr b="0" lang="zh-CN" sz="1400" spc="-1" strike="noStrike">
                <a:solidFill>
                  <a:srgbClr val="00b0f0"/>
                </a:solidFill>
                <a:latin typeface="Yoon 윤고딕 520_TT"/>
                <a:ea typeface="Yoon 윤고딕 520_TT"/>
              </a:rPr>
              <a:t>재는 찾기도 힘들며</a:t>
            </a:r>
            <a:r>
              <a:rPr b="0" lang="en-US" sz="1400" spc="-1" strike="noStrike">
                <a:solidFill>
                  <a:srgbClr val="00b0f0"/>
                </a:solidFill>
                <a:latin typeface="Yoon 윤고딕 520_TT"/>
                <a:ea typeface="Yoon 윤고딕 520_TT"/>
              </a:rPr>
              <a:t>, </a:t>
            </a:r>
            <a:r>
              <a:rPr b="0" lang="zh-CN" sz="1400" spc="-1" strike="noStrike">
                <a:solidFill>
                  <a:srgbClr val="00b0f0"/>
                </a:solidFill>
                <a:latin typeface="Yoon 윤고딕 520_TT"/>
                <a:ea typeface="Yoon 윤고딕 520_TT"/>
              </a:rPr>
              <a:t>조직에서 떠나면 소멸된다</a:t>
            </a:r>
            <a:r>
              <a:rPr b="0" lang="en-US" sz="1400" spc="-1" strike="noStrike">
                <a:solidFill>
                  <a:srgbClr val="00b0f0"/>
                </a:solidFill>
                <a:latin typeface="Yoon 윤고딕 520_TT"/>
                <a:ea typeface="Yoon 윤고딕 520_TT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직사각형 28"/>
          <p:cNvSpPr/>
          <p:nvPr/>
        </p:nvSpPr>
        <p:spPr>
          <a:xfrm>
            <a:off x="2921760" y="4354560"/>
            <a:ext cx="466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b0f0"/>
                </a:solidFill>
                <a:latin typeface="Yoon 윤고딕 520_TT"/>
                <a:ea typeface="Yoon 윤고딕 520_TT"/>
              </a:rPr>
              <a:t>업</a:t>
            </a:r>
            <a:r>
              <a:rPr b="0" lang="zh-CN" sz="1400" spc="-1" strike="noStrike">
                <a:solidFill>
                  <a:srgbClr val="00b0f0"/>
                </a:solidFill>
                <a:latin typeface="Yoon 윤고딕 520_TT"/>
                <a:ea typeface="Yoon 윤고딕 520_TT"/>
              </a:rPr>
              <a:t>무가 다양해짐에 따라</a:t>
            </a:r>
            <a:r>
              <a:rPr b="0" lang="en-US" sz="1400" spc="-1" strike="noStrike">
                <a:solidFill>
                  <a:srgbClr val="00b0f0"/>
                </a:solidFill>
                <a:latin typeface="Yoon 윤고딕 520_TT"/>
                <a:ea typeface="Yoon 윤고딕 520_TT"/>
              </a:rPr>
              <a:t>, </a:t>
            </a:r>
            <a:r>
              <a:rPr b="0" lang="zh-CN" sz="1400" spc="-1" strike="noStrike">
                <a:solidFill>
                  <a:srgbClr val="00b0f0"/>
                </a:solidFill>
                <a:latin typeface="Yoon 윤고딕 520_TT"/>
                <a:ea typeface="Yoon 윤고딕 520_TT"/>
              </a:rPr>
              <a:t>전문적 창의성 뿐 아니라</a:t>
            </a:r>
            <a:r>
              <a:rPr b="0" lang="en-US" sz="1400" spc="-1" strike="noStrike">
                <a:solidFill>
                  <a:srgbClr val="00b0f0"/>
                </a:solidFill>
                <a:latin typeface="Yoon 윤고딕 520_TT"/>
                <a:ea typeface="Yoon 윤고딕 520_TT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b0f0"/>
                </a:solidFill>
                <a:latin typeface="Yoon 윤고딕 520_TT"/>
                <a:ea typeface="Yoon 윤고딕 520_TT"/>
              </a:rPr>
              <a:t>평범한 사람들의 일상적 창의성도 중요해졌다</a:t>
            </a:r>
            <a:r>
              <a:rPr b="0" lang="en-US" sz="1400" spc="-1" strike="noStrike">
                <a:solidFill>
                  <a:srgbClr val="00b0f0"/>
                </a:solidFill>
                <a:latin typeface="Yoon 윤고딕 520_TT"/>
                <a:ea typeface="Yoon 윤고딕 520_TT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직사각형 29"/>
          <p:cNvSpPr/>
          <p:nvPr/>
        </p:nvSpPr>
        <p:spPr>
          <a:xfrm>
            <a:off x="2904480" y="5210280"/>
            <a:ext cx="432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b0f0"/>
                </a:solidFill>
                <a:latin typeface="Yoon 윤고딕 520_TT"/>
                <a:ea typeface="Yoon 윤고딕 520_TT"/>
              </a:rPr>
              <a:t>집</a:t>
            </a:r>
            <a:r>
              <a:rPr b="0" lang="zh-CN" sz="1400" spc="-1" strike="noStrike">
                <a:solidFill>
                  <a:srgbClr val="00b0f0"/>
                </a:solidFill>
                <a:latin typeface="Yoon 윤고딕 520_TT"/>
                <a:ea typeface="Yoon 윤고딕 520_TT"/>
              </a:rPr>
              <a:t>단 창조성은 교육을 통해서 개발할 수 있다</a:t>
            </a:r>
            <a:r>
              <a:rPr b="0" lang="en-US" sz="1400" spc="-1" strike="noStrike">
                <a:solidFill>
                  <a:srgbClr val="00b0f0"/>
                </a:solidFill>
                <a:latin typeface="Yoon 윤고딕 520_TT"/>
                <a:ea typeface="Yoon 윤고딕 520_TT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8" descr=""/>
          <p:cNvPicPr/>
          <p:nvPr/>
        </p:nvPicPr>
        <p:blipFill>
          <a:blip r:embed="rId1"/>
          <a:srcRect l="0" t="0" r="0" b="12727"/>
          <a:stretch/>
        </p:blipFill>
        <p:spPr>
          <a:xfrm>
            <a:off x="7861320" y="6489720"/>
            <a:ext cx="1260360" cy="210960"/>
          </a:xfrm>
          <a:prstGeom prst="rect">
            <a:avLst/>
          </a:prstGeom>
          <a:ln w="0">
            <a:noFill/>
          </a:ln>
        </p:spPr>
      </p:pic>
      <p:sp>
        <p:nvSpPr>
          <p:cNvPr id="112" name="TextBox 36"/>
          <p:cNvSpPr/>
          <p:nvPr/>
        </p:nvSpPr>
        <p:spPr>
          <a:xfrm>
            <a:off x="3500280" y="2254320"/>
            <a:ext cx="50724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53d09"/>
                </a:solidFill>
                <a:latin typeface="Yoon 윤고딕 520_TT"/>
                <a:ea typeface="Yoon 윤고딕 520_TT"/>
              </a:rPr>
              <a:t>“</a:t>
            </a:r>
            <a:r>
              <a:rPr b="0" lang="zh-CN" sz="2000" spc="-1" strike="noStrike">
                <a:solidFill>
                  <a:srgbClr val="e53d09"/>
                </a:solidFill>
                <a:latin typeface="Yoon 윤고딕 520_TT"/>
                <a:ea typeface="Yoon 윤고딕 520_TT"/>
              </a:rPr>
              <a:t>개</a:t>
            </a:r>
            <a:r>
              <a:rPr b="0" lang="zh-CN" sz="1600" spc="-1" strike="noStrike">
                <a:solidFill>
                  <a:srgbClr val="e53d09"/>
                </a:solidFill>
                <a:latin typeface="Yoon 윤고딕 520_TT"/>
                <a:ea typeface="Yoon 윤고딕 520_TT"/>
              </a:rPr>
              <a:t>인의 창의력과 조직 간의 조화가 필요하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53d09"/>
                </a:solidFill>
                <a:latin typeface="Yoon 윤고딕 520_TT"/>
                <a:ea typeface="Yoon 윤고딕 520_TT"/>
              </a:rPr>
              <a:t>창조적 기업 생태계를 조성하는 것이 중요하다</a:t>
            </a:r>
            <a:r>
              <a:rPr b="0" lang="en-US" sz="1600" spc="-1" strike="noStrike">
                <a:solidFill>
                  <a:srgbClr val="e53d09"/>
                </a:solidFill>
                <a:latin typeface="Yoon 윤고딕 520_TT"/>
                <a:ea typeface="Yoon 윤고딕 520_TT"/>
              </a:rPr>
              <a:t>.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37"/>
          <p:cNvSpPr/>
          <p:nvPr/>
        </p:nvSpPr>
        <p:spPr>
          <a:xfrm>
            <a:off x="6215040" y="2897280"/>
            <a:ext cx="221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62626"/>
                </a:solidFill>
                <a:latin typeface="TheSerif 2-ExtraLight"/>
                <a:ea typeface="Yoon 윤고딕 520_TT"/>
              </a:rPr>
              <a:t>- Theofore Levitt(Harvard Univ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3" descr=""/>
          <p:cNvPicPr/>
          <p:nvPr/>
        </p:nvPicPr>
        <p:blipFill>
          <a:blip r:embed="rId2"/>
          <a:stretch/>
        </p:blipFill>
        <p:spPr>
          <a:xfrm>
            <a:off x="611280" y="2214720"/>
            <a:ext cx="1455480" cy="14554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" descr=""/>
          <p:cNvPicPr/>
          <p:nvPr/>
        </p:nvPicPr>
        <p:blipFill>
          <a:blip r:embed="rId3"/>
          <a:stretch/>
        </p:blipFill>
        <p:spPr>
          <a:xfrm>
            <a:off x="4038480" y="1071720"/>
            <a:ext cx="1105200" cy="11048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3" descr=""/>
          <p:cNvPicPr/>
          <p:nvPr/>
        </p:nvPicPr>
        <p:blipFill>
          <a:blip r:embed="rId4"/>
          <a:stretch/>
        </p:blipFill>
        <p:spPr>
          <a:xfrm>
            <a:off x="6643800" y="1071720"/>
            <a:ext cx="1104840" cy="1104840"/>
          </a:xfrm>
          <a:prstGeom prst="rect">
            <a:avLst/>
          </a:prstGeom>
          <a:ln w="0">
            <a:noFill/>
          </a:ln>
        </p:spPr>
      </p:pic>
      <p:sp>
        <p:nvSpPr>
          <p:cNvPr id="117" name="L 도형 24"/>
          <p:cNvSpPr/>
          <p:nvPr/>
        </p:nvSpPr>
        <p:spPr>
          <a:xfrm rot="2700000">
            <a:off x="5853600" y="1502640"/>
            <a:ext cx="439920" cy="441360"/>
          </a:xfrm>
          <a:custGeom>
            <a:avLst/>
            <a:gdLst>
              <a:gd name="textAreaLeft" fmla="*/ 0 w 439920"/>
              <a:gd name="textAreaRight" fmla="*/ 440280 w 439920"/>
              <a:gd name="textAreaTop" fmla="*/ 0 h 441360"/>
              <a:gd name="textAreaBottom" fmla="*/ 441720 h 441360"/>
            </a:gdLst>
            <a:ahLst/>
            <a:rect l="textAreaLeft" t="textAreaTop" r="textAreaRight" b="textAreaBottom"/>
            <a:pathLst>
              <a:path w="692" h="695">
                <a:moveTo>
                  <a:pt x="0" y="0"/>
                </a:moveTo>
                <a:lnTo>
                  <a:pt x="187" y="0"/>
                </a:lnTo>
                <a:lnTo>
                  <a:pt x="187" y="513"/>
                </a:lnTo>
                <a:lnTo>
                  <a:pt x="692" y="513"/>
                </a:lnTo>
                <a:lnTo>
                  <a:pt x="692" y="695"/>
                </a:lnTo>
                <a:lnTo>
                  <a:pt x="0" y="695"/>
                </a:lnTo>
                <a:close/>
              </a:path>
            </a:pathLst>
          </a:custGeom>
          <a:solidFill>
            <a:srgbClr val="e53d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직사각형 1"/>
          <p:cNvSpPr/>
          <p:nvPr/>
        </p:nvSpPr>
        <p:spPr>
          <a:xfrm>
            <a:off x="0" y="500040"/>
            <a:ext cx="9144000" cy="585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"/>
          <p:cNvSpPr/>
          <p:nvPr/>
        </p:nvSpPr>
        <p:spPr>
          <a:xfrm>
            <a:off x="0" y="0"/>
            <a:ext cx="9144000" cy="500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4"/>
          <p:cNvSpPr/>
          <p:nvPr/>
        </p:nvSpPr>
        <p:spPr>
          <a:xfrm>
            <a:off x="0" y="6357960"/>
            <a:ext cx="9144000" cy="500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5"/>
          <p:cNvSpPr/>
          <p:nvPr/>
        </p:nvSpPr>
        <p:spPr>
          <a:xfrm>
            <a:off x="-7920" y="500040"/>
            <a:ext cx="2651040" cy="5857920"/>
          </a:xfrm>
          <a:prstGeom prst="rect">
            <a:avLst/>
          </a:prstGeom>
          <a:solidFill>
            <a:srgbClr val="e36c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8" descr=""/>
          <p:cNvPicPr/>
          <p:nvPr/>
        </p:nvPicPr>
        <p:blipFill>
          <a:blip r:embed="rId1"/>
          <a:srcRect l="0" t="0" r="0" b="12727"/>
          <a:stretch/>
        </p:blipFill>
        <p:spPr>
          <a:xfrm>
            <a:off x="7861320" y="6489720"/>
            <a:ext cx="1260360" cy="2109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3" descr=""/>
          <p:cNvPicPr/>
          <p:nvPr/>
        </p:nvPicPr>
        <p:blipFill>
          <a:blip r:embed="rId2"/>
          <a:stretch/>
        </p:blipFill>
        <p:spPr>
          <a:xfrm>
            <a:off x="611280" y="2214720"/>
            <a:ext cx="1455480" cy="1455480"/>
          </a:xfrm>
          <a:prstGeom prst="rect">
            <a:avLst/>
          </a:prstGeom>
          <a:ln w="0">
            <a:noFill/>
          </a:ln>
        </p:spPr>
      </p:pic>
      <p:sp>
        <p:nvSpPr>
          <p:cNvPr id="124" name="TextBox 18"/>
          <p:cNvSpPr/>
          <p:nvPr/>
        </p:nvSpPr>
        <p:spPr>
          <a:xfrm>
            <a:off x="-25560" y="928800"/>
            <a:ext cx="2559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8d8d8"/>
                </a:solidFill>
                <a:latin typeface="Yoon 윤고딕 520_TT"/>
                <a:ea typeface="Yoon 윤고딕 520_TT"/>
              </a:rPr>
              <a:t> </a:t>
            </a:r>
            <a:r>
              <a:rPr b="1" lang="zh-CN" sz="3200" spc="-1" strike="noStrike">
                <a:solidFill>
                  <a:srgbClr val="d8d8d8"/>
                </a:solidFill>
                <a:latin typeface="Yoon 윤고딕 520_TT"/>
                <a:ea typeface="Yoon 윤고딕 520_TT"/>
              </a:rPr>
              <a:t>집단 창의성</a:t>
            </a:r>
            <a:r>
              <a:rPr b="1" lang="en-US" sz="3200" spc="-1" strike="noStrike">
                <a:solidFill>
                  <a:srgbClr val="d8d8d8"/>
                </a:solidFill>
                <a:latin typeface="Yoon 윤고딕 520_TT"/>
                <a:ea typeface="Yoon 윤고딕 520_TT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8d8d8"/>
                </a:solidFill>
                <a:latin typeface="Yoon 윤고딕 520_TT"/>
                <a:ea typeface="Yoon 윤고딕 520_TT"/>
              </a:rPr>
              <a:t>주요 요소들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3857760" y="1714680"/>
            <a:ext cx="3916080" cy="3474720"/>
            <a:chOff x="3857760" y="1714680"/>
            <a:chExt cx="3916080" cy="3474720"/>
          </a:xfrm>
        </p:grpSpPr>
        <p:grpSp>
          <p:nvGrpSpPr>
            <p:cNvPr id="126" name=""/>
            <p:cNvGrpSpPr/>
            <p:nvPr/>
          </p:nvGrpSpPr>
          <p:grpSpPr>
            <a:xfrm>
              <a:off x="3857760" y="1714680"/>
              <a:ext cx="3916080" cy="3474720"/>
              <a:chOff x="3857760" y="1714680"/>
              <a:chExt cx="3916080" cy="3474720"/>
            </a:xfrm>
          </p:grpSpPr>
          <p:sp>
            <p:nvSpPr>
              <p:cNvPr id="127" name="타원 41"/>
              <p:cNvSpPr/>
              <p:nvPr/>
            </p:nvSpPr>
            <p:spPr>
              <a:xfrm>
                <a:off x="4298760" y="2100240"/>
                <a:ext cx="3089160" cy="3089160"/>
              </a:xfrm>
              <a:prstGeom prst="ellipse">
                <a:avLst/>
              </a:prstGeom>
              <a:solidFill>
                <a:srgbClr val="ffffff"/>
              </a:solidFill>
              <a:ln w="3240">
                <a:solidFill>
                  <a:srgbClr val="e53d0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Malgun Gothic"/>
                    <a:ea typeface="Malgun Gothic"/>
                  </a:rPr>
                  <a:t>z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8" name=""/>
              <p:cNvGrpSpPr/>
              <p:nvPr/>
            </p:nvGrpSpPr>
            <p:grpSpPr>
              <a:xfrm>
                <a:off x="3857760" y="1714680"/>
                <a:ext cx="3916080" cy="3454920"/>
                <a:chOff x="3857760" y="1714680"/>
                <a:chExt cx="3916080" cy="3454920"/>
              </a:xfrm>
            </p:grpSpPr>
            <p:pic>
              <p:nvPicPr>
                <p:cNvPr id="129" name="Picture 2" descr=""/>
                <p:cNvPicPr/>
                <p:nvPr/>
              </p:nvPicPr>
              <p:blipFill>
                <a:blip r:embed="rId3"/>
                <a:srcRect l="38158" t="20365" r="21786" b="13844"/>
                <a:stretch/>
              </p:blipFill>
              <p:spPr>
                <a:xfrm>
                  <a:off x="5347080" y="1714680"/>
                  <a:ext cx="972720" cy="972720"/>
                </a:xfrm>
                <a:prstGeom prst="rect">
                  <a:avLst/>
                </a:prstGeom>
                <a:ln w="9360">
                  <a:solidFill>
                    <a:srgbClr val="e53d09"/>
                  </a:solidFill>
                  <a:miter/>
                </a:ln>
              </p:spPr>
            </p:pic>
            <p:pic>
              <p:nvPicPr>
                <p:cNvPr id="130" name="Picture 2" descr=""/>
                <p:cNvPicPr/>
                <p:nvPr/>
              </p:nvPicPr>
              <p:blipFill>
                <a:blip r:embed="rId4"/>
                <a:srcRect l="8012" t="0" r="0" b="0"/>
                <a:stretch/>
              </p:blipFill>
              <p:spPr>
                <a:xfrm>
                  <a:off x="6801120" y="2707560"/>
                  <a:ext cx="972720" cy="972720"/>
                </a:xfrm>
                <a:prstGeom prst="rect">
                  <a:avLst/>
                </a:prstGeom>
                <a:ln w="9360">
                  <a:solidFill>
                    <a:srgbClr val="e53d09"/>
                  </a:solidFill>
                  <a:miter/>
                </a:ln>
              </p:spPr>
            </p:pic>
            <p:pic>
              <p:nvPicPr>
                <p:cNvPr id="131" name="Picture 2" descr=""/>
                <p:cNvPicPr/>
                <p:nvPr/>
              </p:nvPicPr>
              <p:blipFill>
                <a:blip r:embed="rId5"/>
                <a:srcRect l="21882" t="0" r="0" b="0"/>
                <a:stretch/>
              </p:blipFill>
              <p:spPr>
                <a:xfrm flipH="1">
                  <a:off x="4298760" y="4196880"/>
                  <a:ext cx="972720" cy="972720"/>
                </a:xfrm>
                <a:prstGeom prst="rect">
                  <a:avLst/>
                </a:prstGeom>
                <a:ln w="9360">
                  <a:solidFill>
                    <a:srgbClr val="e53d09"/>
                  </a:solidFill>
                  <a:miter/>
                </a:ln>
              </p:spPr>
            </p:pic>
            <p:pic>
              <p:nvPicPr>
                <p:cNvPr id="132" name="Picture 3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3857760" y="2707560"/>
                  <a:ext cx="972720" cy="972720"/>
                </a:xfrm>
                <a:prstGeom prst="rect">
                  <a:avLst/>
                </a:prstGeom>
                <a:ln w="9360">
                  <a:solidFill>
                    <a:srgbClr val="e53d09"/>
                  </a:solidFill>
                  <a:miter/>
                </a:ln>
              </p:spPr>
            </p:pic>
            <p:pic>
              <p:nvPicPr>
                <p:cNvPr id="133" name="_x93244360" descr=""/>
                <p:cNvPicPr/>
                <p:nvPr/>
              </p:nvPicPr>
              <p:blipFill>
                <a:blip r:embed="rId7"/>
                <a:srcRect l="3144" t="0" r="16761" b="0"/>
                <a:stretch/>
              </p:blipFill>
              <p:spPr>
                <a:xfrm>
                  <a:off x="6505200" y="4196880"/>
                  <a:ext cx="972720" cy="972720"/>
                </a:xfrm>
                <a:prstGeom prst="rect">
                  <a:avLst/>
                </a:prstGeom>
                <a:ln w="9360">
                  <a:solidFill>
                    <a:srgbClr val="e53d09"/>
                  </a:solidFill>
                  <a:miter/>
                </a:ln>
              </p:spPr>
            </p:pic>
          </p:grpSp>
        </p:grpSp>
        <p:pic>
          <p:nvPicPr>
            <p:cNvPr id="134" name="Picture 3" descr=""/>
            <p:cNvPicPr/>
            <p:nvPr/>
          </p:nvPicPr>
          <p:blipFill>
            <a:blip r:embed="rId8"/>
            <a:stretch/>
          </p:blipFill>
          <p:spPr>
            <a:xfrm>
              <a:off x="5500800" y="3267000"/>
              <a:ext cx="649080" cy="64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5" name="TextBox 36"/>
          <p:cNvSpPr/>
          <p:nvPr/>
        </p:nvSpPr>
        <p:spPr>
          <a:xfrm>
            <a:off x="4929120" y="127332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53d09"/>
                </a:solidFill>
                <a:latin typeface="TheMix 5-Regular Caps"/>
                <a:ea typeface="Yoon 윤고딕 520_TT"/>
              </a:rPr>
              <a:t>Leadersh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45"/>
          <p:cNvSpPr/>
          <p:nvPr/>
        </p:nvSpPr>
        <p:spPr>
          <a:xfrm>
            <a:off x="7072200" y="2273400"/>
            <a:ext cx="192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53d09"/>
                </a:solidFill>
                <a:latin typeface="TheMix 5-Regular Caps"/>
                <a:ea typeface="Yoon 윤고딕 520_TT"/>
              </a:rPr>
              <a:t>Commun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46"/>
          <p:cNvSpPr/>
          <p:nvPr/>
        </p:nvSpPr>
        <p:spPr>
          <a:xfrm>
            <a:off x="6643800" y="5214960"/>
            <a:ext cx="192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53d09"/>
                </a:solidFill>
                <a:latin typeface="TheMix 5-Regular Caps"/>
                <a:ea typeface="Yoon 윤고딕 520_TT"/>
              </a:rPr>
              <a:t>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47"/>
          <p:cNvSpPr/>
          <p:nvPr/>
        </p:nvSpPr>
        <p:spPr>
          <a:xfrm>
            <a:off x="3571920" y="5264280"/>
            <a:ext cx="1928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53d09"/>
                </a:solidFill>
                <a:latin typeface="TheMix 5-Regular Caps"/>
                <a:ea typeface="Yoon 윤고딕 520_TT"/>
              </a:rPr>
              <a:t>Organizational Cul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48"/>
          <p:cNvSpPr/>
          <p:nvPr/>
        </p:nvSpPr>
        <p:spPr>
          <a:xfrm>
            <a:off x="2786040" y="2344680"/>
            <a:ext cx="192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53d09"/>
                </a:solidFill>
                <a:latin typeface="TheMix 5-Regular Caps"/>
                <a:ea typeface="Yoon 윤고딕 520_TT"/>
              </a:rPr>
              <a:t>Motiv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직사각형 1"/>
          <p:cNvSpPr/>
          <p:nvPr/>
        </p:nvSpPr>
        <p:spPr>
          <a:xfrm>
            <a:off x="0" y="500040"/>
            <a:ext cx="9144000" cy="585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직사각형 3"/>
          <p:cNvSpPr/>
          <p:nvPr/>
        </p:nvSpPr>
        <p:spPr>
          <a:xfrm>
            <a:off x="0" y="0"/>
            <a:ext cx="9144000" cy="500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직사각형 4"/>
          <p:cNvSpPr/>
          <p:nvPr/>
        </p:nvSpPr>
        <p:spPr>
          <a:xfrm>
            <a:off x="0" y="6357960"/>
            <a:ext cx="9144000" cy="500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21"/>
          <p:cNvSpPr/>
          <p:nvPr/>
        </p:nvSpPr>
        <p:spPr>
          <a:xfrm>
            <a:off x="3571920" y="2876400"/>
            <a:ext cx="185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53d09"/>
                </a:solidFill>
                <a:latin typeface="Yoon 윤고딕 520_TT"/>
                <a:ea typeface="Malgun Gothic"/>
              </a:rPr>
              <a:t>_How  Creat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8" descr=""/>
          <p:cNvPicPr/>
          <p:nvPr/>
        </p:nvPicPr>
        <p:blipFill>
          <a:blip r:embed="rId1"/>
          <a:srcRect l="0" t="0" r="0" b="12727"/>
          <a:stretch/>
        </p:blipFill>
        <p:spPr>
          <a:xfrm>
            <a:off x="7861320" y="6489720"/>
            <a:ext cx="1260360" cy="210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09T16:02:00Z</dcterms:created>
  <dc:creator>KSH</dc:creator>
  <dc:description/>
  <dc:language>en-US</dc:language>
  <cp:lastModifiedBy>admin</cp:lastModifiedBy>
  <dcterms:modified xsi:type="dcterms:W3CDTF">2015-06-30T06:51:32Z</dcterms:modified>
  <cp:revision>146</cp:revision>
  <dc:subject/>
  <dc:title>슬라이드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