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22396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D20-765D-4FB7-B795-7F264CD1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2360" y="3964320"/>
            <a:ext cx="1101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88A-461B-4875-A402-F304C769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5644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505-4C4A-403C-B2DB-624350FA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0400" y="160020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2360" y="396432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36560" y="396432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60400" y="396432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C41-B6B7-4DD8-886A-36CCCD00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FFDA-C0E8-4076-B4B6-13650598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2360" y="1600200"/>
            <a:ext cx="11014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4CCE-2171-42E1-B72F-E7164268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0833-02B1-458C-B91B-39893CDF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EB82-A2EE-4528-8191-EEE23DC9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01AF-1164-469E-A0AC-7B4491A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12360" y="274320"/>
            <a:ext cx="11014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B316-B8C1-4BAF-A327-7D96506F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D95D-A3ED-4990-8523-65D4A540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2360" y="1600200"/>
            <a:ext cx="11014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AF3-6CBE-4F1F-BF8C-E54E1088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5644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20E1-F059-4333-8946-B73D2E3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1101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602-3838-4C1A-9590-CF98E0E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2360" y="3964320"/>
            <a:ext cx="1101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8C76-D244-411F-AC0F-225D7D05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5644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9E29-89DC-48BF-9D66-749DFB4A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60400" y="160020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2360" y="396432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36560" y="396432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60400" y="396432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055-EB88-4C01-BECE-3080628D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BDF0-44A3-439E-8044-E13C9E2E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2360" y="1600200"/>
            <a:ext cx="11014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86C85-E38C-415E-B56D-A6BD63CA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5728-41FB-4C0C-BE16-93D1718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09C5-DEB5-43AD-BE00-0634D1E8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CDAF-D5B0-47DF-BFCD-D3005A1D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1EA-B020-4974-87BF-413313D5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12360" y="274320"/>
            <a:ext cx="11014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E9DF-3D8A-434F-B41A-94D1270A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A975-2908-4511-AE9C-619071B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5644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E23E-6F1B-4A08-8A62-91D7F47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1101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849B-A4B8-4249-9C61-9E494A3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2360" y="3964320"/>
            <a:ext cx="1101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0AA7-9BA5-4471-8650-DDA1E6DE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5644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DFD5-BF7B-4A32-9EE3-5BC7F568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36560" y="160020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60400" y="160020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2360" y="396432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36560" y="396432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60400" y="3964320"/>
            <a:ext cx="354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0092-37A5-4E0C-BA6B-CEECFEC2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84E-8BBF-4E31-B372-B75EE767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F20-BBB6-4BF2-9225-89ACC2EC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2360" y="274320"/>
            <a:ext cx="11014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ED1-EE4A-4F23-8252-D6C0457A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F26-7286-4C69-9BFE-197942CE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6440" y="396432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C56-5160-461A-BEAE-F382142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56440" y="1600200"/>
            <a:ext cx="537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2360" y="3964320"/>
            <a:ext cx="1101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630-9149-429C-9DCE-4B8DEE9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1223964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2360" y="1600200"/>
            <a:ext cx="1101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2360" y="6244920"/>
            <a:ext cx="285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81040" y="6244920"/>
            <a:ext cx="3876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72120" y="6244920"/>
            <a:ext cx="285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968C-187E-4781-9832-C3019BEE8BB9}" type="slidenum"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840" y="0"/>
            <a:ext cx="12207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7280" y="2130120"/>
            <a:ext cx="1040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5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181040" y="6244920"/>
            <a:ext cx="3876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772120" y="6244920"/>
            <a:ext cx="285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5C8-633B-4D78-A6FC-497EFC0A8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12000" y="1604520"/>
            <a:ext cx="11015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12360" y="1600200"/>
            <a:ext cx="1101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12360" y="6244920"/>
            <a:ext cx="285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181040" y="6244920"/>
            <a:ext cx="3876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772120" y="6244920"/>
            <a:ext cx="285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59EA-3B4E-4EF0-ADF9-727A205774D6}" type="slidenum">
              <a:rPr b="0" lang="en-US" sz="1400" spc="-1" strike="noStrike">
                <a:solidFill>
                  <a:srgbClr val="ff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280" y="2130120"/>
            <a:ext cx="1040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cc"/>
                </a:solidFill>
                <a:latin typeface="Arial Unicode MS"/>
              </a:rPr>
              <a:t>母亲节快乐！</a:t>
            </a:r>
            <a:endParaRPr b="1" lang="en-US" sz="72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834920" y="360000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Arial"/>
              </a:rPr>
              <a:t>Happy Mother's Day</a:t>
            </a:r>
            <a:r>
              <a:rPr b="0" lang="zh-CN" sz="2800" spc="-1" strike="noStrike">
                <a:solidFill>
                  <a:srgbClr val="808080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cc"/>
                </a:solidFill>
                <a:latin typeface="Arial"/>
              </a:rPr>
              <a:t>输入标题</a:t>
            </a:r>
            <a:endParaRPr b="1" lang="en-US" sz="40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1101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Arial"/>
              </a:rPr>
              <a:t>输入内容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122079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503640" y="1196640"/>
            <a:ext cx="1101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cc"/>
                </a:solidFill>
                <a:latin typeface="Arial"/>
                <a:ea typeface="华文琥珀"/>
              </a:rPr>
              <a:t>谢谢观看</a:t>
            </a:r>
            <a:endParaRPr b="0" lang="en-US" sz="5400" spc="-1" strike="noStrike">
              <a:solidFill>
                <a:srgbClr val="ff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1:29:40Z</dcterms:created>
  <dc:creator>Administrator</dc:creator>
  <dc:description/>
  <dc:language>en-US</dc:language>
  <cp:lastModifiedBy/>
  <dcterms:modified xsi:type="dcterms:W3CDTF">2015-08-28T06:55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