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AD80-75DD-48F0-9BD5-F8E3E9545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10C8-1775-473C-BDF3-8F6D858FD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5C95-9732-45D6-A919-6181A74B0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BFEF-4122-42A7-B308-4E35360EF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5470-046B-48A4-A1DE-347D65C25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BF1B6-DC4D-45D8-928A-3C08FC19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CB4CC-86F5-482F-9F53-4D9396F1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FB5F5-078A-4677-A07E-A86268DA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99164-76F2-480B-BCE4-70E8778C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39265-B128-49BD-B4EF-0EDCFF3C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DDF8-EEDE-42C3-9E6D-23D1A13716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CC467-84E9-4DCF-9FD6-3AF737ED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DDD61-6D9D-491C-B799-62FE00D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30846-AA61-456D-AEC4-DE7DA72C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728C0-7A25-45B7-AA86-E66B85B4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E7A24-2B75-4287-9AA8-2A1D361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E352D-BB3A-4EC6-8C49-68D34080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08F5C-E5E9-43E2-87D4-DC3BF2BE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C3EF-78F8-454B-9B3A-05795DDBB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A825-D2CC-4F43-8311-0D5936706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D9EF-3CBD-4979-BB5D-6AC7E8A56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6AB6-3C39-4424-AA01-8C51C3799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7C29-1E35-4A30-8E8A-EA72265CC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60D7-896C-4145-82AF-2D00F3CAA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bg钟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26028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A62DC72-B306-49E0-89FB-450B09306E2D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" descr="bg钟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186920" y="11736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773-2ADF-4E60-AE67-1DC1828B4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71640" y="4173120"/>
            <a:ext cx="5399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871640" y="5266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FE48CB8-FE7C-4618-94C8-30F29E94B528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73080"/>
            <a:ext cx="67676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观赏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-101160" y="5302080"/>
            <a:ext cx="36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ilovePPT.ORG</cp:lastModifiedBy>
  <dcterms:modified xsi:type="dcterms:W3CDTF">2015-07-14T02:17:16Z</dcterms:modified>
  <cp:revision>2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