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59F-53B9-424C-91F7-58D59C7C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818-D5B8-4304-AA31-1DE1A3DF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8AF-48C9-4262-892B-3D7B793A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1EA-2149-4C53-B8E9-11C6EF2A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EEFC-A8EB-4132-9FAB-2EE26F29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274F-D586-400A-9174-37810863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1655-C89E-4D9D-A551-75E31677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085B-FE51-46DB-89F5-AED0694D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EA4A-CB2C-457D-991B-E71E8296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1876-935E-40AB-A297-28D4639E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1DB2-1743-4DAD-9F49-AC08F93C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841-6AAF-45C4-A67B-3BE1FDBA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455B-2BCC-4C3A-BA4C-B574CD52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5EA2-8C8B-4117-95F5-D8426E7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02BD-69DF-4FFD-9987-768F45A8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7C12-0B64-4C0A-AC1B-503CB09F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08E7-03E1-4A1C-804E-B0F66E92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4DD0-3629-4E44-BF09-FD829DD5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9502-BA95-48D2-801C-BB18C8C1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72D1-C722-456D-94D4-4A705C69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DFAE-545D-4803-934B-95857BD8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51A5A-7C17-4308-8C9E-89BBCBD5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AA2-427C-4903-AE04-9607477B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A1E31-304D-4B55-84C9-A2A777C0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FD09-3C70-47BA-9FEC-DDD1D59C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7533-E9AB-46EB-82EB-37FF9807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3144-85CA-4F6B-8725-4D80EC5E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B1D8-1E33-49DA-87B0-E1D1CACB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AFCE-7710-40F0-A654-8567617D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1666C-4337-47C0-A97B-631956D1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ADFA-121F-4D44-8F6C-40A47FFF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F9CD2-1F62-4403-A47F-12638FED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FBE0-80D5-47BD-9D8C-F0C50601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6C2-F2EA-4354-A9EB-713EB89E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EFB1-4842-4186-BD25-F82654BB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953B-E204-4DA1-8D29-9A9BAD06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E0741-ACB3-4BAA-A5A9-57B996C2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AF04-CDBB-44B8-803E-3B4D0D1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F9E0-8F20-41E3-81B3-78693F2E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18F0E-44F7-4974-8E25-29528A55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FCB77-4DBC-4CD2-A782-8E280D9C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D87FC-A799-45DF-9E30-63341272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74F2D-4A1E-443D-AFFE-786AD72B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3A60E-3E24-4101-9AED-52FED690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48E-618B-47E2-A616-FC60E646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E7CC6-59BA-4378-AF8F-2B321C1C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674A2-B759-4DCB-88EF-C266283F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5B74-F8CE-4B7C-AF2E-3C87D978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D37D3-4661-4BB7-93A5-27496338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561FA-DF4D-4934-B5ED-7AAC3C5F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2C282-D853-4BFE-80ED-CA46F66A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27AE1-A86C-4AC1-BDB9-9825358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D2D7F-D960-46FD-AEC3-92C1F77A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6CB1C-58D2-4C1E-A9AD-284D9D0E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BE82-A17D-4CE7-8053-F0B847A8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3A8-CE74-4418-B369-B2251C02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BFD1A-D89B-4F52-A176-BB29808A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A0B5B-59B1-4CC7-BEF4-69E5A8EB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5AC92-CF35-4590-9B38-BFE80DAB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6216D-C06B-4A4F-B8FC-8C78D9D4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97C56-A564-4573-B528-97E8288F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D7DC5-DD99-4EE4-88B7-D82BF223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99EAA-E8FE-40F6-8C56-52B4E566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17756-C778-4414-8909-6B56DFCC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6A59F-93A8-4CFD-B839-8E15510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F4CA-86F2-4FB7-A210-4572E73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F82-5A34-4F4A-92FD-ED4DAF7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04116-DFEC-439F-9C76-8043D98F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8A757-D144-4D03-BDFF-7133CF53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3D388-F405-468B-9594-61310940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9E4BC-05E7-43EB-A185-F6C19E51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02222-E9C3-4B8A-9E8D-582DE82C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55478-6113-499E-AB17-886A0836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76425-78DD-4322-A111-2A7E0A14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C6F9E-C718-42B1-A695-118A9598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98FEE-1C34-4631-9306-F67C558E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F452A-F32E-449F-8E4D-3D51848C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E8D-F141-4907-AE12-37122B65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844D8-13C8-4392-B4FC-B876901F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7A4BB-A93D-40D1-AE79-8DF04E2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19502-4CFD-4B11-A0F0-A5FFEB16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426C2-6CFB-489C-9315-C7086E44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46003-54FF-49E6-9A18-9A07FC50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563EC-1FB5-4F1A-A715-A43A200B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70923-068A-45E7-9CCF-3925BE8C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E6B0D-5BD9-4ADE-8DA0-4801770C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75EB1-4731-4789-B894-E95E86F2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583B3-8D5C-4030-A332-F1AAE017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11F-B8B5-43B7-AAD8-25228F79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15045-3805-4F0F-972A-D6E18681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E6CB8-B6F0-4468-BB33-7DB10E73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C8D18-6DFA-471B-BB38-8DC59223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377A6-6F8B-471B-80CA-2F15F60D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C0993-193F-4886-94A4-8E0A1BA5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F27E2-CA64-4F40-8BDE-8E78432B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1655A-2B15-4201-91BE-CAE51223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FECE-97BA-4221-9036-86867B0D9A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rcRect l="0" t="9595" r="11567" b="8140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FB6E-4653-440B-BDCF-6EED9E866A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"/>
          <p:cNvPicPr/>
          <p:nvPr/>
        </p:nvPicPr>
        <p:blipFill>
          <a:blip r:embed="rId3"/>
          <a:srcRect l="11565" t="8139" r="0" b="4082"/>
          <a:stretch/>
        </p:blipFill>
        <p:spPr>
          <a:xfrm>
            <a:off x="0" y="0"/>
            <a:ext cx="9169560" cy="6885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66B4-A76B-43EC-9BA5-D15EB6B73A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7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9AAE-5D49-478D-BFD8-EB18AEBAF7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6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" descr=""/>
          <p:cNvPicPr/>
          <p:nvPr/>
        </p:nvPicPr>
        <p:blipFill>
          <a:blip r:embed="rId3"/>
          <a:srcRect l="0" t="9595" r="11567" b="8140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D25D-4F82-432F-B048-7DF5D01FF7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6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7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0B45-A264-44A6-AF0C-A52AC82924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7" descr=""/>
          <p:cNvPicPr/>
          <p:nvPr/>
        </p:nvPicPr>
        <p:blipFill>
          <a:blip r:embed="rId3"/>
          <a:stretch/>
        </p:blipFill>
        <p:spPr>
          <a:xfrm>
            <a:off x="-36360" y="17640"/>
            <a:ext cx="9180360" cy="6840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151-1BF9-4A10-8FFA-E3A47C410D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6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7534-B149-4E79-A590-663F274257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1" descr=""/>
          <p:cNvPicPr/>
          <p:nvPr/>
        </p:nvPicPr>
        <p:blipFill>
          <a:blip r:embed="rId1"/>
          <a:srcRect l="11565" t="8139" r="0" b="4082"/>
          <a:stretch/>
        </p:blipFill>
        <p:spPr>
          <a:xfrm>
            <a:off x="0" y="0"/>
            <a:ext cx="9169560" cy="6885000"/>
          </a:xfrm>
          <a:prstGeom prst="rect">
            <a:avLst/>
          </a:prstGeom>
          <a:ln w="0">
            <a:noFill/>
          </a:ln>
        </p:spPr>
      </p:pic>
      <p:sp>
        <p:nvSpPr>
          <p:cNvPr id="344" name="TextBox 2"/>
          <p:cNvSpPr/>
          <p:nvPr/>
        </p:nvSpPr>
        <p:spPr>
          <a:xfrm>
            <a:off x="3278160" y="22525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主标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2916360" y="34304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3"/>
          <p:cNvSpPr/>
          <p:nvPr/>
        </p:nvSpPr>
        <p:spPr>
          <a:xfrm>
            <a:off x="344520" y="3952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 表 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组合 2"/>
          <p:cNvGrpSpPr/>
          <p:nvPr/>
        </p:nvGrpSpPr>
        <p:grpSpPr>
          <a:xfrm>
            <a:off x="900000" y="1628280"/>
            <a:ext cx="3330720" cy="3313440"/>
            <a:chOff x="900000" y="1628280"/>
            <a:chExt cx="3330720" cy="3313440"/>
          </a:xfrm>
        </p:grpSpPr>
        <p:sp>
          <p:nvSpPr>
            <p:cNvPr id="421" name="饼形 1"/>
            <p:cNvSpPr/>
            <p:nvPr/>
          </p:nvSpPr>
          <p:spPr>
            <a:xfrm>
              <a:off x="900000" y="1628640"/>
              <a:ext cx="3312720" cy="3313080"/>
            </a:xfrm>
            <a:custGeom>
              <a:avLst/>
              <a:gdLst/>
              <a:ahLst/>
              <a:rect l="l" t="t" r="r" b="b"/>
              <a:pathLst>
                <a:path w="3312368" h="3312368">
                  <a:moveTo>
                    <a:pt x="3312368" y="1656184"/>
                  </a:moveTo>
                  <a:cubicBezTo>
                    <a:pt x="3312368" y="2570869"/>
                    <a:pt x="2570869" y="3312368"/>
                    <a:pt x="1656184" y="3312368"/>
                  </a:cubicBezTo>
                  <a:cubicBezTo>
                    <a:pt x="741499" y="3312368"/>
                    <a:pt x="0" y="2570869"/>
                    <a:pt x="0" y="1656184"/>
                  </a:cubicBezTo>
                  <a:cubicBezTo>
                    <a:pt x="0" y="741499"/>
                    <a:pt x="741499" y="0"/>
                    <a:pt x="1656184" y="0"/>
                  </a:cubicBezTo>
                  <a:lnTo>
                    <a:pt x="1656184" y="1656184"/>
                  </a:lnTo>
                  <a:lnTo>
                    <a:pt x="3312368" y="1656184"/>
                  </a:lnTo>
                  <a:close/>
                </a:path>
              </a:pathLst>
            </a:cu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饼形 11"/>
            <p:cNvSpPr/>
            <p:nvPr/>
          </p:nvSpPr>
          <p:spPr>
            <a:xfrm rot="16200000">
              <a:off x="917640" y="1628280"/>
              <a:ext cx="3313080" cy="3312720"/>
            </a:xfrm>
            <a:custGeom>
              <a:avLst/>
              <a:gdLst/>
              <a:ahLst/>
              <a:rect l="l" t="t" r="r" b="b"/>
              <a:pathLst>
                <a:path w="3312368" h="3312368">
                  <a:moveTo>
                    <a:pt x="3312368" y="1656184"/>
                  </a:moveTo>
                  <a:cubicBezTo>
                    <a:pt x="3312368" y="2570869"/>
                    <a:pt x="2570869" y="3312368"/>
                    <a:pt x="1656184" y="3312368"/>
                  </a:cubicBezTo>
                  <a:lnTo>
                    <a:pt x="1656184" y="1656184"/>
                  </a:lnTo>
                  <a:lnTo>
                    <a:pt x="3312368" y="1656184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" name="TextBox 12"/>
          <p:cNvSpPr/>
          <p:nvPr/>
        </p:nvSpPr>
        <p:spPr>
          <a:xfrm>
            <a:off x="1341360" y="51577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饼状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4" name="组合 13"/>
          <p:cNvGrpSpPr/>
          <p:nvPr/>
        </p:nvGrpSpPr>
        <p:grpSpPr>
          <a:xfrm>
            <a:off x="5219640" y="1414440"/>
            <a:ext cx="2428920" cy="3438000"/>
            <a:chOff x="5219640" y="1414440"/>
            <a:chExt cx="2428920" cy="3438000"/>
          </a:xfrm>
        </p:grpSpPr>
        <p:sp>
          <p:nvSpPr>
            <p:cNvPr id="425" name="TextBox 14"/>
            <p:cNvSpPr/>
            <p:nvPr/>
          </p:nvSpPr>
          <p:spPr>
            <a:xfrm>
              <a:off x="5219640" y="1414440"/>
              <a:ext cx="242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TextBox 15"/>
            <p:cNvSpPr/>
            <p:nvPr/>
          </p:nvSpPr>
          <p:spPr>
            <a:xfrm>
              <a:off x="5219640" y="3112560"/>
              <a:ext cx="242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3000">
    <p:push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组合 17" descr=""/>
          <p:cNvPicPr/>
          <p:nvPr/>
        </p:nvPicPr>
        <p:blipFill>
          <a:blip r:embed="rId1"/>
          <a:stretch/>
        </p:blipFill>
        <p:spPr>
          <a:xfrm>
            <a:off x="444600" y="1011240"/>
            <a:ext cx="5187960" cy="414648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4"/>
          <p:cNvSpPr/>
          <p:nvPr/>
        </p:nvSpPr>
        <p:spPr>
          <a:xfrm>
            <a:off x="324000" y="17928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 表 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5"/>
          <p:cNvSpPr/>
          <p:nvPr/>
        </p:nvSpPr>
        <p:spPr>
          <a:xfrm>
            <a:off x="1711440" y="53434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组合 26"/>
          <p:cNvGrpSpPr/>
          <p:nvPr/>
        </p:nvGrpSpPr>
        <p:grpSpPr>
          <a:xfrm>
            <a:off x="6084720" y="1417680"/>
            <a:ext cx="2428920" cy="3437280"/>
            <a:chOff x="6084720" y="1417680"/>
            <a:chExt cx="2428920" cy="3437280"/>
          </a:xfrm>
        </p:grpSpPr>
        <p:sp>
          <p:nvSpPr>
            <p:cNvPr id="431" name="TextBox 27"/>
            <p:cNvSpPr/>
            <p:nvPr/>
          </p:nvSpPr>
          <p:spPr>
            <a:xfrm>
              <a:off x="6084720" y="1417680"/>
              <a:ext cx="242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TextBox 28"/>
            <p:cNvSpPr/>
            <p:nvPr/>
          </p:nvSpPr>
          <p:spPr>
            <a:xfrm>
              <a:off x="6084720" y="3115080"/>
              <a:ext cx="242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4000"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44520" y="3952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 表 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组合 4"/>
          <p:cNvGrpSpPr/>
          <p:nvPr/>
        </p:nvGrpSpPr>
        <p:grpSpPr>
          <a:xfrm>
            <a:off x="326880" y="4365720"/>
            <a:ext cx="7413840" cy="1191240"/>
            <a:chOff x="326880" y="4365720"/>
            <a:chExt cx="7413840" cy="1191240"/>
          </a:xfrm>
        </p:grpSpPr>
        <p:sp>
          <p:nvSpPr>
            <p:cNvPr id="435" name="TextBox 12"/>
            <p:cNvSpPr/>
            <p:nvPr/>
          </p:nvSpPr>
          <p:spPr>
            <a:xfrm>
              <a:off x="326880" y="4797720"/>
              <a:ext cx="242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构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6" name="组合 13"/>
            <p:cNvGrpSpPr/>
            <p:nvPr/>
          </p:nvGrpSpPr>
          <p:grpSpPr>
            <a:xfrm>
              <a:off x="2833560" y="4365720"/>
              <a:ext cx="4907160" cy="1191240"/>
              <a:chOff x="2833560" y="4365720"/>
              <a:chExt cx="4907160" cy="1191240"/>
            </a:xfrm>
          </p:grpSpPr>
          <p:sp>
            <p:nvSpPr>
              <p:cNvPr id="437" name="TextBox 14"/>
              <p:cNvSpPr/>
              <p:nvPr/>
            </p:nvSpPr>
            <p:spPr>
              <a:xfrm>
                <a:off x="2833560" y="4365720"/>
                <a:ext cx="2429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说明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说明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TextBox 15"/>
              <p:cNvSpPr/>
              <p:nvPr/>
            </p:nvSpPr>
            <p:spPr>
              <a:xfrm>
                <a:off x="5311440" y="4365720"/>
                <a:ext cx="2429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说明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说明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39" name="组合 9" descr=""/>
          <p:cNvPicPr/>
          <p:nvPr/>
        </p:nvPicPr>
        <p:blipFill>
          <a:blip r:embed="rId1"/>
          <a:stretch/>
        </p:blipFill>
        <p:spPr>
          <a:xfrm>
            <a:off x="1530360" y="987480"/>
            <a:ext cx="6113520" cy="3071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1" descr=""/>
          <p:cNvPicPr/>
          <p:nvPr/>
        </p:nvPicPr>
        <p:blipFill>
          <a:blip r:embed="rId1"/>
          <a:srcRect l="11565" t="8139" r="0" b="4082"/>
          <a:stretch/>
        </p:blipFill>
        <p:spPr>
          <a:xfrm>
            <a:off x="0" y="0"/>
            <a:ext cx="9169560" cy="68850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2"/>
          <p:cNvSpPr/>
          <p:nvPr/>
        </p:nvSpPr>
        <p:spPr>
          <a:xfrm>
            <a:off x="3278160" y="22525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3"/>
          <p:cNvSpPr/>
          <p:nvPr/>
        </p:nvSpPr>
        <p:spPr>
          <a:xfrm>
            <a:off x="2916360" y="34304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1" descr=""/>
          <p:cNvPicPr/>
          <p:nvPr/>
        </p:nvPicPr>
        <p:blipFill>
          <a:blip r:embed="rId1"/>
          <a:srcRect l="0" t="9595" r="11567" b="8140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2"/>
          <p:cNvSpPr/>
          <p:nvPr/>
        </p:nvSpPr>
        <p:spPr>
          <a:xfrm>
            <a:off x="3924360" y="18446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3924360" y="26971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3924360" y="35020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3924360" y="43657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8"/>
          <p:cNvSpPr/>
          <p:nvPr/>
        </p:nvSpPr>
        <p:spPr>
          <a:xfrm>
            <a:off x="3132000" y="1844640"/>
            <a:ext cx="0" cy="29829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1"/>
          <p:cNvGrpSpPr/>
          <p:nvPr/>
        </p:nvGrpSpPr>
        <p:grpSpPr>
          <a:xfrm>
            <a:off x="344520" y="2081160"/>
            <a:ext cx="2428920" cy="2463840"/>
            <a:chOff x="344520" y="2081160"/>
            <a:chExt cx="2428920" cy="2463840"/>
          </a:xfrm>
        </p:grpSpPr>
        <p:sp>
          <p:nvSpPr>
            <p:cNvPr id="353" name="TextBox 9"/>
            <p:cNvSpPr/>
            <p:nvPr/>
          </p:nvSpPr>
          <p:spPr>
            <a:xfrm>
              <a:off x="344520" y="3963600"/>
              <a:ext cx="242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图片 10" descr=""/>
            <p:cNvPicPr/>
            <p:nvPr/>
          </p:nvPicPr>
          <p:blipFill>
            <a:blip r:embed="rId2"/>
            <a:srcRect l="0" t="56462" r="80585" b="31128"/>
            <a:stretch/>
          </p:blipFill>
          <p:spPr>
            <a:xfrm>
              <a:off x="552960" y="2081160"/>
              <a:ext cx="2012040" cy="1612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2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13"/>
          <p:cNvGrpSpPr/>
          <p:nvPr/>
        </p:nvGrpSpPr>
        <p:grpSpPr>
          <a:xfrm>
            <a:off x="755640" y="1628640"/>
            <a:ext cx="4103640" cy="935280"/>
            <a:chOff x="755640" y="1628640"/>
            <a:chExt cx="4103640" cy="935280"/>
          </a:xfrm>
        </p:grpSpPr>
        <p:sp>
          <p:nvSpPr>
            <p:cNvPr id="356" name="TextBox 3"/>
            <p:cNvSpPr/>
            <p:nvPr/>
          </p:nvSpPr>
          <p:spPr>
            <a:xfrm>
              <a:off x="755640" y="1628640"/>
              <a:ext cx="27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TextBox 7"/>
            <p:cNvSpPr/>
            <p:nvPr/>
          </p:nvSpPr>
          <p:spPr>
            <a:xfrm>
              <a:off x="1115640" y="2165040"/>
              <a:ext cx="374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14"/>
          <p:cNvGrpSpPr/>
          <p:nvPr/>
        </p:nvGrpSpPr>
        <p:grpSpPr>
          <a:xfrm>
            <a:off x="755640" y="3903840"/>
            <a:ext cx="4103640" cy="932040"/>
            <a:chOff x="755640" y="3903840"/>
            <a:chExt cx="4103640" cy="932040"/>
          </a:xfrm>
        </p:grpSpPr>
        <p:sp>
          <p:nvSpPr>
            <p:cNvPr id="359" name="TextBox 5"/>
            <p:cNvSpPr/>
            <p:nvPr/>
          </p:nvSpPr>
          <p:spPr>
            <a:xfrm>
              <a:off x="755640" y="3903840"/>
              <a:ext cx="27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8"/>
            <p:cNvSpPr/>
            <p:nvPr/>
          </p:nvSpPr>
          <p:spPr>
            <a:xfrm>
              <a:off x="1115640" y="4437000"/>
              <a:ext cx="374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12"/>
          <p:cNvGrpSpPr/>
          <p:nvPr/>
        </p:nvGrpSpPr>
        <p:grpSpPr>
          <a:xfrm>
            <a:off x="4572000" y="2637000"/>
            <a:ext cx="3745080" cy="922320"/>
            <a:chOff x="4572000" y="2637000"/>
            <a:chExt cx="3745080" cy="922320"/>
          </a:xfrm>
        </p:grpSpPr>
        <p:sp>
          <p:nvSpPr>
            <p:cNvPr id="362" name="TextBox 4"/>
            <p:cNvSpPr/>
            <p:nvPr/>
          </p:nvSpPr>
          <p:spPr>
            <a:xfrm>
              <a:off x="5508360" y="2637000"/>
              <a:ext cx="264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TextBox 9"/>
            <p:cNvSpPr/>
            <p:nvPr/>
          </p:nvSpPr>
          <p:spPr>
            <a:xfrm>
              <a:off x="4572000" y="3160440"/>
              <a:ext cx="374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单击添加标题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15"/>
          <p:cNvGrpSpPr/>
          <p:nvPr/>
        </p:nvGrpSpPr>
        <p:grpSpPr>
          <a:xfrm>
            <a:off x="4716360" y="4622760"/>
            <a:ext cx="3743280" cy="922680"/>
            <a:chOff x="4716360" y="4622760"/>
            <a:chExt cx="3743280" cy="922680"/>
          </a:xfrm>
        </p:grpSpPr>
        <p:sp>
          <p:nvSpPr>
            <p:cNvPr id="365" name="TextBox 6"/>
            <p:cNvSpPr/>
            <p:nvPr/>
          </p:nvSpPr>
          <p:spPr>
            <a:xfrm>
              <a:off x="5652000" y="4622760"/>
              <a:ext cx="264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10"/>
            <p:cNvSpPr/>
            <p:nvPr/>
          </p:nvSpPr>
          <p:spPr>
            <a:xfrm>
              <a:off x="4716360" y="5146560"/>
              <a:ext cx="37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TextBox 11"/>
          <p:cNvSpPr/>
          <p:nvPr/>
        </p:nvSpPr>
        <p:spPr>
          <a:xfrm>
            <a:off x="6156360" y="98100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 渡 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push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5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1"/>
          <p:cNvSpPr/>
          <p:nvPr/>
        </p:nvSpPr>
        <p:spPr>
          <a:xfrm>
            <a:off x="127080" y="609300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页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12"/>
          <p:cNvGrpSpPr/>
          <p:nvPr/>
        </p:nvGrpSpPr>
        <p:grpSpPr>
          <a:xfrm>
            <a:off x="684360" y="1844640"/>
            <a:ext cx="3958920" cy="3360240"/>
            <a:chOff x="684360" y="1844640"/>
            <a:chExt cx="3958920" cy="3360240"/>
          </a:xfrm>
        </p:grpSpPr>
        <p:sp>
          <p:nvSpPr>
            <p:cNvPr id="370" name="TextBox 13"/>
            <p:cNvSpPr/>
            <p:nvPr/>
          </p:nvSpPr>
          <p:spPr>
            <a:xfrm>
              <a:off x="1116000" y="1844640"/>
              <a:ext cx="35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1.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单击添加内容要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TextBox 14"/>
            <p:cNvSpPr/>
            <p:nvPr/>
          </p:nvSpPr>
          <p:spPr>
            <a:xfrm>
              <a:off x="684360" y="2367720"/>
              <a:ext cx="3743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2" name="组合 15"/>
          <p:cNvGrpSpPr/>
          <p:nvPr/>
        </p:nvGrpSpPr>
        <p:grpSpPr>
          <a:xfrm>
            <a:off x="4643280" y="1916280"/>
            <a:ext cx="3961080" cy="3354840"/>
            <a:chOff x="4643280" y="1916280"/>
            <a:chExt cx="3961080" cy="3354840"/>
          </a:xfrm>
        </p:grpSpPr>
        <p:sp>
          <p:nvSpPr>
            <p:cNvPr id="373" name="TextBox 16"/>
            <p:cNvSpPr/>
            <p:nvPr/>
          </p:nvSpPr>
          <p:spPr>
            <a:xfrm>
              <a:off x="5075280" y="475056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单击添加内容要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TextBox 17"/>
            <p:cNvSpPr/>
            <p:nvPr/>
          </p:nvSpPr>
          <p:spPr>
            <a:xfrm>
              <a:off x="4643280" y="1916280"/>
              <a:ext cx="374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1"/>
          <p:cNvSpPr/>
          <p:nvPr/>
        </p:nvSpPr>
        <p:spPr>
          <a:xfrm>
            <a:off x="127080" y="609300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页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12"/>
          <p:cNvGrpSpPr/>
          <p:nvPr/>
        </p:nvGrpSpPr>
        <p:grpSpPr>
          <a:xfrm>
            <a:off x="684360" y="1844640"/>
            <a:ext cx="3958920" cy="3360240"/>
            <a:chOff x="684360" y="1844640"/>
            <a:chExt cx="3958920" cy="3360240"/>
          </a:xfrm>
        </p:grpSpPr>
        <p:sp>
          <p:nvSpPr>
            <p:cNvPr id="377" name="TextBox 13"/>
            <p:cNvSpPr/>
            <p:nvPr/>
          </p:nvSpPr>
          <p:spPr>
            <a:xfrm>
              <a:off x="1116000" y="1844640"/>
              <a:ext cx="35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1.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单击添加内容要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4"/>
            <p:cNvSpPr/>
            <p:nvPr/>
          </p:nvSpPr>
          <p:spPr>
            <a:xfrm>
              <a:off x="684360" y="2367720"/>
              <a:ext cx="3743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组合 15"/>
          <p:cNvGrpSpPr/>
          <p:nvPr/>
        </p:nvGrpSpPr>
        <p:grpSpPr>
          <a:xfrm>
            <a:off x="4643280" y="1916280"/>
            <a:ext cx="3961080" cy="3354840"/>
            <a:chOff x="4643280" y="1916280"/>
            <a:chExt cx="3961080" cy="3354840"/>
          </a:xfrm>
        </p:grpSpPr>
        <p:sp>
          <p:nvSpPr>
            <p:cNvPr id="380" name="TextBox 16"/>
            <p:cNvSpPr/>
            <p:nvPr/>
          </p:nvSpPr>
          <p:spPr>
            <a:xfrm>
              <a:off x="5075280" y="475056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单击添加内容要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TextBox 17"/>
            <p:cNvSpPr/>
            <p:nvPr/>
          </p:nvSpPr>
          <p:spPr>
            <a:xfrm>
              <a:off x="4643280" y="1916280"/>
              <a:ext cx="374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11"/>
          <p:cNvSpPr/>
          <p:nvPr/>
        </p:nvSpPr>
        <p:spPr>
          <a:xfrm>
            <a:off x="127080" y="609300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页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组合 12"/>
          <p:cNvGrpSpPr/>
          <p:nvPr/>
        </p:nvGrpSpPr>
        <p:grpSpPr>
          <a:xfrm>
            <a:off x="684360" y="1844640"/>
            <a:ext cx="3958920" cy="3360240"/>
            <a:chOff x="684360" y="1844640"/>
            <a:chExt cx="3958920" cy="3360240"/>
          </a:xfrm>
        </p:grpSpPr>
        <p:sp>
          <p:nvSpPr>
            <p:cNvPr id="384" name="TextBox 13"/>
            <p:cNvSpPr/>
            <p:nvPr/>
          </p:nvSpPr>
          <p:spPr>
            <a:xfrm>
              <a:off x="1116000" y="1844640"/>
              <a:ext cx="35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1.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单击添加内容要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TextBox 14"/>
            <p:cNvSpPr/>
            <p:nvPr/>
          </p:nvSpPr>
          <p:spPr>
            <a:xfrm>
              <a:off x="684360" y="2367720"/>
              <a:ext cx="3743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15"/>
          <p:cNvGrpSpPr/>
          <p:nvPr/>
        </p:nvGrpSpPr>
        <p:grpSpPr>
          <a:xfrm>
            <a:off x="4643280" y="1916280"/>
            <a:ext cx="3961080" cy="3354840"/>
            <a:chOff x="4643280" y="1916280"/>
            <a:chExt cx="3961080" cy="3354840"/>
          </a:xfrm>
        </p:grpSpPr>
        <p:sp>
          <p:nvSpPr>
            <p:cNvPr id="387" name="TextBox 16"/>
            <p:cNvSpPr/>
            <p:nvPr/>
          </p:nvSpPr>
          <p:spPr>
            <a:xfrm>
              <a:off x="5075280" y="475056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单击添加内容要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TextBox 17"/>
            <p:cNvSpPr/>
            <p:nvPr/>
          </p:nvSpPr>
          <p:spPr>
            <a:xfrm>
              <a:off x="4643280" y="1916280"/>
              <a:ext cx="374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push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11"/>
          <p:cNvSpPr/>
          <p:nvPr/>
        </p:nvSpPr>
        <p:spPr>
          <a:xfrm>
            <a:off x="127080" y="609300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页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组合 12"/>
          <p:cNvGrpSpPr/>
          <p:nvPr/>
        </p:nvGrpSpPr>
        <p:grpSpPr>
          <a:xfrm>
            <a:off x="684360" y="1844640"/>
            <a:ext cx="3958920" cy="3360240"/>
            <a:chOff x="684360" y="1844640"/>
            <a:chExt cx="3958920" cy="3360240"/>
          </a:xfrm>
        </p:grpSpPr>
        <p:sp>
          <p:nvSpPr>
            <p:cNvPr id="391" name="TextBox 13"/>
            <p:cNvSpPr/>
            <p:nvPr/>
          </p:nvSpPr>
          <p:spPr>
            <a:xfrm>
              <a:off x="1116000" y="1844640"/>
              <a:ext cx="35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1.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单击添加内容要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>
              <a:off x="684360" y="2367720"/>
              <a:ext cx="3743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组合 15"/>
          <p:cNvGrpSpPr/>
          <p:nvPr/>
        </p:nvGrpSpPr>
        <p:grpSpPr>
          <a:xfrm>
            <a:off x="4643280" y="1916280"/>
            <a:ext cx="3961080" cy="3354840"/>
            <a:chOff x="4643280" y="1916280"/>
            <a:chExt cx="3961080" cy="3354840"/>
          </a:xfrm>
        </p:grpSpPr>
        <p:sp>
          <p:nvSpPr>
            <p:cNvPr id="394" name="TextBox 16"/>
            <p:cNvSpPr/>
            <p:nvPr/>
          </p:nvSpPr>
          <p:spPr>
            <a:xfrm>
              <a:off x="5075280" y="475056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单击添加内容要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TextBox 17"/>
            <p:cNvSpPr/>
            <p:nvPr/>
          </p:nvSpPr>
          <p:spPr>
            <a:xfrm>
              <a:off x="4643280" y="1916280"/>
              <a:ext cx="374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要点说明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push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3"/>
          <p:cNvSpPr/>
          <p:nvPr/>
        </p:nvSpPr>
        <p:spPr>
          <a:xfrm>
            <a:off x="344520" y="3952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 表 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组合 7"/>
          <p:cNvGrpSpPr/>
          <p:nvPr/>
        </p:nvGrpSpPr>
        <p:grpSpPr>
          <a:xfrm>
            <a:off x="1476360" y="2257560"/>
            <a:ext cx="6120000" cy="1081080"/>
            <a:chOff x="1476360" y="2257560"/>
            <a:chExt cx="6120000" cy="1081080"/>
          </a:xfrm>
        </p:grpSpPr>
        <p:sp>
          <p:nvSpPr>
            <p:cNvPr id="398" name="五边形 1"/>
            <p:cNvSpPr/>
            <p:nvPr/>
          </p:nvSpPr>
          <p:spPr>
            <a:xfrm>
              <a:off x="1476360" y="2257560"/>
              <a:ext cx="1542960" cy="108108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燕尾形 2"/>
            <p:cNvSpPr/>
            <p:nvPr/>
          </p:nvSpPr>
          <p:spPr>
            <a:xfrm>
              <a:off x="2556360" y="2257560"/>
              <a:ext cx="1584000" cy="108108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236" y="0"/>
                  </a:lnTo>
                  <a:lnTo>
                    <a:pt x="21600" y="10800"/>
                  </a:lnTo>
                  <a:lnTo>
                    <a:pt x="14236" y="21600"/>
                  </a:lnTo>
                  <a:lnTo>
                    <a:pt x="0" y="21600"/>
                  </a:lnTo>
                  <a:lnTo>
                    <a:pt x="736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燕尾形 4"/>
            <p:cNvSpPr/>
            <p:nvPr/>
          </p:nvSpPr>
          <p:spPr>
            <a:xfrm>
              <a:off x="3708360" y="2257560"/>
              <a:ext cx="1584000" cy="108108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236" y="0"/>
                  </a:lnTo>
                  <a:lnTo>
                    <a:pt x="21600" y="10800"/>
                  </a:lnTo>
                  <a:lnTo>
                    <a:pt x="14236" y="21600"/>
                  </a:lnTo>
                  <a:lnTo>
                    <a:pt x="0" y="21600"/>
                  </a:lnTo>
                  <a:lnTo>
                    <a:pt x="7364" y="1080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燕尾形 5"/>
            <p:cNvSpPr/>
            <p:nvPr/>
          </p:nvSpPr>
          <p:spPr>
            <a:xfrm>
              <a:off x="6012360" y="2257560"/>
              <a:ext cx="1584000" cy="108108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236" y="0"/>
                  </a:lnTo>
                  <a:lnTo>
                    <a:pt x="21600" y="10800"/>
                  </a:lnTo>
                  <a:lnTo>
                    <a:pt x="14236" y="21600"/>
                  </a:lnTo>
                  <a:lnTo>
                    <a:pt x="0" y="21600"/>
                  </a:lnTo>
                  <a:lnTo>
                    <a:pt x="736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燕尾形 6"/>
            <p:cNvSpPr/>
            <p:nvPr/>
          </p:nvSpPr>
          <p:spPr>
            <a:xfrm>
              <a:off x="4860360" y="2257560"/>
              <a:ext cx="1584000" cy="108108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236" y="0"/>
                  </a:lnTo>
                  <a:lnTo>
                    <a:pt x="21600" y="10800"/>
                  </a:lnTo>
                  <a:lnTo>
                    <a:pt x="14236" y="21600"/>
                  </a:lnTo>
                  <a:lnTo>
                    <a:pt x="0" y="21600"/>
                  </a:lnTo>
                  <a:lnTo>
                    <a:pt x="736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21"/>
          <p:cNvGrpSpPr/>
          <p:nvPr/>
        </p:nvGrpSpPr>
        <p:grpSpPr>
          <a:xfrm>
            <a:off x="4139640" y="1628640"/>
            <a:ext cx="2932560" cy="629280"/>
            <a:chOff x="4139640" y="1628640"/>
            <a:chExt cx="2932560" cy="629280"/>
          </a:xfrm>
        </p:grpSpPr>
        <p:cxnSp>
          <p:nvCxnSpPr>
            <p:cNvPr id="404" name="肘形连接符 9"/>
            <p:cNvCxnSpPr/>
            <p:nvPr/>
          </p:nvCxnSpPr>
          <p:spPr>
            <a:xfrm flipV="1" rot="10800000">
              <a:off x="4139640" y="1861200"/>
              <a:ext cx="504360" cy="396720"/>
            </a:xfrm>
            <a:prstGeom prst="bentConnector3">
              <a:avLst>
                <a:gd name="adj1" fmla="val 100000"/>
              </a:avLst>
            </a:prstGeom>
            <a:ln w="28440">
              <a:solidFill>
                <a:srgbClr val="ffc000"/>
              </a:solidFill>
              <a:miter/>
            </a:ln>
          </p:spPr>
        </p:cxnSp>
        <p:sp>
          <p:nvSpPr>
            <p:cNvPr id="405" name="TextBox 17"/>
            <p:cNvSpPr/>
            <p:nvPr/>
          </p:nvSpPr>
          <p:spPr>
            <a:xfrm>
              <a:off x="4644000" y="1628640"/>
              <a:ext cx="242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20"/>
          <p:cNvGrpSpPr/>
          <p:nvPr/>
        </p:nvGrpSpPr>
        <p:grpSpPr>
          <a:xfrm>
            <a:off x="1752480" y="3789360"/>
            <a:ext cx="4764240" cy="1739880"/>
            <a:chOff x="1752480" y="3789360"/>
            <a:chExt cx="4764240" cy="1739880"/>
          </a:xfrm>
        </p:grpSpPr>
        <p:sp>
          <p:nvSpPr>
            <p:cNvPr id="407" name="TextBox 16"/>
            <p:cNvSpPr/>
            <p:nvPr/>
          </p:nvSpPr>
          <p:spPr>
            <a:xfrm>
              <a:off x="1752480" y="3789360"/>
              <a:ext cx="242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TextBox 19"/>
            <p:cNvSpPr/>
            <p:nvPr/>
          </p:nvSpPr>
          <p:spPr>
            <a:xfrm>
              <a:off x="4087800" y="3789360"/>
              <a:ext cx="242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3000">
    <p:push dir="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3"/>
          <p:cNvSpPr/>
          <p:nvPr/>
        </p:nvSpPr>
        <p:spPr>
          <a:xfrm>
            <a:off x="344520" y="3952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 表 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5"/>
          <p:cNvSpPr/>
          <p:nvPr/>
        </p:nvSpPr>
        <p:spPr>
          <a:xfrm>
            <a:off x="1187280" y="4175280"/>
            <a:ext cx="505080" cy="504720"/>
          </a:xfrm>
          <a:prstGeom prst="rect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7"/>
          <p:cNvSpPr/>
          <p:nvPr/>
        </p:nvSpPr>
        <p:spPr>
          <a:xfrm>
            <a:off x="2700360" y="2637000"/>
            <a:ext cx="503280" cy="2043000"/>
          </a:xfrm>
          <a:prstGeom prst="rect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8"/>
          <p:cNvSpPr/>
          <p:nvPr/>
        </p:nvSpPr>
        <p:spPr>
          <a:xfrm>
            <a:off x="1692360" y="3645000"/>
            <a:ext cx="503280" cy="1035000"/>
          </a:xfrm>
          <a:prstGeom prst="rect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9"/>
          <p:cNvSpPr/>
          <p:nvPr/>
        </p:nvSpPr>
        <p:spPr>
          <a:xfrm>
            <a:off x="2195640" y="3141720"/>
            <a:ext cx="504720" cy="15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10"/>
          <p:cNvSpPr/>
          <p:nvPr/>
        </p:nvSpPr>
        <p:spPr>
          <a:xfrm>
            <a:off x="3203640" y="2133720"/>
            <a:ext cx="504720" cy="2546280"/>
          </a:xfrm>
          <a:prstGeom prst="rect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1279440" y="50133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柱状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组合 12"/>
          <p:cNvGrpSpPr/>
          <p:nvPr/>
        </p:nvGrpSpPr>
        <p:grpSpPr>
          <a:xfrm>
            <a:off x="5219640" y="1414440"/>
            <a:ext cx="2428920" cy="3438000"/>
            <a:chOff x="5219640" y="1414440"/>
            <a:chExt cx="2428920" cy="3438000"/>
          </a:xfrm>
        </p:grpSpPr>
        <p:sp>
          <p:nvSpPr>
            <p:cNvPr id="417" name="TextBox 13"/>
            <p:cNvSpPr/>
            <p:nvPr/>
          </p:nvSpPr>
          <p:spPr>
            <a:xfrm>
              <a:off x="5219640" y="1414440"/>
              <a:ext cx="242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TextBox 14"/>
            <p:cNvSpPr/>
            <p:nvPr/>
          </p:nvSpPr>
          <p:spPr>
            <a:xfrm>
              <a:off x="5219640" y="3112560"/>
              <a:ext cx="242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说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3000"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5:11:29Z</dcterms:created>
  <dc:creator>lenvov</dc:creator>
  <dc:description/>
  <dc:language>en-US</dc:language>
  <cp:lastModifiedBy>lenvov</cp:lastModifiedBy>
  <dcterms:modified xsi:type="dcterms:W3CDTF">2012-02-09T06:22:48Z</dcterms:modified>
  <cp:revision>14</cp:revision>
  <dc:subject/>
  <dc:title>PowerPoint 演示文稿</dc:title>
</cp:coreProperties>
</file>