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F91-9E7A-4A70-81C3-C3F94795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D30-5186-4C6C-80AB-EDD5A7E7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C1C-D8C1-405C-B39F-7B1FB252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FD8-0C31-4511-A07F-35AED653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8D8A-C501-435D-B30F-3A6D1D91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6D8E-8D7A-4248-927E-73ABE2ED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484E-A198-41A8-BC91-7E11E53E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F45E-EF2B-4A86-85C4-346906EB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08B6-6665-4E8D-A0B7-45FA8E51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DB74-FAE0-45AA-994C-E9F99F1F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DB0D-F43E-473D-A96A-93F61A5C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DCD-3AA2-44F8-8D3F-9F9A079C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B211-3A21-43C4-B823-11AD62E2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CC23-D9B3-4A1B-BDFF-A9A7DC18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72D2-7AC3-4607-8E27-9CBEE809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0A3E-A6EB-478A-9B2B-F6E4E149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6590-ADEE-45C3-8AED-B2017C4F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6C3-B3CB-4E62-94B5-CF18D90F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943-1D1C-4A03-BFDA-791889B3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9F97-F670-4713-8B04-E930B2FE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CB7-43E0-4B64-88A6-B219AA47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4C8-0F3B-4898-8AD0-E0E40F60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D52-E060-40BF-A7F4-14988B9F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360-CAC8-43C8-BAE0-513701F5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3D1B-EEED-44EE-96D1-592FC6936F07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8351-EDC4-4C4C-87B2-0958520B04F5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Impact"/>
                <a:ea typeface="宋体"/>
              </a:rPr>
              <a:t>BLACK COFFEE BREAK</a:t>
            </a:r>
            <a:endParaRPr b="0" lang="en-US" sz="6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7920" y="144792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657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宋体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Impact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7004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17024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370640" y="89856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77044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2:05:36Z</dcterms:created>
  <dc:creator/>
  <dc:description/>
  <cp:keywords/>
  <dc:language>en-US</dc:language>
  <cp:lastModifiedBy>GZB</cp:lastModifiedBy>
  <dcterms:modified xsi:type="dcterms:W3CDTF">2011-09-13T11:32:57Z</dcterms:modified>
  <cp:revision>10</cp:revision>
  <dc:subject/>
  <dc:title>www.glzy8.com提供海量PPT模板免费下载！</dc:title>
</cp:coreProperties>
</file>