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1836-38C6-4EE5-B291-5BE2F567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0256-3E2E-4068-929B-C57FCE98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429D-852A-4785-9BE4-1BF2EC20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0A8-A02A-418F-8BFC-AB47F8C7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0667-1CA6-4419-B6B0-A739B41A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72C3-0186-4CB6-8B6E-49ADB6C3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B188-A5B7-4781-AAE0-60C0C8C4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27FF-0692-4358-9907-B31BBCBD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69B3-5385-412A-9EAD-A397626B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8129-34A0-4B66-B971-BE37C2CB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F348-2BDF-4BFE-AE16-347CC3EA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C6A-6969-4CB1-A704-2D47C4F2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BFBE-C047-4D11-A13B-78405D54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10EF-C892-4ADD-A7BF-28A0CB1F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A18D-AC2E-4FDA-9B6A-F65425A3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1519-4DFF-4EE2-9829-8221914D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D7B7-F283-426B-A6C2-5E868B82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4435B-6C7A-4996-9203-BC996330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9637A-E626-4272-A15E-BD594499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02A61-B14B-49D4-AD2A-F5287BBD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5C15A-9541-4A32-86EE-AB90AA02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05791-53E7-45FF-AA9A-900059F6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634-04DD-47D9-A50C-8E43A18A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BF42E-91AE-4D43-A93B-F70D8239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D9508-2CCE-49D2-A47A-C6807BAB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9BC20-779C-41E4-BBEF-926D8E7D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5F024-F97E-4F93-91FA-6074B028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7C680-99E5-4644-8C25-711C2287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32F79-DD1C-488F-A955-7135DD05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98F13-C961-4CDF-934D-228B5AB4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AF7C-62E1-4214-8817-8867F4A6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BFD-9340-4F9B-8324-85944368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E762-A478-4B90-8C48-298FBD7C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ED06-FE59-4716-9E74-FBE6318E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54B-B03E-4149-8C66-671121D8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64C-9EAF-404E-8086-7019DB67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DF14-21F0-42DE-AE84-617C822BF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未标题-2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5DD7-50DD-4BD8-9146-746F42414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8BD1-7C33-4F02-AFBF-2716F12D0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1:04:12Z</dcterms:created>
  <dc:creator>Administrator</dc:creator>
  <dc:description/>
  <dc:language>en-US</dc:language>
  <cp:lastModifiedBy/>
  <dcterms:modified xsi:type="dcterms:W3CDTF">2015-10-16T07:12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