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539460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8207280" cy="44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539460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51814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539460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8207280" cy="44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539460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51814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539460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49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7316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1337A31-98AC-4003-BD55-9DE8A2E3696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8036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da5800">
                  <a:alpha val="85098"/>
                </a:srgbClr>
              </a:gs>
              <a:gs pos="100000">
                <a:srgbClr val="c02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49720"/>
            <a:ext cx="9182160" cy="9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82160" cy="82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ps.cn/addons/ThreadView/wdid-615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8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9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素材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表添加请使用</a:t>
            </a:r>
            <a:r>
              <a:rPr b="1" lang="zh-CN" sz="1400" spc="-1" strike="noStrike" u="sng">
                <a:solidFill>
                  <a:srgbClr val="463900"/>
                </a:solidFill>
                <a:uFillTx/>
                <a:latin typeface="Arial"/>
                <a:hlinkClick r:id="rId1"/>
              </a:rPr>
              <a:t>在线素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，在【插入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在线素材】，选择相应的类别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7-22T09:06:57Z</dcterms:modified>
  <cp:revision>3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