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55B-2ADA-4C7A-99C1-880939C3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16A-BFC4-4CF1-9E56-A6694EDC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5A6-256B-4513-8C27-7B98E05F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016-881E-4E3B-98F7-47766AA1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48E-E8BE-4750-813F-8BB7B464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A72-A89A-4AE2-811A-6FE00229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8CA-7FF3-4708-9277-E24DB2A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32B-43B6-480F-A0AC-B54B4B0F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4F9-1776-437A-B42C-6E2E878F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C01-EB4D-435C-9F2C-DB44EA9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CB1-AD1D-43AE-8339-D8D3806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12D-84BF-4778-8A74-088958CE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ADE4-379A-4C9F-853D-D0F514EBA4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928800" y="369576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00080" y="4195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流程图: 顺序访问存储器 14"/>
          <p:cNvSpPr/>
          <p:nvPr/>
        </p:nvSpPr>
        <p:spPr>
          <a:xfrm>
            <a:off x="1785960" y="2071800"/>
            <a:ext cx="1714320" cy="1714320"/>
          </a:xfrm>
          <a:prstGeom prst="flowChartMagneticTape">
            <a:avLst/>
          </a:pr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流程图: 顺序访问存储器 15"/>
          <p:cNvSpPr/>
          <p:nvPr/>
        </p:nvSpPr>
        <p:spPr>
          <a:xfrm>
            <a:off x="3857760" y="2071800"/>
            <a:ext cx="1714320" cy="1714320"/>
          </a:xfrm>
          <a:prstGeom prst="flowChartMagneticTape">
            <a:avLst/>
          </a:pr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流程图: 顺序访问存储器 16"/>
          <p:cNvSpPr/>
          <p:nvPr/>
        </p:nvSpPr>
        <p:spPr>
          <a:xfrm>
            <a:off x="6000840" y="2071800"/>
            <a:ext cx="1714320" cy="1714320"/>
          </a:xfrm>
          <a:prstGeom prst="flowChartMagneticTape">
            <a:avLst/>
          </a:pr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214056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355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燕尾形箭头 10"/>
          <p:cNvSpPr/>
          <p:nvPr/>
        </p:nvSpPr>
        <p:spPr>
          <a:xfrm>
            <a:off x="3584520" y="1071720"/>
            <a:ext cx="2571840" cy="1272960"/>
          </a:xfrm>
          <a:custGeom>
            <a:avLst/>
            <a:gdLst>
              <a:gd name="textAreaLeft" fmla="*/ 318240 w 2571840"/>
              <a:gd name="textAreaRight" fmla="*/ 2253600 w 2571840"/>
              <a:gd name="textAreaTop" fmla="*/ 318240 h 1272960"/>
              <a:gd name="textAreaBottom" fmla="*/ 954720 h 127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箭头 11"/>
          <p:cNvSpPr/>
          <p:nvPr/>
        </p:nvSpPr>
        <p:spPr>
          <a:xfrm rot="5400000">
            <a:off x="5078160" y="2720880"/>
            <a:ext cx="2571480" cy="1273320"/>
          </a:xfrm>
          <a:custGeom>
            <a:avLst/>
            <a:gdLst>
              <a:gd name="textAreaLeft" fmla="*/ 318240 w 2571480"/>
              <a:gd name="textAreaRight" fmla="*/ 2253240 w 2571480"/>
              <a:gd name="textAreaTop" fmla="*/ 318240 h 1273320"/>
              <a:gd name="textAreaBottom" fmla="*/ 95508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燕尾形箭头 12"/>
          <p:cNvSpPr/>
          <p:nvPr/>
        </p:nvSpPr>
        <p:spPr>
          <a:xfrm flipH="1">
            <a:off x="3370320" y="4084560"/>
            <a:ext cx="2571840" cy="1273320"/>
          </a:xfrm>
          <a:custGeom>
            <a:avLst/>
            <a:gdLst>
              <a:gd name="textAreaLeft" fmla="*/ 318240 w 2571840"/>
              <a:gd name="textAreaRight" fmla="*/ 2253600 w 2571840"/>
              <a:gd name="textAreaTop" fmla="*/ 318240 h 1273320"/>
              <a:gd name="textAreaBottom" fmla="*/ 95508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燕尾形箭头 13"/>
          <p:cNvSpPr/>
          <p:nvPr/>
        </p:nvSpPr>
        <p:spPr>
          <a:xfrm flipV="1" rot="16200000">
            <a:off x="1791720" y="2435040"/>
            <a:ext cx="2571840" cy="1273320"/>
          </a:xfrm>
          <a:custGeom>
            <a:avLst/>
            <a:gdLst>
              <a:gd name="textAreaLeft" fmla="*/ 318240 w 2571840"/>
              <a:gd name="textAreaRight" fmla="*/ 2253600 w 2571840"/>
              <a:gd name="textAreaTop" fmla="*/ 318240 h 1273320"/>
              <a:gd name="textAreaBottom" fmla="*/ 95508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42836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855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斜纹 10"/>
          <p:cNvSpPr/>
          <p:nvPr/>
        </p:nvSpPr>
        <p:spPr>
          <a:xfrm flipV="1" rot="18918000">
            <a:off x="965160" y="2272680"/>
            <a:ext cx="1905120" cy="1904760"/>
          </a:xfrm>
          <a:custGeom>
            <a:avLst/>
            <a:gdLst>
              <a:gd name="textAreaLeft" fmla="*/ 0 w 1905120"/>
              <a:gd name="textAreaRight" fmla="*/ 1428840 w 1905120"/>
              <a:gd name="textAreaTop" fmla="*/ -360 h 1904760"/>
              <a:gd name="textAreaBottom" fmla="*/ 1428120 h 1904760"/>
            </a:gdLst>
            <a:ahLst/>
            <a:rect l="textAreaLeft" t="textAreaTop" r="textAreaRight" b="textAreaBottom"/>
            <a:pathLst>
              <a:path w="1905000" h="1905000">
                <a:moveTo>
                  <a:pt x="0" y="952500"/>
                </a:moveTo>
                <a:lnTo>
                  <a:pt x="952500" y="0"/>
                </a:lnTo>
                <a:lnTo>
                  <a:pt x="1905000" y="0"/>
                </a:lnTo>
                <a:lnTo>
                  <a:pt x="0" y="1905000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斜纹 11"/>
          <p:cNvSpPr/>
          <p:nvPr/>
        </p:nvSpPr>
        <p:spPr>
          <a:xfrm rot="2682000">
            <a:off x="3684600" y="2251080"/>
            <a:ext cx="1903320" cy="1905120"/>
          </a:xfrm>
          <a:custGeom>
            <a:avLst/>
            <a:gdLst>
              <a:gd name="textAreaLeft" fmla="*/ 0 w 1903320"/>
              <a:gd name="textAreaRight" fmla="*/ 1427400 w 1903320"/>
              <a:gd name="textAreaTop" fmla="*/ 0 h 1905120"/>
              <a:gd name="textAreaBottom" fmla="*/ 1428840 h 1905120"/>
            </a:gdLst>
            <a:ahLst/>
            <a:rect l="textAreaLeft" t="textAreaTop" r="textAreaRight" b="textAreaBottom"/>
            <a:pathLst>
              <a:path w="1903412" h="1905000">
                <a:moveTo>
                  <a:pt x="0" y="952500"/>
                </a:moveTo>
                <a:lnTo>
                  <a:pt x="951706" y="0"/>
                </a:lnTo>
                <a:lnTo>
                  <a:pt x="1903412" y="0"/>
                </a:lnTo>
                <a:lnTo>
                  <a:pt x="0" y="1905000"/>
                </a:lnTo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2"/>
          <p:cNvSpPr/>
          <p:nvPr/>
        </p:nvSpPr>
        <p:spPr>
          <a:xfrm rot="2682000">
            <a:off x="969840" y="2250720"/>
            <a:ext cx="1903680" cy="1905120"/>
          </a:xfrm>
          <a:custGeom>
            <a:avLst/>
            <a:gdLst>
              <a:gd name="textAreaLeft" fmla="*/ 0 w 1903680"/>
              <a:gd name="textAreaRight" fmla="*/ 1427760 w 1903680"/>
              <a:gd name="textAreaTop" fmla="*/ 0 h 1905120"/>
              <a:gd name="textAreaBottom" fmla="*/ 1428840 h 1905120"/>
            </a:gdLst>
            <a:ahLst/>
            <a:rect l="textAreaLeft" t="textAreaTop" r="textAreaRight" b="textAreaBottom"/>
            <a:pathLst>
              <a:path w="1903412" h="1905000">
                <a:moveTo>
                  <a:pt x="0" y="952500"/>
                </a:moveTo>
                <a:lnTo>
                  <a:pt x="951706" y="0"/>
                </a:lnTo>
                <a:lnTo>
                  <a:pt x="1903412" y="0"/>
                </a:lnTo>
                <a:lnTo>
                  <a:pt x="0" y="1905000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3"/>
          <p:cNvSpPr/>
          <p:nvPr/>
        </p:nvSpPr>
        <p:spPr>
          <a:xfrm flipV="1" rot="18918000">
            <a:off x="3679560" y="2272320"/>
            <a:ext cx="1904760" cy="1904760"/>
          </a:xfrm>
          <a:custGeom>
            <a:avLst/>
            <a:gdLst>
              <a:gd name="textAreaLeft" fmla="*/ 0 w 1904760"/>
              <a:gd name="textAreaRight" fmla="*/ 1428480 w 1904760"/>
              <a:gd name="textAreaTop" fmla="*/ -360 h 1904760"/>
              <a:gd name="textAreaBottom" fmla="*/ 1428120 h 1904760"/>
            </a:gdLst>
            <a:ahLst/>
            <a:rect l="textAreaLeft" t="textAreaTop" r="textAreaRight" b="textAreaBottom"/>
            <a:pathLst>
              <a:path w="1905000" h="1905000">
                <a:moveTo>
                  <a:pt x="0" y="952500"/>
                </a:moveTo>
                <a:lnTo>
                  <a:pt x="952500" y="0"/>
                </a:lnTo>
                <a:lnTo>
                  <a:pt x="1905000" y="0"/>
                </a:lnTo>
                <a:lnTo>
                  <a:pt x="0" y="1905000"/>
                </a:lnTo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斜纹 19"/>
          <p:cNvSpPr/>
          <p:nvPr/>
        </p:nvSpPr>
        <p:spPr>
          <a:xfrm flipV="1" rot="18918000">
            <a:off x="6399360" y="2251080"/>
            <a:ext cx="1903320" cy="1904760"/>
          </a:xfrm>
          <a:custGeom>
            <a:avLst/>
            <a:gdLst>
              <a:gd name="textAreaLeft" fmla="*/ 0 w 1903320"/>
              <a:gd name="textAreaRight" fmla="*/ 1427400 w 1903320"/>
              <a:gd name="textAreaTop" fmla="*/ -360 h 1904760"/>
              <a:gd name="textAreaBottom" fmla="*/ 1428120 h 1904760"/>
            </a:gdLst>
            <a:ahLst/>
            <a:rect l="textAreaLeft" t="textAreaTop" r="textAreaRight" b="textAreaBottom"/>
            <a:pathLst>
              <a:path w="1903412" h="1905000">
                <a:moveTo>
                  <a:pt x="0" y="952500"/>
                </a:moveTo>
                <a:lnTo>
                  <a:pt x="951706" y="0"/>
                </a:lnTo>
                <a:lnTo>
                  <a:pt x="1903412" y="0"/>
                </a:lnTo>
                <a:lnTo>
                  <a:pt x="0" y="1905000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斜纹 20"/>
          <p:cNvSpPr/>
          <p:nvPr/>
        </p:nvSpPr>
        <p:spPr>
          <a:xfrm rot="2682000">
            <a:off x="6401880" y="2230200"/>
            <a:ext cx="1903680" cy="1904760"/>
          </a:xfrm>
          <a:custGeom>
            <a:avLst/>
            <a:gdLst>
              <a:gd name="textAreaLeft" fmla="*/ 0 w 1903680"/>
              <a:gd name="textAreaRight" fmla="*/ 1427760 w 1903680"/>
              <a:gd name="textAreaTop" fmla="*/ 0 h 1904760"/>
              <a:gd name="textAreaBottom" fmla="*/ 1428480 h 1904760"/>
            </a:gdLst>
            <a:ahLst/>
            <a:rect l="textAreaLeft" t="textAreaTop" r="textAreaRight" b="textAreaBottom"/>
            <a:pathLst>
              <a:path w="1903412" h="1905000">
                <a:moveTo>
                  <a:pt x="0" y="952500"/>
                </a:moveTo>
                <a:lnTo>
                  <a:pt x="951706" y="0"/>
                </a:lnTo>
                <a:lnTo>
                  <a:pt x="1903412" y="0"/>
                </a:lnTo>
                <a:lnTo>
                  <a:pt x="0" y="1905000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142596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926760" y="2693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4140720" y="340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泪滴形 10"/>
          <p:cNvSpPr/>
          <p:nvPr/>
        </p:nvSpPr>
        <p:spPr>
          <a:xfrm>
            <a:off x="2857680" y="3286080"/>
            <a:ext cx="2000160" cy="2000160"/>
          </a:xfrm>
          <a:custGeom>
            <a:avLst/>
            <a:gdLst>
              <a:gd name="textAreaLeft" fmla="*/ 292680 w 2000160"/>
              <a:gd name="textAreaRight" fmla="*/ 1707480 w 2000160"/>
              <a:gd name="textAreaTop" fmla="*/ 292680 h 2000160"/>
              <a:gd name="textAreaBottom" fmla="*/ 1707480 h 200016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0" y="1000125"/>
                </a:lnTo>
                <a:arcTo wR="1000125" hR="1000125" stAng="-10799997" swAng="5400003"/>
                <a:lnTo>
                  <a:pt x="1500187" y="0"/>
                </a:lnTo>
                <a:lnTo>
                  <a:pt x="2000249" y="0"/>
                </a:lnTo>
                <a:lnTo>
                  <a:pt x="2000250" y="750094"/>
                </a:lnTo>
                <a:arcTo wR="0" hR="250032" stAng="0" swAng="0"/>
                <a:lnTo>
                  <a:pt x="1853785" y="1853785"/>
                </a:lnTo>
                <a:arcTo wR="-500063" hR="500063" stAng="2700001" swAng="10799998"/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泪滴形 11"/>
          <p:cNvSpPr/>
          <p:nvPr/>
        </p:nvSpPr>
        <p:spPr>
          <a:xfrm flipH="1">
            <a:off x="5000760" y="3286080"/>
            <a:ext cx="2000160" cy="2000160"/>
          </a:xfrm>
          <a:custGeom>
            <a:avLst/>
            <a:gdLst>
              <a:gd name="textAreaLeft" fmla="*/ 292680 w 2000160"/>
              <a:gd name="textAreaRight" fmla="*/ 1707480 w 2000160"/>
              <a:gd name="textAreaTop" fmla="*/ 292680 h 2000160"/>
              <a:gd name="textAreaBottom" fmla="*/ 1707480 h 200016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0" y="1000125"/>
                </a:lnTo>
                <a:arcTo wR="1000125" hR="1000125" stAng="-10799997" swAng="5400003"/>
                <a:lnTo>
                  <a:pt x="1500187" y="0"/>
                </a:lnTo>
                <a:lnTo>
                  <a:pt x="2000249" y="0"/>
                </a:lnTo>
                <a:lnTo>
                  <a:pt x="2000250" y="750094"/>
                </a:lnTo>
                <a:arcTo wR="0" hR="250032" stAng="0" swAng="0"/>
                <a:lnTo>
                  <a:pt x="1853785" y="1853785"/>
                </a:lnTo>
                <a:arcTo wR="-500063" hR="500063" stAng="2700001" swAng="10799998"/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泪滴形 12"/>
          <p:cNvSpPr/>
          <p:nvPr/>
        </p:nvSpPr>
        <p:spPr>
          <a:xfrm flipH="1" flipV="1">
            <a:off x="5000760" y="1143000"/>
            <a:ext cx="2000160" cy="2000160"/>
          </a:xfrm>
          <a:custGeom>
            <a:avLst/>
            <a:gdLst>
              <a:gd name="textAreaLeft" fmla="*/ 292680 w 2000160"/>
              <a:gd name="textAreaRight" fmla="*/ 1707480 w 2000160"/>
              <a:gd name="textAreaTop" fmla="*/ 292680 h 2000160"/>
              <a:gd name="textAreaBottom" fmla="*/ 1707480 h 200016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0" y="1000125"/>
                </a:lnTo>
                <a:arcTo wR="1000125" hR="1000125" stAng="-10799997" swAng="5400003"/>
                <a:lnTo>
                  <a:pt x="1500187" y="0"/>
                </a:lnTo>
                <a:lnTo>
                  <a:pt x="2000249" y="0"/>
                </a:lnTo>
                <a:lnTo>
                  <a:pt x="2000250" y="750094"/>
                </a:lnTo>
                <a:arcTo wR="0" hR="250032" stAng="0" swAng="0"/>
                <a:lnTo>
                  <a:pt x="1853785" y="1853785"/>
                </a:lnTo>
                <a:arcTo wR="-500063" hR="500063" stAng="2700001" swAng="10799998"/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泪滴形 13"/>
          <p:cNvSpPr/>
          <p:nvPr/>
        </p:nvSpPr>
        <p:spPr>
          <a:xfrm flipV="1">
            <a:off x="2857680" y="1142640"/>
            <a:ext cx="2000160" cy="2000160"/>
          </a:xfrm>
          <a:custGeom>
            <a:avLst/>
            <a:gdLst>
              <a:gd name="textAreaLeft" fmla="*/ 292680 w 2000160"/>
              <a:gd name="textAreaRight" fmla="*/ 1707480 w 2000160"/>
              <a:gd name="textAreaTop" fmla="*/ 292680 h 2000160"/>
              <a:gd name="textAreaBottom" fmla="*/ 1707480 h 200016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0" y="1000125"/>
                </a:lnTo>
                <a:arcTo wR="1000125" hR="1000125" stAng="-10799997" swAng="5400003"/>
                <a:lnTo>
                  <a:pt x="1500187" y="0"/>
                </a:lnTo>
                <a:lnTo>
                  <a:pt x="2000249" y="0"/>
                </a:lnTo>
                <a:lnTo>
                  <a:pt x="2000250" y="750094"/>
                </a:lnTo>
                <a:arcTo wR="0" hR="250032" stAng="0" swAng="0"/>
                <a:lnTo>
                  <a:pt x="1853785" y="1853785"/>
                </a:lnTo>
                <a:arcTo wR="-500063" hR="500063" stAng="2700001" swAng="10799998"/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497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5783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3283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流程图: 库存数据 10"/>
          <p:cNvSpPr/>
          <p:nvPr/>
        </p:nvSpPr>
        <p:spPr>
          <a:xfrm>
            <a:off x="2192400" y="1143000"/>
            <a:ext cx="2808360" cy="1500120"/>
          </a:xfrm>
          <a:prstGeom prst="flowChartOnlineStorage">
            <a:avLst/>
          </a:pr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库存数据 11"/>
          <p:cNvSpPr/>
          <p:nvPr/>
        </p:nvSpPr>
        <p:spPr>
          <a:xfrm flipH="1">
            <a:off x="4691880" y="1857240"/>
            <a:ext cx="2808360" cy="1500480"/>
          </a:xfrm>
          <a:prstGeom prst="flowChartOnlineStorage">
            <a:avLst/>
          </a:pr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流程图: 库存数据 12"/>
          <p:cNvSpPr/>
          <p:nvPr/>
        </p:nvSpPr>
        <p:spPr>
          <a:xfrm>
            <a:off x="2406600" y="3571920"/>
            <a:ext cx="2808360" cy="1500120"/>
          </a:xfrm>
          <a:prstGeom prst="flowChartOnlineStorage">
            <a:avLst/>
          </a:pr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流程图: 库存数据 13"/>
          <p:cNvSpPr/>
          <p:nvPr/>
        </p:nvSpPr>
        <p:spPr>
          <a:xfrm flipH="1">
            <a:off x="4906080" y="4286160"/>
            <a:ext cx="2808360" cy="1500120"/>
          </a:xfrm>
          <a:prstGeom prst="flowChartOnlineStorage">
            <a:avLst/>
          </a:pr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9260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剪去对角的矩形 10"/>
          <p:cNvSpPr/>
          <p:nvPr/>
        </p:nvSpPr>
        <p:spPr>
          <a:xfrm>
            <a:off x="857160" y="1500120"/>
            <a:ext cx="3670560" cy="3670200"/>
          </a:xfrm>
          <a:custGeom>
            <a:avLst/>
            <a:gdLst>
              <a:gd name="textAreaLeft" fmla="*/ 305640 w 3670560"/>
              <a:gd name="textAreaRight" fmla="*/ 3364920 w 3670560"/>
              <a:gd name="textAreaTop" fmla="*/ 305640 h 3670200"/>
              <a:gd name="textAreaBottom" fmla="*/ 3364560 h 3670200"/>
            </a:gdLst>
            <a:ahLst/>
            <a:rect l="textAreaLeft" t="textAreaTop" r="textAreaRight" b="textAreaBottom"/>
            <a:pathLst>
              <a:path w="3670300" h="3670300">
                <a:moveTo>
                  <a:pt x="506281" y="0"/>
                </a:moveTo>
                <a:lnTo>
                  <a:pt x="3058571" y="0"/>
                </a:lnTo>
                <a:lnTo>
                  <a:pt x="3670300" y="611729"/>
                </a:lnTo>
                <a:lnTo>
                  <a:pt x="3670300" y="3164019"/>
                </a:lnTo>
                <a:lnTo>
                  <a:pt x="3164019" y="3670300"/>
                </a:lnTo>
                <a:lnTo>
                  <a:pt x="611729" y="3670300"/>
                </a:lnTo>
                <a:lnTo>
                  <a:pt x="0" y="3058571"/>
                </a:lnTo>
                <a:lnTo>
                  <a:pt x="0" y="506281"/>
                </a:lnTo>
                <a:close/>
              </a:path>
            </a:pathLst>
          </a:custGeom>
          <a:solidFill>
            <a:srgbClr val="829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剪去对角的矩形 11"/>
          <p:cNvSpPr/>
          <p:nvPr/>
        </p:nvSpPr>
        <p:spPr>
          <a:xfrm>
            <a:off x="4643280" y="1571760"/>
            <a:ext cx="3670560" cy="3670200"/>
          </a:xfrm>
          <a:custGeom>
            <a:avLst/>
            <a:gdLst>
              <a:gd name="textAreaLeft" fmla="*/ 305640 w 3670560"/>
              <a:gd name="textAreaRight" fmla="*/ 3364920 w 3670560"/>
              <a:gd name="textAreaTop" fmla="*/ 305640 h 3670200"/>
              <a:gd name="textAreaBottom" fmla="*/ 3364560 h 3670200"/>
            </a:gdLst>
            <a:ahLst/>
            <a:rect l="textAreaLeft" t="textAreaTop" r="textAreaRight" b="textAreaBottom"/>
            <a:pathLst>
              <a:path w="3670300" h="3670300">
                <a:moveTo>
                  <a:pt x="506281" y="0"/>
                </a:moveTo>
                <a:lnTo>
                  <a:pt x="3058571" y="0"/>
                </a:lnTo>
                <a:lnTo>
                  <a:pt x="3670300" y="611729"/>
                </a:lnTo>
                <a:lnTo>
                  <a:pt x="3670300" y="3164019"/>
                </a:lnTo>
                <a:lnTo>
                  <a:pt x="3164019" y="3670300"/>
                </a:lnTo>
                <a:lnTo>
                  <a:pt x="611729" y="3670300"/>
                </a:lnTo>
                <a:lnTo>
                  <a:pt x="0" y="3058571"/>
                </a:lnTo>
                <a:lnTo>
                  <a:pt x="0" y="506281"/>
                </a:lnTo>
                <a:close/>
              </a:path>
            </a:pathLst>
          </a:custGeom>
          <a:solidFill>
            <a:srgbClr val="e76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212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2283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8T09:03:17Z</dcterms:modified>
  <cp:revision>285</cp:revision>
  <dc:subject/>
  <dc:title>幻灯片 1</dc:title>
</cp:coreProperties>
</file>