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6.png" ContentType="image/png"/>
  <Override PartName="/ppt/media/image15.jpeg" ContentType="image/jpeg"/>
  <Override PartName="/ppt/media/type.wav" ContentType="audio/x-wav"/>
  <Override PartName="/ppt/media/image13.png" ContentType="image/png"/>
  <Override PartName="/ppt/media/image12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4.jpeg" ContentType="image/jpeg"/>
  <Override PartName="/ppt/media/image5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F1F-7682-4F64-8EF4-BE620CFA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B4A-6D0C-4868-88A4-394E890C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F92-3AA5-4058-8466-C5DC2F1D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903-5B8C-4117-B008-33F6B05C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4718-6F74-4466-B2F8-B244E093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8186-AFFF-41E8-8560-6A56790C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820-4513-4B8F-B3F3-93E2E542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23CE-55DA-4EBE-AEAC-85BFF5EE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0F3-F75C-4783-B1EB-D04A1906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B3AB-CD75-48F8-A36A-794FD9D7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B05B-B2DA-43BA-B2DB-4E584C8F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E74-1523-4417-9DD3-FE4F56D7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3DD5-CC9B-403B-A9C5-F8BABDA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D3A-C250-48F1-9291-6548191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EF67-DCC5-45E0-85D0-89911AD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2798-FA0A-42D1-A181-38C436EF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3D2-B16E-4DE6-AFEE-C6687889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7CF7-3B55-4551-852B-D01D9C02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31A6-8F10-4CA1-8FD9-87B5734E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2AD5-B132-40C8-93DA-0B793C37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B0B5-B6AA-40D6-ADB2-E0ED4E7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C098-86D7-4A1F-84D1-A798576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8A2-07BF-4213-9D16-1FCFC37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73EC-250A-4ED5-ABEE-CA01A76F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E397-4496-413B-A9B0-5C45A68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A389-DA43-4FD1-AE80-5403679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559E-C6DB-4B15-9DDC-243D85D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4224C-F8C7-4E0B-9943-E8BB97B4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6412-DE0F-4121-B17D-ECA8BE77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AF86-CBF3-4B69-904A-5759ED1B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F8B9-357A-43E8-8625-225435DB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7177-9B9F-4A57-A443-E64E12F0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4FE7-93FB-4D61-AF48-6EB05BA5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4B8-A6C1-41FE-A9A0-B7A29B9D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A8A2-589D-47E6-8367-AC725910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BFA9-30B2-485D-8F1C-1B14E5EF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EE63-EE18-446F-AF09-4EE46D0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ABF0-5349-4A04-8B86-F005912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F70D-C047-4CD0-AA5A-B6CC5D3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725D-7391-47D0-BAE2-5203E51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04CD-4DED-47DE-B890-EE450166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5778-DD72-4E52-98CC-7D6F2307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D937-AC35-4D35-9030-C206BF1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A89-8CA8-46DA-A9F6-BC30509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9B7-67F2-4091-9975-0EBC4B61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E44-7533-46BF-95A2-C763B46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05F-D258-43A1-899F-9CDE31F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1A2-571D-42A1-A9FA-399C56D0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6C9B-87E9-4002-AF28-8C73DF548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F5D-DBD3-4292-A54E-30233B1640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3E4-DBDB-4EE7-BE33-D6E53CBF50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8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66A9-45B5-4B14-BF1A-B465A7E0FC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1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5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5280" y="76500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是微型雕刻的简称，是一种以刀代笔，以精小细微为特征的独具风格的艺术形式。雕刻时肉眼看不见， 凭感觉运刀，靠经验完成创作，因而人们又称之为“神刻意雕”，作品具有“微中藏世界，石上读华章”之妙趣。          微雕艺术越来越为人们热爱，越来越被艺术家、鉴赏家、收藏家重视，世界上正在形成一股微雕艺术热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890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微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8360" y="304920"/>
            <a:ext cx="7608960" cy="993600"/>
          </a:xfrm>
          <a:custGeom>
            <a:avLst/>
            <a:gdLst>
              <a:gd name="textAreaLeft" fmla="*/ 1902240 w 7608960"/>
              <a:gd name="textAreaRight" fmla="*/ 5706720 w 7608960"/>
              <a:gd name="textAreaTop" fmla="*/ 0 h 993600"/>
              <a:gd name="textAreaBottom" fmla="*/ 993600 h 9936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舟首尾长约八分有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53440" y="914400"/>
            <a:ext cx="685800" cy="4680000"/>
          </a:xfrm>
          <a:custGeom>
            <a:avLst/>
            <a:gdLst>
              <a:gd name="textAreaLeft" fmla="*/ 0 w 685800"/>
              <a:gd name="textAreaRight" fmla="*/ 686160 w 685800"/>
              <a:gd name="textAreaTop" fmla="*/ 1170000 h 4680000"/>
              <a:gd name="textAreaBottom" fmla="*/ 351000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行楷"/>
              </a:rPr>
              <a:t>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1298520"/>
            <a:ext cx="8353440" cy="4259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1298520"/>
            <a:ext cx="8353440" cy="4259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209680" y="363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中轩敞者为舱，箬篷覆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52840" y="4379760"/>
            <a:ext cx="380880" cy="849600"/>
          </a:xfrm>
          <a:prstGeom prst="upArrow">
            <a:avLst>
              <a:gd name="adj1" fmla="val 39167"/>
              <a:gd name="adj2" fmla="val 60185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5557680"/>
            <a:ext cx="56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旁开小窗，左右各四。启窗而观，雕栏相望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33720" y="882720"/>
            <a:ext cx="380880" cy="830160"/>
          </a:xfrm>
          <a:prstGeom prst="downArrow">
            <a:avLst>
              <a:gd name="adj1" fmla="val 50000"/>
              <a:gd name="adj2" fmla="val 5434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1300320"/>
            <a:ext cx="8350200" cy="4257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002200" y="3886200"/>
            <a:ext cx="1474920" cy="2521080"/>
          </a:xfrm>
          <a:custGeom>
            <a:avLst/>
            <a:gdLst>
              <a:gd name="textAreaLeft" fmla="*/ 498600 w 1474920"/>
              <a:gd name="textAreaRight" fmla="*/ 1102680 w 1474920"/>
              <a:gd name="textAreaTop" fmla="*/ 1726920 h 2521080"/>
              <a:gd name="textAreaBottom" fmla="*/ 18846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20248"/>
                </a:moveTo>
                <a:lnTo>
                  <a:pt x="14794" y="20248"/>
                </a:lnTo>
                <a:lnTo>
                  <a:pt x="14794" y="7304"/>
                </a:lnTo>
                <a:lnTo>
                  <a:pt x="9340" y="7304"/>
                </a:lnTo>
                <a:lnTo>
                  <a:pt x="15470" y="0"/>
                </a:lnTo>
                <a:lnTo>
                  <a:pt x="21600" y="7304"/>
                </a:lnTo>
                <a:lnTo>
                  <a:pt x="16146" y="7304"/>
                </a:lnTo>
                <a:lnTo>
                  <a:pt x="16146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55576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舟尾横卧一楫，楫左右舟子各一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457200" y="549000"/>
            <a:ext cx="1295280" cy="2757240"/>
          </a:xfrm>
          <a:custGeom>
            <a:avLst/>
            <a:gdLst>
              <a:gd name="textAreaLeft" fmla="*/ 497160 w 1295280"/>
              <a:gd name="textAreaRight" fmla="*/ 942120 w 1295280"/>
              <a:gd name="textAreaTop" fmla="*/ 1810440 h 2757240"/>
              <a:gd name="textAreaBottom" fmla="*/ 2005200 h 2757240"/>
            </a:gdLst>
            <a:ahLst/>
            <a:rect l="textAreaLeft" t="textAreaTop" r="textAreaRight" b="textAreaBottom"/>
            <a:pathLst>
              <a:path w="21600" h="21600">
                <a:moveTo>
                  <a:pt x="0" y="20073"/>
                </a:moveTo>
                <a:lnTo>
                  <a:pt x="14182" y="20073"/>
                </a:lnTo>
                <a:lnTo>
                  <a:pt x="14182" y="8291"/>
                </a:lnTo>
                <a:lnTo>
                  <a:pt x="8291" y="8291"/>
                </a:lnTo>
                <a:lnTo>
                  <a:pt x="14946" y="0"/>
                </a:lnTo>
                <a:lnTo>
                  <a:pt x="21600" y="8291"/>
                </a:lnTo>
                <a:lnTo>
                  <a:pt x="15709" y="8291"/>
                </a:lnTo>
                <a:lnTo>
                  <a:pt x="15709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2588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中宋"/>
              </a:rPr>
              <a:t>船头坐三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7054920" y="4800600"/>
            <a:ext cx="1784160" cy="1824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002200" y="28440"/>
            <a:ext cx="1447920" cy="104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428200" y="907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二段怎样介绍核舟？有何作用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080" y="198900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先介绍核舟的体积，接着写船舱，重点介绍舱旁小窗和所刻的十六字文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88160" y="366552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突出“奇巧、灵怪”的特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-1673280" y="-441360"/>
            <a:ext cx="10817280" cy="7299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492360" y="1247760"/>
            <a:ext cx="20574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苏轼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168120"/>
            <a:ext cx="68580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鲁直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8080"/>
            <a:ext cx="14479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佛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4400" y="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研读第三段回答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1066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、这一段介绍船的哪个部位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0" y="1628640"/>
            <a:ext cx="9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、船头坐三人，描写的重点是谁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4114800" cy="3311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0384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152388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作者在说明船头三人时，着墨最多的当然是东坡。刻画了东坡的肖像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——“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峨冠而多髯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之所以这样描写，一是因为苏东坡的主要游览者，核舟的主题是“大苏泛赤壁”；二是雕刻者的安排本身如此，说明者不能违背其初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4120" y="326880"/>
            <a:ext cx="145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1 </a:t>
            </a:r>
            <a:r>
              <a:rPr b="1" lang="zh-CN" sz="4400" spc="-1" strike="noStrike">
                <a:solidFill>
                  <a:srgbClr val="cc0066"/>
                </a:solidFill>
                <a:latin typeface="Tahoma"/>
              </a:rPr>
              <a:t>船头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-1292400" y="0"/>
            <a:ext cx="10436400" cy="6805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28600" y="14050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两“舟子”虽神情有异，右边的舟子突出他“右手攀右趾”的粗犷和“若啸呼状”的悠闲自在；左边的舟子突出“视端容寂”的平静神态。但两人的神情动作均表现了一种共同的氛围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愉悦、轻松、活泼自乐。为使船尾之境与船头之情遥相呼应，实现对船首氛围的烘托或者沟通，从而突出“大苏泛赤壁”的“泛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304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一段描写“舟子”的神情动作渲染了一种什么氛围？为什么要这样写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876920" y="1405080"/>
            <a:ext cx="4267080" cy="5219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4628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文章结尾，作者为什么要统计“核舟”上的物品、文字的数目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2240" y="428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8223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使读者得出核舟容量大、所刻景物甚多的结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再用“而计其长曾不盈寸”与之对比，以此突出雕刻精湛的技艺，自然引出下句的赞叹语句。与第一自然段相照应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突出中心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580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2" name="" descr="精彩微雕作品(图)"/>
          <p:cNvPicPr/>
          <p:nvPr/>
        </p:nvPicPr>
        <p:blipFill>
          <a:blip r:embed="rId1"/>
          <a:stretch/>
        </p:blipFill>
        <p:spPr>
          <a:xfrm>
            <a:off x="415800" y="0"/>
            <a:ext cx="8477280" cy="524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5084640"/>
            <a:ext cx="1050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作品上六只平均</a:t>
            </a: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0.7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毫米的熊猫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放在绣花针针孔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1989000"/>
            <a:ext cx="83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核舟记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360" y="476280"/>
            <a:ext cx="457200" cy="5543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58920" y="33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概述王叔远精湛的雕刻技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点名雕刻品“核舟”的主题及其来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83664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220968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详写核舟的大小、结构、舟上的人物和题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8954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58672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44370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541008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96960" y="5257800"/>
            <a:ext cx="66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小结总计全核舟的人、物、文字的数目，赞叹核舟的雕刻技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63360" y="40464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23623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—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900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隶书"/>
              </a:rPr>
              <a:t>用事实说明雕刻者技艺精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27160" y="548640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28600" y="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说明顺序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" y="2895480"/>
            <a:ext cx="1003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  <a:ea typeface="隶书"/>
              </a:rPr>
              <a:t>核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219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总说核舟的规格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52480" y="3352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舟正面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20574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3352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4572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尾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舟背面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1371600"/>
            <a:ext cx="380880" cy="4724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1828800"/>
            <a:ext cx="304920" cy="1600200"/>
          </a:xfrm>
          <a:prstGeom prst="downArrow">
            <a:avLst>
              <a:gd name="adj1" fmla="val 50000"/>
              <a:gd name="adj2" fmla="val 131198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403848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429000" y="2362320"/>
            <a:ext cx="1066680" cy="1295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3733920"/>
            <a:ext cx="106668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3886200"/>
            <a:ext cx="990720" cy="10666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08760" y="2759040"/>
            <a:ext cx="1277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(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空间顺序</a:t>
            </a:r>
            <a:r>
              <a:rPr b="0" lang="en-US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77040" y="138744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整体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58280" y="5502240"/>
            <a:ext cx="13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局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2225520"/>
            <a:ext cx="304560" cy="3184560"/>
          </a:xfrm>
          <a:prstGeom prst="downArrow">
            <a:avLst>
              <a:gd name="adj1" fmla="val 50000"/>
              <a:gd name="adj2" fmla="val 2614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83000" y="2438280"/>
            <a:ext cx="15210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逻辑顺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0948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隶书"/>
              </a:rPr>
              <a:t>说明对象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61604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隶书"/>
              </a:rPr>
              <a:t>说明对象的特征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66720" y="609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核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161604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奇巧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85040" y="3048120"/>
            <a:ext cx="789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隶书"/>
              </a:rPr>
              <a:t>核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1981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轩敞；箬篷；八扇小窗开关；  雕栏相对；对联；字的颜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6048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隶书"/>
                <a:ea typeface="隶书"/>
              </a:rPr>
              <a:t>具体说明奇巧</a:t>
            </a:r>
            <a:r>
              <a:rPr b="1" lang="en-US" sz="6000" spc="-1" strike="noStrike">
                <a:solidFill>
                  <a:srgbClr val="cc0000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3429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游览者的外貌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姿态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神情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 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衣褶 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念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43736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舟子的神情和姿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528804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题字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篆文的笔画细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清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1371600"/>
            <a:ext cx="304920" cy="4419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13557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长、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13557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体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舱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429000"/>
            <a:ext cx="160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7e9ce8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船头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4373640"/>
            <a:ext cx="198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7e9ce8"/>
                </a:solidFill>
                <a:uFillTx/>
                <a:latin typeface="华文行楷"/>
                <a:ea typeface="华文行楷"/>
                <a:hlinkClick r:id="rId2" action="ppaction://hlinksldjump"/>
              </a:rPr>
              <a:t>船尾</a:t>
            </a:r>
            <a:r>
              <a:rPr b="0" lang="en-US" sz="3200" spc="-1" strike="noStrike" u="sng">
                <a:solidFill>
                  <a:srgbClr val="7e9ce8"/>
                </a:solidFill>
                <a:uFillTx/>
                <a:latin typeface="华文行楷"/>
                <a:ea typeface="华文行楷"/>
                <a:hlinkClick r:id="rId3" action="ppaction://hlinksldjump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5288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背</a:t>
            </a:r>
            <a:r>
              <a:rPr b="0" lang="en-US" sz="3200" spc="-1" strike="noStrike">
                <a:solidFill>
                  <a:srgbClr val="80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说明文阅读指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阅读能力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整体把握文章的大致内容，弄清说明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准确抓住说明事物的具体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分析、识别文章的说明方法，并弄清其在文中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具体分析语言的准确性。正确理解词语在句中的意义和作用，准确地对词语的限制、修饰作用进行评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了解和识别各种说明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理解文艺性说明文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把握段落的中心句、关键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重点、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明对象特征的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重点掌握举例子、列数字、作比较等说明方法和说明方法在文中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学会分析说明文语言的准确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逻辑顺序的判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说明文的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明文的结构有：总分式、并列式、层进式、对照式（结构包括段落）。一篇完整的说明文常常是几种结构综合运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说明的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明的顺序有：空间顺序、时间顺序（包括发展顺序）、事理顺序（逻辑顺序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说明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明的方法有：举例子、列数字、打比方、作比较、分类别、下定义（包括作解释）、引资料、列图表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124000" y="1413000"/>
            <a:ext cx="641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本文是一篇说明文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按照总分总的结构顺序依次介绍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细致的介绍了核舟的形状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描述了舟中人物的情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赞美了刻舟者的精巧的技艺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20680" y="928800"/>
            <a:ext cx="100332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Tahoma"/>
              </a:rPr>
              <a:t>文章主旨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课堂小结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古今异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虚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量词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  <a:ea typeface="隶书"/>
              </a:rPr>
              <a:t>今天，我们要学习的</a:t>
            </a:r>
            <a:r>
              <a:rPr b="1" lang="en-US" sz="39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  <a:ea typeface="隶书"/>
              </a:rPr>
              <a:t>核舟记</a:t>
            </a:r>
            <a:r>
              <a:rPr b="1" lang="en-US" sz="39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  <a:ea typeface="隶书"/>
              </a:rPr>
              <a:t>，就是远在几百年前我国民间艺术中精湛绝伦的微雕技艺的精彩展示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33520" y="228600"/>
            <a:ext cx="36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假字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3640" y="1773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有”通“又”，连接整数和零数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31800" y="1066680"/>
            <a:ext cx="49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舟首尾长约八分有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24000" y="2927520"/>
            <a:ext cx="54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诎”通“屈”，弯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286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诎右臂支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11280" y="4221000"/>
            <a:ext cx="59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衡”通“横”，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5040" y="3549600"/>
            <a:ext cx="34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左手倚一衡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5589720"/>
            <a:ext cx="55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简”通“拣”，挑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4844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盖简桃核修狭者为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175440"/>
            <a:ext cx="167652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71640" y="1197000"/>
            <a:ext cx="4681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高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可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二黍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曾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不盈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7093080" y="5086440"/>
            <a:ext cx="287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93080" y="5877000"/>
            <a:ext cx="2872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5796000" y="6381720"/>
            <a:ext cx="79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4859280" y="6381720"/>
            <a:ext cx="86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7080120" y="-12600"/>
            <a:ext cx="287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">
            <a:hlinkClick r:id="rId3" action="ppaction://hlinksldjump"/>
          </p:cNvPr>
          <p:cNvSpPr/>
          <p:nvPr/>
        </p:nvSpPr>
        <p:spPr>
          <a:xfrm>
            <a:off x="7080120" y="4208400"/>
            <a:ext cx="2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">
            <a:hlinkClick r:id="rId4" action="ppaction://hlinksldjump"/>
          </p:cNvPr>
          <p:cNvSpPr/>
          <p:nvPr/>
        </p:nvSpPr>
        <p:spPr>
          <a:xfrm>
            <a:off x="7080120" y="5073480"/>
            <a:ext cx="28764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80120" y="5864400"/>
            <a:ext cx="287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80120" y="895320"/>
            <a:ext cx="2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0120" y="1760400"/>
            <a:ext cx="2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0120" y="2552760"/>
            <a:ext cx="28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3416400"/>
            <a:ext cx="28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08720" y="87300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123336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6000" y="1593720"/>
            <a:ext cx="180000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08720" y="195408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08720" y="260208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296064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08720" y="332100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08720" y="3753000"/>
            <a:ext cx="180036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6000" y="4041720"/>
            <a:ext cx="1800000" cy="360360"/>
          </a:xfrm>
          <a:prstGeom prst="rect">
            <a:avLst/>
          </a:prstGeom>
          <a:solidFill>
            <a:srgbClr val="ffff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67640" y="115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栏目导航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95640" y="1989000"/>
            <a:ext cx="457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义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可以，表同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40000" y="4292640"/>
            <a:ext cx="457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尚且，竟然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今义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曾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1280" y="512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古今异义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228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e640c"/>
                </a:solidFill>
                <a:latin typeface="楷体_GB2312"/>
                <a:ea typeface="楷体_GB2312"/>
              </a:rPr>
              <a:t>一词多义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600" y="1371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9600" y="3200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640" y="4997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黑体"/>
                <a:ea typeface="黑体"/>
              </a:rPr>
              <a:t>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990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巧人曰王叔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53760" y="9907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奇异、罕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1676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舟首尾长约八分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1700280"/>
            <a:ext cx="25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零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2743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奇巧人曰王叔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8956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3581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舟首尾长约八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72280" y="35812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通“又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4616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宫室、器皿、人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39960" y="457200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雕刻成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55306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轩敞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16480" y="5562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14400" y="12193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14400" y="2971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49528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175440"/>
            <a:ext cx="167652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7200" y="762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609480"/>
            <a:ext cx="304560" cy="1067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425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东坡右手执卷</a:t>
            </a:r>
            <a:r>
              <a:rPr b="1" lang="zh-CN" sz="3600" spc="-1" strike="noStrike">
                <a:solidFill>
                  <a:srgbClr val="330066"/>
                </a:solidFill>
                <a:latin typeface="Arial"/>
                <a:ea typeface="黑体"/>
              </a:rPr>
              <a:t>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19640" y="42552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一头，这里指右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10666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其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105084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视</a:t>
            </a:r>
            <a:r>
              <a:rPr b="1" lang="zh-CN" sz="4000" spc="-1" strike="noStrike">
                <a:solidFill>
                  <a:srgbClr val="330066"/>
                </a:solidFill>
                <a:latin typeface="Arial"/>
                <a:ea typeface="黑体"/>
              </a:rPr>
              <a:t>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容寂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80000" y="11253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端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29718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81952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52480" y="2498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文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出平山人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24987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写的是</a:t>
            </a:r>
            <a:r>
              <a:rPr b="1" lang="zh-CN" sz="3600" spc="-1" strike="noStrike">
                <a:solidFill>
                  <a:srgbClr val="3e640c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65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明有奇巧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王叔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05720" y="35654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5029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48769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76520" y="4724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佛印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类弥勒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81480" y="472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极，非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5410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率妻子邑人来此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境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桃花源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77120" y="5410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与世隔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57200" y="762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609480"/>
            <a:ext cx="304560" cy="1067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425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二黍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42552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大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1066680"/>
            <a:ext cx="44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历历数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92720" y="1052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可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" y="20574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云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19051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182880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盖大苏泛赤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175248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句尾语气词，不译</a:t>
            </a:r>
            <a:r>
              <a:rPr b="1" lang="zh-CN" sz="4400" spc="-1" strike="noStrike">
                <a:solidFill>
                  <a:srgbClr val="3e640c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63640" y="2421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孔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19640" y="2492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3505320"/>
            <a:ext cx="94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并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4290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对联、 题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篆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和</a:t>
            </a:r>
            <a:r>
              <a:rPr b="1" lang="zh-CN" sz="3600" spc="-1" strike="noStrike">
                <a:solidFill>
                  <a:srgbClr val="3e640c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9625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怡然自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39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5029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219320" y="48769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4724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如有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472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说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76520" y="5410080"/>
            <a:ext cx="40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此中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19640" y="537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告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90720" y="304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虚词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12952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中峨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髯者为东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启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计其长，曾不盈寸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8862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径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盖简桃核修狭者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5334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两膝相比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视端容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10666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表并列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并且、而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95400" y="2438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表承接，不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48040" y="2971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表转折，却、但是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4680" y="213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61600" y="3886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助词，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19000" y="4419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代词，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4680" y="4114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4680" y="5562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46680" y="5334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他们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16480" y="587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那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16002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41148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54864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175440"/>
            <a:ext cx="167652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419640" y="189000"/>
            <a:ext cx="2438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词类活用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14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中轩敞者为舱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黑体"/>
              </a:rPr>
              <a:t>箬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覆之。 用箬蓬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133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黑体"/>
              </a:rPr>
              <a:t>石青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糁之。   用石青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0920" y="765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名词作状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2852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名词作动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360" y="35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中峨冠而多髯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4292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椎髻仰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494172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石青糁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56000" y="35002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（戴着）高高的帽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4292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（梳着）椎形发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03640" y="49417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华文新魏"/>
              </a:rPr>
              <a:t>原意是煮熟的米粒，现用作动词，涂染的意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762120" y="228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数量词的用法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990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古代省略量词应补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数词用在名词之后，翻译时应调整到名词的前面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2819520"/>
            <a:ext cx="8153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（   ）手卷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一（   ）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（   ）桌         一（   ）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（   ）扇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一（   ）抚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篆章一（   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（   ）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人五（   ）       为窗八（   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34480" y="28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31960" y="28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69400" y="3581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31960" y="3581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94880" y="419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66880" y="419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09280" y="4876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266880" y="4876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09280" y="5562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04960" y="5562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66"/>
                </a:solidFill>
                <a:latin typeface="楷体_GB2312"/>
                <a:ea typeface="楷体_GB2312"/>
              </a:rPr>
              <a:t>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175440"/>
            <a:ext cx="1676520" cy="67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br>
              <a:rPr sz="3900"/>
            </a:br>
            <a:br>
              <a:rPr sz="3900"/>
            </a:b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常考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核舟记》中点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核舟主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核舟记》中点明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全文中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句子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87280" y="2637000"/>
            <a:ext cx="347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74640" y="665280"/>
            <a:ext cx="501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76360" y="2286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盖大苏泛赤壁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90920" y="3718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嘻，技艺灵怪矣哉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4726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最能反映雕刻者技艺精湛的一句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87280" y="5661000"/>
            <a:ext cx="662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罔不因势象形，各具情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-98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常考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93963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核舟”的主题是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核舟小窗两边所刻文字是：“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”；“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”左边的刻字出自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右边刻字出自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最能体现王叔远构思巧妙、技艺精湛的一句话是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作者对核舟技艺发出赞叹之情的语句是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434340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大苏泛赤壁”  山高月小  水落石出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清风徐来  水波不兴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赤壁赋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》  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后赤壁赋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罔不因势象形，各具情态  技亦灵怪矣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506760" y="318456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核舟记</a:t>
            </a:r>
            <a:endParaRPr b="0" lang="en-US" sz="1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67200" y="51055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隶书"/>
              </a:rPr>
              <a:t>魏学洢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4160880"/>
            <a:ext cx="243828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用“技亦灵怪矣哉”来赞美雕刻家高超的技艺，请你选用两个成语来概括其技艺的高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87280" y="4005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惟妙惟肖  栩栩如生</a:t>
            </a:r>
            <a:r>
              <a:rPr b="0" lang="zh-CN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翻译正确的一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其两膝相比者，各隐卷底衣褶中（  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的互相靠近的两膝，都隐蔽在手卷下边的衣裙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的两膝紧靠，都隐蔽在手卷下边的衣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的两膝相互比着，都隐蔽在手卷下边的衣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们的相互的比着的两膝，都隐蔽在手卷下边的衣褶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钩画了了（  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字写完了。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字的笔画都写得很清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笔一画都写得很完整。 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钩的笔画最清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罔不因势象形，各具情态（  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全部按照所要雕刻之物的形状去雕刻，使它们各有各的情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全部是因为形象很相似，所以刻得才各有各的情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全都能就着所用材料原来的样子模拟那些东西的形状，各有各的情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都不是按照所用材料原来的样子而是根据要刻之物的形态，所以各有各的情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95640" y="632628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参考答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．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   2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．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  3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．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下列句子翻译正确的一项是（  　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苏、黄共阅一手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译文：苏、黄在一起共读一横幅的书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盖简桃核修狭者为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译文：这是挑选了桃核中修长的刻成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其两膝相比者，各隐卷底衣褶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译文：他们的膝盖互相靠近着，都隐藏在手卷下边的衣褶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通计一舟，为人五，为窗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译文：总计这条船上刻了五个人、八扇小窗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20271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核舟记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作者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朝人，著有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      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     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核舟记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出自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朝的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人名）所编写的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         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 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457200"/>
            <a:ext cx="389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文学常识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72000" y="20271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魏学洢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86600" y="20271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646360" y="2728800"/>
            <a:ext cx="44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茅檐集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máo yá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3551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3551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张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41608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虞初新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7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7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75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75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75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75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75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75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75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75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教学重点</a:t>
            </a:r>
            <a:r>
              <a:rPr b="1" lang="en-US" sz="8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242244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1.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总结积累文言词汇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3429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把握文章的说明顺序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202716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核舟记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作者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朝人，著有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      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     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核舟记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出自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朝的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人名）所编写的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         》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  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"/>
            <a:ext cx="389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文学常识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0271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魏学洢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20271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27280" y="2637000"/>
            <a:ext cx="44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茅檐集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[máo yá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3551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3551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张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1608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虞初新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62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准下列字的音。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125360"/>
            <a:ext cx="86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罔（     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贻（     ）黍（ 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八分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奇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       椎髻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[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huī j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]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糁（     ） 髯（     ）褶（     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膝（     ）       泛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fàn zhōu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楫（     ）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篆（     ）章 狭（    ）箬篷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uò péng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昂首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[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áng shǒu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]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矫首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ǎo shǒu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壬戌（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én xū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1480" y="13399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wǎ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3732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y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00560" y="217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j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94440" y="126684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sh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54480" y="28195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sǎ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31680" y="28195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rá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03720" y="28195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zh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3460680"/>
            <a:ext cx="8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x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54280" y="4343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j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53680" y="410220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zhuà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68560" y="4343400"/>
            <a:ext cx="7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细黑"/>
              </a:rPr>
              <a:t>xi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175440"/>
            <a:ext cx="1676520" cy="673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152960" y="21096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c1c1c"/>
                </a:solidFill>
                <a:latin typeface="Times New Roman"/>
              </a:rPr>
              <a:t>预习提问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4300" spc="-1" strike="noStrike">
                <a:solidFill>
                  <a:srgbClr val="0000ff"/>
                </a:solidFill>
                <a:latin typeface="Arial"/>
              </a:rPr>
              <a:t>题目：核舟记 是什么意思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预习提问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2000" y="33526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对用桃核雕刻的船描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3933720"/>
            <a:ext cx="63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030560" y="4800600"/>
            <a:ext cx="5113440" cy="180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87280" y="476280"/>
            <a:ext cx="71298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研读第一段 （齐读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能概括全文，点名核舟特点的词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找出表现核舟主题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找出原料小而表现题材广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说明构思巧妙、技艺精湛的句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34909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盖大苏泛赤壁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45561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能以径寸之木，为宫室、器皿、人物、以至鸟兽、木石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35160" y="61786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罔不因势象形，各具情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524160" cy="524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33520" y="36576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33520" y="502920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09480" y="1066680"/>
            <a:ext cx="524160" cy="5241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196080" y="214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奇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3:03:20Z</dcterms:created>
  <dc:creator>liuzhong</dc:creator>
  <dc:description/>
  <cp:keywords/>
  <dc:language>en-US</dc:language>
  <cp:lastModifiedBy>微软用户</cp:lastModifiedBy>
  <dcterms:modified xsi:type="dcterms:W3CDTF">2013-10-20T01:40:57Z</dcterms:modified>
  <cp:revision>63</cp:revision>
  <dc:subject/>
  <dc:title>核舟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