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jpeg" ContentType="image/jpeg"/>
  <Override PartName="/ppt/media/image22.png" ContentType="image/png"/>
  <Override PartName="/ppt/media/camera.wav" ContentType="audio/x-wav"/>
  <Override PartName="/ppt/media/image4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media/image19.jpeg" ContentType="image/jpeg"/>
  <Override PartName="/ppt/media/image28.png" ContentType="image/png"/>
  <Override PartName="/ppt/media/image7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1.png" ContentType="image/png"/>
  <Override PartName="/ppt/media/image3.gif" ContentType="image/gif"/>
  <Override PartName="/ppt/media/image20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0.png" ContentType="image/png"/>
  <Override PartName="/ppt/media/image1.jpeg" ContentType="image/jpeg"/>
  <Override PartName="/ppt/media/image27.gif" ContentType="image/gif"/>
  <Override PartName="/ppt/media/image14.jpeg" ContentType="image/jpeg"/>
  <Override PartName="/ppt/media/image15.jpeg" ContentType="image/jpeg"/>
  <Override PartName="/ppt/media/image16.png" ContentType="image/png"/>
  <Override PartName="/ppt/media/image21.jpeg" ContentType="image/jpeg"/>
  <Override PartName="/ppt/media/image29.png" ContentType="image/png"/>
  <Override PartName="/ppt/media/chimes.wav" ContentType="audio/x-wav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A20E-469F-45F4-BC5B-A73D79A01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028A-B39A-463F-BE20-6B7A600E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B9EC-117F-4FE0-9EA5-DB47AFBDF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7F21-962F-438F-A387-D55F30D3D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95A0-407E-4A22-B3DC-877C989DD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664A-4173-459C-A01D-14699293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2D55-B930-4CED-B6E3-45938F37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3697-84C9-4232-9282-9D4EF2C8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0A5B-AC25-4C10-9F3D-73BC46DD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2176-7670-48B9-8C4A-75A36DB5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8AF1-7B59-45A0-8BB1-85B0FBA4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3341-2EBD-4435-A25B-9F3433B3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ACE2-433A-43A1-B32A-28B43419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7CA1-BF4F-4B2D-B306-14A8546F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8513-F20F-449A-BF8A-C92F769E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1B18-9F6C-4F16-ADFF-6F7FDD3C1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8A2E-8E64-4D07-861F-88DECD079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605BA-74EF-442B-B5FB-DBB74F83A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30958-13D7-4370-AAAD-4B1527D2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44283-5B72-4179-852F-11425CD6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71578-975F-4C96-B3DC-6E20D22D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9BC75-BDCA-46A2-89CB-9D08657A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5067-AE7F-4918-8AC9-05818B8D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68E3E-B01F-4591-BB85-BC910CD0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B7B64-3466-4D49-AE61-C8E7D4E0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D5363-6AC8-46E2-8A25-BCABB17D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717C2-B452-44E2-A70B-E207C9AD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390AE-FF4C-43FA-B183-F0ECDCE6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50FE1-D4E6-41C1-BE34-06436F95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4D363-7F13-4BA8-9C88-02F8AA52F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1EF9-DEB6-4560-B908-EE5BB271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778A-8ED0-416A-A42F-F0FE5D06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AFBC-C100-4DD4-B4C3-72A54125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0E69-32AD-4B5C-A26B-E658175A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F0BD-2E72-4D81-BD2D-7293DFCA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F47F-01E9-401D-B004-916916C7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7A4E-0B31-44EA-9FD7-A6BD4A05D2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2" name="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未知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未知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未知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未知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未知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未知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未知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未知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未知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未知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未知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未知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未知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未知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未知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未知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未知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未知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未知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未知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88" name="未知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02" name="未知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未知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16" name="未知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30" name="未知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未知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未知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未知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未知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未知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未知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未知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未知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未知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未知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未知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未知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44" name="未知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未知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未知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未知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未知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未知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未知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未知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未知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未知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未知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58" name="未知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未知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未知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未知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未知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未知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未知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未知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934320" y="-4680"/>
            <a:ext cx="2317680" cy="2060280"/>
            <a:chOff x="6934320" y="-4680"/>
            <a:chExt cx="2317680" cy="2060280"/>
          </a:xfrm>
        </p:grpSpPr>
        <p:sp>
          <p:nvSpPr>
            <p:cNvPr id="272" name="未知"/>
            <p:cNvSpPr/>
            <p:nvPr/>
          </p:nvSpPr>
          <p:spPr>
            <a:xfrm>
              <a:off x="7041600" y="-4680"/>
              <a:ext cx="2102760" cy="19105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6934320" y="1800"/>
              <a:ext cx="2317680" cy="2053800"/>
              <a:chOff x="6934320" y="1800"/>
              <a:chExt cx="2317680" cy="2053800"/>
            </a:xfrm>
          </p:grpSpPr>
          <p:sp>
            <p:nvSpPr>
              <p:cNvPr id="274" name="未知"/>
              <p:cNvSpPr/>
              <p:nvPr/>
            </p:nvSpPr>
            <p:spPr>
              <a:xfrm>
                <a:off x="7045200" y="1800"/>
                <a:ext cx="383760" cy="14220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未知"/>
              <p:cNvSpPr/>
              <p:nvPr/>
            </p:nvSpPr>
            <p:spPr>
              <a:xfrm>
                <a:off x="6934320" y="1800"/>
                <a:ext cx="2317680" cy="205380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未知"/>
              <p:cNvSpPr/>
              <p:nvPr/>
            </p:nvSpPr>
            <p:spPr>
              <a:xfrm>
                <a:off x="7485120" y="967320"/>
                <a:ext cx="186480" cy="21528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未知"/>
              <p:cNvSpPr/>
              <p:nvPr/>
            </p:nvSpPr>
            <p:spPr>
              <a:xfrm>
                <a:off x="7314120" y="1055520"/>
                <a:ext cx="162720" cy="28836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未知"/>
              <p:cNvSpPr/>
              <p:nvPr/>
            </p:nvSpPr>
            <p:spPr>
              <a:xfrm>
                <a:off x="7211520" y="478800"/>
                <a:ext cx="534960" cy="24192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未知"/>
              <p:cNvSpPr/>
              <p:nvPr/>
            </p:nvSpPr>
            <p:spPr>
              <a:xfrm>
                <a:off x="7818120" y="1163880"/>
                <a:ext cx="383760" cy="39168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未知"/>
              <p:cNvSpPr/>
              <p:nvPr/>
            </p:nvSpPr>
            <p:spPr>
              <a:xfrm>
                <a:off x="8701200" y="76716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未知"/>
              <p:cNvSpPr/>
              <p:nvPr/>
            </p:nvSpPr>
            <p:spPr>
              <a:xfrm>
                <a:off x="8831880" y="752040"/>
                <a:ext cx="301680" cy="18000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未知"/>
              <p:cNvSpPr/>
              <p:nvPr/>
            </p:nvSpPr>
            <p:spPr>
              <a:xfrm>
                <a:off x="8820360" y="90180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未知"/>
              <p:cNvSpPr/>
              <p:nvPr/>
            </p:nvSpPr>
            <p:spPr>
              <a:xfrm>
                <a:off x="8566200" y="103644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未知"/>
              <p:cNvSpPr/>
              <p:nvPr/>
            </p:nvSpPr>
            <p:spPr>
              <a:xfrm>
                <a:off x="8625960" y="115992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未知"/>
              <p:cNvSpPr/>
              <p:nvPr/>
            </p:nvSpPr>
            <p:spPr>
              <a:xfrm>
                <a:off x="8598600" y="1248120"/>
                <a:ext cx="455040" cy="36504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未知"/>
              <p:cNvSpPr/>
              <p:nvPr/>
            </p:nvSpPr>
            <p:spPr>
              <a:xfrm>
                <a:off x="8895600" y="1101960"/>
                <a:ext cx="257400" cy="64980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8979-9399-4638-A0CD-851F9DC12B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未知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30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44" name="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dt" idx="7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4449-AE50-419F-BE90-03A4742D8D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94" name="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endiao.cn/bigimg/139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endiao.cn/productShow.asp?id=97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27.gif"/><Relationship Id="rId3" Type="http://schemas.openxmlformats.org/officeDocument/2006/relationships/slide" Target="slide6.xml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9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file:///tmp/home/.config/libreoffice/4/user/gallery/22&#26680;&#33311;&#35760;.wav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hyperlink" Target="file:///tmp/home/.config/libreoffice/4/user/gallery/22&#26680;&#33311;&#35760;.wav" TargetMode="External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_12005" descr=""/>
          <p:cNvPicPr/>
          <p:nvPr/>
        </p:nvPicPr>
        <p:blipFill>
          <a:blip r:embed="rId1"/>
          <a:srcRect l="938" t="9905" r="7445" b="0"/>
          <a:stretch/>
        </p:blipFill>
        <p:spPr>
          <a:xfrm>
            <a:off x="0" y="0"/>
            <a:ext cx="9677520" cy="7391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xiangkuang1_197" descr="相框素材水晶相框图片"/>
          <p:cNvPicPr/>
          <p:nvPr/>
        </p:nvPicPr>
        <p:blipFill>
          <a:blip r:embed="rId1"/>
          <a:stretch/>
        </p:blipFill>
        <p:spPr>
          <a:xfrm>
            <a:off x="0" y="947880"/>
            <a:ext cx="9144000" cy="591012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4565160" y="1066320"/>
            <a:ext cx="1065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了解我国古代工艺美术的卓越成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学习总分总的结构形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体会本文空间说明顺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56720" y="4572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yanxi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2906640" cy="515952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4141800" y="12193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851280" y="1916280"/>
            <a:ext cx="4968720" cy="20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魏学洢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596~1625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，字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子敬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明朝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浙江嘉善人，著有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茅檐集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核舟记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选自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清朝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张潮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编辑的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虞初新志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0" y="762120"/>
            <a:ext cx="91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明有奇巧人曰王叔远，能以径寸之木，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中宋"/>
              </a:rPr>
              <a:t>为（</a:t>
            </a:r>
            <a:r>
              <a:rPr b="1" lang="en-US" sz="2800" spc="-1" strike="noStrike">
                <a:solidFill>
                  <a:srgbClr val="ff3300"/>
                </a:solidFill>
                <a:latin typeface="隶书"/>
                <a:ea typeface="隶书"/>
              </a:rPr>
              <a:t>wéi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中宋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宫室、器皿、人物，以至鸟兽、木石，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中宋"/>
              </a:rPr>
              <a:t>罔（         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不因势象形，各具情态。尝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中宋"/>
              </a:rPr>
              <a:t>贻（    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余核舟一，盖大苏泛赤壁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553080" y="14479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隶书"/>
                <a:ea typeface="隶书"/>
              </a:rPr>
              <a:t>wǎ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62520" y="19810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隶书"/>
                <a:ea typeface="隶书"/>
              </a:rPr>
              <a:t>y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6320" y="297180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舟首尾长约八分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yò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j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高可二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h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许。中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xuā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敞者为舱，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u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篷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之。旁开小窗，左右各四，共八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4724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启窗而观，雕栏相望焉。闭之，则右刻“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山高月小，水落石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，左刻“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清风徐来，水波不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，石青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ǎ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177440" y="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核舟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8000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船头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5467320" cy="297180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3492360" y="4508640"/>
            <a:ext cx="5194440" cy="1360440"/>
          </a:xfr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中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华文中宋"/>
              </a:rPr>
              <a:t>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隶书"/>
              </a:rPr>
              <a:t>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）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华文中宋"/>
              </a:rPr>
              <a:t>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guā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）而多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华文中宋"/>
              </a:rPr>
              <a:t>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rá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）者为</a:t>
            </a:r>
            <a:r>
              <a:rPr b="1" lang="zh-CN" sz="3600" spc="-1" strike="noStrike">
                <a:solidFill>
                  <a:srgbClr val="cc00ff"/>
                </a:solidFill>
                <a:latin typeface="Arial"/>
                <a:ea typeface="华文中宋"/>
              </a:rPr>
              <a:t>东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257800" y="2057400"/>
            <a:ext cx="2700360" cy="792000"/>
          </a:xfr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Arial"/>
                <a:ea typeface="华文中宋"/>
              </a:rPr>
              <a:t>鲁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居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rot="21480000">
            <a:off x="2286000" y="5407200"/>
            <a:ext cx="1982880" cy="869760"/>
          </a:xfr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  <a:ea typeface="华文中宋"/>
              </a:rPr>
              <a:t>佛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居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04920" y="129528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中宋"/>
              </a:rPr>
              <a:t>船头坐三人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plus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8" dur="5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3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800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船头_edited" descr=""/>
          <p:cNvPicPr/>
          <p:nvPr/>
        </p:nvPicPr>
        <p:blipFill>
          <a:blip r:embed="rId1"/>
          <a:stretch/>
        </p:blipFill>
        <p:spPr>
          <a:xfrm>
            <a:off x="4343400" y="260280"/>
            <a:ext cx="4792680" cy="659772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0" y="129528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a824"/>
                </a:solidFill>
                <a:latin typeface="华文中宋"/>
                <a:ea typeface="华文中宋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苏、黄共阅一手卷。</a:t>
            </a:r>
            <a:r>
              <a:rPr b="1" lang="zh-CN" sz="3600" spc="-1" strike="noStrike">
                <a:solidFill>
                  <a:srgbClr val="009999"/>
                </a:solidFill>
                <a:latin typeface="华文中宋"/>
                <a:ea typeface="华文中宋"/>
              </a:rPr>
              <a:t>东坡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右手执卷端，左手抚鲁直背。</a:t>
            </a:r>
            <a:r>
              <a:rPr b="1" lang="zh-CN" sz="3600" spc="-1" strike="noStrike">
                <a:solidFill>
                  <a:srgbClr val="009999"/>
                </a:solidFill>
                <a:latin typeface="华文中宋"/>
                <a:ea typeface="华文中宋"/>
              </a:rPr>
              <a:t>鲁直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左手执卷末，右手指卷，如有所语。东坡现右足，鲁直现左足，各微侧，其两膝相比者，各隐卷底衣</a:t>
            </a: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褶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zhě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中。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5000">
    <p:split dir="out" orient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船头_edited-1" descr="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179280" y="1068480"/>
            <a:ext cx="46800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华文中宋"/>
                <a:ea typeface="华文中宋"/>
              </a:rPr>
              <a:t>   </a:t>
            </a:r>
            <a:r>
              <a:rPr b="1" lang="zh-CN" sz="3600" spc="-1" strike="noStrike">
                <a:solidFill>
                  <a:srgbClr val="009999"/>
                </a:solidFill>
                <a:latin typeface="华文中宋"/>
                <a:ea typeface="华文中宋"/>
              </a:rPr>
              <a:t>佛印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绝类弥勒，</a:t>
            </a: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袒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tǎn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胸露乳，</a:t>
            </a: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矫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jiǎo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首昂视，神情与苏、黄不</a:t>
            </a: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属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shǔ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。卧右</a:t>
            </a: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膝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xī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，</a:t>
            </a: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诎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qū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右臂支船，而竖其左膝，左臂挂念珠</a:t>
            </a: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倚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yǐ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之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珠可历历数也。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6000">
    <p:wheel spokes="1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船尾" descr=""/>
          <p:cNvPicPr/>
          <p:nvPr/>
        </p:nvPicPr>
        <p:blipFill>
          <a:blip r:embed="rId1"/>
          <a:stretch/>
        </p:blipFill>
        <p:spPr>
          <a:xfrm>
            <a:off x="1332000" y="2276640"/>
            <a:ext cx="6624720" cy="429228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76320" y="1447920"/>
            <a:ext cx="9396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舟尾横卧一</a:t>
            </a:r>
            <a:r>
              <a:rPr b="1" lang="zh-CN" sz="4400" spc="-1" strike="noStrike">
                <a:solidFill>
                  <a:srgbClr val="3333cc"/>
                </a:solidFill>
                <a:latin typeface="华文中宋"/>
                <a:ea typeface="华文中宋"/>
              </a:rPr>
              <a:t>楫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4400" spc="-1" strike="noStrike">
                <a:solidFill>
                  <a:srgbClr val="ff3300"/>
                </a:solidFill>
                <a:latin typeface="隶书"/>
                <a:ea typeface="隶书"/>
              </a:rPr>
              <a:t>jí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。楫左右</a:t>
            </a:r>
            <a:r>
              <a:rPr b="1" lang="zh-CN" sz="4400" spc="-1" strike="noStrike">
                <a:solidFill>
                  <a:srgbClr val="ff66cc"/>
                </a:solidFill>
                <a:latin typeface="华文中宋"/>
                <a:ea typeface="华文中宋"/>
              </a:rPr>
              <a:t>舟子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各一人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zoom dir="ou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船尾_edited" descr=""/>
          <p:cNvPicPr/>
          <p:nvPr/>
        </p:nvPicPr>
        <p:blipFill>
          <a:blip r:embed="rId1"/>
          <a:stretch/>
        </p:blipFill>
        <p:spPr>
          <a:xfrm>
            <a:off x="3997440" y="836640"/>
            <a:ext cx="4824360" cy="571644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50920" y="1125360"/>
            <a:ext cx="406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  <a:ea typeface="华文中宋"/>
              </a:rPr>
              <a:t>居右者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椎</a:t>
            </a:r>
            <a:r>
              <a:rPr b="1" lang="zh-CN" sz="4800" spc="-1" strike="noStrike">
                <a:solidFill>
                  <a:srgbClr val="3333cc"/>
                </a:solidFill>
                <a:latin typeface="Arial"/>
                <a:ea typeface="华文中宋"/>
              </a:rPr>
              <a:t>髻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4800" spc="-1" strike="noStrike">
                <a:solidFill>
                  <a:srgbClr val="ff3300"/>
                </a:solidFill>
                <a:latin typeface="隶书"/>
                <a:ea typeface="隶书"/>
              </a:rPr>
              <a:t>jì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）仰面，左手倚一衡木，右手攀右</a:t>
            </a:r>
            <a:r>
              <a:rPr b="1" lang="zh-CN" sz="4800" spc="-1" strike="noStrike">
                <a:solidFill>
                  <a:srgbClr val="3333cc"/>
                </a:solidFill>
                <a:latin typeface="Arial"/>
                <a:ea typeface="华文中宋"/>
              </a:rPr>
              <a:t>趾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4800" spc="-1" strike="noStrike">
                <a:solidFill>
                  <a:srgbClr val="ff3300"/>
                </a:solidFill>
                <a:latin typeface="隶书"/>
                <a:ea typeface="隶书"/>
              </a:rPr>
              <a:t>zhǐ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），若啸呼状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4000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船尾_edited-1" descr=""/>
          <p:cNvPicPr/>
          <p:nvPr/>
        </p:nvPicPr>
        <p:blipFill>
          <a:blip r:embed="rId1"/>
          <a:stretch/>
        </p:blipFill>
        <p:spPr>
          <a:xfrm>
            <a:off x="4213080" y="765000"/>
            <a:ext cx="4391280" cy="571212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539640" y="126828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4400" spc="-1" strike="noStrike">
                <a:solidFill>
                  <a:srgbClr val="009999"/>
                </a:solidFill>
                <a:latin typeface="华文中宋"/>
                <a:ea typeface="华文中宋"/>
              </a:rPr>
              <a:t>居左者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右手执蒲葵扇，左手抚炉，炉上有壶，其人视端容寂，若听茶声然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6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396720" y="1143000"/>
            <a:ext cx="87472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其船背稍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华文中宋"/>
              </a:rPr>
              <a:t>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ff6600"/>
                </a:solidFill>
                <a:latin typeface="隶书"/>
                <a:ea typeface="隶书"/>
              </a:rPr>
              <a:t>y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），则题名其上，文曰“天启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华文中宋"/>
              </a:rPr>
              <a:t>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ff6600"/>
                </a:solidFill>
                <a:latin typeface="隶书"/>
                <a:ea typeface="隶书"/>
              </a:rPr>
              <a:t>ré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）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华文中宋"/>
              </a:rPr>
              <a:t>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ff6600"/>
                </a:solidFill>
                <a:latin typeface="隶书"/>
                <a:ea typeface="隶书"/>
              </a:rPr>
              <a:t>x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）秋日，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华文中宋"/>
              </a:rPr>
              <a:t>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ff6600"/>
                </a:solidFill>
                <a:latin typeface="隶书"/>
                <a:ea typeface="隶书"/>
              </a:rPr>
              <a:t>y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）山王毅叔远甫刻”，细若蚊足，钩画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华文中宋"/>
              </a:rPr>
              <a:t>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ff6600"/>
                </a:solidFill>
                <a:latin typeface="隶书"/>
                <a:ea typeface="隶书"/>
              </a:rPr>
              <a:t>liǎ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）了，其色墨。又用篆章一，文曰“初平山人”，其色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haizhou" descr=""/>
          <p:cNvPicPr/>
          <p:nvPr/>
        </p:nvPicPr>
        <p:blipFill>
          <a:blip r:embed="rId1"/>
          <a:stretch/>
        </p:blipFill>
        <p:spPr>
          <a:xfrm>
            <a:off x="1752480" y="4038480"/>
            <a:ext cx="7093080" cy="2781360"/>
          </a:xfrm>
          <a:prstGeom prst="rect">
            <a:avLst/>
          </a:prstGeom>
          <a:ln w="0">
            <a:noFill/>
          </a:ln>
        </p:spPr>
      </p:pic>
    </p:spTree>
  </p:cSld>
  <p:transition spd="med" advTm="28000"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139" descr="点击放大查看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3048120" y="129528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雄鹰，你为什么还不展翅高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0091" descr=""/>
          <p:cNvPicPr/>
          <p:nvPr/>
        </p:nvPicPr>
        <p:blipFill>
          <a:blip r:embed="rId3"/>
          <a:stretch/>
        </p:blipFill>
        <p:spPr>
          <a:xfrm>
            <a:off x="533520" y="304920"/>
            <a:ext cx="761760" cy="1218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陈教学2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265140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181080" y="3645000"/>
            <a:ext cx="89643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通计一舟，为人五；为窗八；为篛篷，为楫，为炉，为壶，为手卷，为念珠各一；对联、题名并篆文，为字共三十有四。而计其长曾不盈寸。盖简桃核修狭者为之。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中宋"/>
              </a:rPr>
              <a:t>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3200" spc="-1" strike="noStrike">
                <a:solidFill>
                  <a:srgbClr val="ff6600"/>
                </a:solidFill>
                <a:latin typeface="隶书"/>
                <a:ea typeface="隶书"/>
              </a:rPr>
              <a:t>x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），技亦灵怪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中宋"/>
              </a:rPr>
              <a:t>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3200" spc="-1" strike="noStrike">
                <a:solidFill>
                  <a:srgbClr val="ff6600"/>
                </a:solidFill>
                <a:latin typeface="隶书"/>
                <a:ea typeface="隶书"/>
              </a:rPr>
              <a:t>y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）哉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8000">
    <p:circl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304920" y="1143000"/>
            <a:ext cx="8534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明有奇巧人曰王叔远，能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径寸之木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宫室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器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人物，以至鸟兽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石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罔不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势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，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情态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尝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余核舟一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苏泛赤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0" y="4203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华文行楷"/>
              </a:rPr>
              <a:t>　译：</a:t>
            </a:r>
            <a:r>
              <a:rPr b="1" lang="zh-CN" sz="2800" spc="-1" strike="noStrike">
                <a:solidFill>
                  <a:srgbClr val="0066cc"/>
                </a:solidFill>
                <a:latin typeface="宋体"/>
              </a:rPr>
              <a:t>明朝有个有手艺特别精巧的人，名字叫王叔远，他能够在一寸长的木头上，雕刻出宫殿，器具，人物，以至飞鸟走兽，树木石头，全都是按照（材料原来的）形状刻成（各种事物的）形象，各有各的神情姿态。</a:t>
            </a:r>
            <a:r>
              <a:rPr b="1" lang="zh-CN" sz="2800" spc="-1" strike="noStrike">
                <a:solidFill>
                  <a:srgbClr val="9900cc"/>
                </a:solidFill>
                <a:latin typeface="华文行楷"/>
              </a:rPr>
              <a:t>他曾经送给我一只用桃核刻成的船，刻的是苏轼乘船游赤壁（的情景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648320" y="1143000"/>
            <a:ext cx="914400" cy="4255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858000" y="1143000"/>
            <a:ext cx="914400" cy="43488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雕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-149400" y="1981080"/>
            <a:ext cx="3114720" cy="38124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杯、盘、碗、碟等生活用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2057400"/>
            <a:ext cx="881280" cy="45720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树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029200" y="1981080"/>
            <a:ext cx="1092240" cy="5335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无不、全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172200" y="1828800"/>
            <a:ext cx="1371600" cy="60948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顺着、就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324480" y="2895480"/>
            <a:ext cx="1828800" cy="51120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仿，这里指雕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001000" y="1981080"/>
            <a:ext cx="1143000" cy="45720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具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143000" y="2971800"/>
            <a:ext cx="57636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曾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905120" y="3809880"/>
            <a:ext cx="57600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886200" y="3809880"/>
            <a:ext cx="93492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原来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248520" y="3657600"/>
            <a:ext cx="1752480" cy="45720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语末助词，无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5791320" y="0"/>
            <a:ext cx="2666880" cy="83808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原指古代一种前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较高而有帷幕的车子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这里是高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3049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舟首尾长约八分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有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高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黍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敞者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舱，箬篷覆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旁开小窗，左右各四，共八扇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窗而观，雕栏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相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焉。闭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则右刻“山高月小，水落石出”，左刻“清风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来，水波不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石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糁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0" y="3733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译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9900cc"/>
                </a:solidFill>
                <a:latin typeface="宋体"/>
              </a:rPr>
              <a:t>小船从船头到船尾长度八分多一点，高度大约有两个黄米粒那么高，中间高起而宽敞的部分是船舱，（刻着）用箬竹叶做成的船篷覆盖着它。（船舱）旁边开小窗，左边右边各有四扇，一共八扇。打开窗户来看，雕刻着花纹的栏杆左右相对。关上窗户，就看见右边刻着“山高月小，水落石出”八个字，左边刻着“清风徐来，水波不兴”八个字，用石青涂在刻着字的凹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162920" y="1143000"/>
            <a:ext cx="93636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80880" y="2057400"/>
            <a:ext cx="1600200" cy="45720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它，代指船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248520" y="1981080"/>
            <a:ext cx="99036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开，打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2819520"/>
            <a:ext cx="1371600" cy="35856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相向，相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371600" y="2819520"/>
            <a:ext cx="1600200" cy="35856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助词，可不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334120" y="3505320"/>
            <a:ext cx="2590560" cy="35856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一种青翠色颜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362320" y="1219320"/>
            <a:ext cx="577800" cy="35856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352680" y="1066680"/>
            <a:ext cx="57780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零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191120" y="304920"/>
            <a:ext cx="577800" cy="35856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大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334120" y="990720"/>
            <a:ext cx="577800" cy="35856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上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船头" descr=""/>
          <p:cNvPicPr/>
          <p:nvPr/>
        </p:nvPicPr>
        <p:blipFill>
          <a:blip r:embed="rId1"/>
          <a:stretch/>
        </p:blipFill>
        <p:spPr>
          <a:xfrm>
            <a:off x="4648320" y="3124080"/>
            <a:ext cx="4038480" cy="30672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457200" y="1447920"/>
            <a:ext cx="70102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船头坐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三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中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峨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而多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者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东坡，佛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右，鲁直居左。苏、黄共阅一手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572000" y="1447920"/>
            <a:ext cx="1295280" cy="35856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的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257800" y="2286000"/>
            <a:ext cx="86364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2438280"/>
            <a:ext cx="97164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位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219320" y="1523880"/>
            <a:ext cx="129528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三个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1371600"/>
            <a:ext cx="1752840" cy="51120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高高的帽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57200" y="3349800"/>
            <a:ext cx="441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译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66cc"/>
                </a:solidFill>
                <a:latin typeface="宋体"/>
              </a:rPr>
              <a:t>船头坐着三个人，中间戴着高高的帽子、胡须浓密的是苏东坡，佛印坐在右边，黄鲁直坐在左边。苏东坡，黄鲁直共同看着一幅书画长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船头_edited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3657600" cy="341316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609480" y="1371600"/>
            <a:ext cx="67057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东坡右手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卷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左手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鲁直背。鲁直左手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卷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右手指卷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东坡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右足，鲁直现左足，各微侧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膝相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者，各隐卷底衣褶中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962520" y="347976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译</a:t>
            </a:r>
            <a:r>
              <a:rPr b="1" lang="en-US" sz="2400" spc="-1" strike="noStrike">
                <a:solidFill>
                  <a:srgbClr val="cc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66cc"/>
                </a:solidFill>
                <a:latin typeface="宋体"/>
              </a:rPr>
              <a:t>东坡右手拿着手卷的前端，左手扶着鲁直的背脊。鲁直左手拿着手卷的末端，右手指着手卷，好像在说些什么 。东坡露出右脚，鲁直露出左脚，身子都略微侧斜着，他们互相靠近的两膝， 各自隐藏在卷子下边的衣褶里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905120" y="1066680"/>
            <a:ext cx="86364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038480" y="1066680"/>
            <a:ext cx="86364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轻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105520" y="533520"/>
            <a:ext cx="863640" cy="35856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好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324480" y="838080"/>
            <a:ext cx="86364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说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162920" y="2133720"/>
            <a:ext cx="863640" cy="35856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露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029200" y="2895480"/>
            <a:ext cx="86364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他们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934320" y="2819520"/>
            <a:ext cx="863640" cy="35856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靠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5715000" y="11430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4572000" y="9140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304920" y="45720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佛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绝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弥勒，袒胸露乳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矫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首昂视，神情与苏、黄不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卧右膝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右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船，而竖其左膝，左臂挂念珠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，珠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历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066680" y="609480"/>
            <a:ext cx="86364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极，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057400" y="533520"/>
            <a:ext cx="1015920" cy="35856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676520" y="2362320"/>
            <a:ext cx="863640" cy="35856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类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181480" y="457200"/>
            <a:ext cx="86364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0" y="388620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佛印和尚极像弥勒菩萨，敞胸露怀，抬头仰望，神情跟苏、黄两个人不相同。他平放着右膝，弯曲着右臂支撑在船上，而竖起他的左膝，左臂上挂着（一串）念珠挨着左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念珠可以一粒粒清清楚楚地数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船头_edited-1" descr=""/>
          <p:cNvPicPr/>
          <p:nvPr/>
        </p:nvPicPr>
        <p:blipFill>
          <a:blip r:embed="rId1"/>
          <a:stretch/>
        </p:blipFill>
        <p:spPr>
          <a:xfrm>
            <a:off x="6553080" y="3429000"/>
            <a:ext cx="2262240" cy="312408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3886200" y="2514600"/>
            <a:ext cx="167652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同“屈”，弯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943600" y="2438280"/>
            <a:ext cx="86364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支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971800" y="3429000"/>
            <a:ext cx="86364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767920" y="3429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cc"/>
                </a:solidFill>
                <a:latin typeface="Arial"/>
              </a:rPr>
              <a:t>分明可数的样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船尾" descr=""/>
          <p:cNvPicPr/>
          <p:nvPr/>
        </p:nvPicPr>
        <p:blipFill>
          <a:blip r:embed="rId1"/>
          <a:stretch/>
        </p:blipFill>
        <p:spPr>
          <a:xfrm>
            <a:off x="5867280" y="4343400"/>
            <a:ext cx="3276720" cy="2206800"/>
          </a:xfrm>
          <a:prstGeom prst="rect">
            <a:avLst/>
          </a:prstGeom>
          <a:ln w="0">
            <a:noFill/>
          </a:ln>
        </p:spPr>
      </p:pic>
      <p:pic>
        <p:nvPicPr>
          <p:cNvPr id="654" name="船尾_edited" descr=""/>
          <p:cNvPicPr/>
          <p:nvPr/>
        </p:nvPicPr>
        <p:blipFill>
          <a:blip r:embed="rId2"/>
          <a:stretch/>
        </p:blipFill>
        <p:spPr>
          <a:xfrm>
            <a:off x="6684840" y="2133720"/>
            <a:ext cx="2459160" cy="227304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0" y="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舟尾横卧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楫左右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舟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各一人。居右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者椎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仰面，左手倚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木，右手攀右趾，</a:t>
            </a:r>
            <a:r>
              <a:rPr b="1" lang="zh-CN" sz="2800" spc="-1" strike="noStrike" u="sng">
                <a:solidFill>
                  <a:srgbClr val="0066cc"/>
                </a:solidFill>
                <a:uFillTx/>
                <a:latin typeface="Arial"/>
              </a:rPr>
              <a:t>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啸呼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0" y="2819520"/>
            <a:ext cx="5943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译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0066cc"/>
                </a:solidFill>
                <a:latin typeface="宋体"/>
              </a:rPr>
              <a:t>船尾横摆着一只船桨。桨的左右两旁各有一名撑船的人。位于右边的撑船的人，梳着锥形发髻，仰着脸，左手靠着一根横木，右手扳着右脚趾头，好像在大声呼叫的样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828800" y="0"/>
            <a:ext cx="86364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船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581280" y="838080"/>
            <a:ext cx="165600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撑船的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7543800" y="914400"/>
            <a:ext cx="129528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锥形发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295280" y="1828800"/>
            <a:ext cx="99072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同“横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191120" y="1905120"/>
            <a:ext cx="863640" cy="35856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好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553080" y="1447920"/>
            <a:ext cx="1511280" cy="35856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形状，样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838080"/>
            <a:ext cx="990360" cy="38124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的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船尾_edited-1" descr=""/>
          <p:cNvPicPr/>
          <p:nvPr/>
        </p:nvPicPr>
        <p:blipFill>
          <a:blip r:embed="rId1"/>
          <a:stretch/>
        </p:blipFill>
        <p:spPr>
          <a:xfrm>
            <a:off x="5715000" y="3124080"/>
            <a:ext cx="2706840" cy="335304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0" y="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居左者右手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蒲葵扇，左手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炉，炉上有壶，其人视端容寂，若听茶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04920" y="60948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676520" y="914400"/>
            <a:ext cx="86364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267080" y="914400"/>
            <a:ext cx="86364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抚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505320" y="1600200"/>
            <a:ext cx="172872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的样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0" y="2438280"/>
            <a:ext cx="624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译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0066cc"/>
                </a:solidFill>
                <a:latin typeface="宋体"/>
              </a:rPr>
              <a:t>位于左边的撑船的人，右手拿着一把蒲葵扇，左手抚摸着火炉，炉上有一把水壶，那个人的眼睛正视着（茶炉），神色平静，好像在听茶水烧开了没有的样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289080" y="61740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0" y="380880"/>
            <a:ext cx="8051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船背稍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名其上，文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“天启壬戌秋日，虞山王毅叔远甫刻”，细若蚊足，钩画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了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其色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又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篆章一，文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初平山人”，其色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38862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e2c5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译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0066cc"/>
                </a:solidFill>
                <a:latin typeface="宋体"/>
              </a:rPr>
              <a:t>那只船的顶部较平，就在上面刻着作者的题款名字，文字是：“天启壬戌秋日，虞山王毅叔远甫刻”，字迹细得像蚊子的脚，笔画清清楚楚，它的颜色是黑的。还刻着一个篆书的图章，文字是“初平山人”，字的颜色是红色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0" y="304920"/>
            <a:ext cx="609480" cy="35856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523880" y="304920"/>
            <a:ext cx="685800" cy="35856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438280" y="304920"/>
            <a:ext cx="863640" cy="35856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写、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572000" y="380880"/>
            <a:ext cx="86364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为、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561440" y="1447920"/>
            <a:ext cx="1582560" cy="35856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清楚明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33520" y="2971800"/>
            <a:ext cx="86364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371600" y="2895480"/>
            <a:ext cx="2286000" cy="5335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敬辞，这里指“刻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809880" y="3048120"/>
            <a:ext cx="1067040" cy="35856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为、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324480" y="3048120"/>
            <a:ext cx="2087640" cy="5047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红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0" y="30492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计一舟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五；为窗八；为箬篷，为楫，为炉，为壶，为手卷，为念珠各一；对联、题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篆文，为字共三十有四。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长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寸。盖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桃核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修狭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者为之。嘻，技亦灵怪矣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320040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e2c5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译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总计（在）一条船上，刻了五个人，刻了八扇窗户；刻了竹蓬、船桨、火炉、茶壶、手卷、念珠各一件；刻对联、题名和篆文，刻的字共三十四个。可是计算它的长度还不满一寸。原来是挑选狭长的桃核刻成的。啊，这技艺也真神奇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447920" y="304920"/>
            <a:ext cx="718920" cy="35856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809880" y="1752480"/>
            <a:ext cx="129564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和，连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705720" y="1828800"/>
            <a:ext cx="160020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然而，可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8280360" y="1905120"/>
            <a:ext cx="863640" cy="35856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它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0" y="2514600"/>
            <a:ext cx="1066680" cy="304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尚、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1828800"/>
            <a:ext cx="914400" cy="304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523880" y="2514600"/>
            <a:ext cx="863640" cy="35892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挑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666880" y="2514600"/>
            <a:ext cx="1224000" cy="511200"/>
          </a:xfrm>
          <a:prstGeom prst="ellipse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长而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9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457200" y="54100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美丽的凤凰啊，你聚精会神地在看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图片1" descr=""/>
          <p:cNvPicPr/>
          <p:nvPr/>
        </p:nvPicPr>
        <p:blipFill>
          <a:blip r:embed="rId1"/>
          <a:stretch/>
        </p:blipFill>
        <p:spPr>
          <a:xfrm>
            <a:off x="0" y="1905120"/>
            <a:ext cx="8483760" cy="4641840"/>
          </a:xfrm>
          <a:prstGeom prst="rect">
            <a:avLst/>
          </a:prstGeom>
          <a:ln w="0">
            <a:noFill/>
          </a:ln>
        </p:spPr>
      </p:pic>
      <p:sp>
        <p:nvSpPr>
          <p:cNvPr id="694" name=""/>
          <p:cNvSpPr/>
          <p:nvPr/>
        </p:nvSpPr>
        <p:spPr>
          <a:xfrm>
            <a:off x="1619280" y="33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228600" y="380880"/>
            <a:ext cx="4648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华文行楷"/>
              </a:rPr>
              <a:t>请你想一想</a:t>
            </a:r>
            <a:endParaRPr b="1" lang="en-US" sz="4800" spc="-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696" name=""/>
          <p:cNvSpPr/>
          <p:nvPr/>
        </p:nvSpPr>
        <p:spPr>
          <a:xfrm>
            <a:off x="304920" y="121932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华文中宋"/>
              </a:rPr>
              <a:t>本文的作者要给我们介绍的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380880" y="4989600"/>
            <a:ext cx="368640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核舟记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5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5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课文各自然段各写了什么？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第</a:t>
            </a:r>
            <a:r>
              <a:rPr b="1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段，概括介绍雕刻艺人王叔远的精湛技艺，点明“核舟”主题</a:t>
            </a:r>
            <a:r>
              <a:rPr b="1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大苏泛赤壁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80880" y="36576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第</a:t>
            </a:r>
            <a:r>
              <a:rPr b="1" lang="en-US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段，介绍核舟大小，接着写舟的中间部分，及船舱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80880" y="5133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，介绍船头部分，着力表现苏轼、黄鲁直和佛印三人的动作、神情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1518480" y="762120"/>
            <a:ext cx="558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段，介绍船尾部分，写舟子的表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动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965240" y="1698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0" y="40384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段，总括核舟上雕刻的人、物、文字和数目， 赞扬王叔远的精巧技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0" y="2819520"/>
            <a:ext cx="87631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</a:t>
            </a:r>
            <a:r>
              <a:rPr b="1" lang="en-US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段：介绍船背上的题名和篆章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539640" y="1557360"/>
            <a:ext cx="8353440" cy="27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全文可分三部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第一部分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第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段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概述王叔远的精湛技艺，点明雕刻品“核舟”主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第二部分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第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2—5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段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详细介绍“核舟”的结构、舟上的人物和题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第三部分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第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段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总计核舟的人、物、文字数目，写作者对雕刻家技艺的赞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24000" y="404640"/>
            <a:ext cx="71625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划分课文结构，并概括各部分大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612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重点研读  讨论探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39640" y="2349360"/>
            <a:ext cx="78487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重点研读读文章第二部分 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自然段），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找出能表现王叔远技艺“</a:t>
            </a:r>
            <a:r>
              <a:rPr b="1" lang="zh-CN" sz="4000" spc="-1" strike="noStrike">
                <a:solidFill>
                  <a:srgbClr val="ff1c08"/>
                </a:solidFill>
                <a:latin typeface="Arial"/>
              </a:rPr>
              <a:t>奇巧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” 的句子或段落进行品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4360" y="5950080"/>
            <a:ext cx="1676520" cy="67284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020000" y="477720"/>
            <a:ext cx="1979640" cy="6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762120" y="205740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说明对象</a:t>
            </a:r>
            <a:r>
              <a:rPr b="0" lang="zh-CN" sz="4000" spc="-1" strike="noStrike">
                <a:solidFill>
                  <a:srgbClr val="ffff66"/>
                </a:solidFill>
                <a:latin typeface="Times New Roman"/>
                <a:ea typeface="华文隶书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57200" y="281952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说明对象的特征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590920" y="36576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体积上：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666880" y="457200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构思上：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627280" y="54450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雕刻的人、物、字数量上：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426708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99"/>
                </a:solidFill>
                <a:latin typeface="Times New Roman"/>
                <a:ea typeface="隶书"/>
              </a:rPr>
              <a:t>奇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286000" y="3733920"/>
            <a:ext cx="174600" cy="2057400"/>
          </a:xfrm>
          <a:custGeom>
            <a:avLst/>
            <a:gdLst>
              <a:gd name="textAreaLeft" fmla="*/ 111600 w 174600"/>
              <a:gd name="textAreaRight" fmla="*/ 174960 w 174600"/>
              <a:gd name="textAreaTop" fmla="*/ 68760 h 2057400"/>
              <a:gd name="textAreaBottom" fmla="*/ 198864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55"/>
                  <a:pt x="10800" y="2309"/>
                </a:cubicBezTo>
                <a:lnTo>
                  <a:pt x="10800" y="7778"/>
                </a:lnTo>
                <a:cubicBezTo>
                  <a:pt x="10800" y="8933"/>
                  <a:pt x="5400" y="10087"/>
                  <a:pt x="0" y="10087"/>
                </a:cubicBezTo>
                <a:cubicBezTo>
                  <a:pt x="5400" y="10087"/>
                  <a:pt x="10800" y="11242"/>
                  <a:pt x="10800" y="12396"/>
                </a:cubicBezTo>
                <a:lnTo>
                  <a:pt x="10800" y="19291"/>
                </a:lnTo>
                <a:cubicBezTo>
                  <a:pt x="10800" y="20446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09480" y="12952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研读第</a:t>
            </a:r>
            <a:r>
              <a:rPr b="1" lang="en-US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2-----5</a:t>
            </a: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段，思考讨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809880" y="1981080"/>
            <a:ext cx="25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00"/>
                </a:solidFill>
                <a:latin typeface="Arial"/>
                <a:ea typeface="华文行楷"/>
              </a:rPr>
              <a:t>核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2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231840" y="3505320"/>
            <a:ext cx="10033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96633"/>
                </a:solidFill>
                <a:latin typeface="Times New Roman"/>
                <a:ea typeface="隶书"/>
              </a:rPr>
              <a:t>核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590920" y="2819520"/>
            <a:ext cx="694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华文行楷"/>
                <a:ea typeface="华文行楷"/>
              </a:rPr>
              <a:t>轩敞；箬篷；八扇小窗开关；  雕栏相对；对联；字的颜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80880" y="1143000"/>
            <a:ext cx="632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隶书"/>
                <a:ea typeface="隶书"/>
              </a:rPr>
              <a:t>如何具体说明奇巧</a:t>
            </a:r>
            <a:r>
              <a:rPr b="1" lang="en-US" sz="4800" spc="-1" strike="noStrike">
                <a:solidFill>
                  <a:srgbClr val="cc0000"/>
                </a:solidFill>
                <a:latin typeface="隶书"/>
                <a:ea typeface="隶书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666880" y="396396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cc"/>
                </a:solidFill>
                <a:latin typeface="华文行楷"/>
                <a:ea typeface="华文行楷"/>
              </a:rPr>
              <a:t>游览者的外貌</a:t>
            </a:r>
            <a:r>
              <a:rPr b="0" lang="en-US" sz="4000" spc="-1" strike="noStrike">
                <a:solidFill>
                  <a:srgbClr val="cc00cc"/>
                </a:solidFill>
                <a:latin typeface="华文行楷"/>
                <a:ea typeface="华文行楷"/>
              </a:rPr>
              <a:t>;</a:t>
            </a:r>
            <a:r>
              <a:rPr b="0" lang="zh-CN" sz="4000" spc="-1" strike="noStrike">
                <a:solidFill>
                  <a:srgbClr val="cc00cc"/>
                </a:solidFill>
                <a:latin typeface="华文行楷"/>
                <a:ea typeface="华文行楷"/>
              </a:rPr>
              <a:t>姿态</a:t>
            </a:r>
            <a:r>
              <a:rPr b="0" lang="en-US" sz="4000" spc="-1" strike="noStrike">
                <a:solidFill>
                  <a:srgbClr val="cc00cc"/>
                </a:solidFill>
                <a:latin typeface="华文行楷"/>
                <a:ea typeface="华文行楷"/>
              </a:rPr>
              <a:t>;</a:t>
            </a:r>
            <a:r>
              <a:rPr b="0" lang="zh-CN" sz="4000" spc="-1" strike="noStrike">
                <a:solidFill>
                  <a:srgbClr val="cc00cc"/>
                </a:solidFill>
                <a:latin typeface="华文行楷"/>
                <a:ea typeface="华文行楷"/>
              </a:rPr>
              <a:t>神情</a:t>
            </a:r>
            <a:r>
              <a:rPr b="0" lang="en-US" sz="4000" spc="-1" strike="noStrike">
                <a:solidFill>
                  <a:srgbClr val="cc00cc"/>
                </a:solidFill>
                <a:latin typeface="华文行楷"/>
                <a:ea typeface="华文行楷"/>
              </a:rPr>
              <a:t>; </a:t>
            </a:r>
            <a:r>
              <a:rPr b="0" lang="zh-CN" sz="4000" spc="-1" strike="noStrike">
                <a:solidFill>
                  <a:srgbClr val="cc00cc"/>
                </a:solidFill>
                <a:latin typeface="华文行楷"/>
                <a:ea typeface="华文行楷"/>
              </a:rPr>
              <a:t>衣褶 </a:t>
            </a:r>
            <a:r>
              <a:rPr b="0" lang="en-US" sz="4000" spc="-1" strike="noStrike">
                <a:solidFill>
                  <a:srgbClr val="cc00cc"/>
                </a:solidFill>
                <a:latin typeface="华文行楷"/>
                <a:ea typeface="华文行楷"/>
              </a:rPr>
              <a:t>;</a:t>
            </a:r>
            <a:r>
              <a:rPr b="0" lang="zh-CN" sz="4000" spc="-1" strike="noStrike">
                <a:solidFill>
                  <a:srgbClr val="cc00cc"/>
                </a:solidFill>
                <a:latin typeface="华文行楷"/>
                <a:ea typeface="华文行楷"/>
              </a:rPr>
              <a:t>念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514600" y="510552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舟子的神情和姿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514600" y="586728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题字</a:t>
            </a:r>
            <a:r>
              <a:rPr b="0" lang="en-US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.</a:t>
            </a:r>
            <a:r>
              <a:rPr b="0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篆文的笔画细</a:t>
            </a:r>
            <a:r>
              <a:rPr b="0" lang="en-US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,</a:t>
            </a:r>
            <a:r>
              <a:rPr b="0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清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143000" y="2058840"/>
            <a:ext cx="304920" cy="4265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11240 h 4265640"/>
              <a:gd name="textAreaBottom" fmla="*/ 4154400 h 426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819520" y="2057400"/>
            <a:ext cx="21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长、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371600" y="1905120"/>
            <a:ext cx="276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华文行楷"/>
              </a:rPr>
              <a:t>体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371600" y="2666880"/>
            <a:ext cx="226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华文行楷"/>
              </a:rPr>
              <a:t>船舱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华文行楷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295280" y="396252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华文行楷"/>
              </a:rPr>
              <a:t>船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371600" y="502920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华文行楷"/>
                <a:ea typeface="华文行楷"/>
              </a:rPr>
              <a:t>船尾</a:t>
            </a:r>
            <a:r>
              <a:rPr b="0" lang="en-US" sz="4000" spc="-1" strike="noStrike">
                <a:solidFill>
                  <a:srgbClr val="800000"/>
                </a:solidFill>
                <a:latin typeface="华文行楷"/>
                <a:ea typeface="华文行楷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371600" y="58672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Times New Roman"/>
                <a:ea typeface="华文行楷"/>
              </a:rPr>
              <a:t>船背</a:t>
            </a:r>
            <a:r>
              <a:rPr b="0" lang="en-US" sz="4000" spc="-1" strike="noStrike">
                <a:solidFill>
                  <a:srgbClr val="800000"/>
                </a:solidFill>
                <a:latin typeface="华文行楷"/>
                <a:ea typeface="华文行楷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3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42472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文题目有“记”字，是否意味着是记叙文？它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桃花源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不是同一种文体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80880" y="457200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从对象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桃花源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记的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记叙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核舟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记的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工艺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从语言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桃花源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用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描写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核舟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多用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00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529240"/>
            <a:ext cx="1143000" cy="1176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609480" y="2743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这是一篇介绍事物的说明文。题目中的“记”在这里是</a:t>
            </a:r>
            <a:r>
              <a:rPr b="1" lang="zh-CN" sz="28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描述、摹写的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意思。文章全面而如实地描述了雕刻在核舟上的人和物，活灵活现，使人能领会神奇的雕刻技巧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609480" y="990720"/>
            <a:ext cx="417672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拓展延伸  探究文体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8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3" dur="500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0" y="6094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课文如此细致地介绍核舟这雕刻品的艺术形象，说明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28600" y="25909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说明雕刻家构思的巧妙，赞美他的高超技艺，也显示出我国古代工艺美术的卓越成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/>
          </p:nvPr>
        </p:nvSpPr>
        <p:spPr>
          <a:xfrm>
            <a:off x="533160" y="2209680"/>
            <a:ext cx="813564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1" lang="zh-CN" sz="3200" spc="-1" strike="noStrike">
                <a:solidFill>
                  <a:srgbClr val="990033"/>
                </a:solidFill>
                <a:latin typeface="华文中宋"/>
                <a:ea typeface="华文中宋"/>
              </a:rPr>
              <a:t>课文通过介绍王叔远雕刻核舟的高超技艺，反映了我国古代雕刻艺术的伟大成就。篇幅虽短，却说明顺序合理，就连雕刻家的艺术构思都介绍得淋漓有致，确实令人惊叹。这要靠什么？一方面靠细致的观察，深入的思考；另一方面靠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华文中宋"/>
                <a:ea typeface="华文中宋"/>
              </a:rPr>
              <a:t>体的描绘和生动的说明。这无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华文中宋"/>
                <a:ea typeface="华文中宋"/>
              </a:rPr>
              <a:t>给我们以很多启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685800" y="1295280"/>
            <a:ext cx="251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小结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44" name="001" descr=""/>
          <p:cNvPicPr/>
          <p:nvPr/>
        </p:nvPicPr>
        <p:blipFill>
          <a:blip r:embed="rId1"/>
          <a:stretch/>
        </p:blipFill>
        <p:spPr>
          <a:xfrm>
            <a:off x="6477120" y="4724280"/>
            <a:ext cx="2514600" cy="13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x183" descr=""/>
          <p:cNvPicPr/>
          <p:nvPr/>
        </p:nvPicPr>
        <p:blipFill>
          <a:blip r:embed="rId1"/>
          <a:stretch/>
        </p:blipFill>
        <p:spPr>
          <a:xfrm>
            <a:off x="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6969600" y="1828800"/>
            <a:ext cx="1155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金丝猴，你要跑到哪儿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/>
          </p:nvPr>
        </p:nvSpPr>
        <p:spPr>
          <a:xfrm>
            <a:off x="-360" y="1218960"/>
            <a:ext cx="6095880" cy="53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宫室、器皿、人物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势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    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余核舟一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舟首尾长约八分有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高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黍许中轩敞者        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清风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来，水波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兴   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中峨冠而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者为东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其两膝相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者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228600" y="762120"/>
            <a:ext cx="1009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释义</a:t>
            </a:r>
            <a:endParaRPr b="0" lang="en-US" sz="40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747" name=""/>
          <p:cNvSpPr/>
          <p:nvPr/>
        </p:nvSpPr>
        <p:spPr>
          <a:xfrm>
            <a:off x="5029200" y="12193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做，这里指雕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581280" y="167652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无不，全都。顺着、就着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模仿，这里指雕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111920" y="2765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171760" y="3305160"/>
            <a:ext cx="98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jī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零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784120" y="4038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大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322960" y="4441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缓缓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934320" y="4495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551560" y="5029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指胡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565160" y="5737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靠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0" y="685800"/>
            <a:ext cx="446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佛印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绝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弥勒 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舟尾横卧一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     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其船背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虞山王毅叔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刻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0" y="3276720"/>
            <a:ext cx="4826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钩画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了了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其色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墨 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其色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丹                     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五；为窗八 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而计其长曾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寸       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盖简桃核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修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者为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419720" y="380880"/>
            <a:ext cx="4724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250920" y="189000"/>
            <a:ext cx="1009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释义</a:t>
            </a:r>
            <a:endParaRPr b="0" lang="en-US" sz="40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760" name=""/>
          <p:cNvSpPr/>
          <p:nvPr/>
        </p:nvSpPr>
        <p:spPr>
          <a:xfrm>
            <a:off x="3654720" y="936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800600" y="83808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107960" y="1622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船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572000" y="2286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772600" y="2666880"/>
            <a:ext cx="263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通“父”古代男子的美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多附于字之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971800" y="312408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清清楚楚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959640" y="375588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黑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267080" y="4267080"/>
            <a:ext cx="12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红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950360" y="4670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797720" y="5280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322960" y="57373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长而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8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8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8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3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3846960" y="14698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间戴着高高的帽子、胡须浓密的是苏东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380880" y="914400"/>
            <a:ext cx="48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中峨冠而多髯者为东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11840" y="1224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句子翻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57200" y="213372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28600" y="2286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膝相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者，各隐卷底衣褶中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945880" y="3152880"/>
            <a:ext cx="331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他们互相靠近的两膝， 都隐蔽在手卷下边的衣褶里。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736720" y="385272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其人视端容寂，若听茶声然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04920" y="47242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那个人的眼睛正看着茶壶，神色平静，好像在听烧茶的声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6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1" dur="5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6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838080" y="228600"/>
            <a:ext cx="295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作业：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50920" y="155736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一定也有自己特别喜欢的小东西，请向我们介绍一下吧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1116000" y="5877000"/>
            <a:ext cx="1676520" cy="673200"/>
          </a:xfrm>
          <a:prstGeom prst="rect">
            <a:avLst/>
          </a:prstGeom>
          <a:ln w="0">
            <a:noFill/>
          </a:ln>
        </p:spPr>
      </p:pic>
      <p:sp>
        <p:nvSpPr>
          <p:cNvPr id="782" name=""/>
          <p:cNvSpPr/>
          <p:nvPr/>
        </p:nvSpPr>
        <p:spPr>
          <a:xfrm>
            <a:off x="395280" y="2997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空间顺序介绍一件你喜欢的物品，要求思路清晰，层次分明，重点突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6443640" y="5445000"/>
            <a:ext cx="1943280" cy="990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shti1" descr=""/>
          <p:cNvPicPr/>
          <p:nvPr/>
        </p:nvPicPr>
        <p:blipFill>
          <a:blip r:embed="rId1"/>
          <a:stretch/>
        </p:blipFill>
        <p:spPr>
          <a:xfrm>
            <a:off x="77760" y="76320"/>
            <a:ext cx="5637240" cy="647676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6328080" y="762120"/>
            <a:ext cx="11552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佛祖啊，请你保佑这世上善良的人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hezhouji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5180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76320" y="52578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外型样式及材料、尺寸：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</a:rPr>
              <a:t>汽船型牛角冻石；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3.9CM*2.05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微刻内容、字数、刻写面积：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</a:rPr>
              <a:t>上等名贵石料刻魏学洢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</a:rPr>
              <a:t>核舟记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</a:rPr>
              <a:t>；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543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</a:rPr>
              <a:t>字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2008082418262743" descr=""/>
          <p:cNvPicPr/>
          <p:nvPr/>
        </p:nvPicPr>
        <p:blipFill>
          <a:blip r:embed="rId1"/>
          <a:stretch/>
        </p:blipFill>
        <p:spPr>
          <a:xfrm>
            <a:off x="34920" y="1068480"/>
            <a:ext cx="8872560" cy="5484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核舟4" descr=""/>
          <p:cNvPicPr/>
          <p:nvPr/>
        </p:nvPicPr>
        <p:blipFill>
          <a:blip r:embed="rId1"/>
          <a:stretch/>
        </p:blipFill>
        <p:spPr>
          <a:xfrm>
            <a:off x="4800600" y="3733920"/>
            <a:ext cx="3733920" cy="2643120"/>
          </a:xfrm>
          <a:prstGeom prst="rect">
            <a:avLst/>
          </a:prstGeom>
          <a:ln w="0">
            <a:noFill/>
          </a:ln>
        </p:spPr>
      </p:pic>
      <p:pic>
        <p:nvPicPr>
          <p:cNvPr id="557" name="1" descr="">
            <a:hlinkClick r:id="rId2"/>
          </p:cNvPr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400800" y="2209680"/>
            <a:ext cx="2363760" cy="1204920"/>
          </a:xfrm>
          <a:prstGeom prst="rect">
            <a:avLst/>
          </a:prstGeom>
          <a:ln w="0">
            <a:noFill/>
          </a:ln>
        </p:spPr>
      </p:pic>
      <p:pic>
        <p:nvPicPr>
          <p:cNvPr id="558" name="1" descr=""/>
          <p:cNvPicPr/>
          <p:nvPr/>
        </p:nvPicPr>
        <p:blipFill>
          <a:blip r:embed="rId4"/>
          <a:stretch/>
        </p:blipFill>
        <p:spPr>
          <a:xfrm>
            <a:off x="3048120" y="3124080"/>
            <a:ext cx="1806480" cy="3429000"/>
          </a:xfrm>
          <a:prstGeom prst="rect">
            <a:avLst/>
          </a:prstGeom>
          <a:ln w="0">
            <a:noFill/>
          </a:ln>
        </p:spPr>
      </p:pic>
      <p:pic>
        <p:nvPicPr>
          <p:cNvPr id="559" name="1" descr="">
            <a:hlinkClick r:id="rId5"/>
          </p:cNvPr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533520" y="533520"/>
            <a:ext cx="5700600" cy="2908080"/>
          </a:xfrm>
          <a:prstGeom prst="rect">
            <a:avLst/>
          </a:prstGeom>
          <a:ln w="0">
            <a:noFill/>
          </a:ln>
        </p:spPr>
      </p:pic>
      <p:pic>
        <p:nvPicPr>
          <p:cNvPr id="560" name="002" descr=""/>
          <p:cNvPicPr/>
          <p:nvPr/>
        </p:nvPicPr>
        <p:blipFill>
          <a:blip r:embed="rId7"/>
          <a:stretch/>
        </p:blipFill>
        <p:spPr>
          <a:xfrm rot="18120000">
            <a:off x="-465120" y="3817800"/>
            <a:ext cx="3610080" cy="14605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609480" y="1143000"/>
            <a:ext cx="312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核舟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866680" y="3581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魏学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陈教学2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174920" cy="2541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05:45:54Z</dcterms:created>
  <dc:creator/>
  <dc:description/>
  <dc:language>en-US</dc:language>
  <cp:lastModifiedBy>xx</cp:lastModifiedBy>
  <dcterms:modified xsi:type="dcterms:W3CDTF">2011-10-26T01:14:39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  <property fmtid="{D5CDD505-2E9C-101B-9397-08002B2CF9AE}" pid="3" name="Version">
    <vt:r8>1</vt:r8>
  </property>
</Properties>
</file>