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FD0F-B9F0-4CF4-B9ED-563A72B8B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69A0-E6D3-477F-B6FE-8C0171EA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5CD7-B8D1-433C-B25F-526D96C0C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6CDD-370B-45F1-8C60-2D8A6FAFE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38D4B-C358-44E4-AFEE-BB4AA8538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B56B4-77ED-463B-9549-D280FB5E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074EA-A855-41AF-83D6-6A84625D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B5A08-8526-4247-9C55-8B09DDB1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032A6-4BA4-4799-A532-0D07DEC1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CB91D-9104-4059-B2F6-97A0177A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7818D-EA2C-41E8-9FEE-9F13A916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EB3F-E7E5-4D67-BDFE-1D9E5D36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E3941-6BDE-4EF1-A96F-852DB30B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839D6-884F-4D77-9B74-A38CDCAA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58993-EB19-45AA-83CF-5735CF20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EE369-D493-43B9-8E01-3BAF64D3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226C7-AD0E-4961-A81C-2336E29C4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9FF98-03AE-4580-8245-4874FC000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33B6C-8FD8-47AD-A818-8370E646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7C1E8-90BD-472C-9BD3-C52BDCA7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7E412-5509-4739-A03B-6AA0A580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5C4E5-A76A-416D-B332-8A4C7367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E435-2DAA-402F-9323-5DB6C134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92711-C245-49A1-A2DA-937311A7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40436-6DA5-4435-818A-3AB657DF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EF6EF-6A23-46A8-A190-617236E2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85754-01D9-4105-BAC6-2E76D193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3940F-92F9-4020-ADA6-79D5A020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910B0-4300-4BE5-83E7-5D1E4C326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4A9B5-2843-4CEA-B500-0E893BB90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3141D-1EE7-4695-BFD4-81AE76503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6C58E-E189-47C8-AA07-900118BB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3E47A-1253-4CC7-9C41-DC2CB240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A071-78FD-4EDA-ABA2-D6798A77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B2CAF-2ADA-439C-A451-BD245463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9A26A-1CF7-4262-9B2C-E62D2931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22BD8-FB6C-46F9-A67E-8AF4D6E2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11CD3-1F09-4149-ADEF-ACCFA92D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8CE54-465F-4305-8F81-481E51FC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C4033-4BEE-4421-9AB2-BB3EC816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4A46C-7C52-4501-B1CC-DA72FA79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8D85B-DF2F-44E3-AD81-DB4A686A0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71D69-2549-4F84-B218-A6BF2C539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76000-306B-4F37-977D-055A16F19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96DA-FF34-4068-8986-CA4C46BF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ED483-73CD-44A2-9DE2-C7094A5C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96DDD-3C90-4FFF-8BFD-426319D7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1CFFF-8B93-49AA-8E76-E2B0FCC3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2A5DC-3236-4EFF-8CE5-4727C097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5FE6D-371A-435F-A48A-A15595EE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F7FD9-E15D-47FE-9B73-026B40DC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D3C0C-90C4-47DE-9C7B-16F3E74E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4A893-77D7-4DC4-9D8C-E13ECD8B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810DD-59A7-4456-8453-8833C771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620E2-8E45-48AF-A970-3032B68DF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91DE-8838-487D-B844-245AACCE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77828-8B92-4CC8-9F58-42AE3C97B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ACBE3-4CBA-4BA9-8964-244E584B0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2D621-81B6-4DED-8674-CB2C5923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71792-0553-417A-B2C0-6E2FC0DB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0CA3E-D5F8-4A94-8F1D-A8FFEB27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4CA12-BB6D-486B-8C3E-04A0EDF0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88C25-B40D-4FD5-8383-814419D4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4779D-1416-4D52-BBAA-55D54EB2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BDF5F-BBA7-433E-ACF9-1A9F088B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E3E8E-B629-4DD0-9FD4-C22C7A84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0C20-14FB-4CFF-A1E9-295A5601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0100B-2FFA-4F09-A326-26874CD9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7FD4C-9D37-43C7-B06B-1FD8DD59E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18E28-7AD6-4593-B860-EA1F7B413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3913-5CED-4515-9AD1-9EDB5175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B16A-1651-4BF6-BFC5-AC382D59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F526-6C69-48EB-87D2-EF7BA7089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未知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F5B9-1B24-4F17-A890-8ADB4DAD3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FF9E-1455-4899-AC96-87DF0BCFE4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6FC7-167D-4A95-85B7-788D085EC4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89B0-8A20-4AFD-AFF0-A0DB0425A2D6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6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ftr" idx="17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8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C30C-F3F9-41AC-ABBF-46E79C20CC37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&#26680;&#33311;&#27604;&#20363;&#22270;.jpg" TargetMode="External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640872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600" spc="-1" strike="noStrike">
                <a:solidFill>
                  <a:srgbClr val="ff0000"/>
                </a:solidFill>
                <a:latin typeface="Tahoma"/>
                <a:ea typeface="华文行楷"/>
              </a:rPr>
              <a:t>核舟记</a:t>
            </a:r>
            <a:endParaRPr b="0" lang="en-US" sz="10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5832360" y="2492280"/>
            <a:ext cx="205272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cccc"/>
                </a:solidFill>
                <a:latin typeface="Tahoma"/>
                <a:ea typeface="黑体"/>
              </a:rPr>
              <a:t>魏学洢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rcRect l="4276" t="0" r="0" b="7216"/>
          <a:stretch/>
        </p:blipFill>
        <p:spPr>
          <a:xfrm>
            <a:off x="250920" y="3500280"/>
            <a:ext cx="6408720" cy="3168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0" y="1300320"/>
            <a:ext cx="8350200" cy="42573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4572000" y="3716280"/>
            <a:ext cx="3024360" cy="2521080"/>
          </a:xfrm>
          <a:custGeom>
            <a:avLst/>
            <a:gdLst>
              <a:gd name="textAreaLeft" fmla="*/ 1022760 w 3024360"/>
              <a:gd name="textAreaRight" fmla="*/ 2260800 w 3024360"/>
              <a:gd name="textAreaTop" fmla="*/ 1717200 h 2521080"/>
              <a:gd name="textAreaBottom" fmla="*/ 1884600 h 2521080"/>
            </a:gdLst>
            <a:ahLst/>
            <a:rect l="textAreaLeft" t="textAreaTop" r="textAreaRight" b="textAreaBottom"/>
            <a:pathLst>
              <a:path w="21600" h="21600">
                <a:moveTo>
                  <a:pt x="0" y="20165"/>
                </a:moveTo>
                <a:lnTo>
                  <a:pt x="14711" y="20165"/>
                </a:lnTo>
                <a:lnTo>
                  <a:pt x="14711" y="7304"/>
                </a:lnTo>
                <a:lnTo>
                  <a:pt x="9257" y="7304"/>
                </a:lnTo>
                <a:lnTo>
                  <a:pt x="15429" y="0"/>
                </a:lnTo>
                <a:lnTo>
                  <a:pt x="21600" y="7304"/>
                </a:lnTo>
                <a:lnTo>
                  <a:pt x="16146" y="7304"/>
                </a:lnTo>
                <a:lnTo>
                  <a:pt x="16146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00000" y="5557680"/>
            <a:ext cx="39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华文行楷"/>
              </a:rPr>
              <a:t>舟尾横卧一楫，楫左右舟子各一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10800000">
            <a:off x="2880" y="548640"/>
            <a:ext cx="3056040" cy="2757240"/>
          </a:xfrm>
          <a:custGeom>
            <a:avLst/>
            <a:gdLst>
              <a:gd name="textAreaLeft" fmla="*/ 1172880 w 3056040"/>
              <a:gd name="textAreaRight" fmla="*/ 2222640 w 3056040"/>
              <a:gd name="textAreaTop" fmla="*/ 1810440 h 2757240"/>
              <a:gd name="textAreaBottom" fmla="*/ 2005200 h 2757240"/>
            </a:gdLst>
            <a:ahLst/>
            <a:rect l="textAreaLeft" t="textAreaTop" r="textAreaRight" b="textAreaBottom"/>
            <a:pathLst>
              <a:path w="21600" h="21600">
                <a:moveTo>
                  <a:pt x="0" y="20073"/>
                </a:moveTo>
                <a:lnTo>
                  <a:pt x="14182" y="20073"/>
                </a:lnTo>
                <a:lnTo>
                  <a:pt x="14182" y="8291"/>
                </a:lnTo>
                <a:lnTo>
                  <a:pt x="8291" y="8291"/>
                </a:lnTo>
                <a:lnTo>
                  <a:pt x="14946" y="0"/>
                </a:lnTo>
                <a:lnTo>
                  <a:pt x="21600" y="8291"/>
                </a:lnTo>
                <a:lnTo>
                  <a:pt x="15709" y="8291"/>
                </a:lnTo>
                <a:lnTo>
                  <a:pt x="15709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25884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华文行楷"/>
              </a:rPr>
              <a:t>船头坐三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5003640" y="620640"/>
            <a:ext cx="3073680" cy="58327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3059280" y="1630440"/>
            <a:ext cx="2590560" cy="503280"/>
          </a:xfrm>
          <a:prstGeom prst="rightArrow">
            <a:avLst>
              <a:gd name="adj1" fmla="val 50000"/>
              <a:gd name="adj2" fmla="val 128684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53160" y="800280"/>
            <a:ext cx="667800" cy="56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华文行楷"/>
              </a:rPr>
              <a:t>其船背稍夷，则题名其上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04920" y="52236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明    有    奇    巧        人曰    王叔远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90520" y="8827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明朝有个特别手巧的人名叫王叔远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79280" y="36925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尝    贻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余核舟一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79280" y="412416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他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曾经赠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给我一个用桃核雕刻成的小船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95280" y="955800"/>
            <a:ext cx="844236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04920" y="155592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能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以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径    寸    之木，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宫室、器皿、人物，以至鸟兽、木        石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90520" y="2022480"/>
            <a:ext cx="885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能够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用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直径一寸的木头，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雕刻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房屋、器具、人物，以及鸟兽、树木、石头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95280" y="2017800"/>
            <a:ext cx="844236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79280" y="2611440"/>
            <a:ext cx="9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罔不    因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势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象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，                       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具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情态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79280" y="3030480"/>
            <a:ext cx="9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没有不顺着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木头原来的样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模仿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那些东西的形状，各有各的情态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4000" y="3043080"/>
            <a:ext cx="844200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6360" y="4124160"/>
            <a:ext cx="844236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2120" y="473076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盖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苏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泛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赤壁云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2120" y="516240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原来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刻的是苏东坡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坐船游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赤壁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06360" y="5162400"/>
            <a:ext cx="844236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24000" y="37944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舟    首    尾长约    八分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有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   高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二    黍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许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4000" y="7398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船从头到尾长大约八分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多一点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高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大约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两粒黍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左右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4000" y="34765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启    窗而    观，雕                    栏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相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焉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24000" y="39085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打开窗户来看，雕刻有花纹的栏杆左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相对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95280" y="812880"/>
            <a:ext cx="844236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04920" y="14130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    轩        敞    者        为舱，        箬篷                        覆        之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0520" y="1803240"/>
            <a:ext cx="88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中间高起而宽敞的部分是船舱，用篛竹叶做成的船篷覆盖着它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95280" y="1874880"/>
            <a:ext cx="844236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4920" y="246852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旁    开    小窗，左右各四，        共    八扇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90520" y="2887560"/>
            <a:ext cx="88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旁边开着小窗，左右各有四扇，一共八扇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95280" y="2900520"/>
            <a:ext cx="844236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95280" y="3908520"/>
            <a:ext cx="844236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4920" y="44370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闭     之，   则        右    刻    “山高月小，水落石出”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04920" y="48690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关上窗户，就看到右边刻着“山高月小，水落石出”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76200" y="4869000"/>
            <a:ext cx="844236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4920" y="53262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左    刻    “清风徐来，水波不兴”，    石青糁之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575784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左边刻着“清风徐来，水波不兴”，用石青涂在刻着字的凹处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76200" y="5757840"/>
            <a:ext cx="844236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250920" y="37944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船头坐   三    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            峨       冠    而       多    髯   者    为东坡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90520" y="825480"/>
            <a:ext cx="8853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ff"/>
                </a:solidFill>
                <a:latin typeface="Times New Roman"/>
              </a:rPr>
              <a:t>船头坐着三个人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300" spc="-1" strike="noStrike">
                <a:solidFill>
                  <a:srgbClr val="0000ff"/>
                </a:solidFill>
                <a:latin typeface="Times New Roman"/>
              </a:rPr>
              <a:t>中间戴着高高的帽子并且有很多胡须的人是苏东坡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,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50920" y="438624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鲁直左手执    卷        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右手指    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有所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0920" y="484344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鲁直左手拿着横幅的末端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右手指着书画横幅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好像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说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什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话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95280" y="812880"/>
            <a:ext cx="844236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04920" y="14130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佛印居        右，    鲁直居        左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0520" y="18446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佛印在他的右边，鲁直在他的左边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5280" y="1874880"/>
            <a:ext cx="844236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246852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苏            黄       共     阅一手卷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90520" y="2887560"/>
            <a:ext cx="88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苏东坡、黄鲁直一起看一幅书画横幅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95280" y="2900520"/>
            <a:ext cx="844236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5280" y="4843440"/>
            <a:ext cx="844236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920" y="33876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东坡        右手执    卷                端，        左手抚    鲁直    背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90520" y="3807000"/>
            <a:ext cx="88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苏东坡用右手拿着书画横幅的右端，用左手轻按鲁直的脊背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95280" y="3819600"/>
            <a:ext cx="844236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35080" y="539424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东坡    现    右足，鲁直    现    左足，各    微    侧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35080" y="5851440"/>
            <a:ext cx="85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苏东坡露出右脚，黄鲁直露出左脚，各自略微侧着身子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79440" y="5851440"/>
            <a:ext cx="844236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79280" y="37944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两膝相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者，                     各    隐        卷            底        衣褶中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79280" y="806400"/>
            <a:ext cx="93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他们的互相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靠近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两个膝盖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各自隐蔽在书画横幅下面的衣褶里面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04920" y="34765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卧       右膝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右臂支         船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4000" y="39085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佛印平放着右膝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弯曲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着右臂支撑在船上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50920" y="812880"/>
            <a:ext cx="858672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14130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佛印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弥勒，        袒    胸    露    乳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90520" y="18194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佛印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像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弥勒菩萨，敞开胸襟露出两乳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95280" y="1874880"/>
            <a:ext cx="844236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246852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矫首昂视，神    情    与苏            黄       不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90520" y="2887560"/>
            <a:ext cx="88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抬头仰望，神态表情和苏东坡、黄鲁直不相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类似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95280" y="2900520"/>
            <a:ext cx="844236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95280" y="3908520"/>
            <a:ext cx="844236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71440" y="44118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竖    其    左膝，左臂挂    念珠倚    之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90520" y="484344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并竖起他的左膝，左臂挂着念珠靠着左膝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61800" y="4843440"/>
            <a:ext cx="844236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66840" y="54450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珠    可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历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数也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66840" y="58770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念珠可以清清楚楚地数出来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41280" y="5877000"/>
            <a:ext cx="844236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04920" y="37944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舟尾横卧    一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    楫        左右            舟子各一人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90520" y="8110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船尾横放着一支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船桨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。船桨的左右两边各有一个船工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4920" y="34765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居左    者        右手执    蒲葵扇，左手抚    炉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90520" y="39337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在左边的船工右手拿着蒲葵扇，左手摸着炉子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5280" y="812880"/>
            <a:ext cx="844236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04920" y="14130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居右    者            椎        髻    仰    面，左手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一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木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90520" y="18194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在右边的人梳着椎形的发髻仰着脸，左手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靠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着一根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横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木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5280" y="1874880"/>
            <a:ext cx="844236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04920" y="246852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右手攀    右趾，        若    啸呼            状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90520" y="2960640"/>
            <a:ext cx="88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右手扳着右脚趾头，好像大声呼叫的样子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95280" y="2900520"/>
            <a:ext cx="844236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95280" y="3908520"/>
            <a:ext cx="844236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90520" y="44593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炉    上    有    壶，其人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视    端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容    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76120" y="49165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炉子上面有个壶，那个人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眼睛正视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着茶炉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神色平静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880" y="4890960"/>
            <a:ext cx="844236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90520" y="54673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听茶声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6120" y="59245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好像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在听茶水烧开了没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样子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80880" y="5899320"/>
            <a:ext cx="844236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304920" y="7398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    船    背    稍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则题名其上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0520" y="11714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那只船的背部较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平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就在它的上面刻上了姓名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24000" y="38368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又用    篆        章一，    文    曰“初平山人”，其    色        丹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24000" y="434016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还刻着篆字图章一枚，文字是“初平山人”，它的颜色是红的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95280" y="1173240"/>
            <a:ext cx="844236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177336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    曰“天启壬戌秋日，虞山王毅叔远甫刻”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90520" y="22525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文字是“天启壬戌秋日，虞山王毅叔远甫刻”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95280" y="2235240"/>
            <a:ext cx="844236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04920" y="285264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细       若蚊    足，钩画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了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       其    色        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90520" y="3321000"/>
            <a:ext cx="88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字迹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细小得像蚊子脚，一笔一画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清楚明白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它的颜色是黑的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95280" y="3260880"/>
            <a:ext cx="844236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95280" y="4268880"/>
            <a:ext cx="844236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304920" y="37944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计一    舟，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人五，    为    窗    八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90520" y="8110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总计一条船上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刻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有人五个，刻有窗户八扇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24000" y="39798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    计    其    长，    曾    不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寸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4000" y="43894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可是计算它的长度，竟然不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满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一寸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95280" y="812880"/>
            <a:ext cx="844236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04920" y="12682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    箬                篷，    为    楫，    为    炉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90520" y="17478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刻有箬竹叶做的船篷，刻有船桨，刻有炉子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5280" y="1730520"/>
            <a:ext cx="844236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04920" y="306864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联、题名并篆文，为   字     共三十有四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90520" y="3535200"/>
            <a:ext cx="88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对联、题名和篆文，刻有文字共三十四个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95280" y="3500280"/>
            <a:ext cx="844236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95280" y="4389480"/>
            <a:ext cx="844236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43000" y="22050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    壶，    为    手卷，        为    念珠各一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28600" y="26845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刻有茶壶，刻有书画横幅，刻有念珠各一件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33360" y="2666880"/>
            <a:ext cx="844236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4000" y="484344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盖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简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桃核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修    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者为之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43080" y="52768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原来是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挑选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桃核中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长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窄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雕刻成的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14360" y="5276880"/>
            <a:ext cx="844236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60360" y="57085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嘻！技    亦    灵怪矣哉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79440" y="61405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啊，技艺也真神奇啊 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50720" y="6140520"/>
            <a:ext cx="844236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304920" y="7621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文章一开头，作者如何围绕“奇巧”二字介绍雕刻者王叔远的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04920" y="115920"/>
            <a:ext cx="714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华文行楷"/>
                <a:ea typeface="华文行楷"/>
              </a:rPr>
              <a:t>朗读全文</a:t>
            </a:r>
            <a:r>
              <a:rPr b="1" lang="en-US" sz="4000" spc="-1" strike="noStrike">
                <a:solidFill>
                  <a:srgbClr val="0033cc"/>
                </a:solidFill>
                <a:latin typeface="华文行楷"/>
                <a:ea typeface="华文行楷"/>
              </a:rPr>
              <a:t>,</a:t>
            </a:r>
            <a:r>
              <a:rPr b="1" lang="zh-CN" sz="4000" spc="-1" strike="noStrike">
                <a:solidFill>
                  <a:srgbClr val="0033cc"/>
                </a:solidFill>
                <a:latin typeface="华文行楷"/>
                <a:ea typeface="华文行楷"/>
              </a:rPr>
              <a:t>思考下列问题</a:t>
            </a:r>
            <a:r>
              <a:rPr b="1" lang="en-US" sz="4000" spc="-1" strike="noStrike">
                <a:solidFill>
                  <a:srgbClr val="0033cc"/>
                </a:solidFill>
                <a:latin typeface="华文行楷"/>
                <a:ea typeface="华文行楷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636280" y="4842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找出表示核舟主题的句子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17440" y="18446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        “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奇巧”意为奇妙精巧，反映出王叔远雕刻技艺的特点。为了说明这一点，作者用“径木”强调雕刻材料的微小：用“宫室”“器皿”“人物”“鸟兽”“木石”概括指出其雕刻题材之广泛；用“因势象形，各具情态”突出其雕刻手艺之卓越；用“罔不”说明所雕刻的东西无一不精，进一步印证“奇巧”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68360" y="5502240"/>
            <a:ext cx="791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盖大苏泛赤壁云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-34920" y="12600"/>
            <a:ext cx="9137520" cy="67820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660680" y="490680"/>
            <a:ext cx="482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核  舟   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11280" y="490680"/>
            <a:ext cx="2191320" cy="61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Arial"/>
              </a:rPr>
              <a:t>兰溪市城南初中</a:t>
            </a:r>
            <a:r>
              <a:rPr b="0" lang="zh-CN" sz="6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5960" y="4149720"/>
            <a:ext cx="2643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c600"/>
                </a:solidFill>
                <a:latin typeface="Arial"/>
              </a:rPr>
              <a:t>赵   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24000" y="438120"/>
            <a:ext cx="860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这几段文字是对核舟的具体说明，作者是怎样说明的？可分几个层次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24000" y="1752480"/>
            <a:ext cx="853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Times New Roman"/>
              </a:rPr>
              <a:t>先说船的正面，再说船的背面。作者按从正面到背面、由主到次的顺序说明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659960" y="301932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第二段怎样介绍核舟？有何作用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50920" y="3809880"/>
            <a:ext cx="86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先介绍核舟的体积，接着写船舱，重点介绍舱旁小窗和所刻的十六字文句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50920" y="5029200"/>
            <a:ext cx="49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突出“奇巧、灵怪”的特点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669960" y="2001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175248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这两句话分别出自苏轼的《后赤壁赋》和《赤壁赋》，写的是苏轼泛舟赤壁之所见、所感。将它们刻在小窗上，既能通过小窗启闭景象的分别说明，使读者体会王叔远刀法的精细又能暗示核舟的背景、主题，照应第一段的“大苏泛赤壁”，使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者惊叹王叔远构思的奇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80880" y="5335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雕刻者为什么在小窗上刻上“山高月小，水落石出”“清风徐来，水波不兴”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380880" y="1870200"/>
            <a:ext cx="82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作者在说明船头三人时，着墨最多的当然是东坡。作者除了交代了三人在船头的位置，而且还刻画了东坡的肖像——“峨冠而多髯”。之所以这样描写，一是因为苏东坡的主要游览者，核舟的主题是“大苏泛赤壁；”二是雕刻者的安排本身如此，说明者不能违背其初衷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80880" y="561960"/>
            <a:ext cx="83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作者在说明船头三人时，着墨最多的是谁？为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533520" y="45720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船头仨人的神态有何不同？哪些描写突出雕刻家技艺的奇巧精湛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84360" y="3894120"/>
            <a:ext cx="79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Times New Roman"/>
              </a:rPr>
              <a:t>对东坡外貌的刻画，对东坡鲁直衣褶的介绍，对佛印左臂所挂念珠的说明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" y="1828800"/>
            <a:ext cx="813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Times New Roman"/>
              </a:rPr>
              <a:t>前二人是士大夫兼诗人、学者，受世俗礼法的束缚，显得拘谨，严肃；后者是僧人，不拘礼节，放浪形骸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228600" y="1501920"/>
            <a:ext cx="8610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Times New Roman"/>
              </a:rPr>
              <a:t>       </a:t>
            </a:r>
            <a:r>
              <a:rPr b="1" lang="zh-CN" sz="3000" spc="-1" strike="noStrike">
                <a:solidFill>
                  <a:srgbClr val="cc0066"/>
                </a:solidFill>
                <a:latin typeface="Times New Roman"/>
              </a:rPr>
              <a:t>两“舟子”虽神情有异，右边的舟子突出他“右手攀右趾”的粗犷和“若啸呼状”的悠闲自在；左边的舟子突出“视端容寂”的平静神态。但两人的神情动作均表现了一种共同的氛围——愉悦、轻松、活泼自乐。再加上船楫的“横卧”，更加暗示出有楫同于无楫，有舟子等于没有舟子的一种放任自流的境界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Times New Roman"/>
              </a:rPr>
              <a:t>        </a:t>
            </a:r>
            <a:r>
              <a:rPr b="1" lang="zh-CN" sz="3000" spc="-1" strike="noStrike">
                <a:solidFill>
                  <a:srgbClr val="cc0066"/>
                </a:solidFill>
                <a:latin typeface="Times New Roman"/>
              </a:rPr>
              <a:t>是为使船尾之境与船头之情遥相呼应，实现对船首氛围的烘托或者沟通，从而突出“大苏泛赤壁”的“泛”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28600" y="30492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这一段描写“舟子”的神情动作渲染了一种什么氛围？为什么要这样写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746280" y="299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35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文章结尾，作者为什么要统计“核舟”上的物品、文字的数目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822240" y="428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57200" y="185256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使读者得出核舟容量大、所刻景物甚多的结论。再用“而计其长曾不盈寸”与之对比，使人们更强烈地感到这个玲珑剔透、精美绝伦的艺术品有巧夺天工之妙。以此突出雕刻精湛的技艺，自然引出下句的赞叹语句。与第一自然段相照应，突出中心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380880" y="1125360"/>
            <a:ext cx="8229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本文可以分为三部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第一部分（第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段）：简要说明核舟雕刻人的生活时代、姓名及其精湛技艺，引出核舟的来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第二部分（第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段至第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段）：对核舟上全部情景和文字的具体说明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第三部分（第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段）：小结总计全核舟的人、物、文字的数目，赞叹核舟的雕刻技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017720" y="35388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划分文章结构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2808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ccff"/>
                </a:solidFill>
                <a:latin typeface="Tahoma"/>
                <a:ea typeface="华文行楷"/>
              </a:rPr>
              <a:t>说明顺序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1" name=""/>
          <p:cNvSpPr/>
          <p:nvPr/>
        </p:nvSpPr>
        <p:spPr>
          <a:xfrm>
            <a:off x="2698920" y="98100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华文新魏"/>
              </a:rPr>
              <a:t>舟首尾长约八分有奇，高可二黍许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013200" y="35272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华文新魏"/>
              </a:rPr>
              <a:t>船头坐三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079880" y="1989000"/>
            <a:ext cx="457200" cy="487440"/>
          </a:xfrm>
          <a:prstGeom prst="downArrow">
            <a:avLst>
              <a:gd name="adj1" fmla="val 50000"/>
              <a:gd name="adj2" fmla="val 2665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751120" y="2476440"/>
            <a:ext cx="31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华文新魏"/>
              </a:rPr>
              <a:t>中轩敞者为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079880" y="3040200"/>
            <a:ext cx="457200" cy="487080"/>
          </a:xfrm>
          <a:prstGeom prst="downArrow">
            <a:avLst>
              <a:gd name="adj1" fmla="val 50000"/>
              <a:gd name="adj2" fmla="val 2663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079880" y="4165560"/>
            <a:ext cx="457200" cy="487440"/>
          </a:xfrm>
          <a:prstGeom prst="downArrow">
            <a:avLst>
              <a:gd name="adj1" fmla="val 50000"/>
              <a:gd name="adj2" fmla="val 2665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556000" y="464976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华文新魏"/>
              </a:rPr>
              <a:t>舟尾横卧一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079880" y="5318280"/>
            <a:ext cx="457200" cy="487080"/>
          </a:xfrm>
          <a:prstGeom prst="downArrow">
            <a:avLst>
              <a:gd name="adj1" fmla="val 50000"/>
              <a:gd name="adj2" fmla="val 2663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013200" y="590544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华文新魏"/>
              </a:rPr>
              <a:t>其船背稍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226200" y="1268280"/>
            <a:ext cx="15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ahoma"/>
                <a:ea typeface="华文行楷"/>
              </a:rPr>
              <a:t>整体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370560" y="3962520"/>
            <a:ext cx="13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ahoma"/>
                <a:ea typeface="华文行楷"/>
              </a:rPr>
              <a:t>局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403280" y="2411280"/>
            <a:ext cx="148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华文行楷"/>
              </a:rPr>
              <a:t>中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403280" y="4078440"/>
            <a:ext cx="148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华文行楷"/>
              </a:rPr>
              <a:t>头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403280" y="5896080"/>
            <a:ext cx="148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华文行楷"/>
              </a:rPr>
              <a:t>船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805440" y="2124000"/>
            <a:ext cx="357480" cy="1665360"/>
          </a:xfrm>
          <a:prstGeom prst="downArrow">
            <a:avLst>
              <a:gd name="adj1" fmla="val 50000"/>
              <a:gd name="adj2" fmla="val 11646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916280" y="3075120"/>
            <a:ext cx="419040" cy="1050840"/>
          </a:xfrm>
          <a:prstGeom prst="downArrow">
            <a:avLst>
              <a:gd name="adj1" fmla="val 50000"/>
              <a:gd name="adj2" fmla="val 6269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916280" y="4805280"/>
            <a:ext cx="419040" cy="1050840"/>
          </a:xfrm>
          <a:prstGeom prst="downArrow">
            <a:avLst>
              <a:gd name="adj1" fmla="val 50000"/>
              <a:gd name="adj2" fmla="val 6269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794280" y="1484280"/>
            <a:ext cx="1521000" cy="28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ahoma"/>
                <a:ea typeface="华文行楷"/>
              </a:rPr>
              <a:t>逻辑顺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98280" y="2590920"/>
            <a:ext cx="1521000" cy="28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ahoma"/>
                <a:ea typeface="华文行楷"/>
              </a:rPr>
              <a:t>方位顺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50920" y="11448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ahoma"/>
                <a:ea typeface="华文行楷"/>
              </a:rPr>
              <a:t>小 结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0920" y="1168560"/>
            <a:ext cx="869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作者在说明中采用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总→分→总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的结构，运用空间顺序与逻辑顺序，依次介绍了核舟的大小、结构、舟上的人物和题名。详写船头的三人，略写中间、船尾和船背，有利地突出了核舟所表现的主题—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大苏泛赤壁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。文章简洁而生动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322200" y="198360"/>
            <a:ext cx="864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给下列红字正音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2200" y="1197000"/>
            <a:ext cx="864252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罔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不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          )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贻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      )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有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奇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       )(      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箬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篷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          )  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髯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          )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衣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褶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           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属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          )   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袒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胸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         )  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篆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章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           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壬戌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        )(       )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矫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首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        ) 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黍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        )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椎髻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        )(       )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器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皿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        )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啸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呼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     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1300320"/>
            <a:ext cx="8353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是微型雕刻的简称，是一种以刀代笔，以精小细微为特征的独具风格的艺术形式。雕刻时肉眼看不见， 凭感觉运刀，靠经验完成创作，因而人们又称之为“神刻意雕”，作品具有“微中藏世界，石上读华章”之妙趣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cc00"/>
                </a:solidFill>
                <a:latin typeface="宋体"/>
              </a:rPr>
              <a:t>微雕艺术越来越为人们热爱，越来越被艺术家、鉴赏家、收藏家重视，世界上正在形成一股微雕艺术热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59280" y="11592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ahoma"/>
                <a:ea typeface="华文行楷"/>
              </a:rPr>
              <a:t>微  雕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228600" y="442800"/>
            <a:ext cx="891540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、明有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奇巧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人曰王叔远。   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罔不因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势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象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形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、尝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贻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余核舟一。     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、舟首尾长约八分有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奇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、高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可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二黍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许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。         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、如有所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语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、其两膝相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比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者。     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、佛印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绝类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弥勒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、神情与苏黄不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属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。 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、珠可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历历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数也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、其船背稍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夷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。       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、而计其长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曾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不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盈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寸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5400" y="50760"/>
            <a:ext cx="21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  <a:ea typeface="华文行楷"/>
              </a:rPr>
              <a:t>解释下列“</a:t>
            </a:r>
            <a:r>
              <a:rPr b="0" lang="zh-CN" sz="3600" spc="-1" strike="noStrike">
                <a:solidFill>
                  <a:srgbClr val="ff0000"/>
                </a:solidFill>
                <a:latin typeface="Tahoma"/>
                <a:ea typeface="华文行楷"/>
              </a:rPr>
              <a:t>红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华文行楷"/>
              </a:rPr>
              <a:t>”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611280" y="228600"/>
            <a:ext cx="777708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找出下列句中通假字</a:t>
            </a:r>
            <a:r>
              <a:rPr b="0" lang="en-US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、舟首尾长约八分有奇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、左手倚一衡木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、诎右臂支船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、盖简桃核修狭者为之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2368440" y="450720"/>
            <a:ext cx="444168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翻译句中画横线的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罔不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Times New Roman"/>
              </a:rPr>
              <a:t>因势象形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，各具情态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而计其长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Times New Roman"/>
              </a:rPr>
              <a:t>曾不盈寸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Times New Roman"/>
              </a:rPr>
              <a:t>盖简桃核修狭者为之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250920" y="549360"/>
            <a:ext cx="8569080" cy="40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填空题</a:t>
            </a:r>
            <a:r>
              <a:rPr b="0" lang="en-US" sz="5400" spc="-1" strike="noStrike">
                <a:solidFill>
                  <a:srgbClr val="ffffff"/>
                </a:solidFill>
                <a:latin typeface="华文行楷"/>
                <a:ea typeface="华文行楷"/>
              </a:rPr>
              <a:t>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核舟记中间四段详细介绍核舟，先写核舟的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次写船头的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再写船尾的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最后写船背的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重点写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恰与第一自然段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句说明核舟题材相吻合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1235520" y="81000"/>
            <a:ext cx="305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指出下列加点的含义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332000" y="987480"/>
            <a:ext cx="152280" cy="930240"/>
          </a:xfrm>
          <a:custGeom>
            <a:avLst/>
            <a:gdLst>
              <a:gd name="textAreaLeft" fmla="*/ 97200 w 152280"/>
              <a:gd name="textAreaRight" fmla="*/ 152640 w 152280"/>
              <a:gd name="textAreaTop" fmla="*/ 24120 h 930240"/>
              <a:gd name="textAreaBottom" fmla="*/ 906120 h 93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59160" y="11174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692360" y="71424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而计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其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长曾不盈寸（      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692360" y="141912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其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船背稍夷（        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332000" y="2421000"/>
            <a:ext cx="152280" cy="930240"/>
          </a:xfrm>
          <a:custGeom>
            <a:avLst/>
            <a:gdLst>
              <a:gd name="textAreaLeft" fmla="*/ 97200 w 152280"/>
              <a:gd name="textAreaRight" fmla="*/ 152640 w 152280"/>
              <a:gd name="textAreaTop" fmla="*/ 24120 h 930240"/>
              <a:gd name="textAreaBottom" fmla="*/ 906120 h 93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59160" y="25509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692360" y="2227320"/>
            <a:ext cx="66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明有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奇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巧人曰王叔远（      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692360" y="2932200"/>
            <a:ext cx="66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舟首尾长约八分有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奇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（        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332000" y="3979800"/>
            <a:ext cx="152280" cy="930240"/>
          </a:xfrm>
          <a:custGeom>
            <a:avLst/>
            <a:gdLst>
              <a:gd name="textAreaLeft" fmla="*/ 97200 w 152280"/>
              <a:gd name="textAreaRight" fmla="*/ 152640 w 152280"/>
              <a:gd name="textAreaTop" fmla="*/ 24120 h 930240"/>
              <a:gd name="textAreaBottom" fmla="*/ 906120 h 93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59160" y="4076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3751200"/>
            <a:ext cx="66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为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宫室、器皿、人物（      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4456080"/>
            <a:ext cx="66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中轩敞者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为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舱（        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332000" y="5451480"/>
            <a:ext cx="152280" cy="930240"/>
          </a:xfrm>
          <a:custGeom>
            <a:avLst/>
            <a:gdLst>
              <a:gd name="textAreaLeft" fmla="*/ 97200 w 152280"/>
              <a:gd name="textAreaRight" fmla="*/ 152640 w 152280"/>
              <a:gd name="textAreaTop" fmla="*/ 24120 h 930240"/>
              <a:gd name="textAreaBottom" fmla="*/ 906120 h 93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59160" y="55483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692360" y="5222880"/>
            <a:ext cx="66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则题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其上（      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692360" y="5927760"/>
            <a:ext cx="66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不能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其一处也（        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36360" y="44280"/>
            <a:ext cx="9144000" cy="62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选择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本文最后一段中“盖简桃核狭者为之”一句与前面段落中的哪一句互相照应，以突出王叔远雕刻的特点？（      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径寸之木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罔不因势象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舟首尾长约八分有奇，高可二黍许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计其长曾不盈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对“雕栏相望焉”翻译正确的一句是（      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隔着雕栏和栏杆可以相看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雕刻着花纹的栏杆左右相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石雕和栏杆互相看着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雕刻着花纹的栏杆互相看得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本文的说明顺序是（      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由主要到次要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由现象到本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由整体到局部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由一般到个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能够概括本文说明对象特征的句子是（      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罔不因势象形，各具情态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而计其长曾不盈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盖简桃核狭者为之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技亦灵怪矣哉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6548400" y="1295280"/>
            <a:ext cx="1623960" cy="13464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2133720" y="4191120"/>
            <a:ext cx="1436400" cy="12697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7238880" y="4114800"/>
            <a:ext cx="1371600" cy="12715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364000" y="4869000"/>
            <a:ext cx="3276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99"/>
                </a:solidFill>
                <a:latin typeface="Tahoma"/>
              </a:rPr>
              <a:t>范曾画</a:t>
            </a:r>
            <a:r>
              <a:rPr b="1" lang="en-US" sz="2400" spc="-1" strike="noStrike">
                <a:solidFill>
                  <a:srgbClr val="00cc99"/>
                </a:solidFill>
                <a:latin typeface="Tahoma"/>
              </a:rPr>
              <a:t>-</a:t>
            </a:r>
            <a:r>
              <a:rPr b="1" lang="zh-CN" sz="2400" spc="-1" strike="noStrike">
                <a:solidFill>
                  <a:srgbClr val="00cc99"/>
                </a:solidFill>
                <a:latin typeface="Tahoma"/>
              </a:rPr>
              <a:t>小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ahoma"/>
              </a:rPr>
              <a:t>0.18cm X 0.20 cm</a:t>
            </a:r>
            <a:r>
              <a:rPr b="1" lang="zh-CN" sz="2400" spc="-1" strike="noStrike">
                <a:solidFill>
                  <a:srgbClr val="00cc99"/>
                </a:solidFill>
                <a:latin typeface="Tahoma"/>
              </a:rPr>
              <a:t>的象牙上。点击照片作品为放大</a:t>
            </a:r>
            <a:r>
              <a:rPr b="1" lang="en-US" sz="2400" spc="-1" strike="noStrike">
                <a:solidFill>
                  <a:srgbClr val="00cc99"/>
                </a:solidFill>
                <a:latin typeface="Tahoma"/>
              </a:rPr>
              <a:t>200</a:t>
            </a:r>
            <a:r>
              <a:rPr b="1" lang="zh-CN" sz="2400" spc="-1" strike="noStrike">
                <a:solidFill>
                  <a:srgbClr val="00cc99"/>
                </a:solidFill>
                <a:latin typeface="Tahoma"/>
              </a:rPr>
              <a:t>倍后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4869000"/>
            <a:ext cx="3200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99"/>
                </a:solidFill>
                <a:latin typeface="Tahoma"/>
              </a:rPr>
              <a:t>邓小平肖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ahoma"/>
              </a:rPr>
              <a:t>0.46 cm X 0.24 cm</a:t>
            </a:r>
            <a:r>
              <a:rPr b="1" lang="zh-CN" sz="2400" spc="-1" strike="noStrike">
                <a:solidFill>
                  <a:srgbClr val="00cc99"/>
                </a:solidFill>
                <a:latin typeface="Tahoma"/>
              </a:rPr>
              <a:t>的象牙上。点击照片作品为放大</a:t>
            </a:r>
            <a:r>
              <a:rPr b="1" lang="en-US" sz="2400" spc="-1" strike="noStrike">
                <a:solidFill>
                  <a:srgbClr val="00cc99"/>
                </a:solidFill>
                <a:latin typeface="Tahoma"/>
              </a:rPr>
              <a:t>200</a:t>
            </a:r>
            <a:r>
              <a:rPr b="1" lang="zh-CN" sz="2400" spc="-1" strike="noStrike">
                <a:solidFill>
                  <a:srgbClr val="00cc99"/>
                </a:solidFill>
                <a:latin typeface="Tahoma"/>
              </a:rPr>
              <a:t>倍后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410080" y="2125800"/>
            <a:ext cx="3124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熊猫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0.16cm X 0.20 cm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的象牙上。点击照片作品为放大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200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倍后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>
            <a:off x="1835280" y="1295280"/>
            <a:ext cx="1760400" cy="13464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468360" y="2060640"/>
            <a:ext cx="2965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小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0.10cm X 0.20 cm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的象牙上。点击照片作品为放大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200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倍后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065320" y="115920"/>
            <a:ext cx="5962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ccff"/>
                </a:solidFill>
                <a:latin typeface="Tahoma"/>
                <a:ea typeface="华文行楷"/>
              </a:rPr>
              <a:t>微雕作品展示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16000" y="1096920"/>
            <a:ext cx="8893080" cy="28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宁波发现稀世珍宝——明代核舟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稀世珍宝明代</a:t>
            </a:r>
            <a:r>
              <a:rPr b="0" lang="zh-CN" sz="3200" spc="-1" strike="noStrike" u="sng">
                <a:solidFill>
                  <a:srgbClr val="00ccff"/>
                </a:solidFill>
                <a:uFillTx/>
                <a:latin typeface="宋体"/>
                <a:hlinkClick r:id="rId2"/>
              </a:rPr>
              <a:t>桃核舟“苏东坡夜游赤壁”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在宁波被发现，是迄今发现的世上仅存的明代果核雕刻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雕刻者为明代微雕大师王叔远。就其题款方位、尺寸大小、五位人物、小窗可灵活开启诸方面均与《核舟记》描述相吻合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专家们还认证此核舟是王叔远晚年力作，推断完成于王叔远晚年成熟期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08000" y="19512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华文行楷"/>
                <a:ea typeface="华文行楷"/>
              </a:rPr>
              <a:t>《文汇报》一九九五年十月二十七日报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50920" y="549360"/>
            <a:ext cx="86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给下列红字正音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2200" y="1484280"/>
            <a:ext cx="86425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罔不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(          )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贻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(      )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有奇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(       )(      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箬篷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(          )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髯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(          )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衣褶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(           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属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(          )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袒胸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(         )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篆章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(           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壬戌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(        )(       )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矫首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(        )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黍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(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546200" y="1770120"/>
            <a:ext cx="15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wǎ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211640" y="1770120"/>
            <a:ext cx="8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y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588000" y="1770120"/>
            <a:ext cx="11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yò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954920" y="1770120"/>
            <a:ext cx="11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j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63640" y="2708280"/>
            <a:ext cx="11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ru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354560" y="2708280"/>
            <a:ext cx="11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rá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164360" y="2708280"/>
            <a:ext cx="11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zh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185840" y="3645000"/>
            <a:ext cx="11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shǔ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4560" y="3645000"/>
            <a:ext cx="11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tǎ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091280" y="3645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zhuà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46200" y="457848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ré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62160" y="4578480"/>
            <a:ext cx="86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x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292720" y="45784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jiǎ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378560" y="4578480"/>
            <a:ext cx="11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shǔ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468360" y="1197000"/>
            <a:ext cx="794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宋体"/>
              </a:rPr>
              <a:t>1.</a:t>
            </a:r>
            <a:r>
              <a:rPr b="1" lang="zh-CN" sz="3800" spc="-1" strike="noStrike">
                <a:solidFill>
                  <a:srgbClr val="ff0000"/>
                </a:solidFill>
                <a:latin typeface="宋体"/>
              </a:rPr>
              <a:t>王叔远雕刻的核舟反映的是什么故事？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295360"/>
            <a:ext cx="451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宋体"/>
              </a:rPr>
              <a:t>盖大苏泛赤壁云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11280" y="11592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ahoma"/>
                <a:ea typeface="华文行楷"/>
              </a:rPr>
              <a:t>思  考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68360" y="2997360"/>
            <a:ext cx="794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宋体"/>
              </a:rPr>
              <a:t>2.</a:t>
            </a:r>
            <a:r>
              <a:rPr b="1" lang="zh-CN" sz="3800" spc="-1" strike="noStrike">
                <a:solidFill>
                  <a:srgbClr val="ff0000"/>
                </a:solidFill>
                <a:latin typeface="宋体"/>
              </a:rPr>
              <a:t>核舟上除了调刻有五个人外，还有哪些事物？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4365720"/>
            <a:ext cx="760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为窗八，为箬篷，为楫，为炉，为壶，为手卷，为念珠，各一；题名并篆文，为字共三十有四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68360" y="304920"/>
            <a:ext cx="7608960" cy="993600"/>
          </a:xfrm>
          <a:custGeom>
            <a:avLst/>
            <a:gdLst>
              <a:gd name="textAreaLeft" fmla="*/ 1902240 w 7608960"/>
              <a:gd name="textAreaRight" fmla="*/ 5706720 w 7608960"/>
              <a:gd name="textAreaTop" fmla="*/ 0 h 993600"/>
              <a:gd name="textAreaBottom" fmla="*/ 993600 h 9936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400"/>
                </a:lnTo>
                <a:lnTo>
                  <a:pt x="21600" y="10800"/>
                </a:lnTo>
                <a:lnTo>
                  <a:pt x="18900" y="162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200"/>
                </a:lnTo>
                <a:lnTo>
                  <a:pt x="0" y="10800"/>
                </a:lnTo>
                <a:lnTo>
                  <a:pt x="2700" y="54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行楷"/>
              </a:rPr>
              <a:t>舟首尾长约八分有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353440" y="914400"/>
            <a:ext cx="685800" cy="4680000"/>
          </a:xfrm>
          <a:custGeom>
            <a:avLst/>
            <a:gdLst>
              <a:gd name="textAreaLeft" fmla="*/ 0 w 685800"/>
              <a:gd name="textAreaRight" fmla="*/ 686160 w 685800"/>
              <a:gd name="textAreaTop" fmla="*/ 1170000 h 4680000"/>
              <a:gd name="textAreaBottom" fmla="*/ 3510000 h 4680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400" y="18900"/>
                </a:lnTo>
                <a:lnTo>
                  <a:pt x="10800" y="21600"/>
                </a:lnTo>
                <a:lnTo>
                  <a:pt x="162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200" y="2700"/>
                </a:lnTo>
                <a:lnTo>
                  <a:pt x="10800" y="0"/>
                </a:lnTo>
                <a:lnTo>
                  <a:pt x="54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行楷"/>
              </a:rPr>
              <a:t>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行楷"/>
              </a:rPr>
              <a:t>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行楷"/>
              </a:rPr>
              <a:t>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行楷"/>
              </a:rPr>
              <a:t>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行楷"/>
              </a:rPr>
              <a:t>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469800" y="2206800"/>
            <a:ext cx="6983640" cy="39002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0" y="1298520"/>
            <a:ext cx="8353440" cy="42591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209680" y="3636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ahoma"/>
                <a:ea typeface="华文行楷"/>
              </a:rPr>
              <a:t>中轩敞者为舱，箬篷覆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652840" y="4379760"/>
            <a:ext cx="380880" cy="849600"/>
          </a:xfrm>
          <a:prstGeom prst="upArrow">
            <a:avLst>
              <a:gd name="adj1" fmla="val 39167"/>
              <a:gd name="adj2" fmla="val 60185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209680" y="5229360"/>
            <a:ext cx="567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ahoma"/>
                <a:ea typeface="华文行楷"/>
              </a:rPr>
              <a:t>旁开小窗，左右各四。启窗而观，雕栏相望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33720" y="882720"/>
            <a:ext cx="380880" cy="830160"/>
          </a:xfrm>
          <a:prstGeom prst="downArrow">
            <a:avLst>
              <a:gd name="adj1" fmla="val 50000"/>
              <a:gd name="adj2" fmla="val 54348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5T13:03:20Z</dcterms:created>
  <dc:creator>gongdazhong</dc:creator>
  <dc:description/>
  <dc:language>en-US</dc:language>
  <cp:lastModifiedBy>王业国_三(2)</cp:lastModifiedBy>
  <dcterms:modified xsi:type="dcterms:W3CDTF">2013-07-11T07:20:42Z</dcterms:modified>
  <cp:revision>52</cp:revision>
  <dc:subject/>
  <dc:title>核舟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47</vt:lpwstr>
  </property>
</Properties>
</file>