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2.jpeg" ContentType="image/jpeg"/>
  <Override PartName="/ppt/media/image49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8A27-021B-4A98-94CE-F11DA9D66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037B-DE06-45C0-89CF-8CCDE0B89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F0C8-82D2-433F-9CC7-EDFA64E7F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7290-DAE1-4C8E-B13B-D9A2E77DE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7B95-F974-4211-A100-9931480C4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590B-9CDC-4636-9B1F-F27D0A137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0A59-59A3-4433-A27B-4E2A42E43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A61F-85B6-499D-BBC4-69817BA57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F368-A308-4827-A5B2-7BC457226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56A4-72E5-4111-88FE-2074E699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742D-105E-4B84-9AF7-65421A5A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4C92-B648-428E-9229-2137EA6C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E9EAC-E80E-4C72-A5BF-CBD3D097505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7F9AB-4C66-4B50-AF88-A6C4663E465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image" Target="../media/image25.jpeg"/><Relationship Id="rId11" Type="http://schemas.openxmlformats.org/officeDocument/2006/relationships/image" Target="../media/image26.jpeg"/><Relationship Id="rId12" Type="http://schemas.openxmlformats.org/officeDocument/2006/relationships/image" Target="../media/image27.jpeg"/><Relationship Id="rId13" Type="http://schemas.openxmlformats.org/officeDocument/2006/relationships/image" Target="../media/image28.jpeg"/><Relationship Id="rId14" Type="http://schemas.openxmlformats.org/officeDocument/2006/relationships/image" Target="../media/image29.jpeg"/><Relationship Id="rId15" Type="http://schemas.openxmlformats.org/officeDocument/2006/relationships/image" Target="../media/image30.jpeg"/><Relationship Id="rId1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jpeg"/><Relationship Id="rId8" Type="http://schemas.openxmlformats.org/officeDocument/2006/relationships/image" Target="../media/image38.jpeg"/><Relationship Id="rId9" Type="http://schemas.openxmlformats.org/officeDocument/2006/relationships/image" Target="../media/image39.jpeg"/><Relationship Id="rId10" Type="http://schemas.openxmlformats.org/officeDocument/2006/relationships/image" Target="../media/image40.jpeg"/><Relationship Id="rId11" Type="http://schemas.openxmlformats.org/officeDocument/2006/relationships/image" Target="../media/image41.jpeg"/><Relationship Id="rId12" Type="http://schemas.openxmlformats.org/officeDocument/2006/relationships/image" Target="../media/image42.jpeg"/><Relationship Id="rId13" Type="http://schemas.openxmlformats.org/officeDocument/2006/relationships/image" Target="../media/image43.jpeg"/><Relationship Id="rId14" Type="http://schemas.openxmlformats.org/officeDocument/2006/relationships/image" Target="../media/image44.jpeg"/><Relationship Id="rId15" Type="http://schemas.openxmlformats.org/officeDocument/2006/relationships/image" Target="../media/image45.jpeg"/><Relationship Id="rId1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image" Target="../media/image51.jpeg"/><Relationship Id="rId7" Type="http://schemas.openxmlformats.org/officeDocument/2006/relationships/image" Target="../media/image52.jpeg"/><Relationship Id="rId8" Type="http://schemas.openxmlformats.org/officeDocument/2006/relationships/image" Target="../media/image53.jpe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Administrator\桌面\拼图小卡\精选26 (22).jpg"/>
          <p:cNvPicPr/>
          <p:nvPr/>
        </p:nvPicPr>
        <p:blipFill>
          <a:blip r:embed="rId1"/>
          <a:stretch/>
        </p:blipFill>
        <p:spPr>
          <a:xfrm>
            <a:off x="2216160" y="917640"/>
            <a:ext cx="1492200" cy="1439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C:\Documents and Settings\Administrator\桌面\拼图小卡\8.jpg"/>
          <p:cNvPicPr/>
          <p:nvPr/>
        </p:nvPicPr>
        <p:blipFill>
          <a:blip r:embed="rId2"/>
          <a:stretch/>
        </p:blipFill>
        <p:spPr>
          <a:xfrm>
            <a:off x="7572240" y="917640"/>
            <a:ext cx="1017720" cy="1439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C:\Documents and Settings\Administrator\桌面\拼图小卡\10-3.jpg"/>
          <p:cNvPicPr/>
          <p:nvPr/>
        </p:nvPicPr>
        <p:blipFill>
          <a:blip r:embed="rId3"/>
          <a:stretch/>
        </p:blipFill>
        <p:spPr>
          <a:xfrm>
            <a:off x="5511960" y="4738680"/>
            <a:ext cx="1919160" cy="1440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C:\Documents and Settings\Administrator\桌面\拼图小卡\26.jpg"/>
          <p:cNvPicPr/>
          <p:nvPr/>
        </p:nvPicPr>
        <p:blipFill>
          <a:blip r:embed="rId4"/>
          <a:stretch/>
        </p:blipFill>
        <p:spPr>
          <a:xfrm>
            <a:off x="7286760" y="4929120"/>
            <a:ext cx="1587240" cy="1058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C:\Documents and Settings\Administrator\桌面\拼图小卡\3310037791_9381a01b9f_o.jpg"/>
          <p:cNvPicPr/>
          <p:nvPr/>
        </p:nvPicPr>
        <p:blipFill>
          <a:blip r:embed="rId5"/>
          <a:stretch/>
        </p:blipFill>
        <p:spPr>
          <a:xfrm>
            <a:off x="5184720" y="3029040"/>
            <a:ext cx="1717560" cy="1216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C:\Documents and Settings\Administrator\桌面\拼图小卡\3310872534_95fdb91f86_o.jpg"/>
          <p:cNvPicPr/>
          <p:nvPr/>
        </p:nvPicPr>
        <p:blipFill>
          <a:blip r:embed="rId6"/>
          <a:stretch/>
        </p:blipFill>
        <p:spPr>
          <a:xfrm>
            <a:off x="5608800" y="917640"/>
            <a:ext cx="1758960" cy="1439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C:\Documents and Settings\Administrator\桌面\拼图小卡\3314918612_2e45faff80_o.jpg"/>
          <p:cNvPicPr/>
          <p:nvPr/>
        </p:nvPicPr>
        <p:blipFill>
          <a:blip r:embed="rId7"/>
          <a:stretch/>
        </p:blipFill>
        <p:spPr>
          <a:xfrm>
            <a:off x="3398760" y="3029040"/>
            <a:ext cx="1830600" cy="1216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C:\Documents and Settings\Administrator\桌面\拼图小卡\yonney精选21 (29).jpg"/>
          <p:cNvPicPr/>
          <p:nvPr/>
        </p:nvPicPr>
        <p:blipFill>
          <a:blip r:embed="rId8"/>
          <a:stretch/>
        </p:blipFill>
        <p:spPr>
          <a:xfrm>
            <a:off x="285840" y="4844880"/>
            <a:ext cx="1838160" cy="1225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C:\Documents and Settings\Administrator\桌面\拼图小卡\精选25 (9).jpg"/>
          <p:cNvPicPr/>
          <p:nvPr/>
        </p:nvPicPr>
        <p:blipFill>
          <a:blip r:embed="rId9"/>
          <a:stretch/>
        </p:blipFill>
        <p:spPr>
          <a:xfrm>
            <a:off x="3470400" y="4738680"/>
            <a:ext cx="2185920" cy="1440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C:\Documents and Settings\Administrator\桌面\拼图小卡\精选25 (10).jpg"/>
          <p:cNvPicPr/>
          <p:nvPr/>
        </p:nvPicPr>
        <p:blipFill>
          <a:blip r:embed="rId10"/>
          <a:stretch/>
        </p:blipFill>
        <p:spPr>
          <a:xfrm>
            <a:off x="428760" y="291780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C:\Documents and Settings\Administrator\桌面\拼图小卡\精选26 (5).jpg"/>
          <p:cNvPicPr/>
          <p:nvPr/>
        </p:nvPicPr>
        <p:blipFill>
          <a:blip r:embed="rId11"/>
          <a:stretch/>
        </p:blipFill>
        <p:spPr>
          <a:xfrm>
            <a:off x="1981080" y="4844880"/>
            <a:ext cx="1633680" cy="1225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C:\Documents and Settings\Administrator\桌面\拼图小卡\精选26 (6).jpg"/>
          <p:cNvPicPr/>
          <p:nvPr/>
        </p:nvPicPr>
        <p:blipFill>
          <a:blip r:embed="rId12"/>
          <a:stretch/>
        </p:blipFill>
        <p:spPr>
          <a:xfrm>
            <a:off x="1824120" y="3029040"/>
            <a:ext cx="1619280" cy="1216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C:\Documents and Settings\Administrator\桌面\拼图小卡\精选26 (7).jpg"/>
          <p:cNvPicPr/>
          <p:nvPr/>
        </p:nvPicPr>
        <p:blipFill>
          <a:blip r:embed="rId13"/>
          <a:stretch/>
        </p:blipFill>
        <p:spPr>
          <a:xfrm>
            <a:off x="6858000" y="3029040"/>
            <a:ext cx="1835280" cy="1216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" descr="C:\Documents and Settings\Administrator\桌面\拼图小卡\精选26 (8).jpg"/>
          <p:cNvPicPr/>
          <p:nvPr/>
        </p:nvPicPr>
        <p:blipFill>
          <a:blip r:embed="rId14"/>
          <a:stretch/>
        </p:blipFill>
        <p:spPr>
          <a:xfrm>
            <a:off x="3911760" y="917640"/>
            <a:ext cx="1492200" cy="1439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" descr="C:\Documents and Settings\Administrator\桌面\拼图小卡\精选26 (21).jpg"/>
          <p:cNvPicPr/>
          <p:nvPr/>
        </p:nvPicPr>
        <p:blipFill>
          <a:blip r:embed="rId15"/>
          <a:stretch/>
        </p:blipFill>
        <p:spPr>
          <a:xfrm>
            <a:off x="500040" y="1035000"/>
            <a:ext cx="161928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Documents and Settings\Administrator\桌面\拼图小卡\精选40（www.rapidbbs.cn） (20).jpg"/>
          <p:cNvPicPr/>
          <p:nvPr/>
        </p:nvPicPr>
        <p:blipFill>
          <a:blip r:embed="rId1"/>
          <a:stretch/>
        </p:blipFill>
        <p:spPr>
          <a:xfrm>
            <a:off x="6643800" y="4452840"/>
            <a:ext cx="2500200" cy="1177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C:\Documents and Settings\Administrator\桌面\拼图小卡\精选34（www.rapidbbs.cn） (20).jpg"/>
          <p:cNvPicPr/>
          <p:nvPr/>
        </p:nvPicPr>
        <p:blipFill>
          <a:blip r:embed="rId2"/>
          <a:stretch/>
        </p:blipFill>
        <p:spPr>
          <a:xfrm>
            <a:off x="1755720" y="571680"/>
            <a:ext cx="2222640" cy="1439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C:\Documents and Settings\Administrator\桌面\拼图小卡\精选34（www.rapidbbs.cn） (21).jpg"/>
          <p:cNvPicPr/>
          <p:nvPr/>
        </p:nvPicPr>
        <p:blipFill>
          <a:blip r:embed="rId3"/>
          <a:stretch/>
        </p:blipFill>
        <p:spPr>
          <a:xfrm>
            <a:off x="428760" y="571680"/>
            <a:ext cx="1439640" cy="1439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C:\Documents and Settings\Administrator\桌面\拼图小卡\精选39（www.rapidbbs.cn） (17).jpg"/>
          <p:cNvPicPr/>
          <p:nvPr/>
        </p:nvPicPr>
        <p:blipFill>
          <a:blip r:embed="rId4"/>
          <a:stretch/>
        </p:blipFill>
        <p:spPr>
          <a:xfrm>
            <a:off x="571680" y="228600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C:\Documents and Settings\Administrator\桌面\拼图小卡\精选40（www.rapidbbs.cn） (3).jpg"/>
          <p:cNvPicPr/>
          <p:nvPr/>
        </p:nvPicPr>
        <p:blipFill>
          <a:blip r:embed="rId5"/>
          <a:stretch/>
        </p:blipFill>
        <p:spPr>
          <a:xfrm>
            <a:off x="5076720" y="4321080"/>
            <a:ext cx="1646280" cy="1441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C:\Documents and Settings\Administrator\桌面\拼图小卡\精选40（www.rapidbbs.cn） (4).jpg"/>
          <p:cNvPicPr/>
          <p:nvPr/>
        </p:nvPicPr>
        <p:blipFill>
          <a:blip r:embed="rId6"/>
          <a:stretch/>
        </p:blipFill>
        <p:spPr>
          <a:xfrm>
            <a:off x="1951200" y="4429080"/>
            <a:ext cx="1731960" cy="1225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C:\Documents and Settings\Administrator\桌面\拼图小卡\精选40（www.rapidbbs.cn） (5).jpg"/>
          <p:cNvPicPr/>
          <p:nvPr/>
        </p:nvPicPr>
        <p:blipFill>
          <a:blip r:embed="rId7"/>
          <a:stretch/>
        </p:blipFill>
        <p:spPr>
          <a:xfrm>
            <a:off x="428760" y="4429080"/>
            <a:ext cx="1601640" cy="1225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C:\Documents and Settings\Administrator\桌面\拼图小卡\精选40（www.rapidbbs.cn） (6).jpg"/>
          <p:cNvPicPr/>
          <p:nvPr/>
        </p:nvPicPr>
        <p:blipFill>
          <a:blip r:embed="rId8"/>
          <a:stretch/>
        </p:blipFill>
        <p:spPr>
          <a:xfrm>
            <a:off x="3603600" y="4321080"/>
            <a:ext cx="1552680" cy="1441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C:\Documents and Settings\Administrator\桌面\拼图小卡\精选40（www.rapidbbs.cn） (7).jpg"/>
          <p:cNvPicPr/>
          <p:nvPr/>
        </p:nvPicPr>
        <p:blipFill>
          <a:blip r:embed="rId9"/>
          <a:stretch/>
        </p:blipFill>
        <p:spPr>
          <a:xfrm>
            <a:off x="5327640" y="2286000"/>
            <a:ext cx="1919160" cy="1440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C:\Documents and Settings\Administrator\桌面\拼图小卡\精选40（www.rapidbbs.cn） (8).jpg"/>
          <p:cNvPicPr/>
          <p:nvPr/>
        </p:nvPicPr>
        <p:blipFill>
          <a:blip r:embed="rId10"/>
          <a:stretch/>
        </p:blipFill>
        <p:spPr>
          <a:xfrm>
            <a:off x="3581280" y="2286000"/>
            <a:ext cx="1920960" cy="1440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C:\Documents and Settings\Administrator\桌面\拼图小卡\精选40（www.rapidbbs.cn） (9).jpg"/>
          <p:cNvPicPr/>
          <p:nvPr/>
        </p:nvPicPr>
        <p:blipFill>
          <a:blip r:embed="rId11"/>
          <a:stretch/>
        </p:blipFill>
        <p:spPr>
          <a:xfrm>
            <a:off x="5194440" y="571680"/>
            <a:ext cx="1920600" cy="1439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" descr="C:\Documents and Settings\Administrator\桌面\拼图小卡\精选40（www.rapidbbs.cn） (10).jpg"/>
          <p:cNvPicPr/>
          <p:nvPr/>
        </p:nvPicPr>
        <p:blipFill>
          <a:blip r:embed="rId12"/>
          <a:stretch/>
        </p:blipFill>
        <p:spPr>
          <a:xfrm>
            <a:off x="7000920" y="571680"/>
            <a:ext cx="1439640" cy="1439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C:\Documents and Settings\Administrator\桌面\拼图小卡\精选40（www.rapidbbs.cn） (15).jpg"/>
          <p:cNvPicPr/>
          <p:nvPr/>
        </p:nvPicPr>
        <p:blipFill>
          <a:blip r:embed="rId13"/>
          <a:stretch/>
        </p:blipFill>
        <p:spPr>
          <a:xfrm>
            <a:off x="3865680" y="571680"/>
            <a:ext cx="1441440" cy="1439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" descr="C:\Documents and Settings\Administrator\桌面\拼图小卡\精选40（www.rapidbbs.cn） (16).jpg"/>
          <p:cNvPicPr/>
          <p:nvPr/>
        </p:nvPicPr>
        <p:blipFill>
          <a:blip r:embed="rId14"/>
          <a:stretch/>
        </p:blipFill>
        <p:spPr>
          <a:xfrm>
            <a:off x="1836720" y="2286000"/>
            <a:ext cx="1919160" cy="1440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6" descr="C:\Documents and Settings\Administrator\桌面\拼图小卡\精选40（www.rapidbbs.cn） (17).jpg"/>
          <p:cNvPicPr/>
          <p:nvPr/>
        </p:nvPicPr>
        <p:blipFill>
          <a:blip r:embed="rId15"/>
          <a:stretch/>
        </p:blipFill>
        <p:spPr>
          <a:xfrm>
            <a:off x="7072200" y="2286000"/>
            <a:ext cx="192096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Documents and Settings\Administrator\桌面\拼图小卡\锐普内部商务PPT图片22（锐普PPT论坛） (10).jpg"/>
          <p:cNvPicPr/>
          <p:nvPr/>
        </p:nvPicPr>
        <p:blipFill>
          <a:blip r:embed="rId1"/>
          <a:stretch/>
        </p:blipFill>
        <p:spPr>
          <a:xfrm>
            <a:off x="4221000" y="4870440"/>
            <a:ext cx="1532160" cy="1225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C:\Documents and Settings\Administrator\桌面\拼图小卡\精选40（www.rapidbbs.cn） (21).jpg"/>
          <p:cNvPicPr/>
          <p:nvPr/>
        </p:nvPicPr>
        <p:blipFill>
          <a:blip r:embed="rId2"/>
          <a:stretch/>
        </p:blipFill>
        <p:spPr>
          <a:xfrm>
            <a:off x="4896000" y="1000080"/>
            <a:ext cx="1920600" cy="1440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C:\Documents and Settings\Administrator\桌面\拼图小卡\精选40（www.rapidbbs.cn） (22).jpg"/>
          <p:cNvPicPr/>
          <p:nvPr/>
        </p:nvPicPr>
        <p:blipFill>
          <a:blip r:embed="rId3"/>
          <a:stretch/>
        </p:blipFill>
        <p:spPr>
          <a:xfrm>
            <a:off x="500040" y="1000080"/>
            <a:ext cx="1919160" cy="1440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C:\Documents and Settings\Administrator\桌面\拼图小卡\精选40（www.rapidbbs.cn） (23).jpg"/>
          <p:cNvPicPr/>
          <p:nvPr/>
        </p:nvPicPr>
        <p:blipFill>
          <a:blip r:embed="rId4"/>
          <a:stretch/>
        </p:blipFill>
        <p:spPr>
          <a:xfrm>
            <a:off x="5940360" y="491184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C:\Documents and Settings\Administrator\桌面\拼图小卡\精选40（www.rapidbbs.cn） (24).jpg"/>
          <p:cNvPicPr/>
          <p:nvPr/>
        </p:nvPicPr>
        <p:blipFill>
          <a:blip r:embed="rId5"/>
          <a:stretch/>
        </p:blipFill>
        <p:spPr>
          <a:xfrm>
            <a:off x="6786720" y="1143000"/>
            <a:ext cx="1731960" cy="1154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C:\Documents and Settings\Administrator\桌面\拼图小卡\精选40（www.rapidbbs.cn） (25).jpg"/>
          <p:cNvPicPr/>
          <p:nvPr/>
        </p:nvPicPr>
        <p:blipFill>
          <a:blip r:embed="rId6"/>
          <a:stretch/>
        </p:blipFill>
        <p:spPr>
          <a:xfrm>
            <a:off x="3673440" y="2965320"/>
            <a:ext cx="1920960" cy="1440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C:\Documents and Settings\Administrator\桌面\拼图小卡\精选40（www.rapidbbs.cn） (27).jpg"/>
          <p:cNvPicPr/>
          <p:nvPr/>
        </p:nvPicPr>
        <p:blipFill>
          <a:blip r:embed="rId7"/>
          <a:stretch/>
        </p:blipFill>
        <p:spPr>
          <a:xfrm>
            <a:off x="1859040" y="3108240"/>
            <a:ext cx="1539720" cy="1154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C:\Documents and Settings\Administrator\桌面\拼图小卡\精选40（www.rapidbbs.cn） (28).jpg"/>
          <p:cNvPicPr/>
          <p:nvPr/>
        </p:nvPicPr>
        <p:blipFill>
          <a:blip r:embed="rId8"/>
          <a:stretch/>
        </p:blipFill>
        <p:spPr>
          <a:xfrm>
            <a:off x="7143840" y="3143160"/>
            <a:ext cx="1785960" cy="11908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C:\Documents and Settings\Administrator\桌面\拼图小卡\精选40（www.rapidbbs.cn） (29).jpg"/>
          <p:cNvPicPr/>
          <p:nvPr/>
        </p:nvPicPr>
        <p:blipFill>
          <a:blip r:embed="rId9"/>
          <a:stretch/>
        </p:blipFill>
        <p:spPr>
          <a:xfrm>
            <a:off x="2390760" y="1000080"/>
            <a:ext cx="1392120" cy="1440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C:\Documents and Settings\Administrator\桌面\拼图小卡\精选40（www.rapidbbs.cn） (30).jpg"/>
          <p:cNvPicPr/>
          <p:nvPr/>
        </p:nvPicPr>
        <p:blipFill>
          <a:blip r:embed="rId10"/>
          <a:stretch/>
        </p:blipFill>
        <p:spPr>
          <a:xfrm>
            <a:off x="5869080" y="3149640"/>
            <a:ext cx="1285920" cy="1071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" descr="C:\Documents and Settings\Administrator\桌面\拼图小卡\精选40（www.rapidbbs.cn） (31).jpg"/>
          <p:cNvPicPr/>
          <p:nvPr/>
        </p:nvPicPr>
        <p:blipFill>
          <a:blip r:embed="rId11"/>
          <a:stretch/>
        </p:blipFill>
        <p:spPr>
          <a:xfrm>
            <a:off x="642960" y="3071880"/>
            <a:ext cx="1227240" cy="1225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3" descr="C:\Documents and Settings\Administrator\桌面\拼图小卡\精选40（www.rapidbbs.cn）.jpg"/>
          <p:cNvPicPr/>
          <p:nvPr/>
        </p:nvPicPr>
        <p:blipFill>
          <a:blip r:embed="rId12"/>
          <a:stretch/>
        </p:blipFill>
        <p:spPr>
          <a:xfrm>
            <a:off x="3753000" y="1000080"/>
            <a:ext cx="1172880" cy="1440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4" descr="C:\Documents and Settings\Administrator\桌面\拼图小卡\锐普内部商务PPT图片21（锐普PPT论坛） (2).jpg"/>
          <p:cNvPicPr/>
          <p:nvPr/>
        </p:nvPicPr>
        <p:blipFill>
          <a:blip r:embed="rId13"/>
          <a:stretch/>
        </p:blipFill>
        <p:spPr>
          <a:xfrm>
            <a:off x="7072200" y="4857840"/>
            <a:ext cx="1874880" cy="1249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5" descr="C:\Documents and Settings\Administrator\桌面\拼图小卡\锐普内部商务PPT图片21（锐普PPT论坛） (9).jpg"/>
          <p:cNvPicPr/>
          <p:nvPr/>
        </p:nvPicPr>
        <p:blipFill>
          <a:blip r:embed="rId14"/>
          <a:stretch/>
        </p:blipFill>
        <p:spPr>
          <a:xfrm>
            <a:off x="2454120" y="4911840"/>
            <a:ext cx="1581480" cy="1141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6" descr="C:\Documents and Settings\Administrator\桌面\拼图小卡\锐普内部商务PPT图片21（锐普PPT论坛） (23).jpg"/>
          <p:cNvPicPr/>
          <p:nvPr/>
        </p:nvPicPr>
        <p:blipFill>
          <a:blip r:embed="rId15"/>
          <a:stretch/>
        </p:blipFill>
        <p:spPr>
          <a:xfrm>
            <a:off x="625320" y="4867200"/>
            <a:ext cx="1643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C:\Documents and Settings\Administrator\桌面\拼图小卡\锐普内部商务PPT图片32 (32).jpg"/>
          <p:cNvPicPr/>
          <p:nvPr/>
        </p:nvPicPr>
        <p:blipFill>
          <a:blip r:embed="rId1"/>
          <a:stretch/>
        </p:blipFill>
        <p:spPr>
          <a:xfrm>
            <a:off x="5398920" y="185724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C:\Documents and Settings\Administrator\桌面\拼图小卡\锐普内部商务PPT图片22（锐普PPT论坛） (22).jpg"/>
          <p:cNvPicPr/>
          <p:nvPr/>
        </p:nvPicPr>
        <p:blipFill>
          <a:blip r:embed="rId2"/>
          <a:stretch/>
        </p:blipFill>
        <p:spPr>
          <a:xfrm>
            <a:off x="4714920" y="3929040"/>
            <a:ext cx="2158920" cy="1440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C:\Documents and Settings\Administrator\桌面\拼图小卡\锐普内部商务PPT图片25（锐普PPT论坛） (3).jpg"/>
          <p:cNvPicPr/>
          <p:nvPr/>
        </p:nvPicPr>
        <p:blipFill>
          <a:blip r:embed="rId3"/>
          <a:stretch/>
        </p:blipFill>
        <p:spPr>
          <a:xfrm>
            <a:off x="2930400" y="392904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C:\Documents and Settings\Administrator\桌面\拼图小卡\锐普内部商务PPT图片25（锐普PPT论坛） (5).jpg"/>
          <p:cNvPicPr/>
          <p:nvPr/>
        </p:nvPicPr>
        <p:blipFill>
          <a:blip r:embed="rId4"/>
          <a:stretch/>
        </p:blipFill>
        <p:spPr>
          <a:xfrm>
            <a:off x="3295800" y="1857240"/>
            <a:ext cx="1726920" cy="1440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C:\Documents and Settings\Administrator\桌面\拼图小卡\锐普内部商务PPT图片28 (9).jpg"/>
          <p:cNvPicPr/>
          <p:nvPr/>
        </p:nvPicPr>
        <p:blipFill>
          <a:blip r:embed="rId5"/>
          <a:stretch/>
        </p:blipFill>
        <p:spPr>
          <a:xfrm>
            <a:off x="7215120" y="1857240"/>
            <a:ext cx="1114560" cy="1440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C:\Documents and Settings\Administrator\桌面\拼图小卡\锐普内部商务PPT图片30 (44).jpg"/>
          <p:cNvPicPr/>
          <p:nvPr/>
        </p:nvPicPr>
        <p:blipFill>
          <a:blip r:embed="rId6"/>
          <a:stretch/>
        </p:blipFill>
        <p:spPr>
          <a:xfrm>
            <a:off x="7216920" y="3929040"/>
            <a:ext cx="1015920" cy="1440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C:\Documents and Settings\Administrator\桌面\拼图小卡\锐普内部商务PPT图片31 (5).jpg"/>
          <p:cNvPicPr/>
          <p:nvPr/>
        </p:nvPicPr>
        <p:blipFill>
          <a:blip r:embed="rId7"/>
          <a:stretch/>
        </p:blipFill>
        <p:spPr>
          <a:xfrm>
            <a:off x="1146240" y="392904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C:\Documents and Settings\Administrator\桌面\拼图小卡\锐普内部商务PPT图片31 (31).jpg"/>
          <p:cNvPicPr/>
          <p:nvPr/>
        </p:nvPicPr>
        <p:blipFill>
          <a:blip r:embed="rId8"/>
          <a:stretch/>
        </p:blipFill>
        <p:spPr>
          <a:xfrm>
            <a:off x="1000080" y="1857240"/>
            <a:ext cx="192096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1T01:11:00Z</dcterms:created>
  <dc:creator>USER</dc:creator>
  <dc:description/>
  <dc:language>en-US</dc:language>
  <cp:lastModifiedBy>USER</cp:lastModifiedBy>
  <dcterms:modified xsi:type="dcterms:W3CDTF">2015-08-20T06:38:37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55</vt:lpwstr>
  </property>
</Properties>
</file>