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61C9-9B47-43F6-B036-BF77F26F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0D9-F65C-4B8B-AABA-8644B358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261-38C8-46B5-AA02-E04D43BA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2A8-17C6-4006-BC51-4E46F02A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903-3B12-463C-ACF2-95BE0BF3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E8D-4402-4CF6-A469-DDED6FC0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884C-9EC5-41AA-B3BD-5FF7892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DA6D-D04C-47F4-A5B7-F88C4B1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3AB9-0CA7-48D9-9177-B3D238B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D658-E3FF-45E3-9B0B-5CA41E1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C56-66E5-4C1F-A966-8254DE7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26D9-90FC-4D60-9244-B4D4FDA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5D7-7223-4652-9FFF-02B41C0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750-23AC-4C14-BA88-F3DC12FC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61A-06C9-4127-90D1-D188B2C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154-8419-4F78-B6CD-FCE2C73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91C-513E-4B95-A6B4-6390521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B05-99B4-4F41-BBF3-BA0E380D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F23F-DF20-417D-BCD0-DAD3320A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21E9-9831-4D78-AE7D-D14F28CB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2FBA-8C37-4499-B444-5E66E9D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6882-761A-40FB-8BCB-7F9A9C4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517C-8AB7-4F65-80CC-6266151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8AA2-D123-4F56-9542-DFCDEA61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B6B-2536-4387-9DED-0F878B66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6C29-F8AA-4671-9405-6971D8B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5E1C-0510-4EBC-BBFB-BBFC333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B4F9-9A88-484D-8F8C-E1C4C9A8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DBE8-ABAB-43EC-97C5-4D9AD6E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3EC8-A51F-4740-83E1-235AA7B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1ECE-DCCB-4AA2-AD05-60070209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B147-BF4F-4BD5-B3A7-77184CA8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8DDE-DB88-403F-9DEC-7063FBE1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B2C3-B470-4E22-8F2F-4D7E6DB8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CC9F-A4B7-46CF-99D9-427E47FD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CBE-ACD1-45FA-8248-CF076CF9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753D-F681-4A95-965E-6AA09BF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7E46-4E4F-4022-9BA4-28DBA63A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0A24-D38E-4ED1-A742-F1A6F276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FDDF-EB57-42E3-AC41-76E4CBA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D92D-5012-4025-84C4-508B39F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1466-7D67-4AD4-812D-7D668D99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CE4D-5B7A-4C2C-8165-B727BBE9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FF7F-245C-4C60-BA7C-57DBE5D5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0C8F-C215-4C88-8E76-DC5548EF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428D-2A30-4B41-B38D-A33DA8C1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9ED-4982-4A76-ABFF-9220CAD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6B54-C6A5-49EC-B7F6-9B5918DB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FF49-B633-4D09-ADB7-09701FF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14F4-64B6-4E32-95D4-A6D3395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EFCB-4DCA-4EC5-8C7E-DEE425E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C4FD-CB6C-4F3D-B440-2AC87A43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A926-BF6C-4137-9A11-9472B13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6D72-BC35-48B4-B1CC-56CE3AB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D104-4DC3-42C2-825A-0D42776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BA8D-4525-416E-BBCD-76D7B38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7702-B0B1-4126-8641-487BD64A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74B-C7E1-4ED8-8AF7-F6197DB2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2011-A621-4C55-9C3F-2A899528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F51-1BC7-405F-BD41-87C2F47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831-38E2-4825-AE1A-3355588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618-BCAB-4D18-BF95-7441CA3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58E-CBDB-4F45-A253-7ED20392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954-2001-4ACF-8A32-EBA8F77C2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151-FB66-48EB-87ED-28B57C06A43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F540-7FC5-45B8-9B08-F0CBFEBEBEF1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67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68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69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72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04"/>
                <p:cNvSpPr/>
                <p:nvPr/>
              </p:nvSpPr>
              <p:spPr>
                <a:xfrm flipV="1">
                  <a:off x="8694000" y="3960"/>
                  <a:ext cx="1148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175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07"/>
                <p:cNvSpPr/>
                <p:nvPr/>
              </p:nvSpPr>
              <p:spPr>
                <a:xfrm>
                  <a:off x="1960560" y="3461400"/>
                  <a:ext cx="398520" cy="61668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09"/>
                <p:cNvSpPr/>
                <p:nvPr/>
              </p:nvSpPr>
              <p:spPr>
                <a:xfrm>
                  <a:off x="1989000" y="4208760"/>
                  <a:ext cx="231840" cy="2480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80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83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15"/>
                <p:cNvSpPr/>
                <p:nvPr/>
              </p:nvSpPr>
              <p:spPr>
                <a:xfrm flipV="1">
                  <a:off x="4872960" y="-360"/>
                  <a:ext cx="14148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91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97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203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208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211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44"/>
                <p:cNvSpPr/>
                <p:nvPr/>
              </p:nvSpPr>
              <p:spPr>
                <a:xfrm>
                  <a:off x="5838480" y="2301120"/>
                  <a:ext cx="77400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148"/>
              <p:cNvGrpSpPr/>
              <p:nvPr/>
            </p:nvGrpSpPr>
            <p:grpSpPr>
              <a:xfrm>
                <a:off x="6884280" y="4246560"/>
                <a:ext cx="2043000" cy="1635120"/>
                <a:chOff x="6884280" y="4246560"/>
                <a:chExt cx="2043000" cy="1635120"/>
              </a:xfrm>
            </p:grpSpPr>
            <p:sp>
              <p:nvSpPr>
                <p:cNvPr id="218" name="Freeform 149"/>
                <p:cNvSpPr/>
                <p:nvPr/>
              </p:nvSpPr>
              <p:spPr>
                <a:xfrm flipH="1" rot="21429000">
                  <a:off x="6912000" y="4541760"/>
                  <a:ext cx="786960" cy="113220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50"/>
                <p:cNvSpPr/>
                <p:nvPr/>
              </p:nvSpPr>
              <p:spPr>
                <a:xfrm rot="20854800">
                  <a:off x="8027640" y="4317840"/>
                  <a:ext cx="786960" cy="1130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152"/>
              <p:cNvGrpSpPr/>
              <p:nvPr/>
            </p:nvGrpSpPr>
            <p:grpSpPr>
              <a:xfrm>
                <a:off x="2324520" y="5473800"/>
                <a:ext cx="1586880" cy="1269720"/>
                <a:chOff x="2324520" y="5473800"/>
                <a:chExt cx="1586880" cy="1269720"/>
              </a:xfrm>
            </p:grpSpPr>
            <p:sp>
              <p:nvSpPr>
                <p:cNvPr id="222" name="Freeform 153"/>
                <p:cNvSpPr/>
                <p:nvPr/>
              </p:nvSpPr>
              <p:spPr>
                <a:xfrm flipH="1" rot="21429000">
                  <a:off x="2345400" y="5703480"/>
                  <a:ext cx="611280" cy="8773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4"/>
                <p:cNvSpPr/>
                <p:nvPr/>
              </p:nvSpPr>
              <p:spPr>
                <a:xfrm rot="20854800">
                  <a:off x="3213000" y="5528880"/>
                  <a:ext cx="611280" cy="8773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5"/>
                <p:cNvSpPr/>
                <p:nvPr/>
              </p:nvSpPr>
              <p:spPr>
                <a:xfrm>
                  <a:off x="2951280" y="5735160"/>
                  <a:ext cx="411120" cy="10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5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66"/>
              <p:cNvGrpSpPr/>
              <p:nvPr/>
            </p:nvGrpSpPr>
            <p:grpSpPr>
              <a:xfrm>
                <a:off x="2335680" y="3870360"/>
                <a:ext cx="1586880" cy="1269720"/>
                <a:chOff x="2335680" y="3870360"/>
                <a:chExt cx="1586880" cy="1269720"/>
              </a:xfrm>
            </p:grpSpPr>
            <p:sp>
              <p:nvSpPr>
                <p:cNvPr id="236" name="Freeform 167"/>
                <p:cNvSpPr/>
                <p:nvPr/>
              </p:nvSpPr>
              <p:spPr>
                <a:xfrm flipH="1" rot="21429000">
                  <a:off x="2356560" y="4100040"/>
                  <a:ext cx="611280" cy="8773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68"/>
                <p:cNvSpPr/>
                <p:nvPr/>
              </p:nvSpPr>
              <p:spPr>
                <a:xfrm rot="20854800">
                  <a:off x="3224160" y="3925440"/>
                  <a:ext cx="611280" cy="8773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69"/>
                <p:cNvSpPr/>
                <p:nvPr/>
              </p:nvSpPr>
              <p:spPr>
                <a:xfrm>
                  <a:off x="2962440" y="4131720"/>
                  <a:ext cx="411120" cy="10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70"/>
              <p:cNvGrpSpPr/>
              <p:nvPr/>
            </p:nvGrpSpPr>
            <p:grpSpPr>
              <a:xfrm>
                <a:off x="2359440" y="93600"/>
                <a:ext cx="1587240" cy="1269720"/>
                <a:chOff x="2359440" y="93600"/>
                <a:chExt cx="1587240" cy="1269720"/>
              </a:xfrm>
            </p:grpSpPr>
            <p:sp>
              <p:nvSpPr>
                <p:cNvPr id="240" name="Freeform 171"/>
                <p:cNvSpPr/>
                <p:nvPr/>
              </p:nvSpPr>
              <p:spPr>
                <a:xfrm flipH="1" rot="21429000">
                  <a:off x="2380320" y="323280"/>
                  <a:ext cx="611280" cy="8776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72"/>
                <p:cNvSpPr/>
                <p:nvPr/>
              </p:nvSpPr>
              <p:spPr>
                <a:xfrm rot="20854800">
                  <a:off x="3247920" y="148680"/>
                  <a:ext cx="611280" cy="8776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73"/>
                <p:cNvSpPr/>
                <p:nvPr/>
              </p:nvSpPr>
              <p:spPr>
                <a:xfrm>
                  <a:off x="2986200" y="354960"/>
                  <a:ext cx="411120" cy="10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47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53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AE0B-EB5E-4EF8-BAA1-03426230B280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PowerPoint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培训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HIU  SIFE  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</a:rPr>
              <a:t>技术部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8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</a:t>
            </a: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PPT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编辑放映两不误</a:t>
            </a:r>
            <a:br>
              <a:rPr sz="4000"/>
            </a:b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          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只须按住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trl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不放，单击“幻灯片放映”菜单中的“观看放映”就可以了，此时幻灯片将演示窗口缩小至屏幕左上角。修改幻灯片时，演示窗口会最小化，修改完成后再切换到演示窗口就可看到相应的效果了。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10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灵活设置背景</a:t>
            </a:r>
            <a:br>
              <a:rPr sz="4000"/>
            </a:b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          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进入“格式”菜单，然后选择“背景”，选择“忽略母版背景图形”选项之后，你就可以让当前幻灯片不使用母版背景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11</a:t>
            </a:r>
            <a:r>
              <a:rPr b="0" lang="zh-CN" sz="4400" spc="-1" strike="noStrike">
                <a:solidFill>
                  <a:srgbClr val="425032"/>
                </a:solidFill>
                <a:latin typeface="Palatino Linotype"/>
              </a:rPr>
              <a:t>、改变链接文字的默认颜色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590920" cy="2219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6840" y="1599840"/>
            <a:ext cx="52023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5032"/>
                </a:solidFill>
                <a:latin typeface="Palatino Linotype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425032"/>
                </a:solidFill>
                <a:latin typeface="Palatino Linotype"/>
                <a:ea typeface="宋体"/>
              </a:rPr>
              <a:t>PPT2003</a:t>
            </a:r>
            <a:r>
              <a:rPr b="0" lang="zh-CN" sz="2400" spc="-1" strike="noStrike">
                <a:solidFill>
                  <a:srgbClr val="425032"/>
                </a:solidFill>
                <a:latin typeface="Palatino Linotype"/>
                <a:ea typeface="宋体"/>
              </a:rPr>
              <a:t>中如果对文字做了超链接或动作设置，那么</a:t>
            </a:r>
            <a:r>
              <a:rPr b="0" lang="en-US" sz="2400" spc="-1" strike="noStrike">
                <a:solidFill>
                  <a:srgbClr val="425032"/>
                </a:solidFill>
                <a:latin typeface="Palatino Linotype"/>
                <a:ea typeface="宋体"/>
              </a:rPr>
              <a:t>PPT</a:t>
            </a:r>
            <a:r>
              <a:rPr b="0" lang="zh-CN" sz="2400" spc="-1" strike="noStrike">
                <a:solidFill>
                  <a:srgbClr val="425032"/>
                </a:solidFill>
                <a:latin typeface="Palatino Linotype"/>
                <a:ea typeface="宋体"/>
              </a:rPr>
              <a:t>会给它一个默认的文字颜色和单击后的文字颜色。但这种颜色可能与咱们预设的背景色很不协调，想更改吗？</a:t>
            </a:r>
            <a:endParaRPr b="0" lang="en-US" sz="2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34" name="Picture 12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4400280" cy="2333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第二部分</a:t>
            </a:r>
            <a:br>
              <a:rPr sz="7200"/>
            </a:br>
            <a:r>
              <a:rPr b="0" lang="en-US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PowerPoint</a:t>
            </a:r>
            <a:r>
              <a:rPr b="0" lang="zh-CN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使用动画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  <a:ea typeface="宋体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25032"/>
                </a:solidFill>
                <a:latin typeface="Palatino Linotype"/>
                <a:ea typeface="黑体"/>
              </a:rPr>
              <a:t>使用动画</a:t>
            </a:r>
            <a:endParaRPr b="0" lang="en-US" sz="5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1915920"/>
            <a:ext cx="6440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自定义动画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5032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425032"/>
                </a:solidFill>
                <a:latin typeface="宋体"/>
              </a:rPr>
              <a:t>、添加自定义动画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5032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425032"/>
                </a:solidFill>
                <a:latin typeface="宋体"/>
              </a:rPr>
              <a:t>、删除动画效果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动作路径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5032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425032"/>
                </a:solidFill>
                <a:latin typeface="宋体"/>
              </a:rPr>
              <a:t>、添加动作路径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5032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425032"/>
                </a:solidFill>
                <a:latin typeface="宋体"/>
              </a:rPr>
              <a:t>、编辑路径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自定义动画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根据需要设置幻灯片中元素的进入方式，强调方式和退出方式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43" name="Picture 4" descr="自定义动画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148000" y="0"/>
            <a:ext cx="399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单击“添加效果”按钮，出现下拉菜单，菜单中共有四项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进入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、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强调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、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退出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、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动作路径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四个选项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鼠标指向“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进入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，在出现的菜单中选择元素的进入方式，单击“其他效果”可以选择更多效果。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45" name="Picture 3" descr="自定义动画3"/>
          <p:cNvPicPr/>
          <p:nvPr/>
        </p:nvPicPr>
        <p:blipFill>
          <a:blip r:embed="rId1"/>
          <a:stretch/>
        </p:blipFill>
        <p:spPr>
          <a:xfrm>
            <a:off x="0" y="549360"/>
            <a:ext cx="52196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011640" y="333360"/>
            <a:ext cx="2819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单击“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强调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选项可以选择元素的强调效果，单击“其他效果”可以选择更多效果。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47" name="Picture 3" descr="自定义动画4"/>
          <p:cNvPicPr/>
          <p:nvPr/>
        </p:nvPicPr>
        <p:blipFill>
          <a:blip r:embed="rId1"/>
          <a:stretch/>
        </p:blipFill>
        <p:spPr>
          <a:xfrm>
            <a:off x="250920" y="189000"/>
            <a:ext cx="53067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580000" y="189000"/>
            <a:ext cx="33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单击“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退出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选项，可以选择元素的退出效果，单击“其他效果”可以选择更多效果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49" name="Picture 3" descr="自定义动画5"/>
          <p:cNvPicPr/>
          <p:nvPr/>
        </p:nvPicPr>
        <p:blipFill>
          <a:blip r:embed="rId1"/>
          <a:stretch/>
        </p:blipFill>
        <p:spPr>
          <a:xfrm>
            <a:off x="539640" y="333360"/>
            <a:ext cx="46119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25032"/>
                </a:solidFill>
                <a:latin typeface="Palatino Linotype"/>
              </a:rPr>
              <a:t>主要内容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第一部分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werPoint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技巧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第二部分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werPoint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使用动画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删除效果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4600"/>
            <a:ext cx="8229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如果对设置的动画效果不满意，可以将其删除，方法如下：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54" name="Picture 4" descr="自定义动画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5"/>
          <p:cNvSpPr/>
          <p:nvPr/>
        </p:nvSpPr>
        <p:spPr>
          <a:xfrm>
            <a:off x="3635280" y="3429000"/>
            <a:ext cx="3168720" cy="1944720"/>
          </a:xfrm>
          <a:prstGeom prst="wedgeRectCallout">
            <a:avLst>
              <a:gd name="adj1" fmla="val 67435"/>
              <a:gd name="adj2" fmla="val -92694"/>
            </a:avLst>
          </a:prstGeom>
          <a:solidFill>
            <a:srgbClr val="8cc6ca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已经应用的动画效果显示在效果列表中，单击选中要删除的效果，或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ctrl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键选中多项效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4716360" y="476280"/>
            <a:ext cx="3168720" cy="576360"/>
          </a:xfrm>
          <a:prstGeom prst="wedgeRectCallout">
            <a:avLst>
              <a:gd name="adj1" fmla="val 70592"/>
              <a:gd name="adj2" fmla="val 98208"/>
            </a:avLst>
          </a:prstGeom>
          <a:solidFill>
            <a:srgbClr val="8cc6ca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单击删除按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动作路径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动作路径可以让幻灯片上的元素沿着已经设置好的轨迹运动，并且可以伸长、缩短、旋转和重新布置元素的路径。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26920" y="4508640"/>
            <a:ext cx="129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大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0" name="WordArt 5"/>
          <p:cNvSpPr txBox="1"/>
          <p:nvPr/>
        </p:nvSpPr>
        <p:spPr>
          <a:xfrm>
            <a:off x="3492360" y="4508640"/>
            <a:ext cx="129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家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1" name="WordArt 6"/>
          <p:cNvSpPr txBox="1"/>
          <p:nvPr/>
        </p:nvSpPr>
        <p:spPr>
          <a:xfrm>
            <a:off x="6227640" y="4437000"/>
            <a:ext cx="129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好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 L 0.06303 -0.32523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03941 -0.33565 E">
                                      <p:cBhvr>
                                        <p:cTn id="8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316 -0.29375 E">
                                      <p:cBhvr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92671E-007 2.30716E-006 L 0.10646 -0.22794 E">
                                      <p:cBhvr>
                                        <p:cTn id="9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516480" y="-360"/>
            <a:ext cx="5627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Palatino Linotype"/>
              </a:rPr>
              <a:t>方法：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425032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首先选中要制作路径的幻灯片元素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425032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单击“幻灯片放映”</a:t>
            </a:r>
            <a:r>
              <a:rPr b="1" lang="en-US" sz="2800" spc="-1" strike="noStrike">
                <a:solidFill>
                  <a:srgbClr val="425032"/>
                </a:solidFill>
                <a:latin typeface="Palatino Linotype"/>
              </a:rPr>
              <a:t>——</a:t>
            </a: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“自定义动画”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 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Palatino Linotype"/>
              </a:rPr>
              <a:t>单击鼠标右键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Palatino Linotype"/>
              </a:rPr>
              <a:t>自定义动画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</a:rPr>
              <a:t>）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425032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单击“</a:t>
            </a:r>
            <a:r>
              <a:rPr b="1" lang="zh-CN" sz="2800" spc="-1" strike="noStrike">
                <a:solidFill>
                  <a:srgbClr val="ff0000"/>
                </a:solidFill>
                <a:latin typeface="Palatino Linotype"/>
                <a:ea typeface="黑体"/>
              </a:rPr>
              <a:t>自定义动画</a:t>
            </a: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”任务窗格中的“</a:t>
            </a:r>
            <a:r>
              <a:rPr b="1" lang="zh-CN" sz="2800" spc="-1" strike="noStrike">
                <a:solidFill>
                  <a:srgbClr val="ffffff"/>
                </a:solidFill>
                <a:latin typeface="Palatino Linotype"/>
              </a:rPr>
              <a:t>添加效果</a:t>
            </a: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”按钮，在出现的菜单中选择“</a:t>
            </a:r>
            <a:r>
              <a:rPr b="1" lang="zh-CN" sz="2800" spc="-1" strike="noStrike">
                <a:solidFill>
                  <a:srgbClr val="ffffff"/>
                </a:solidFill>
                <a:latin typeface="Palatino Linotype"/>
              </a:rPr>
              <a:t>动作路径</a:t>
            </a:r>
            <a:r>
              <a:rPr b="1" lang="zh-CN" sz="2800" spc="-1" strike="noStrike">
                <a:solidFill>
                  <a:srgbClr val="425032"/>
                </a:solidFill>
                <a:latin typeface="Palatino Linotype"/>
              </a:rPr>
              <a:t>”，然后选择要绘制的轨迹类型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63" name="Picture 3" descr="Snap1"/>
          <p:cNvPicPr/>
          <p:nvPr/>
        </p:nvPicPr>
        <p:blipFill>
          <a:blip r:embed="rId1"/>
          <a:stretch/>
        </p:blipFill>
        <p:spPr>
          <a:xfrm>
            <a:off x="57240" y="85680"/>
            <a:ext cx="35179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66" name="Picture 4" descr=" 自定义动画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2"/>
          <a:srcRect l="23633" t="36221" r="43184" b="41148"/>
          <a:stretch/>
        </p:blipFill>
        <p:spPr>
          <a:xfrm>
            <a:off x="1619280" y="1773360"/>
            <a:ext cx="3236760" cy="16556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6"/>
          <p:cNvSpPr/>
          <p:nvPr/>
        </p:nvSpPr>
        <p:spPr>
          <a:xfrm>
            <a:off x="3995640" y="2852640"/>
            <a:ext cx="3024360" cy="1557000"/>
          </a:xfrm>
          <a:prstGeom prst="rect">
            <a:avLst/>
          </a:prstGeom>
          <a:solidFill>
            <a:srgbClr val="33cccc">
              <a:alpha val="3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选中的元素上出现动作轨迹（此例中选择的是从左向右移动），绿色三角代表路径运动开始的位置，红色三角代表路径运动结束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编辑路径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元素所设置的运动路径可以更改轨迹的长度、位置、方向等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用鼠标拖动路径虚线，可以更改路径位置，元素起始点也随之改变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71" name="Picture 4" descr="向上移动路径"/>
          <p:cNvPicPr/>
          <p:nvPr/>
        </p:nvPicPr>
        <p:blipFill>
          <a:blip r:embed="rId1"/>
          <a:stretch/>
        </p:blipFill>
        <p:spPr>
          <a:xfrm>
            <a:off x="1835280" y="3213000"/>
            <a:ext cx="5616360" cy="24656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5"/>
          <p:cNvSpPr/>
          <p:nvPr/>
        </p:nvSpPr>
        <p:spPr>
          <a:xfrm>
            <a:off x="1906560" y="5877000"/>
            <a:ext cx="5618160" cy="520560"/>
          </a:xfrm>
          <a:prstGeom prst="rect">
            <a:avLst/>
          </a:prstGeom>
          <a:noFill/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更改路径位置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伸长路径"/>
          <p:cNvPicPr/>
          <p:nvPr/>
        </p:nvPicPr>
        <p:blipFill>
          <a:blip r:embed="rId1"/>
          <a:stretch/>
        </p:blipFill>
        <p:spPr>
          <a:xfrm>
            <a:off x="1476360" y="2133720"/>
            <a:ext cx="6337440" cy="23000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用鼠标拖动路径左右两侧的控制点可以改变路径的运动长度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908000" y="5084640"/>
            <a:ext cx="5618160" cy="520560"/>
          </a:xfrm>
          <a:prstGeom prst="rect">
            <a:avLst/>
          </a:prstGeom>
          <a:noFill/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更改路径长度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用鼠标左右拖动路径上的绿色控制点可以旋转路径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908000" y="5084640"/>
            <a:ext cx="5618160" cy="520560"/>
          </a:xfrm>
          <a:prstGeom prst="rect">
            <a:avLst/>
          </a:prstGeom>
          <a:noFill/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旋转路径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Snap2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用鼠标拖动元素，可以将元素和路径一起移动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692360" y="5929200"/>
            <a:ext cx="5618160" cy="520560"/>
          </a:xfrm>
          <a:prstGeom prst="rect">
            <a:avLst/>
          </a:prstGeom>
          <a:noFill/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移动元素和路径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Snap3"/>
          <p:cNvPicPr/>
          <p:nvPr/>
        </p:nvPicPr>
        <p:blipFill>
          <a:blip r:embed="rId1"/>
          <a:stretch/>
        </p:blipFill>
        <p:spPr>
          <a:xfrm>
            <a:off x="2195640" y="2451240"/>
            <a:ext cx="44640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使用自由曲线运动元素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有时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powerpoint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中所提供的运动路径并不能满足设计的需要，这时就可以使用“自由曲线”来使元素运动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第一部分</a:t>
            </a:r>
            <a:br>
              <a:rPr sz="7200"/>
            </a:br>
            <a:r>
              <a:rPr b="0" lang="en-US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PowerPoint</a:t>
            </a:r>
            <a:r>
              <a:rPr b="0" lang="zh-CN" sz="7200" spc="-1" strike="noStrike">
                <a:solidFill>
                  <a:srgbClr val="425032"/>
                </a:solidFill>
                <a:latin typeface="Palatino Linotype"/>
                <a:ea typeface="宋体"/>
              </a:rPr>
              <a:t>技巧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选中要运动的元素，然后单击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添加效果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——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动作路径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——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绘制自定义路径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——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Palatino Linotype"/>
              </a:rPr>
              <a:t>自由曲线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85" name="Picture 3" descr="Snap4"/>
          <p:cNvPicPr/>
          <p:nvPr/>
        </p:nvPicPr>
        <p:blipFill>
          <a:blip r:embed="rId1"/>
          <a:stretch/>
        </p:blipFill>
        <p:spPr>
          <a:xfrm>
            <a:off x="1044720" y="1557360"/>
            <a:ext cx="727236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Snap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700280"/>
          </a:xfrm>
          <a:prstGeom prst="rect">
            <a:avLst/>
          </a:prstGeom>
          <a:solidFill>
            <a:srgbClr val="00cc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25032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时鼠标会变形为铅笔的形状，这时就可以绘制需要的任意运动路径，绘制完毕之后双击鼠标（或直接松开鼠标）即可应用路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25032"/>
                </a:solidFill>
                <a:latin typeface="Palatino Linotype"/>
                <a:ea typeface="黑体"/>
              </a:rPr>
              <a:t>调整元素运动的速度</a:t>
            </a: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元素运动的速度也是可以调整的，默认的速度为中速，可以调整为“非常慢”、“慢速”、“中速”、“快速”、“非常快”五种速度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00720" y="1484280"/>
            <a:ext cx="4403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单击选中运动路径，在“速度”右侧的下拉菜单，可以选择运动速度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91" name="Picture 3" descr="Snap3"/>
          <p:cNvPicPr/>
          <p:nvPr/>
        </p:nvPicPr>
        <p:blipFill>
          <a:blip r:embed="rId1"/>
          <a:stretch/>
        </p:blipFill>
        <p:spPr>
          <a:xfrm>
            <a:off x="324000" y="189000"/>
            <a:ext cx="4025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华文行楷"/>
              </a:rPr>
              <a:t>谢谢</a:t>
            </a:r>
            <a:endParaRPr b="0" lang="en-US" sz="106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36 0.1088 C -0.18819 0.21667 -0.18802 0.32477 -0.15451 0.32222 C -0.121 0.31968 -0.03437 0.09213 0.01285 0.09398 C 0.06007 0.09583 0.09462 0.21482 0.12917 0.3338 E">
                                      <p:cBhvr>
                                        <p:cTn id="10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032"/>
                </a:solidFill>
                <a:latin typeface="Palatino Linotype"/>
              </a:rPr>
              <a:t>1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</a:t>
            </a: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PowerPoint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小技巧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、自动黑屏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按一下“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键，此时屏幕黑屏。再按一下“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”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键即可恢复正常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2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摘要幻灯片生成内容简介</a:t>
            </a:r>
            <a:br>
              <a:rPr sz="4000"/>
            </a:b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        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先选择多张幻灯片，接着按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                  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即可。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3" name="Text Box 4"/>
          <p:cNvSpPr/>
          <p:nvPr/>
        </p:nvSpPr>
        <p:spPr>
          <a:xfrm flipV="1" rot="10800000">
            <a:off x="6705720" y="1676160"/>
            <a:ext cx="18288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c29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t+shift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3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让幻灯片自动播放</a:t>
            </a: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在播放时右键点击这个文稿，然后在弹出的菜单中执行“显示”命令即可。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        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或者在打开文稿前将该文件的扩展名从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PPT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改为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PPS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后再双击它即可。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17" name="Picture 11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26672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4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“保存”特殊字体</a:t>
            </a:r>
            <a:br>
              <a:rPr sz="4000"/>
            </a:b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344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在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PPT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中，执行“文件－另存为”，在对话框中点击“工具”按钮。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  <a:ea typeface="宋体"/>
              </a:rPr>
              <a:t>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361960" cy="1876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5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、突破</a:t>
            </a: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20</a:t>
            </a:r>
            <a:r>
              <a:rPr b="0" lang="zh-CN" sz="4000" spc="-1" strike="noStrike">
                <a:solidFill>
                  <a:srgbClr val="425032"/>
                </a:solidFill>
                <a:latin typeface="Palatino Linotype"/>
              </a:rPr>
              <a:t>次的撤消极限</a:t>
            </a:r>
            <a:br>
              <a:rPr sz="4000"/>
            </a:b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          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执行“工具－选项”，击“编辑”标签卡，在“最多可取消操作数”中设置你需要的次数即可。不过要注意，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werPoint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撤消操作次数限制最多为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50</a:t>
            </a:r>
            <a:r>
              <a:rPr b="0" lang="zh-CN" sz="3200" spc="-1" strike="noStrike">
                <a:solidFill>
                  <a:srgbClr val="425032"/>
                </a:solidFill>
                <a:latin typeface="Palatino Linotype"/>
              </a:rPr>
              <a:t>次。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6</a:t>
            </a:r>
            <a:r>
              <a:rPr b="0" lang="zh-CN" sz="4400" spc="-1" strike="noStrike">
                <a:solidFill>
                  <a:srgbClr val="425032"/>
                </a:solidFill>
                <a:latin typeface="Palatino Linotype"/>
              </a:rPr>
              <a:t>、快速选择多个对象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       </a:t>
            </a:r>
            <a:r>
              <a:rPr b="0" lang="zh-CN" sz="2800" spc="-1" strike="noStrike">
                <a:solidFill>
                  <a:srgbClr val="425032"/>
                </a:solidFill>
                <a:latin typeface="Palatino Linotype"/>
              </a:rPr>
              <a:t>当要选择叠放在一起的若干个对象时会不太容易，不过如果我们用“选中多个对象”，这个问题就会解决了。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0384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52:13Z</dcterms:created>
  <dc:creator>李世</dc:creator>
  <dc:description/>
  <dc:language>en-US</dc:language>
  <cp:lastModifiedBy>宇 王</cp:lastModifiedBy>
  <dcterms:modified xsi:type="dcterms:W3CDTF">2012-11-01T16:38:01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