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EB4-FBBD-437B-97BA-3C119C64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359-FE8B-4E0D-BFFE-73D083D6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0C9-FA1F-42C1-A9B5-F43C3AD9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E47-5F13-4318-8BCC-FE571BB0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13E-00FB-4519-B311-97A18D9F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F33-47C7-48AF-8368-52AD0DD4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AEA-D57F-4DA7-8D01-4C0DA7A6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CF1-8831-4E1A-AC61-DA402E0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460-2A9B-4443-8B49-710F0536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760-9C8E-4006-BD76-5A85A979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E85-9988-4F2C-AC96-AE5ED31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D8F-C37F-4F3E-9BBA-E7A09060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4DBE-528A-49F7-95B4-68A8019829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华文行楷"/>
              </a:rPr>
              <a:t>红楼梦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970880" y="1905120"/>
            <a:ext cx="31064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00cc"/>
                </a:solidFill>
                <a:latin typeface="Arial"/>
                <a:ea typeface="楷体_GB2312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红楼梦简介</a:t>
            </a: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——千红一窟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哭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万艳同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悲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013280" cy="401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20574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满枝荒唐言，一把辛酸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都言作者痴，谁解其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581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红楼梦是一部最具影响的古典文学作品。气势恢宏的大观园；意蕴深刻的诗词；华丽精巧的服饰；细致讲究的饮食；兴味盎然的习俗与娱乐活动…</a:t>
            </a: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...</a:t>
            </a: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《红楼梦》像一块具有强大引力的磁石，吸引着越来越多的人点凭考证研究，直到两百年后的今天仍魅力不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cc"/>
                </a:solidFill>
                <a:latin typeface="Arial"/>
              </a:rPr>
              <a:t>黛玉之来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ccff"/>
                </a:solidFill>
                <a:latin typeface="华文新魏"/>
                <a:ea typeface="华文新魏"/>
              </a:rPr>
              <a:t>《红楼梦》中林黛玉前世为离恨天上三生石畔一颗绛珠仙草，日见枯萎之时，得神瑛侍者即后来的贾宝玉灌溉，天地灵气而修成人体，然而仅修为女体，心中结一份难释之情，说若他下世为人，我也随他世间走一遭，将毕生眼泪还与他，以报灌溉之恩。后，通灵宝玉下世，这才使整个故事得以发生……</a:t>
            </a:r>
            <a:br>
              <a:rPr sz="2400"/>
            </a:br>
            <a:r>
              <a:rPr b="0" lang="zh-CN" sz="2400" spc="-1" strike="noStrike">
                <a:solidFill>
                  <a:srgbClr val="33ccff"/>
                </a:solidFill>
                <a:latin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38891" t="0" r="0" b="7408"/>
          <a:stretch/>
        </p:blipFill>
        <p:spPr>
          <a:xfrm>
            <a:off x="4572000" y="1447920"/>
            <a:ext cx="4157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808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cc"/>
                </a:solidFill>
                <a:latin typeface="Arial"/>
              </a:rPr>
              <a:t>林黛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819160" y="1371600"/>
            <a:ext cx="9903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3716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5146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438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ff"/>
                </a:solidFill>
                <a:latin typeface="幼圆"/>
                <a:ea typeface="幼圆"/>
              </a:rPr>
              <a:t>字</a:t>
            </a:r>
            <a:r>
              <a:rPr b="0" lang="zh-CN" sz="3200" spc="-1" strike="noStrike">
                <a:solidFill>
                  <a:srgbClr val="cc99ff"/>
                </a:solidFill>
                <a:latin typeface="幼圆"/>
                <a:ea typeface="幼圆"/>
              </a:rPr>
              <a:t>: </a:t>
            </a:r>
            <a:r>
              <a:rPr b="0" lang="zh-CN" sz="3200" spc="-1" strike="noStrike">
                <a:solidFill>
                  <a:srgbClr val="cc99ff"/>
                </a:solidFill>
                <a:latin typeface="幼圆"/>
                <a:ea typeface="幼圆"/>
              </a:rPr>
              <a:t>颦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514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99ff"/>
                </a:solidFill>
                <a:latin typeface="幼圆"/>
                <a:ea typeface="幼圆"/>
              </a:rPr>
              <a:t>别号</a:t>
            </a:r>
            <a:r>
              <a:rPr b="0" lang="zh-CN" sz="2800" spc="-1" strike="noStrike">
                <a:solidFill>
                  <a:srgbClr val="cc99ff"/>
                </a:solidFill>
                <a:latin typeface="幼圆"/>
                <a:ea typeface="幼圆"/>
              </a:rPr>
              <a:t>: </a:t>
            </a:r>
            <a:r>
              <a:rPr b="0" lang="zh-CN" sz="2800" spc="-1" strike="noStrike">
                <a:solidFill>
                  <a:srgbClr val="cc99ff"/>
                </a:solidFill>
                <a:latin typeface="幼圆"/>
                <a:ea typeface="幼圆"/>
              </a:rPr>
              <a:t>湘萧妃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971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495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越国美女西施捧心而颦的传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4572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舜帝二妃娥皇女英泪洒斑竹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2286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ccff"/>
                </a:solidFill>
                <a:latin typeface="Arial"/>
                <a:ea typeface="华文新魏"/>
              </a:rPr>
              <a:t>从外貌看黛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6760" y="1143000"/>
            <a:ext cx="34722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两湾似蹙非蹙罥烟眉，双似喜非喜含情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态生两靥之愁，娇袭一身之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泪光点点，娇喘微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闲静时如娇花照水，行动处似弱柳扶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心较比干多一窍，病如西子胜三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8573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华文行楷"/>
                <a:ea typeface="华文行楷"/>
              </a:rPr>
              <a:t>可叹停机德 ，堪怜咏絮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华文行楷"/>
                <a:ea typeface="华文行楷"/>
              </a:rPr>
              <a:t>玉带林中挂 ，金簪雪里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3997440" cy="6019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581280" y="685800"/>
            <a:ext cx="3953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终身误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新魏"/>
                <a:ea typeface="华文新魏"/>
              </a:rPr>
              <a:t>都道是金玉良姻，俺只念木石前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新魏"/>
                <a:ea typeface="华文新魏"/>
              </a:rPr>
              <a:t>空对着，山中高士晶莹雪，终不忘，世外仙姝寂寞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新魏"/>
                <a:ea typeface="华文新魏"/>
              </a:rPr>
              <a:t>叹人间，美中不足今方信</a:t>
            </a:r>
            <a:r>
              <a:rPr b="0" lang="zh-CN" sz="28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9933"/>
                </a:solidFill>
                <a:latin typeface="华文新魏"/>
                <a:ea typeface="华文新魏"/>
              </a:rPr>
              <a:t>纵然是齐眉举案，到底意难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43400" y="152280"/>
            <a:ext cx="4419720" cy="3108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43400" y="32767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386712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90600" y="1371600"/>
            <a:ext cx="3472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行楷"/>
                <a:ea typeface="华文行楷"/>
              </a:rPr>
              <a:t>一个是阆苑仙葩，一个是美玉无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行楷"/>
                <a:ea typeface="华文行楷"/>
              </a:rPr>
              <a:t>若说没奇缘，今生偏又遇着他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行楷"/>
                <a:ea typeface="华文行楷"/>
              </a:rPr>
              <a:t>若说有奇缘，如何心事终虚化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行楷"/>
                <a:ea typeface="华文行楷"/>
              </a:rPr>
              <a:t>一个枉自磋嗟呀，一个空劳牵挂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行楷"/>
                <a:ea typeface="华文行楷"/>
              </a:rPr>
              <a:t>一个是水中月，一个是镜中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行楷"/>
                <a:ea typeface="华文行楷"/>
              </a:rPr>
              <a:t>想眼中能有多少泪珠儿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华文行楷"/>
                <a:ea typeface="华文行楷"/>
              </a:rPr>
              <a:t>怎经得秋流到冬尽，春流到夏。</a:t>
            </a:r>
            <a:r>
              <a:rPr b="0" lang="zh-CN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38088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华文隶书"/>
              </a:rPr>
              <a:t>枉凝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809880" cy="616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48320" y="838080"/>
            <a:ext cx="396216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花谢花飞飞满天， 红消香断有谁怜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?  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游丝软系飘春榭， 落絮轻沾扑绣帘。 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闺中女儿惜春暮， 愁绪满怀无释处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.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手把花锄出绣帘， 忍踏落花来复去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? 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柳丝榆荚自芳菲， 不管桃飘与李飞。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桃李明年能再发， 明年闺中知有谁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?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三月香巢已垒成， 梁间燕子太无情。 </a:t>
            </a:r>
            <a:r>
              <a:rPr b="0" lang="zh-CN" sz="1400" spc="-1" strike="noStrike">
                <a:solidFill>
                  <a:srgbClr val="ff99cc"/>
                </a:solidFill>
                <a:latin typeface="幼圆"/>
                <a:ea typeface="幼圆"/>
              </a:rPr>
              <a:t>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明年花发虽可啄， 却不道人去梁空巢也倾。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一年三百六十日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,     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风刀霜剑严相逼。  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明媚鲜妍能几时， 一朝飘泊难寻觅。  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花开易见落难寻， 阶前闷杀葬花人。 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独把花锄泪暗洒， 洒上空枝见血痕。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杜鹃无语正黄昏， 荷锄归去掩重门。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青灯照壁入初睡， 冷雨敲窗被未温。 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怪奴底事倍伤神， 半为怜春半恼春。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怜春忽至恼忽去， 至又无言去不闻。 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昨宵庭外悲歌发， 知是花魂与鸟魂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?    </a:t>
            </a:r>
            <a:br>
              <a:rPr sz="1400"/>
            </a:br>
            <a:r>
              <a:rPr b="0" lang="zh-CN" sz="1600" spc="-1" strike="noStrike">
                <a:solidFill>
                  <a:srgbClr val="ff99cc"/>
                </a:solidFill>
                <a:latin typeface="幼圆"/>
                <a:ea typeface="幼圆"/>
              </a:rPr>
              <a:t>花魂鸟魂总难留</a:t>
            </a:r>
            <a:r>
              <a:rPr b="0" lang="zh-CN" sz="1600" spc="-1" strike="noStrike">
                <a:solidFill>
                  <a:srgbClr val="ff99cc"/>
                </a:solidFill>
                <a:latin typeface="幼圆"/>
                <a:ea typeface="幼圆"/>
              </a:rPr>
              <a:t>,   </a:t>
            </a:r>
            <a:r>
              <a:rPr b="0" lang="zh-CN" sz="1600" spc="-1" strike="noStrike">
                <a:solidFill>
                  <a:srgbClr val="ff99cc"/>
                </a:solidFill>
                <a:latin typeface="幼圆"/>
                <a:ea typeface="幼圆"/>
              </a:rPr>
              <a:t>鸟自无言花自羞。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  </a:t>
            </a:r>
            <a:r>
              <a:rPr b="0" lang="zh-CN" sz="1400" spc="-1" strike="noStrike">
                <a:solidFill>
                  <a:srgbClr val="ff99cc"/>
                </a:solidFill>
                <a:latin typeface="幼圆"/>
                <a:ea typeface="幼圆"/>
              </a:rPr>
              <a:t>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愿侬胁下生双翼， 随花飞到天尽头。天尽头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,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何处有香丘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?  </a:t>
            </a:r>
            <a:r>
              <a:rPr b="0" lang="zh-CN" sz="1400" spc="-1" strike="noStrike">
                <a:solidFill>
                  <a:srgbClr val="ff99cc"/>
                </a:solidFill>
                <a:latin typeface="幼圆"/>
                <a:ea typeface="幼圆"/>
              </a:rPr>
              <a:t>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未若锦囊收艳骨， 一抔净土掩风流。 </a:t>
            </a:r>
            <a:br>
              <a:rPr sz="1400"/>
            </a:br>
            <a:r>
              <a:rPr b="0" lang="zh-CN" sz="1600" spc="-1" strike="noStrike">
                <a:solidFill>
                  <a:srgbClr val="ff99cc"/>
                </a:solidFill>
                <a:latin typeface="幼圆"/>
                <a:ea typeface="幼圆"/>
              </a:rPr>
              <a:t>质本洁来还洁去， 强于污淖陷渠沟。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   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尔今死去侬收葬， 未卜侬身何日丧</a:t>
            </a: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?   </a:t>
            </a:r>
            <a:br>
              <a:rPr sz="1400"/>
            </a:br>
            <a:r>
              <a:rPr b="0" lang="zh-CN" sz="1600" spc="-1" strike="noStrike">
                <a:solidFill>
                  <a:srgbClr val="ff99cc"/>
                </a:solidFill>
                <a:latin typeface="幼圆"/>
                <a:ea typeface="幼圆"/>
              </a:rPr>
              <a:t>侬今葬花人笑痴， 他年葬侬知是谁</a:t>
            </a:r>
            <a:r>
              <a:rPr b="0" lang="zh-CN" sz="1600" spc="-1" strike="noStrike">
                <a:solidFill>
                  <a:srgbClr val="ff99cc"/>
                </a:solidFill>
                <a:latin typeface="幼圆"/>
                <a:ea typeface="幼圆"/>
              </a:rPr>
              <a:t>?  </a:t>
            </a:r>
            <a:r>
              <a:rPr b="0" lang="zh-CN" sz="1400" spc="-1" strike="noStrike">
                <a:solidFill>
                  <a:srgbClr val="ff99cc"/>
                </a:solidFill>
                <a:latin typeface="幼圆"/>
                <a:ea typeface="幼圆"/>
              </a:rPr>
              <a:t>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试看春残花渐落， 便是红颜老死时。  </a:t>
            </a:r>
            <a:r>
              <a:rPr b="0" lang="zh-CN" sz="1400" spc="-1" strike="noStrike">
                <a:solidFill>
                  <a:srgbClr val="ff99cc"/>
                </a:solidFill>
                <a:latin typeface="幼圆"/>
                <a:ea typeface="幼圆"/>
              </a:rPr>
              <a:t> </a:t>
            </a:r>
            <a:br>
              <a:rPr sz="1400"/>
            </a:br>
            <a:r>
              <a:rPr b="0" lang="zh-CN" sz="1400" spc="-1" strike="noStrike">
                <a:solidFill>
                  <a:srgbClr val="3399ff"/>
                </a:solidFill>
                <a:latin typeface="幼圆"/>
                <a:ea typeface="幼圆"/>
              </a:rPr>
              <a:t>一朝春尽红颜老， 花落人亡两不知。</a:t>
            </a:r>
            <a:r>
              <a:rPr b="0" lang="zh-CN" sz="1400" spc="-1" strike="noStrike">
                <a:solidFill>
                  <a:srgbClr val="ff99cc"/>
                </a:solidFill>
                <a:latin typeface="幼圆"/>
                <a:ea typeface="幼圆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行楷"/>
              </a:rPr>
              <a:t>葬花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ogongliwei</cp:lastModifiedBy>
  <dcterms:modified xsi:type="dcterms:W3CDTF">2008-10-28T12:18:3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