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EB3-46F7-4C81-8632-C6FF5C17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981-775C-4768-A7F9-E3CA38B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3A5-10CA-4726-879D-EF90DB81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924-A6FF-4384-A6AF-3DF5BFF6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830-656B-4C73-B965-FBFFB36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9D8-4D95-4F7F-AACD-F42700C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3C7-CC86-4884-ADF0-F834A6E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456-2FED-48F5-9AE0-4793213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057-D277-4934-B82C-1E6AA45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F56-BF9A-44C1-A8FF-2E4BC79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418-E5B3-429B-AD94-2BC8D62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CAA-FF4E-4B53-9906-2881208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7768-F248-48FA-9C28-1F0F3610E5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140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39400" cy="7095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-47520" y="-119160"/>
            <a:ext cx="9239040" cy="70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997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178596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926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212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6640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2837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568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3426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426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926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54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783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15717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355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4283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283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068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283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854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068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2112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497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6569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355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1T01:36:49Z</dcterms:modified>
  <cp:revision>42</cp:revision>
  <dc:subject/>
  <dc:title>幻灯片 1</dc:title>
</cp:coreProperties>
</file>