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F69-988C-45EE-BD16-C39A7A7A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14440" y="5493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C46-1E01-45EE-B9A9-9E87BC46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1356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CAF-B34D-4034-A079-1FF70BA7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632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4120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1144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57632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74120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313-D9D2-43FB-80FF-3B5BFEEE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9837-96A7-4B46-A152-6E2F70DC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8440-34C7-427F-B455-C6CAB4D2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1651-145E-451D-BFAB-884C6CC7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E99C-795B-44E7-AC74-413C495C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EAFA-97F9-412F-86AD-75BF7304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114440" y="411444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9423-ACC6-4722-B777-D9AD3330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6F59-183F-4E6C-8EE5-CC6574B9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CE5-F7F2-4CD0-9B43-9ADB73A1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1356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7B43-C200-4AEE-943A-8A8EE4E1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404B-820A-4E61-A14C-379CC845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14440" y="5493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27EB-E107-47A5-BFC3-C0387895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1356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1E21-9B84-47F6-B06C-8AFDBE26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632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12040" y="5334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1144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57632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7412040" y="5493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C8A7-F599-4CB6-B7AD-5996DEE3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831-086F-4C07-AF46-F220B013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6CD-B84A-4622-9FF5-BD168AA4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B3E-1863-4AA5-98A1-A4440ED5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114440" y="411444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8E3-D053-4E50-9384-AEEA8F74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5E8-AF33-41DA-906F-C50B1A70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13560" y="5493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B99-4519-439D-8EC1-6A0117AF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1444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613560" y="5334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14440" y="5493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402-6A94-4B88-9CB0-03B7AFF7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1203480" cy="1828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8755200" y="812880"/>
            <a:ext cx="388800" cy="387360"/>
          </a:xfrm>
          <a:prstGeom prst="rect">
            <a:avLst/>
          </a:prstGeom>
          <a:solidFill>
            <a:srgbClr val="fea94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55200" y="0"/>
            <a:ext cx="388800" cy="387360"/>
          </a:xfrm>
          <a:prstGeom prst="rect">
            <a:avLst/>
          </a:prstGeom>
          <a:solidFill>
            <a:srgbClr val="fba9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792000" cy="801720"/>
            <a:chOff x="0" y="0"/>
            <a:chExt cx="792000" cy="801720"/>
          </a:xfrm>
        </p:grpSpPr>
        <p:sp>
          <p:nvSpPr>
            <p:cNvPr id="5" name=""/>
            <p:cNvSpPr/>
            <p:nvPr/>
          </p:nvSpPr>
          <p:spPr>
            <a:xfrm>
              <a:off x="403200" y="414360"/>
              <a:ext cx="388800" cy="387360"/>
            </a:xfrm>
            <a:prstGeom prst="rect">
              <a:avLst/>
            </a:prstGeom>
            <a:solidFill>
              <a:srgbClr val="fba9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0"/>
              <a:ext cx="388800" cy="387360"/>
            </a:xfrm>
            <a:prstGeom prst="rect">
              <a:avLst/>
            </a:prstGeom>
            <a:solidFill>
              <a:srgbClr val="d2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06440"/>
              <a:ext cx="388800" cy="387360"/>
            </a:xfrm>
            <a:prstGeom prst="rect">
              <a:avLst/>
            </a:prstGeom>
            <a:solidFill>
              <a:srgbClr val="d2646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348760" y="0"/>
            <a:ext cx="795240" cy="1201680"/>
            <a:chOff x="8348760" y="0"/>
            <a:chExt cx="795240" cy="1201680"/>
          </a:xfrm>
        </p:grpSpPr>
        <p:sp>
          <p:nvSpPr>
            <p:cNvPr id="9" name=""/>
            <p:cNvSpPr/>
            <p:nvPr/>
          </p:nvSpPr>
          <p:spPr>
            <a:xfrm>
              <a:off x="8755200" y="406440"/>
              <a:ext cx="388800" cy="387360"/>
            </a:xfrm>
            <a:prstGeom prst="rect">
              <a:avLst/>
            </a:prstGeom>
            <a:solidFill>
              <a:srgbClr val="d2646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48760" y="406440"/>
              <a:ext cx="388800" cy="387360"/>
            </a:xfrm>
            <a:prstGeom prst="rect">
              <a:avLst/>
            </a:prstGeom>
            <a:solidFill>
              <a:srgbClr val="d2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53400" y="812880"/>
              <a:ext cx="390600" cy="388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55200" y="0"/>
              <a:ext cx="388800" cy="384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1"/>
          </p:nvPr>
        </p:nvSpPr>
        <p:spPr>
          <a:xfrm>
            <a:off x="4191120" y="643860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dt" idx="2"/>
          </p:nvPr>
        </p:nvSpPr>
        <p:spPr>
          <a:xfrm>
            <a:off x="6553080" y="6438600"/>
            <a:ext cx="1524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8534520" y="6419520"/>
            <a:ext cx="457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2442-643D-4F4E-A7F4-FBCFFDDB63E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48120" y="1295280"/>
            <a:ext cx="2610000" cy="2576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1880" y="6107040"/>
            <a:ext cx="762120" cy="750960"/>
          </a:xfrm>
          <a:prstGeom prst="rect">
            <a:avLst/>
          </a:prstGeom>
          <a:solidFill>
            <a:srgbClr val="fea94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1285920" cy="1271520"/>
          </a:xfrm>
          <a:prstGeom prst="rect">
            <a:avLst/>
          </a:prstGeom>
          <a:solidFill>
            <a:srgbClr val="fea94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95280"/>
            <a:ext cx="1285920" cy="1278000"/>
          </a:xfrm>
          <a:prstGeom prst="rect">
            <a:avLst/>
          </a:prstGeom>
          <a:solidFill>
            <a:srgbClr val="d2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14360" y="1300320"/>
            <a:ext cx="1289160" cy="1272960"/>
          </a:xfrm>
          <a:prstGeom prst="rect">
            <a:avLst/>
          </a:prstGeom>
          <a:solidFill>
            <a:srgbClr val="d2646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1960" y="1300320"/>
            <a:ext cx="1289160" cy="1272960"/>
          </a:xfrm>
          <a:prstGeom prst="rect">
            <a:avLst/>
          </a:prstGeom>
          <a:solidFill>
            <a:srgbClr val="d26464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9280" y="1295280"/>
            <a:ext cx="1289160" cy="1282680"/>
          </a:xfrm>
          <a:prstGeom prst="rect">
            <a:avLst/>
          </a:prstGeom>
          <a:solidFill>
            <a:srgbClr val="fba9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67160" y="1295280"/>
            <a:ext cx="1289160" cy="1292400"/>
          </a:xfrm>
          <a:prstGeom prst="rect">
            <a:avLst/>
          </a:prstGeom>
          <a:solidFill>
            <a:srgbClr val="fd9a7b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68960" y="0"/>
            <a:ext cx="1289160" cy="1271520"/>
          </a:xfrm>
          <a:prstGeom prst="rect">
            <a:avLst/>
          </a:prstGeom>
          <a:solidFill>
            <a:srgbClr val="fba9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9280" y="2600280"/>
            <a:ext cx="1289160" cy="1271520"/>
          </a:xfrm>
          <a:prstGeom prst="rect">
            <a:avLst/>
          </a:prstGeom>
          <a:solidFill>
            <a:srgbClr val="fea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75400" y="1300320"/>
            <a:ext cx="1289160" cy="1272960"/>
          </a:xfrm>
          <a:prstGeom prst="rect">
            <a:avLst/>
          </a:prstGeom>
          <a:solidFill>
            <a:srgbClr val="fba99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867800" y="2571840"/>
            <a:ext cx="1276200" cy="1271520"/>
          </a:xfrm>
          <a:prstGeom prst="rect">
            <a:avLst/>
          </a:prstGeom>
          <a:solidFill>
            <a:srgbClr val="fba99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ftr" idx="4"/>
          </p:nvPr>
        </p:nvSpPr>
        <p:spPr>
          <a:xfrm>
            <a:off x="4191120" y="643860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1295280"/>
            <a:ext cx="0" cy="2590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49560" y="2587680"/>
            <a:ext cx="2756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76840" y="1271520"/>
            <a:ext cx="0" cy="13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5"/>
          </p:nvPr>
        </p:nvSpPr>
        <p:spPr>
          <a:xfrm>
            <a:off x="6553080" y="6438600"/>
            <a:ext cx="1524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6"/>
          </p:nvPr>
        </p:nvSpPr>
        <p:spPr>
          <a:xfrm>
            <a:off x="8534520" y="6419520"/>
            <a:ext cx="457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5487-C8CC-44C4-BA04-545C289493F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2280" y="1143000"/>
            <a:ext cx="3668760" cy="556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842240" y="152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1880" y="1297080"/>
            <a:ext cx="1285920" cy="1276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67800" y="2568600"/>
            <a:ext cx="1276200" cy="12715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6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6.png"/><Relationship Id="rId8" Type="http://schemas.openxmlformats.org/officeDocument/2006/relationships/image" Target="../media/image21.png"/><Relationship Id="rId9" Type="http://schemas.openxmlformats.org/officeDocument/2006/relationships/image" Target="../media/image6.png"/><Relationship Id="rId10" Type="http://schemas.openxmlformats.org/officeDocument/2006/relationships/image" Target="../media/image21.png"/><Relationship Id="rId11" Type="http://schemas.openxmlformats.org/officeDocument/2006/relationships/image" Target="../media/image6.png"/><Relationship Id="rId12" Type="http://schemas.openxmlformats.org/officeDocument/2006/relationships/image" Target="../media/image21.png"/><Relationship Id="rId13" Type="http://schemas.openxmlformats.org/officeDocument/2006/relationships/image" Target="../media/image6.png"/><Relationship Id="rId14" Type="http://schemas.openxmlformats.org/officeDocument/2006/relationships/image" Target="../media/image21.png"/><Relationship Id="rId15" Type="http://schemas.openxmlformats.org/officeDocument/2006/relationships/image" Target="../media/image6.png"/><Relationship Id="rId16" Type="http://schemas.openxmlformats.org/officeDocument/2006/relationships/image" Target="../media/image21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image" Target="../media/image6.png"/><Relationship Id="rId14" Type="http://schemas.openxmlformats.org/officeDocument/2006/relationships/image" Target="../media/image7.wmf"/><Relationship Id="rId15" Type="http://schemas.openxmlformats.org/officeDocument/2006/relationships/image" Target="../media/image6.png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333360" y="4124160"/>
            <a:ext cx="3886200" cy="1981080"/>
            <a:chOff x="333360" y="4124160"/>
            <a:chExt cx="3886200" cy="1981080"/>
          </a:xfrm>
        </p:grpSpPr>
        <p:sp>
          <p:nvSpPr>
            <p:cNvPr id="350" name=""/>
            <p:cNvSpPr/>
            <p:nvPr/>
          </p:nvSpPr>
          <p:spPr>
            <a:xfrm>
              <a:off x="333360" y="4124160"/>
              <a:ext cx="3886200" cy="1981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7200" y="4192560"/>
              <a:ext cx="3581280" cy="18255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6213600" y="2263680"/>
            <a:ext cx="45540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89c3bd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26200" y="354960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fba993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13600" y="4802040"/>
            <a:ext cx="455400" cy="38124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fea94c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368280" y="431496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395960" y="5257800"/>
            <a:ext cx="4051080" cy="914400"/>
            <a:chOff x="4395960" y="5257800"/>
            <a:chExt cx="4051080" cy="914400"/>
          </a:xfrm>
        </p:grpSpPr>
        <p:sp>
          <p:nvSpPr>
            <p:cNvPr id="358" name=""/>
            <p:cNvSpPr/>
            <p:nvPr/>
          </p:nvSpPr>
          <p:spPr>
            <a:xfrm>
              <a:off x="4395960" y="52578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6760" y="5267160"/>
              <a:ext cx="4025520" cy="416160"/>
            </a:xfrm>
            <a:prstGeom prst="rect">
              <a:avLst/>
            </a:prstGeom>
            <a:solidFill>
              <a:srgbClr val="d2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08200" y="566424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d26464"/>
                </a:gs>
                <a:gs pos="100000">
                  <a:srgbClr val="e29f9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776840" y="579132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406760" y="2698920"/>
            <a:ext cx="4051440" cy="914400"/>
            <a:chOff x="4406760" y="2698920"/>
            <a:chExt cx="4051440" cy="914400"/>
          </a:xfrm>
        </p:grpSpPr>
        <p:sp>
          <p:nvSpPr>
            <p:cNvPr id="363" name=""/>
            <p:cNvSpPr/>
            <p:nvPr/>
          </p:nvSpPr>
          <p:spPr>
            <a:xfrm>
              <a:off x="4406760" y="269892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17920" y="2708280"/>
              <a:ext cx="4025880" cy="425520"/>
            </a:xfrm>
            <a:prstGeom prst="rect">
              <a:avLst/>
            </a:prstGeom>
            <a:solidFill>
              <a:srgbClr val="fba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19360" y="310536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fba993"/>
                </a:gs>
                <a:gs pos="100000">
                  <a:srgbClr val="fbc9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775040" y="32180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394160" y="3962520"/>
            <a:ext cx="4051440" cy="914400"/>
            <a:chOff x="4394160" y="3962520"/>
            <a:chExt cx="4051440" cy="914400"/>
          </a:xfrm>
        </p:grpSpPr>
        <p:sp>
          <p:nvSpPr>
            <p:cNvPr id="368" name=""/>
            <p:cNvSpPr/>
            <p:nvPr/>
          </p:nvSpPr>
          <p:spPr>
            <a:xfrm>
              <a:off x="4394160" y="396252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16480" y="3971880"/>
              <a:ext cx="4014720" cy="416160"/>
            </a:xfrm>
            <a:prstGeom prst="rect">
              <a:avLst/>
            </a:prstGeom>
            <a:solidFill>
              <a:srgbClr val="fea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06760" y="436896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fea94c"/>
                </a:gs>
                <a:gs pos="100000">
                  <a:srgbClr val="fdc99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775040" y="448776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19640" y="526572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51320" y="269244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51320" y="39402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30360" y="1905120"/>
            <a:ext cx="2831760" cy="2376360"/>
            <a:chOff x="630360" y="1905120"/>
            <a:chExt cx="2831760" cy="2376360"/>
          </a:xfrm>
        </p:grpSpPr>
        <p:sp>
          <p:nvSpPr>
            <p:cNvPr id="376" name="未知"/>
            <p:cNvSpPr/>
            <p:nvPr/>
          </p:nvSpPr>
          <p:spPr>
            <a:xfrm flipH="1">
              <a:off x="1897920" y="3567240"/>
              <a:ext cx="1335240" cy="685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1116000" y="3397320"/>
              <a:ext cx="1400400" cy="663480"/>
            </a:xfrm>
            <a:custGeom>
              <a:avLst/>
              <a:gdLst/>
              <a:ahLst/>
              <a:rect l="l" t="t" r="r" b="b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630360" y="3719520"/>
              <a:ext cx="1187280" cy="561960"/>
            </a:xfrm>
            <a:custGeom>
              <a:avLst/>
              <a:gdLst/>
              <a:ahLst/>
              <a:rect l="l" t="t" r="r" b="b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376280" y="1905120"/>
              <a:ext cx="2085840" cy="2364840"/>
              <a:chOff x="1376280" y="1905120"/>
              <a:chExt cx="2085840" cy="2364840"/>
            </a:xfrm>
          </p:grpSpPr>
          <p:sp>
            <p:nvSpPr>
              <p:cNvPr id="380" name="未知"/>
              <p:cNvSpPr/>
              <p:nvPr/>
            </p:nvSpPr>
            <p:spPr>
              <a:xfrm flipH="1">
                <a:off x="2792520" y="2543400"/>
                <a:ext cx="669600" cy="169092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flipH="1">
                <a:off x="1974960" y="1905120"/>
                <a:ext cx="842400" cy="212724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fcfcf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flipH="1">
                <a:off x="1375920" y="2578680"/>
                <a:ext cx="669240" cy="16912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8c8c8"/>
                  </a:gs>
                  <a:gs pos="100000">
                    <a:srgbClr val="eaeae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4394160" y="1424160"/>
            <a:ext cx="4051440" cy="914400"/>
            <a:chOff x="4394160" y="1424160"/>
            <a:chExt cx="4051440" cy="914400"/>
          </a:xfrm>
        </p:grpSpPr>
        <p:sp>
          <p:nvSpPr>
            <p:cNvPr id="384" name=""/>
            <p:cNvSpPr/>
            <p:nvPr/>
          </p:nvSpPr>
          <p:spPr>
            <a:xfrm>
              <a:off x="4394160" y="142416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14680" y="1433520"/>
              <a:ext cx="4016520" cy="416160"/>
            </a:xfrm>
            <a:prstGeom prst="rect">
              <a:avLst/>
            </a:prstGeom>
            <a:solidFill>
              <a:srgbClr val="89c3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06760" y="183060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89c3bd"/>
                </a:gs>
                <a:gs pos="100000">
                  <a:srgbClr val="b6d9d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775040" y="194616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51320" y="139716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 rot="5400000">
            <a:off x="3369600" y="2808000"/>
            <a:ext cx="2224080" cy="1173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3360" y="2266920"/>
            <a:ext cx="3657600" cy="689040"/>
            <a:chOff x="603360" y="2266920"/>
            <a:chExt cx="3657600" cy="689040"/>
          </a:xfrm>
        </p:grpSpPr>
        <p:sp>
          <p:nvSpPr>
            <p:cNvPr id="392" name=""/>
            <p:cNvSpPr/>
            <p:nvPr/>
          </p:nvSpPr>
          <p:spPr>
            <a:xfrm>
              <a:off x="603360" y="226692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ba993"/>
                </a:gs>
                <a:gs pos="50000">
                  <a:srgbClr val="e69b86"/>
                </a:gs>
                <a:gs pos="100000">
                  <a:srgbClr val="fba9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612000" y="2288160"/>
              <a:ext cx="3643920" cy="636840"/>
              <a:chOff x="612000" y="2288160"/>
              <a:chExt cx="3643920" cy="636840"/>
            </a:xfrm>
          </p:grpSpPr>
          <p:sp>
            <p:nvSpPr>
              <p:cNvPr id="394" name=""/>
              <p:cNvSpPr/>
              <p:nvPr/>
            </p:nvSpPr>
            <p:spPr>
              <a:xfrm>
                <a:off x="612000" y="276012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ba993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2000" y="228816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f0ed"/>
                  </a:gs>
                  <a:gs pos="100000">
                    <a:srgbClr val="fba99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603360" y="3056040"/>
            <a:ext cx="3657600" cy="689040"/>
            <a:chOff x="603360" y="3056040"/>
            <a:chExt cx="3657600" cy="689040"/>
          </a:xfrm>
        </p:grpSpPr>
        <p:sp>
          <p:nvSpPr>
            <p:cNvPr id="397" name=""/>
            <p:cNvSpPr/>
            <p:nvPr/>
          </p:nvSpPr>
          <p:spPr>
            <a:xfrm>
              <a:off x="603360" y="305604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ea94c"/>
                </a:gs>
                <a:gs pos="50000">
                  <a:srgbClr val="e99b45"/>
                </a:gs>
                <a:gs pos="100000">
                  <a:srgbClr val="fea9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612000" y="3077280"/>
              <a:ext cx="3643920" cy="636840"/>
              <a:chOff x="612000" y="3077280"/>
              <a:chExt cx="3643920" cy="636840"/>
            </a:xfrm>
          </p:grpSpPr>
          <p:sp>
            <p:nvSpPr>
              <p:cNvPr id="399" name=""/>
              <p:cNvSpPr/>
              <p:nvPr/>
            </p:nvSpPr>
            <p:spPr>
              <a:xfrm>
                <a:off x="612000" y="354924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a94c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2000" y="307728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e8d0"/>
                  </a:gs>
                  <a:gs pos="100000">
                    <a:srgbClr val="fea94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"/>
          <p:cNvGrpSpPr/>
          <p:nvPr/>
        </p:nvGrpSpPr>
        <p:grpSpPr>
          <a:xfrm>
            <a:off x="603360" y="3836880"/>
            <a:ext cx="3657600" cy="689040"/>
            <a:chOff x="603360" y="3836880"/>
            <a:chExt cx="3657600" cy="689040"/>
          </a:xfrm>
        </p:grpSpPr>
        <p:sp>
          <p:nvSpPr>
            <p:cNvPr id="402" name=""/>
            <p:cNvSpPr/>
            <p:nvPr/>
          </p:nvSpPr>
          <p:spPr>
            <a:xfrm>
              <a:off x="603360" y="3836880"/>
              <a:ext cx="36576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89c3bd"/>
                </a:gs>
                <a:gs pos="50000">
                  <a:srgbClr val="7db3ad"/>
                </a:gs>
                <a:gs pos="100000">
                  <a:srgbClr val="89c3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12000" y="3858120"/>
              <a:ext cx="3643920" cy="636840"/>
              <a:chOff x="612000" y="3858120"/>
              <a:chExt cx="3643920" cy="636840"/>
            </a:xfrm>
          </p:grpSpPr>
          <p:sp>
            <p:nvSpPr>
              <p:cNvPr id="404" name=""/>
              <p:cNvSpPr/>
              <p:nvPr/>
            </p:nvSpPr>
            <p:spPr>
              <a:xfrm>
                <a:off x="612000" y="433008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9c3bd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2000" y="3858120"/>
                <a:ext cx="3643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3f0ef"/>
                  </a:gs>
                  <a:gs pos="100000">
                    <a:srgbClr val="89c3b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1368360" y="2371680"/>
            <a:ext cx="23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76280" y="3133800"/>
            <a:ext cx="23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378080" y="3913200"/>
            <a:ext cx="23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38640" y="2065320"/>
            <a:ext cx="3395880" cy="2616120"/>
          </a:xfrm>
          <a:prstGeom prst="flowChartAlternateProcess">
            <a:avLst/>
          </a:prstGeom>
          <a:gradFill rotWithShape="0">
            <a:gsLst>
              <a:gs pos="0">
                <a:srgbClr val="e2e2e2"/>
              </a:gs>
              <a:gs pos="50000">
                <a:srgbClr val="ffffff"/>
              </a:gs>
              <a:gs pos="100000">
                <a:srgbClr val="e2e2e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21440" y="2100240"/>
            <a:ext cx="323028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000" spc="-1" strike="noStrike" u="sng">
                <a:solidFill>
                  <a:srgbClr val="a50021"/>
                </a:solidFill>
                <a:uFillTx/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. Description of  the cont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. Description of 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3. Description of 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590400" y="232236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92000" y="311148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590400" y="3902040"/>
            <a:ext cx="576360" cy="690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982800" y="4937040"/>
            <a:ext cx="712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5257800" y="5638680"/>
            <a:ext cx="3000240" cy="466920"/>
            <a:chOff x="5257800" y="5638680"/>
            <a:chExt cx="3000240" cy="466920"/>
          </a:xfrm>
        </p:grpSpPr>
        <p:sp>
          <p:nvSpPr>
            <p:cNvPr id="416" name=""/>
            <p:cNvSpPr/>
            <p:nvPr/>
          </p:nvSpPr>
          <p:spPr>
            <a:xfrm>
              <a:off x="5257800" y="5638680"/>
              <a:ext cx="3000240" cy="466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53200" y="5654520"/>
              <a:ext cx="2764800" cy="4302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47800" y="5638680"/>
            <a:ext cx="3000240" cy="466920"/>
            <a:chOff x="847800" y="5638680"/>
            <a:chExt cx="3000240" cy="466920"/>
          </a:xfrm>
        </p:grpSpPr>
        <p:sp>
          <p:nvSpPr>
            <p:cNvPr id="419" name=""/>
            <p:cNvSpPr/>
            <p:nvPr/>
          </p:nvSpPr>
          <p:spPr>
            <a:xfrm>
              <a:off x="847800" y="5638680"/>
              <a:ext cx="3000240" cy="466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43200" y="5654520"/>
              <a:ext cx="2764800" cy="4302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5283360" y="2805120"/>
            <a:ext cx="2849400" cy="275256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d2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46720" y="287028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73080" y="2241720"/>
            <a:ext cx="2857320" cy="466560"/>
            <a:chOff x="973080" y="2241720"/>
            <a:chExt cx="2857320" cy="466560"/>
          </a:xfrm>
        </p:grpSpPr>
        <p:sp>
          <p:nvSpPr>
            <p:cNvPr id="425" name=""/>
            <p:cNvSpPr/>
            <p:nvPr/>
          </p:nvSpPr>
          <p:spPr>
            <a:xfrm>
              <a:off x="973080" y="22417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68573"/>
                </a:gs>
                <a:gs pos="50000">
                  <a:srgbClr val="fba993"/>
                </a:gs>
                <a:gs pos="100000">
                  <a:srgbClr val="c68573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3687840" y="23115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03320" y="23115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257800" y="2241720"/>
            <a:ext cx="2857320" cy="466560"/>
            <a:chOff x="5257800" y="2241720"/>
            <a:chExt cx="2857320" cy="466560"/>
          </a:xfrm>
        </p:grpSpPr>
        <p:sp>
          <p:nvSpPr>
            <p:cNvPr id="429" name=""/>
            <p:cNvSpPr/>
            <p:nvPr/>
          </p:nvSpPr>
          <p:spPr>
            <a:xfrm>
              <a:off x="5257800" y="22417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a5858"/>
                </a:gs>
                <a:gs pos="50000">
                  <a:srgbClr val="d26464"/>
                </a:gs>
                <a:gs pos="100000">
                  <a:srgbClr val="ba5858"/>
                </a:gs>
              </a:gsLst>
              <a:lin ang="10800000"/>
            </a:gradFill>
            <a:ln w="12600">
              <a:solidFill>
                <a:srgbClr val="d26464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972560" y="23115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88040" y="23115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973080" y="28051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ba9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1239840" y="23209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5578560" y="232092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flipV="1" rot="10806000">
            <a:off x="3904920" y="3348360"/>
            <a:ext cx="1293840" cy="755640"/>
          </a:xfrm>
          <a:prstGeom prst="rightArrow">
            <a:avLst>
              <a:gd name="adj1" fmla="val 46509"/>
              <a:gd name="adj2" fmla="val 37622"/>
            </a:avLst>
          </a:prstGeom>
          <a:gradFill rotWithShape="0">
            <a:gsLst>
              <a:gs pos="0">
                <a:srgbClr val="fba993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26000" y="29462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26464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d26464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14840" y="42260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26464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d26464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656320" y="32511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56320" y="44719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415120" y="3016080"/>
            <a:ext cx="168120" cy="168480"/>
            <a:chOff x="5415120" y="3016080"/>
            <a:chExt cx="168120" cy="168480"/>
          </a:xfrm>
        </p:grpSpPr>
        <p:sp>
          <p:nvSpPr>
            <p:cNvPr id="441" name=""/>
            <p:cNvSpPr/>
            <p:nvPr/>
          </p:nvSpPr>
          <p:spPr>
            <a:xfrm>
              <a:off x="5415120" y="3016080"/>
              <a:ext cx="16812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28440" y="303012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e19b9b"/>
                </a:gs>
                <a:gs pos="100000">
                  <a:srgbClr val="d2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415120" y="4307040"/>
            <a:ext cx="168120" cy="168120"/>
            <a:chOff x="5415120" y="4307040"/>
            <a:chExt cx="168120" cy="168120"/>
          </a:xfrm>
        </p:grpSpPr>
        <p:sp>
          <p:nvSpPr>
            <p:cNvPr id="444" name=""/>
            <p:cNvSpPr/>
            <p:nvPr/>
          </p:nvSpPr>
          <p:spPr>
            <a:xfrm>
              <a:off x="5415120" y="4307040"/>
              <a:ext cx="16812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28440" y="432108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e19b9b"/>
                </a:gs>
                <a:gs pos="100000">
                  <a:srgbClr val="d264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125360" y="479592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49400" y="30322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ba9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49400" y="361620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fba9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49400" y="41767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fba9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73880" y="31050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73880" y="36892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73880" y="42480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 rot="10794000">
            <a:off x="3873240" y="3954600"/>
            <a:ext cx="1296720" cy="755640"/>
          </a:xfrm>
          <a:prstGeom prst="rightArrow">
            <a:avLst>
              <a:gd name="adj1" fmla="val 46509"/>
              <a:gd name="adj2" fmla="val 37705"/>
            </a:avLst>
          </a:prstGeom>
          <a:gradFill rotWithShape="0">
            <a:gsLst>
              <a:gs pos="0">
                <a:srgbClr val="d26464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914400" y="1492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4680" y="56833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44920" y="56833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475308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143000" y="4552920"/>
            <a:ext cx="2885760" cy="444240"/>
            <a:chOff x="1143000" y="4552920"/>
            <a:chExt cx="2885760" cy="444240"/>
          </a:xfrm>
        </p:grpSpPr>
        <p:sp>
          <p:nvSpPr>
            <p:cNvPr id="460" name=""/>
            <p:cNvSpPr/>
            <p:nvPr/>
          </p:nvSpPr>
          <p:spPr>
            <a:xfrm>
              <a:off x="1143000" y="45529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62440" y="45565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4572000" y="475308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800600" y="4552920"/>
            <a:ext cx="2885760" cy="444240"/>
            <a:chOff x="4800600" y="4552920"/>
            <a:chExt cx="2885760" cy="444240"/>
          </a:xfrm>
        </p:grpSpPr>
        <p:sp>
          <p:nvSpPr>
            <p:cNvPr id="464" name=""/>
            <p:cNvSpPr/>
            <p:nvPr/>
          </p:nvSpPr>
          <p:spPr>
            <a:xfrm>
              <a:off x="4800600" y="45529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20040" y="455652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33240" y="3943440"/>
            <a:ext cx="7824960" cy="552240"/>
            <a:chOff x="633240" y="3943440"/>
            <a:chExt cx="7824960" cy="552240"/>
          </a:xfrm>
        </p:grpSpPr>
        <p:sp>
          <p:nvSpPr>
            <p:cNvPr id="467" name=""/>
            <p:cNvSpPr/>
            <p:nvPr/>
          </p:nvSpPr>
          <p:spPr>
            <a:xfrm>
              <a:off x="633240" y="4078080"/>
              <a:ext cx="345960" cy="27756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760" y="3943440"/>
              <a:ext cx="7696440" cy="552240"/>
            </a:xfrm>
            <a:prstGeom prst="rightArrow">
              <a:avLst>
                <a:gd name="adj1" fmla="val 50000"/>
                <a:gd name="adj2" fmla="val 63232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600200" y="40384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145040" y="40384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10240" y="40384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914400" y="2133360"/>
            <a:ext cx="0" cy="19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270240" y="1797120"/>
            <a:ext cx="0" cy="2241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610240" y="1339920"/>
            <a:ext cx="0" cy="2698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974000" y="958320"/>
            <a:ext cx="0" cy="307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14400" y="358128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e4a5a5"/>
              </a:gs>
              <a:gs pos="100000">
                <a:srgbClr val="d2646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71680" y="3048120"/>
            <a:ext cx="2347920" cy="99036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fbcfc3"/>
              </a:gs>
              <a:gs pos="100000">
                <a:srgbClr val="fba99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619600" y="243828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b3d8d4"/>
              </a:gs>
              <a:gs pos="100000">
                <a:srgbClr val="89c3b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14400" y="240984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98680" y="19051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46600" y="129528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43000" y="3584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173240" y="45990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30840" y="45990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20600" y="50752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68840" y="50752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3352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834160" y="308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8786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492" name=""/>
          <p:cNvSpPr/>
          <p:nvPr/>
        </p:nvSpPr>
        <p:spPr>
          <a:xfrm>
            <a:off x="806400" y="1447920"/>
            <a:ext cx="638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4483080"/>
            <a:ext cx="2522520" cy="1478160"/>
          </a:xfrm>
          <a:prstGeom prst="rect">
            <a:avLst/>
          </a:prstGeom>
          <a:gradFill rotWithShape="0">
            <a:gsLst>
              <a:gs pos="0">
                <a:srgbClr val="fea94c"/>
              </a:gs>
              <a:gs pos="100000">
                <a:srgbClr val="b77a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75040" y="22096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22840" y="22096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1720" y="4627440"/>
            <a:ext cx="2503440" cy="1478160"/>
          </a:xfrm>
          <a:prstGeom prst="rect">
            <a:avLst/>
          </a:prstGeom>
          <a:gradFill rotWithShape="0">
            <a:gsLst>
              <a:gs pos="0">
                <a:srgbClr val="fea94c"/>
              </a:gs>
              <a:gs pos="100000">
                <a:srgbClr val="da91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184560" y="50878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069920" y="3181320"/>
            <a:ext cx="1734840" cy="1446120"/>
            <a:chOff x="1069920" y="3181320"/>
            <a:chExt cx="1734840" cy="1446120"/>
          </a:xfrm>
        </p:grpSpPr>
        <p:sp>
          <p:nvSpPr>
            <p:cNvPr id="499" name=""/>
            <p:cNvSpPr/>
            <p:nvPr/>
          </p:nvSpPr>
          <p:spPr>
            <a:xfrm>
              <a:off x="1069920" y="3181320"/>
              <a:ext cx="1734840" cy="144612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86840" y="3196080"/>
              <a:ext cx="1688400" cy="140688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069920" y="4680000"/>
            <a:ext cx="1734840" cy="1447920"/>
            <a:chOff x="1069920" y="4680000"/>
            <a:chExt cx="1734840" cy="1447920"/>
          </a:xfrm>
        </p:grpSpPr>
        <p:sp>
          <p:nvSpPr>
            <p:cNvPr id="502" name=""/>
            <p:cNvSpPr/>
            <p:nvPr/>
          </p:nvSpPr>
          <p:spPr>
            <a:xfrm>
              <a:off x="1069920" y="4680000"/>
              <a:ext cx="1734840" cy="144792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86840" y="4694760"/>
              <a:ext cx="1688400" cy="140868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995400" y="3700440"/>
            <a:ext cx="174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95400" y="5194440"/>
            <a:ext cx="174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22840" y="4772160"/>
            <a:ext cx="22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57480" y="2274840"/>
            <a:ext cx="2131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708520" y="2274840"/>
            <a:ext cx="2132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486400" y="2941560"/>
            <a:ext cx="2522520" cy="1476360"/>
          </a:xfrm>
          <a:prstGeom prst="rect">
            <a:avLst/>
          </a:prstGeom>
          <a:gradFill rotWithShape="0">
            <a:gsLst>
              <a:gs pos="0">
                <a:srgbClr val="d26464"/>
              </a:gs>
              <a:gs pos="100000">
                <a:srgbClr val="9748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71720" y="3078000"/>
            <a:ext cx="2503440" cy="1478160"/>
          </a:xfrm>
          <a:prstGeom prst="rect">
            <a:avLst/>
          </a:prstGeom>
          <a:gradFill rotWithShape="0">
            <a:gsLst>
              <a:gs pos="0">
                <a:srgbClr val="d26464"/>
              </a:gs>
              <a:gs pos="100000">
                <a:srgbClr val="b45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184560" y="35416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622840" y="3230640"/>
            <a:ext cx="22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1738440" y="56340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未知"/>
          <p:cNvSpPr/>
          <p:nvPr/>
        </p:nvSpPr>
        <p:spPr>
          <a:xfrm>
            <a:off x="2438280" y="25290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9efef">
                  <a:alpha val="80000"/>
                </a:srgbClr>
              </a:gs>
              <a:gs pos="100000">
                <a:srgbClr val="d26464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52760" y="56545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17280" y="4724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88680" y="4606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50560" y="3862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18800" y="3152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249160" y="46735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31560" y="3774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76760" y="21081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511040" y="283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27280" y="606420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95320" y="571644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2071800"/>
            <a:ext cx="2209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2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2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2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22240" y="1973160"/>
            <a:ext cx="3870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71720" y="498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734d43"/>
              </a:gs>
              <a:gs pos="100000">
                <a:srgbClr val="fba9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30520" y="4908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734d43"/>
              </a:gs>
              <a:gs pos="100000">
                <a:srgbClr val="fba9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54400" y="4203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734d43"/>
              </a:gs>
              <a:gs pos="100000">
                <a:srgbClr val="fba9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88000" y="3430440"/>
            <a:ext cx="193680" cy="193680"/>
          </a:xfrm>
          <a:prstGeom prst="ellipse">
            <a:avLst/>
          </a:prstGeom>
          <a:gradFill rotWithShape="0">
            <a:gsLst>
              <a:gs pos="0">
                <a:srgbClr val="734d43"/>
              </a:gs>
              <a:gs pos="100000">
                <a:srgbClr val="fba9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68760" y="4487760"/>
            <a:ext cx="193680" cy="193680"/>
          </a:xfrm>
          <a:prstGeom prst="ellipse">
            <a:avLst/>
          </a:prstGeom>
          <a:gradFill rotWithShape="0">
            <a:gsLst>
              <a:gs pos="0">
                <a:srgbClr val="734d43"/>
              </a:gs>
              <a:gs pos="100000">
                <a:srgbClr val="fba9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084720" y="4083120"/>
            <a:ext cx="193680" cy="193680"/>
          </a:xfrm>
          <a:prstGeom prst="ellipse">
            <a:avLst/>
          </a:prstGeom>
          <a:gradFill rotWithShape="0">
            <a:gsLst>
              <a:gs pos="0">
                <a:srgbClr val="734d43"/>
              </a:gs>
              <a:gs pos="100000">
                <a:srgbClr val="fba9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3320" y="2513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734d43"/>
              </a:gs>
              <a:gs pos="100000">
                <a:srgbClr val="fba9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45240" y="3098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734d43"/>
              </a:gs>
              <a:gs pos="100000">
                <a:srgbClr val="fba9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66880" y="2071800"/>
            <a:ext cx="22100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2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2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d264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38080" y="152244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297828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未知"/>
          <p:cNvSpPr/>
          <p:nvPr/>
        </p:nvSpPr>
        <p:spPr>
          <a:xfrm flipH="1" rot="3046800">
            <a:off x="5937120" y="1138320"/>
            <a:ext cx="1828800" cy="29210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4c"/>
              </a:gs>
              <a:gs pos="100000">
                <a:srgbClr val="fde1c1"/>
              </a:gs>
            </a:gsLst>
            <a:lin ang="11148000"/>
          </a:gra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 flipH="1" rot="3172200">
            <a:off x="3588840" y="3182400"/>
            <a:ext cx="1806840" cy="288288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ce1d9"/>
              </a:gs>
              <a:gs pos="100000">
                <a:srgbClr val="fba993"/>
              </a:gs>
            </a:gsLst>
            <a:lin ang="11274000"/>
          </a:gra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未知"/>
          <p:cNvSpPr/>
          <p:nvPr/>
        </p:nvSpPr>
        <p:spPr>
          <a:xfrm rot="18472800">
            <a:off x="5936760" y="3187800"/>
            <a:ext cx="1828800" cy="29210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d26464"/>
              </a:gs>
              <a:gs pos="100000">
                <a:srgbClr val="eec9c9"/>
              </a:gs>
            </a:gsLst>
            <a:lin ang="16626000"/>
          </a:gra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未知"/>
          <p:cNvSpPr/>
          <p:nvPr/>
        </p:nvSpPr>
        <p:spPr>
          <a:xfrm rot="18553200">
            <a:off x="3594240" y="1136520"/>
            <a:ext cx="1828800" cy="29210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d6e9e7"/>
              </a:gs>
              <a:gs pos="100000">
                <a:srgbClr val="89c3bd"/>
              </a:gs>
            </a:gsLst>
            <a:lin ang="16548000"/>
          </a:gra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03920" y="2867040"/>
            <a:ext cx="1523880" cy="15238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49800" y="22431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670200" y="44704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26040" y="4454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86440" y="312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83400" y="312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12000" y="3780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83400" y="3772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627360" y="22622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rot="18892800">
            <a:off x="1197360" y="17132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89c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 rot="2692800">
            <a:off x="1197000" y="16754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ba993"/>
              </a:gs>
              <a:gs pos="100000">
                <a:srgbClr val="fbbeae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102280" y="204156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952880" y="1881360"/>
            <a:ext cx="5040" cy="30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2692800">
            <a:off x="1171080" y="171468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fea94c"/>
              </a:gs>
              <a:gs pos="100000">
                <a:srgbClr val="fdbe7a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 rot="18907200">
            <a:off x="1168560" y="167544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d26464"/>
              </a:gs>
              <a:gs pos="100000">
                <a:srgbClr val="dc8c8c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 rot="18991800">
            <a:off x="1242720" y="230148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2" name=""/>
          <p:cNvSpPr txBox="1"/>
          <p:nvPr/>
        </p:nvSpPr>
        <p:spPr>
          <a:xfrm rot="2855400">
            <a:off x="2409480" y="23590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3" name=""/>
          <p:cNvSpPr txBox="1"/>
          <p:nvPr/>
        </p:nvSpPr>
        <p:spPr>
          <a:xfrm rot="2855400">
            <a:off x="1236240" y="34988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4" name=""/>
          <p:cNvSpPr txBox="1"/>
          <p:nvPr/>
        </p:nvSpPr>
        <p:spPr>
          <a:xfrm rot="18739200">
            <a:off x="2432880" y="343764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4160" y="33685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33560" y="281628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1d57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54080" y="32734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22960" y="3687840"/>
            <a:ext cx="247680" cy="247680"/>
          </a:xfrm>
          <a:prstGeom prst="donut">
            <a:avLst>
              <a:gd name="adj" fmla="val 25000"/>
            </a:avLst>
          </a:prstGeom>
          <a:solidFill>
            <a:srgbClr val="fba993"/>
          </a:soli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22960" y="4002120"/>
            <a:ext cx="247680" cy="247680"/>
          </a:xfrm>
          <a:prstGeom prst="donut">
            <a:avLst>
              <a:gd name="adj" fmla="val 25000"/>
            </a:avLst>
          </a:prstGeom>
          <a:solidFill>
            <a:srgbClr val="89c3bd"/>
          </a:soli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22960" y="4316400"/>
            <a:ext cx="247680" cy="247680"/>
          </a:xfrm>
          <a:prstGeom prst="donut">
            <a:avLst>
              <a:gd name="adj" fmla="val 25000"/>
            </a:avLst>
          </a:prstGeom>
          <a:solidFill>
            <a:srgbClr val="fea94c"/>
          </a:soli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22960" y="4630680"/>
            <a:ext cx="247680" cy="247680"/>
          </a:xfrm>
          <a:prstGeom prst="donut">
            <a:avLst>
              <a:gd name="adj" fmla="val 25000"/>
            </a:avLst>
          </a:prstGeom>
          <a:solidFill>
            <a:srgbClr val="d26464"/>
          </a:soli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87920" y="36464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87920" y="39830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87920" y="42973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587920" y="46022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95000" y="257184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030320" y="560700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579" name="未知"/>
          <p:cNvSpPr/>
          <p:nvPr/>
        </p:nvSpPr>
        <p:spPr>
          <a:xfrm>
            <a:off x="2205000" y="360828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9c3bd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未知"/>
          <p:cNvSpPr/>
          <p:nvPr/>
        </p:nvSpPr>
        <p:spPr>
          <a:xfrm>
            <a:off x="4124160" y="354348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89c3bd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未知"/>
          <p:cNvSpPr/>
          <p:nvPr/>
        </p:nvSpPr>
        <p:spPr>
          <a:xfrm flipH="1">
            <a:off x="4524480" y="360828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9c3bd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697040" y="2381400"/>
            <a:ext cx="1361520" cy="1321560"/>
            <a:chOff x="1697040" y="2381400"/>
            <a:chExt cx="1361520" cy="1321560"/>
          </a:xfrm>
        </p:grpSpPr>
        <p:sp>
          <p:nvSpPr>
            <p:cNvPr id="583" name=""/>
            <p:cNvSpPr/>
            <p:nvPr/>
          </p:nvSpPr>
          <p:spPr>
            <a:xfrm>
              <a:off x="1697040" y="23814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26464"/>
                </a:gs>
                <a:gs pos="100000">
                  <a:srgbClr val="924545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1782720" y="24670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8b2b2"/>
                </a:gs>
                <a:gs pos="50000">
                  <a:srgbClr val="d26464">
                    <a:alpha val="0"/>
                  </a:srgbClr>
                </a:gs>
                <a:gs pos="100000">
                  <a:srgbClr val="e8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1790640" y="26668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622680" y="2381400"/>
            <a:ext cx="1361520" cy="1321560"/>
            <a:chOff x="3622680" y="2381400"/>
            <a:chExt cx="1361520" cy="1321560"/>
          </a:xfrm>
        </p:grpSpPr>
        <p:sp>
          <p:nvSpPr>
            <p:cNvPr id="587" name=""/>
            <p:cNvSpPr/>
            <p:nvPr/>
          </p:nvSpPr>
          <p:spPr>
            <a:xfrm>
              <a:off x="3622680" y="23814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ba993"/>
                </a:gs>
                <a:gs pos="100000">
                  <a:srgbClr val="ae7566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3708360" y="24670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cd4c9"/>
                </a:gs>
                <a:gs pos="50000">
                  <a:srgbClr val="fba993">
                    <a:alpha val="0"/>
                  </a:srgbClr>
                </a:gs>
                <a:gs pos="100000">
                  <a:srgbClr val="fcd4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592600" y="2390760"/>
            <a:ext cx="1361520" cy="1321560"/>
            <a:chOff x="5592600" y="2390760"/>
            <a:chExt cx="1361520" cy="1321560"/>
          </a:xfrm>
        </p:grpSpPr>
        <p:sp>
          <p:nvSpPr>
            <p:cNvPr id="590" name=""/>
            <p:cNvSpPr/>
            <p:nvPr/>
          </p:nvSpPr>
          <p:spPr>
            <a:xfrm>
              <a:off x="5592600" y="239076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ea94c"/>
                </a:gs>
                <a:gs pos="100000">
                  <a:srgbClr val="b0753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5678280" y="247644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dd4a7"/>
                </a:gs>
                <a:gs pos="50000">
                  <a:srgbClr val="fea94c">
                    <a:alpha val="0"/>
                  </a:srgbClr>
                </a:gs>
                <a:gs pos="100000">
                  <a:srgbClr val="fdd4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3672000" y="26668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672160" y="267660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95280" y="146844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0508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26464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67000" y="5508720"/>
            <a:ext cx="57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85480"/>
            <a:ext cx="73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ontents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720800"/>
            <a:ext cx="4070160" cy="4070520"/>
          </a:xfrm>
          <a:prstGeom prst="donut">
            <a:avLst>
              <a:gd name="adj" fmla="val 9027"/>
            </a:avLst>
          </a:prstGeom>
          <a:gradFill rotWithShape="0">
            <a:gsLst>
              <a:gs pos="0">
                <a:srgbClr val="d26464">
                  <a:alpha val="60000"/>
                </a:srgbClr>
              </a:gs>
              <a:gs pos="50000">
                <a:srgbClr val="efcccc">
                  <a:alpha val="60000"/>
                </a:srgbClr>
              </a:gs>
              <a:gs pos="100000">
                <a:srgbClr val="d26464">
                  <a:alpha val="60000"/>
                </a:srgbClr>
              </a:gs>
            </a:gsLst>
            <a:lin ang="8100000"/>
          </a:gradFill>
          <a:ln w="76320">
            <a:solidFill>
              <a:srgbClr val="5f5f5f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317600" y="300024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198288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21320" y="489096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8520" y="423540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25880" y="27115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30800" y="34639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979800" y="1986120"/>
            <a:ext cx="482760" cy="473040"/>
            <a:chOff x="3979800" y="1986120"/>
            <a:chExt cx="482760" cy="473040"/>
          </a:xfrm>
        </p:grpSpPr>
        <p:grpSp>
          <p:nvGrpSpPr>
            <p:cNvPr id="125" name=""/>
            <p:cNvGrpSpPr/>
            <p:nvPr/>
          </p:nvGrpSpPr>
          <p:grpSpPr>
            <a:xfrm>
              <a:off x="3979800" y="1986120"/>
              <a:ext cx="482760" cy="473040"/>
              <a:chOff x="3979800" y="1986120"/>
              <a:chExt cx="482760" cy="47304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79800" y="198612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979800" y="198612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89c3bd">
                      <a:alpha val="55294"/>
                    </a:srgbClr>
                  </a:gs>
                  <a:gs pos="50000">
                    <a:srgbClr val="3f5957">
                      <a:alpha val="90196"/>
                    </a:srgbClr>
                  </a:gs>
                  <a:gs pos="100000">
                    <a:srgbClr val="89c3bd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028040" y="199044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4433760" y="2649600"/>
            <a:ext cx="482760" cy="473040"/>
            <a:chOff x="4433760" y="2649600"/>
            <a:chExt cx="482760" cy="473040"/>
          </a:xfrm>
        </p:grpSpPr>
        <p:grpSp>
          <p:nvGrpSpPr>
            <p:cNvPr id="130" name=""/>
            <p:cNvGrpSpPr/>
            <p:nvPr/>
          </p:nvGrpSpPr>
          <p:grpSpPr>
            <a:xfrm>
              <a:off x="4433760" y="2649600"/>
              <a:ext cx="482760" cy="473040"/>
              <a:chOff x="4433760" y="2649600"/>
              <a:chExt cx="482760" cy="473040"/>
            </a:xfrm>
          </p:grpSpPr>
          <p:pic>
            <p:nvPicPr>
              <p:cNvPr id="1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33760" y="264960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4433760" y="264960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fea94c">
                      <a:alpha val="55294"/>
                    </a:srgbClr>
                  </a:gs>
                  <a:gs pos="50000">
                    <a:srgbClr val="754d23">
                      <a:alpha val="90196"/>
                    </a:srgbClr>
                  </a:gs>
                  <a:gs pos="100000">
                    <a:srgbClr val="fea94c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4482000" y="265392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4586400" y="3395520"/>
            <a:ext cx="482400" cy="473040"/>
            <a:chOff x="4586400" y="3395520"/>
            <a:chExt cx="482400" cy="473040"/>
          </a:xfrm>
        </p:grpSpPr>
        <p:grpSp>
          <p:nvGrpSpPr>
            <p:cNvPr id="135" name=""/>
            <p:cNvGrpSpPr/>
            <p:nvPr/>
          </p:nvGrpSpPr>
          <p:grpSpPr>
            <a:xfrm>
              <a:off x="4586400" y="3395520"/>
              <a:ext cx="482400" cy="473040"/>
              <a:chOff x="4586400" y="3395520"/>
              <a:chExt cx="482400" cy="473040"/>
            </a:xfrm>
          </p:grpSpPr>
          <p:pic>
            <p:nvPicPr>
              <p:cNvPr id="13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586400" y="3395520"/>
                <a:ext cx="48240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4586400" y="3395520"/>
                <a:ext cx="479160" cy="473040"/>
              </a:xfrm>
              <a:prstGeom prst="ellipse">
                <a:avLst/>
              </a:prstGeom>
              <a:gradFill rotWithShape="0">
                <a:gsLst>
                  <a:gs pos="0">
                    <a:srgbClr val="fba993">
                      <a:alpha val="55294"/>
                    </a:srgbClr>
                  </a:gs>
                  <a:gs pos="50000">
                    <a:srgbClr val="734d43">
                      <a:alpha val="90196"/>
                    </a:srgbClr>
                  </a:gs>
                  <a:gs pos="100000">
                    <a:srgbClr val="fba993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4634280" y="3399840"/>
              <a:ext cx="38088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4467240" y="4154400"/>
            <a:ext cx="482760" cy="473040"/>
            <a:chOff x="4467240" y="4154400"/>
            <a:chExt cx="482760" cy="473040"/>
          </a:xfrm>
        </p:grpSpPr>
        <p:grpSp>
          <p:nvGrpSpPr>
            <p:cNvPr id="140" name=""/>
            <p:cNvGrpSpPr/>
            <p:nvPr/>
          </p:nvGrpSpPr>
          <p:grpSpPr>
            <a:xfrm>
              <a:off x="4467240" y="4154400"/>
              <a:ext cx="482760" cy="473040"/>
              <a:chOff x="4467240" y="4154400"/>
              <a:chExt cx="482760" cy="473040"/>
            </a:xfrm>
          </p:grpSpPr>
          <p:pic>
            <p:nvPicPr>
              <p:cNvPr id="14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67240" y="415440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4467240" y="415440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d26464">
                      <a:alpha val="55294"/>
                    </a:srgbClr>
                  </a:gs>
                  <a:gs pos="50000">
                    <a:srgbClr val="602e2e">
                      <a:alpha val="90196"/>
                    </a:srgbClr>
                  </a:gs>
                  <a:gs pos="100000">
                    <a:srgbClr val="d26464">
                      <a:alpha val="55294"/>
                    </a:srgbClr>
                  </a:gs>
                </a:gsLst>
                <a:lin ang="5400000"/>
              </a:gradFill>
              <a:ln w="57240">
                <a:solidFill>
                  <a:srgbClr val="5f5f5f">
                    <a:alpha val="1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" descr=""/>
            <p:cNvPicPr/>
            <p:nvPr/>
          </p:nvPicPr>
          <p:blipFill>
            <a:blip r:embed="rId8"/>
            <a:stretch/>
          </p:blipFill>
          <p:spPr>
            <a:xfrm>
              <a:off x="4515480" y="415872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4151160" y="4824360"/>
            <a:ext cx="482760" cy="473040"/>
            <a:chOff x="4151160" y="4824360"/>
            <a:chExt cx="482760" cy="473040"/>
          </a:xfrm>
        </p:grpSpPr>
        <p:grpSp>
          <p:nvGrpSpPr>
            <p:cNvPr id="145" name=""/>
            <p:cNvGrpSpPr/>
            <p:nvPr/>
          </p:nvGrpSpPr>
          <p:grpSpPr>
            <a:xfrm>
              <a:off x="4151160" y="4824360"/>
              <a:ext cx="482760" cy="473040"/>
              <a:chOff x="4151160" y="4824360"/>
              <a:chExt cx="482760" cy="473040"/>
            </a:xfrm>
          </p:grpSpPr>
          <p:pic>
            <p:nvPicPr>
              <p:cNvPr id="14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151160" y="482436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4151160" y="482436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9966ff">
                      <a:alpha val="55294"/>
                    </a:srgbClr>
                  </a:gs>
                  <a:gs pos="50000">
                    <a:srgbClr val="462f75">
                      <a:alpha val="90196"/>
                    </a:srgbClr>
                  </a:gs>
                  <a:gs pos="100000">
                    <a:srgbClr val="9966ff">
                      <a:alpha val="55294"/>
                    </a:srgbClr>
                  </a:gs>
                </a:gsLst>
                <a:lin ang="5400000"/>
              </a:gradFill>
              <a:ln w="57240">
                <a:solidFill>
                  <a:srgbClr val="5f5f5f">
                    <a:alpha val="1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" descr=""/>
            <p:cNvPicPr/>
            <p:nvPr/>
          </p:nvPicPr>
          <p:blipFill>
            <a:blip r:embed="rId10"/>
            <a:stretch/>
          </p:blipFill>
          <p:spPr>
            <a:xfrm>
              <a:off x="4199400" y="482868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4830840" y="4140360"/>
            <a:ext cx="39718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0" lang="en-US" sz="1800" spc="-1" strike="noStrike">
                <a:solidFill>
                  <a:srgbClr val="571d57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830840" y="2835360"/>
            <a:ext cx="39718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724280" y="3978360"/>
            <a:ext cx="4186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38080" y="5654520"/>
            <a:ext cx="3146400" cy="48600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efefe"/>
            </a:solidFill>
            <a:miter/>
          </a:ln>
          <a:effectLst>
            <a:outerShdw dist="53966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12920" y="56926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未知"/>
          <p:cNvSpPr/>
          <p:nvPr/>
        </p:nvSpPr>
        <p:spPr>
          <a:xfrm rot="10800000">
            <a:off x="792000" y="1904760"/>
            <a:ext cx="2408400" cy="225108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gradFill rotWithShape="0">
            <a:gsLst>
              <a:gs pos="0">
                <a:srgbClr val="90bbd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4879800"/>
            <a:ext cx="4267440" cy="65268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 rot="16200000">
            <a:off x="760680" y="4404240"/>
            <a:ext cx="95400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ea94c"/>
              </a:gs>
              <a:gs pos="100000">
                <a:srgbClr val="a56e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 rot="16200000">
            <a:off x="1308960" y="4137840"/>
            <a:ext cx="14875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d26464"/>
              </a:gs>
              <a:gs pos="100000">
                <a:srgbClr val="8841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 rot="16200000">
            <a:off x="1851840" y="3909240"/>
            <a:ext cx="1944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89c3bd"/>
              </a:gs>
              <a:gs pos="100000">
                <a:srgbClr val="597f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 rot="16200000">
            <a:off x="2108880" y="3336840"/>
            <a:ext cx="3087720" cy="4665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ba993"/>
              </a:gs>
              <a:gs pos="100000">
                <a:srgbClr val="a36e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90280" y="5195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80840" y="5195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62040" y="5195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319200" y="5195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83160" y="4251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783440" y="3746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554920" y="3279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310920" y="2136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1033560" y="1523880"/>
            <a:ext cx="708984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 develo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0080" y="4800600"/>
            <a:ext cx="3465360" cy="39060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d7d7d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928800" y="4800600"/>
            <a:ext cx="3465360" cy="39060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d7d7d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89320" y="3614760"/>
            <a:ext cx="660240" cy="1157400"/>
            <a:chOff x="2389320" y="3614760"/>
            <a:chExt cx="660240" cy="1157400"/>
          </a:xfrm>
        </p:grpSpPr>
        <p:sp>
          <p:nvSpPr>
            <p:cNvPr id="622" name="未知"/>
            <p:cNvSpPr/>
            <p:nvPr/>
          </p:nvSpPr>
          <p:spPr>
            <a:xfrm>
              <a:off x="2389320" y="3840840"/>
              <a:ext cx="660240" cy="931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94c"/>
                </a:gs>
                <a:gs pos="100000">
                  <a:srgbClr val="c080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2584440" y="3614760"/>
              <a:ext cx="221760" cy="240480"/>
            </a:xfrm>
            <a:prstGeom prst="ellipse">
              <a:avLst/>
            </a:prstGeom>
            <a:gradFill rotWithShape="0">
              <a:gsLst>
                <a:gs pos="0">
                  <a:srgbClr val="fea94c"/>
                </a:gs>
                <a:gs pos="100000">
                  <a:srgbClr val="c080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4960800" y="48182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875200" y="4818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86440" y="4818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06400" y="2968560"/>
            <a:ext cx="7164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841400" y="286704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2008 statistics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70520" y="2946240"/>
            <a:ext cx="71280" cy="748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097600" y="282564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2008 statistics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732840" y="51814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512840" y="51814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1400" y="516420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1880" y="51735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8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397240" y="392580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328760" y="48182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36680" y="481824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33880" y="48182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3241800" y="3086280"/>
            <a:ext cx="969480" cy="1694880"/>
            <a:chOff x="3241800" y="3086280"/>
            <a:chExt cx="969480" cy="1694880"/>
          </a:xfrm>
        </p:grpSpPr>
        <p:sp>
          <p:nvSpPr>
            <p:cNvPr id="640" name="未知"/>
            <p:cNvSpPr/>
            <p:nvPr/>
          </p:nvSpPr>
          <p:spPr>
            <a:xfrm>
              <a:off x="3241800" y="3417480"/>
              <a:ext cx="969480" cy="136368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94c"/>
                </a:gs>
                <a:gs pos="100000">
                  <a:srgbClr val="c080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3528360" y="3086280"/>
              <a:ext cx="325440" cy="352080"/>
            </a:xfrm>
            <a:prstGeom prst="ellipse">
              <a:avLst/>
            </a:prstGeom>
            <a:gradFill rotWithShape="0">
              <a:gsLst>
                <a:gs pos="0">
                  <a:srgbClr val="fea94c"/>
                </a:gs>
                <a:gs pos="100000">
                  <a:srgbClr val="c080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3263760" y="3605040"/>
            <a:ext cx="8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550880" y="3855960"/>
            <a:ext cx="519120" cy="910800"/>
            <a:chOff x="1550880" y="3855960"/>
            <a:chExt cx="519120" cy="910800"/>
          </a:xfrm>
        </p:grpSpPr>
        <p:sp>
          <p:nvSpPr>
            <p:cNvPr id="644" name="未知"/>
            <p:cNvSpPr/>
            <p:nvPr/>
          </p:nvSpPr>
          <p:spPr>
            <a:xfrm>
              <a:off x="1550880" y="4033800"/>
              <a:ext cx="519120" cy="732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ea94c"/>
                </a:gs>
                <a:gs pos="100000">
                  <a:srgbClr val="c080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1704240" y="3855960"/>
              <a:ext cx="174240" cy="189360"/>
            </a:xfrm>
            <a:prstGeom prst="ellipse">
              <a:avLst/>
            </a:prstGeom>
            <a:gradFill rotWithShape="0">
              <a:gsLst>
                <a:gs pos="0">
                  <a:srgbClr val="fea94c"/>
                </a:gs>
                <a:gs pos="100000">
                  <a:srgbClr val="c080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484280" y="4114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942240" y="3059280"/>
            <a:ext cx="850680" cy="1698120"/>
            <a:chOff x="6942240" y="3059280"/>
            <a:chExt cx="850680" cy="1698120"/>
          </a:xfrm>
        </p:grpSpPr>
        <p:sp>
          <p:nvSpPr>
            <p:cNvPr id="648" name="未知"/>
            <p:cNvSpPr/>
            <p:nvPr/>
          </p:nvSpPr>
          <p:spPr>
            <a:xfrm>
              <a:off x="6942240" y="3356280"/>
              <a:ext cx="850680" cy="14011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bcfc4"/>
                </a:gs>
                <a:gs pos="100000">
                  <a:srgbClr val="fba99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94600" y="3059280"/>
              <a:ext cx="306720" cy="324360"/>
            </a:xfrm>
            <a:prstGeom prst="ellipse">
              <a:avLst/>
            </a:prstGeom>
            <a:gradFill rotWithShape="0">
              <a:gsLst>
                <a:gs pos="0">
                  <a:srgbClr val="fbcfc4"/>
                </a:gs>
                <a:gs pos="100000">
                  <a:srgbClr val="fba99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999120" y="36050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6002280" y="3328920"/>
            <a:ext cx="717480" cy="1433160"/>
            <a:chOff x="6002280" y="3328920"/>
            <a:chExt cx="717480" cy="1433160"/>
          </a:xfrm>
        </p:grpSpPr>
        <p:sp>
          <p:nvSpPr>
            <p:cNvPr id="652" name="未知"/>
            <p:cNvSpPr/>
            <p:nvPr/>
          </p:nvSpPr>
          <p:spPr>
            <a:xfrm>
              <a:off x="6002280" y="3579480"/>
              <a:ext cx="717480" cy="11826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bcfc4"/>
                </a:gs>
                <a:gs pos="100000">
                  <a:srgbClr val="fba99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15040" y="3328920"/>
              <a:ext cx="258840" cy="273960"/>
            </a:xfrm>
            <a:prstGeom prst="ellipse">
              <a:avLst/>
            </a:prstGeom>
            <a:gradFill rotWithShape="0">
              <a:gsLst>
                <a:gs pos="0">
                  <a:srgbClr val="fbcfc4"/>
                </a:gs>
                <a:gs pos="100000">
                  <a:srgbClr val="fba99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5165640" y="3701880"/>
            <a:ext cx="533520" cy="1064880"/>
            <a:chOff x="5165640" y="3701880"/>
            <a:chExt cx="533520" cy="1064880"/>
          </a:xfrm>
        </p:grpSpPr>
        <p:sp>
          <p:nvSpPr>
            <p:cNvPr id="655" name="未知"/>
            <p:cNvSpPr/>
            <p:nvPr/>
          </p:nvSpPr>
          <p:spPr>
            <a:xfrm>
              <a:off x="5165640" y="3888000"/>
              <a:ext cx="533520" cy="878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bcfc4"/>
                </a:gs>
                <a:gs pos="100000">
                  <a:srgbClr val="fba99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23680" y="3701880"/>
              <a:ext cx="192240" cy="203400"/>
            </a:xfrm>
            <a:prstGeom prst="ellipse">
              <a:avLst/>
            </a:prstGeom>
            <a:gradFill rotWithShape="0">
              <a:gsLst>
                <a:gs pos="0">
                  <a:srgbClr val="fbcfc4"/>
                </a:gs>
                <a:gs pos="100000">
                  <a:srgbClr val="fba99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154480" y="4040280"/>
            <a:ext cx="6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031080" y="379404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657520" y="5648400"/>
            <a:ext cx="38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80808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661" name=""/>
          <p:cNvSpPr/>
          <p:nvPr/>
        </p:nvSpPr>
        <p:spPr>
          <a:xfrm>
            <a:off x="1143000" y="1881360"/>
            <a:ext cx="6653160" cy="1144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ba993"/>
              </a:gs>
              <a:gs pos="100000">
                <a:srgbClr val="ae7566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146240" y="3471840"/>
            <a:ext cx="6653160" cy="1019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9c3bd"/>
              </a:gs>
              <a:gs pos="100000">
                <a:srgbClr val="5f8783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154160" y="4987800"/>
            <a:ext cx="6653160" cy="10321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ea94c"/>
              </a:gs>
              <a:gs pos="100000">
                <a:srgbClr val="b07534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317600" y="3101040"/>
            <a:ext cx="6397560" cy="361800"/>
          </a:xfrm>
          <a:custGeom>
            <a:avLst/>
            <a:gdLst>
              <a:gd name="textAreaLeft" fmla="*/ 1145520 w 6397560"/>
              <a:gd name="textAreaRight" fmla="*/ 5252040 w 6397560"/>
              <a:gd name="textAreaTop" fmla="*/ 64800 h 361800"/>
              <a:gd name="textAreaBottom" fmla="*/ 29700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89c3bd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220760" y="1510920"/>
            <a:ext cx="6502320" cy="363600"/>
          </a:xfrm>
          <a:custGeom>
            <a:avLst/>
            <a:gdLst>
              <a:gd name="textAreaLeft" fmla="*/ 1164240 w 6502320"/>
              <a:gd name="textAreaRight" fmla="*/ 5338080 w 6502320"/>
              <a:gd name="textAreaTop" fmla="*/ 65160 h 363600"/>
              <a:gd name="textAreaBottom" fmla="*/ 29844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fba993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1273320" y="4622400"/>
            <a:ext cx="6475320" cy="363600"/>
          </a:xfrm>
          <a:custGeom>
            <a:avLst/>
            <a:gdLst>
              <a:gd name="textAreaLeft" fmla="*/ 1159560 w 6475320"/>
              <a:gd name="textAreaRight" fmla="*/ 5315760 w 6475320"/>
              <a:gd name="textAreaTop" fmla="*/ 65160 h 363600"/>
              <a:gd name="textAreaBottom" fmla="*/ 29844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fea94c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200240" y="1924200"/>
            <a:ext cx="674640" cy="574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1197000" y="351792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1201680" y="502920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1630440" y="1654200"/>
            <a:ext cx="579096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ba9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630440" y="3263760"/>
            <a:ext cx="579096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89c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30440" y="4765680"/>
            <a:ext cx="579096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ea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554120" y="2263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54120" y="38005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54120" y="52783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11320" y="16542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a993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11320" y="327348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c3bd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011320" y="47768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a94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680" name=""/>
          <p:cNvSpPr/>
          <p:nvPr/>
        </p:nvSpPr>
        <p:spPr>
          <a:xfrm rot="5400000">
            <a:off x="4836240" y="3575880"/>
            <a:ext cx="3276360" cy="41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99">
                  <a:alpha val="80000"/>
                </a:srgbClr>
              </a:gs>
              <a:gs pos="100000">
                <a:srgbClr val="fefef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 rot="16200000">
            <a:off x="864000" y="153360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fea94c"/>
              </a:gs>
              <a:gs pos="100000">
                <a:srgbClr val="fdd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 rot="16200000">
            <a:off x="864000" y="243216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89c3bd"/>
              </a:gs>
              <a:gs pos="100000">
                <a:srgbClr val="d4e8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 rot="16200000">
            <a:off x="864000" y="334332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fba993"/>
              </a:gs>
              <a:gs pos="100000">
                <a:srgbClr val="fcdf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 rot="16200000">
            <a:off x="864000" y="4246560"/>
            <a:ext cx="1066680" cy="1576440"/>
          </a:xfrm>
          <a:custGeom>
            <a:avLst/>
            <a:gdLst>
              <a:gd name="textAreaLeft" fmla="*/ 0 w 1066680"/>
              <a:gd name="textAreaRight" fmla="*/ 1067040 w 1066680"/>
              <a:gd name="textAreaTop" fmla="*/ -360 h 1576440"/>
              <a:gd name="textAreaBottom" fmla="*/ 1576440 h 15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27" y="0"/>
                </a:lnTo>
                <a:lnTo>
                  <a:pt x="21600" y="10800"/>
                </a:lnTo>
                <a:lnTo>
                  <a:pt x="14127" y="21600"/>
                </a:lnTo>
                <a:lnTo>
                  <a:pt x="0" y="21600"/>
                </a:lnTo>
                <a:lnTo>
                  <a:pt x="7473" y="108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7e7e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3440" y="209232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7~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03440" y="298620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4 ~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3440" y="390528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2 ~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03440" y="480528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00 ~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185920" y="207000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278080" y="2384280"/>
            <a:ext cx="40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185920" y="297828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327400" y="3292560"/>
            <a:ext cx="40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185920" y="389880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327400" y="4213080"/>
            <a:ext cx="40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185920" y="480708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27400" y="5121360"/>
            <a:ext cx="40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5925960" y="2219400"/>
            <a:ext cx="273708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699" name=""/>
          <p:cNvSpPr/>
          <p:nvPr/>
        </p:nvSpPr>
        <p:spPr>
          <a:xfrm>
            <a:off x="709560" y="2635200"/>
            <a:ext cx="7740720" cy="619200"/>
          </a:xfrm>
          <a:prstGeom prst="rect">
            <a:avLst/>
          </a:prstGeom>
          <a:solidFill>
            <a:srgbClr val="d2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698400" y="2635200"/>
            <a:ext cx="2053800" cy="618840"/>
            <a:chOff x="698400" y="2635200"/>
            <a:chExt cx="2053800" cy="618840"/>
          </a:xfrm>
        </p:grpSpPr>
        <p:sp>
          <p:nvSpPr>
            <p:cNvPr id="701" name=""/>
            <p:cNvSpPr/>
            <p:nvPr/>
          </p:nvSpPr>
          <p:spPr>
            <a:xfrm>
              <a:off x="698400" y="2635200"/>
              <a:ext cx="1917360" cy="618840"/>
            </a:xfrm>
            <a:prstGeom prst="rect">
              <a:avLst/>
            </a:prstGeom>
            <a:solidFill>
              <a:srgbClr val="fba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5400000">
              <a:off x="2512440" y="2847960"/>
              <a:ext cx="288720" cy="190800"/>
            </a:xfrm>
            <a:prstGeom prst="triangle">
              <a:avLst>
                <a:gd name="adj" fmla="val 50000"/>
              </a:avLst>
            </a:prstGeom>
            <a:solidFill>
              <a:srgbClr val="fba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26128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20720" y="274176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18464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d26464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56408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21360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d26464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55164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9540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de9292"/>
              </a:gs>
              <a:gs pos="100000">
                <a:srgbClr val="d264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9764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fbc2b2"/>
              </a:gs>
              <a:gs pos="100000">
                <a:srgbClr val="fba9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9672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fbc2b2"/>
              </a:gs>
              <a:gs pos="100000">
                <a:srgbClr val="fba9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10560" y="338472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fbc2b2"/>
              </a:gs>
              <a:gs pos="100000">
                <a:srgbClr val="fba9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3" name=""/>
          <p:cNvCxnSpPr>
            <a:stCxn id="709" idx="3"/>
            <a:endCxn id="710" idx="1"/>
          </p:cNvCxnSpPr>
          <p:nvPr/>
        </p:nvCxnSpPr>
        <p:spPr>
          <a:xfrm>
            <a:off x="2109600" y="39412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14" name=""/>
          <p:cNvCxnSpPr>
            <a:stCxn id="710" idx="3"/>
            <a:endCxn id="711" idx="1"/>
          </p:cNvCxnSpPr>
          <p:nvPr/>
        </p:nvCxnSpPr>
        <p:spPr>
          <a:xfrm>
            <a:off x="4091040" y="39412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15" name=""/>
          <p:cNvCxnSpPr>
            <a:stCxn id="711" idx="3"/>
            <a:endCxn id="712" idx="1"/>
          </p:cNvCxnSpPr>
          <p:nvPr/>
        </p:nvCxnSpPr>
        <p:spPr>
          <a:xfrm>
            <a:off x="6081840" y="3941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716" name=""/>
          <p:cNvSpPr/>
          <p:nvPr/>
        </p:nvSpPr>
        <p:spPr>
          <a:xfrm>
            <a:off x="109872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08772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09760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05024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41240" y="458964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684520" y="458964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699080" y="458964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47040" y="458964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054080" y="184932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726" name=""/>
          <p:cNvSpPr/>
          <p:nvPr/>
        </p:nvSpPr>
        <p:spPr>
          <a:xfrm>
            <a:off x="1353960" y="4997520"/>
            <a:ext cx="6461280" cy="1022400"/>
          </a:xfrm>
          <a:prstGeom prst="roundRect">
            <a:avLst>
              <a:gd name="adj" fmla="val 50000"/>
            </a:avLst>
          </a:prstGeom>
          <a:solidFill>
            <a:srgbClr val="fefefe">
              <a:alpha val="92000"/>
            </a:srgbClr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14240" y="1981080"/>
            <a:ext cx="7813800" cy="503280"/>
          </a:xfrm>
          <a:prstGeom prst="rect">
            <a:avLst/>
          </a:prstGeom>
          <a:gradFill rotWithShape="0">
            <a:gsLst>
              <a:gs pos="0">
                <a:srgbClr val="d26464"/>
              </a:gs>
              <a:gs pos="50000">
                <a:srgbClr val="a44e4e"/>
              </a:gs>
              <a:gs pos="100000">
                <a:srgbClr val="d26464"/>
              </a:gs>
            </a:gsLst>
            <a:lin ang="5400000"/>
          </a:gradFill>
          <a:ln w="9360">
            <a:solidFill>
              <a:srgbClr val="fefefe">
                <a:alpha val="67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09680" y="3886200"/>
            <a:ext cx="4572000" cy="990720"/>
          </a:xfrm>
          <a:prstGeom prst="downArrow">
            <a:avLst>
              <a:gd name="adj1" fmla="val 49861"/>
              <a:gd name="adj2" fmla="val 53847"/>
            </a:avLst>
          </a:prstGeom>
          <a:solidFill>
            <a:srgbClr val="dddddd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14240" y="2682720"/>
            <a:ext cx="7813800" cy="503280"/>
          </a:xfrm>
          <a:prstGeom prst="rect">
            <a:avLst/>
          </a:prstGeom>
          <a:gradFill rotWithShape="0">
            <a:gsLst>
              <a:gs pos="0">
                <a:srgbClr val="fea94c"/>
              </a:gs>
              <a:gs pos="50000">
                <a:srgbClr val="c7843b"/>
              </a:gs>
              <a:gs pos="100000">
                <a:srgbClr val="fea94c"/>
              </a:gs>
            </a:gsLst>
            <a:lin ang="5400000"/>
          </a:gradFill>
          <a:ln w="9360">
            <a:solidFill>
              <a:srgbClr val="fefefe">
                <a:alpha val="67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14240" y="3409920"/>
            <a:ext cx="7813800" cy="503280"/>
          </a:xfrm>
          <a:prstGeom prst="rect">
            <a:avLst/>
          </a:prstGeom>
          <a:gradFill rotWithShape="0">
            <a:gsLst>
              <a:gs pos="0">
                <a:srgbClr val="89c3bd"/>
              </a:gs>
              <a:gs pos="50000">
                <a:srgbClr val="5d8581"/>
              </a:gs>
              <a:gs pos="100000">
                <a:srgbClr val="89c3bd"/>
              </a:gs>
            </a:gsLst>
            <a:lin ang="5400000"/>
          </a:gradFill>
          <a:ln w="9360">
            <a:solidFill>
              <a:srgbClr val="fefefe">
                <a:alpha val="67000"/>
              </a:srgbClr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713960" y="2035080"/>
            <a:ext cx="57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959120" y="5087880"/>
            <a:ext cx="52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  <a:ea typeface="宋体"/>
              </a:rPr>
              <a:t>Describe a vision of company or strategic cont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13960" y="2751120"/>
            <a:ext cx="57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713960" y="3467160"/>
            <a:ext cx="57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736" name=""/>
          <p:cNvSpPr/>
          <p:nvPr/>
        </p:nvSpPr>
        <p:spPr>
          <a:xfrm>
            <a:off x="6465960" y="1617840"/>
            <a:ext cx="655560" cy="65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064040" y="1946160"/>
            <a:ext cx="1425600" cy="104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454640" y="1219320"/>
            <a:ext cx="655560" cy="65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286160" y="195264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a94c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064040" y="2320920"/>
            <a:ext cx="140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064040" y="230040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064200" y="2344680"/>
            <a:ext cx="1425600" cy="104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323040" y="23511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a993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064200" y="2717640"/>
            <a:ext cx="140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064200" y="269892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151760" y="3510000"/>
            <a:ext cx="655560" cy="65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90720" y="2203560"/>
            <a:ext cx="1425600" cy="104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303640" y="1474920"/>
            <a:ext cx="655560" cy="65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flipV="1" rot="3328800">
            <a:off x="2428920" y="1593000"/>
            <a:ext cx="407520" cy="40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4696638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4696638"/>
              </a:path>
            </a:pathLst>
          </a:custGeom>
          <a:gradFill rotWithShape="0">
            <a:gsLst>
              <a:gs pos="0">
                <a:srgbClr val="894141"/>
              </a:gs>
              <a:gs pos="100000">
                <a:srgbClr val="d26464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6106200">
            <a:off x="6917760" y="3376800"/>
            <a:ext cx="741960" cy="68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3522128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3522128"/>
              </a:path>
            </a:pathLst>
          </a:custGeom>
          <a:gradFill rotWithShape="0">
            <a:gsLst>
              <a:gs pos="0">
                <a:srgbClr val="5a807c"/>
              </a:gs>
              <a:gs pos="100000">
                <a:srgbClr val="89c3bd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rot="5400000">
            <a:off x="6406920" y="1651680"/>
            <a:ext cx="492840" cy="49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gradFill rotWithShape="0">
            <a:gsLst>
              <a:gs pos="0">
                <a:srgbClr val="a56f61"/>
              </a:gs>
              <a:gs pos="100000">
                <a:srgbClr val="fba993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59600" y="1376280"/>
            <a:ext cx="675360" cy="6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gradFill rotWithShape="0">
            <a:gsLst>
              <a:gs pos="0">
                <a:srgbClr val="8d5e2a"/>
              </a:gs>
              <a:gs pos="100000">
                <a:srgbClr val="fea94c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198520" y="2209680"/>
            <a:ext cx="8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6464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90720" y="2577960"/>
            <a:ext cx="140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685800" y="3205080"/>
            <a:ext cx="5484960" cy="248616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890720" y="255744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38840" y="4267080"/>
            <a:ext cx="1425600" cy="107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066080" y="4273560"/>
            <a:ext cx="8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c3bd"/>
                </a:solidFill>
                <a:latin typeface="Arial"/>
                <a:ea typeface="宋体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38840" y="4641840"/>
            <a:ext cx="146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738840" y="4621320"/>
            <a:ext cx="14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2622600" y="3244680"/>
            <a:ext cx="69840" cy="6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235400" y="3013200"/>
            <a:ext cx="365040" cy="38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256360" y="3033360"/>
            <a:ext cx="776160" cy="51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465880" y="4175280"/>
            <a:ext cx="1207800" cy="43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54000" y="573552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466560" y="5181480"/>
            <a:ext cx="6800760" cy="914400"/>
            <a:chOff x="466560" y="5181480"/>
            <a:chExt cx="6800760" cy="914400"/>
          </a:xfrm>
        </p:grpSpPr>
        <p:sp>
          <p:nvSpPr>
            <p:cNvPr id="767" name=""/>
            <p:cNvSpPr/>
            <p:nvPr/>
          </p:nvSpPr>
          <p:spPr>
            <a:xfrm>
              <a:off x="466560" y="5181480"/>
              <a:ext cx="6800760" cy="9144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3280" y="5212800"/>
              <a:ext cx="6267240" cy="8427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5938920" y="223992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4183200" y="2541600"/>
            <a:ext cx="2622240" cy="2575080"/>
          </a:xfrm>
          <a:custGeom>
            <a:avLst/>
            <a:gdLst>
              <a:gd name="textAreaLeft" fmla="*/ 0 w 2622240"/>
              <a:gd name="textAreaRight" fmla="*/ 2622600 w 262224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146320" y="254304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a94c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未知"/>
          <p:cNvSpPr/>
          <p:nvPr/>
        </p:nvSpPr>
        <p:spPr>
          <a:xfrm>
            <a:off x="1936800" y="2243160"/>
            <a:ext cx="434988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ba993"/>
              </a:gs>
              <a:gs pos="100000">
                <a:srgbClr val="734d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2241720"/>
            <a:ext cx="2400480" cy="289548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24545"/>
              </a:gs>
              <a:gs pos="100000">
                <a:srgbClr val="d26464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35200" y="290520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4040" y="227016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938840" y="31258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9200" y="1752480"/>
            <a:ext cx="57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048120" y="312264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3200" y="52434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782" name=""/>
          <p:cNvSpPr/>
          <p:nvPr/>
        </p:nvSpPr>
        <p:spPr>
          <a:xfrm>
            <a:off x="2435400" y="1824120"/>
            <a:ext cx="3909960" cy="4043160"/>
          </a:xfrm>
          <a:prstGeom prst="donut">
            <a:avLst>
              <a:gd name="adj" fmla="val 2814"/>
            </a:avLst>
          </a:pr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778120" y="2160720"/>
            <a:ext cx="3228480" cy="3350880"/>
            <a:chOff x="2778120" y="2160720"/>
            <a:chExt cx="3228480" cy="3350880"/>
          </a:xfrm>
        </p:grpSpPr>
        <p:sp>
          <p:nvSpPr>
            <p:cNvPr id="784" name=""/>
            <p:cNvSpPr/>
            <p:nvPr/>
          </p:nvSpPr>
          <p:spPr>
            <a:xfrm flipV="1">
              <a:off x="2778120" y="2237400"/>
              <a:ext cx="3222360" cy="32738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84240" y="2160720"/>
              <a:ext cx="3222360" cy="32738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851280" y="1371600"/>
            <a:ext cx="1096920" cy="1090440"/>
            <a:chOff x="3851280" y="1371600"/>
            <a:chExt cx="1096920" cy="1090440"/>
          </a:xfrm>
        </p:grpSpPr>
        <p:grpSp>
          <p:nvGrpSpPr>
            <p:cNvPr id="787" name=""/>
            <p:cNvGrpSpPr/>
            <p:nvPr/>
          </p:nvGrpSpPr>
          <p:grpSpPr>
            <a:xfrm>
              <a:off x="3851280" y="1371600"/>
              <a:ext cx="1096920" cy="1090440"/>
              <a:chOff x="3851280" y="1371600"/>
              <a:chExt cx="1096920" cy="1090440"/>
            </a:xfrm>
          </p:grpSpPr>
          <p:pic>
            <p:nvPicPr>
              <p:cNvPr id="7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51280" y="1371600"/>
                <a:ext cx="1096920" cy="108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9" name=""/>
              <p:cNvSpPr/>
              <p:nvPr/>
            </p:nvSpPr>
            <p:spPr>
              <a:xfrm>
                <a:off x="3851280" y="1371600"/>
                <a:ext cx="1089360" cy="1090440"/>
              </a:xfrm>
              <a:prstGeom prst="ellipse">
                <a:avLst/>
              </a:prstGeom>
              <a:gradFill rotWithShape="0">
                <a:gsLst>
                  <a:gs pos="0">
                    <a:srgbClr val="89c3bd">
                      <a:alpha val="55294"/>
                    </a:srgbClr>
                  </a:gs>
                  <a:gs pos="50000">
                    <a:srgbClr val="3f5957">
                      <a:alpha val="90196"/>
                    </a:srgbClr>
                  </a:gs>
                  <a:gs pos="100000">
                    <a:srgbClr val="89c3b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90" name="" descr=""/>
            <p:cNvPicPr/>
            <p:nvPr/>
          </p:nvPicPr>
          <p:blipFill>
            <a:blip r:embed="rId2"/>
            <a:stretch/>
          </p:blipFill>
          <p:spPr>
            <a:xfrm>
              <a:off x="3960720" y="138204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1" name=""/>
          <p:cNvSpPr/>
          <p:nvPr/>
        </p:nvSpPr>
        <p:spPr>
          <a:xfrm>
            <a:off x="3911760" y="1657440"/>
            <a:ext cx="9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036880" y="3278160"/>
            <a:ext cx="1096920" cy="1090800"/>
            <a:chOff x="2036880" y="3278160"/>
            <a:chExt cx="1096920" cy="1090800"/>
          </a:xfrm>
        </p:grpSpPr>
        <p:grpSp>
          <p:nvGrpSpPr>
            <p:cNvPr id="793" name=""/>
            <p:cNvGrpSpPr/>
            <p:nvPr/>
          </p:nvGrpSpPr>
          <p:grpSpPr>
            <a:xfrm>
              <a:off x="2036880" y="3278160"/>
              <a:ext cx="1096920" cy="1090800"/>
              <a:chOff x="2036880" y="3278160"/>
              <a:chExt cx="1096920" cy="1090800"/>
            </a:xfrm>
          </p:grpSpPr>
          <p:pic>
            <p:nvPicPr>
              <p:cNvPr id="7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36880" y="3278160"/>
                <a:ext cx="109692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5" name=""/>
              <p:cNvSpPr/>
              <p:nvPr/>
            </p:nvSpPr>
            <p:spPr>
              <a:xfrm>
                <a:off x="2036880" y="3278160"/>
                <a:ext cx="1089360" cy="1090800"/>
              </a:xfrm>
              <a:prstGeom prst="ellipse">
                <a:avLst/>
              </a:prstGeom>
              <a:gradFill rotWithShape="0">
                <a:gsLst>
                  <a:gs pos="0">
                    <a:srgbClr val="fea94c">
                      <a:alpha val="55294"/>
                    </a:srgbClr>
                  </a:gs>
                  <a:gs pos="50000">
                    <a:srgbClr val="754d23">
                      <a:alpha val="90196"/>
                    </a:srgbClr>
                  </a:gs>
                  <a:gs pos="100000">
                    <a:srgbClr val="fea94c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96" name="" descr=""/>
            <p:cNvPicPr/>
            <p:nvPr/>
          </p:nvPicPr>
          <p:blipFill>
            <a:blip r:embed="rId4"/>
            <a:stretch/>
          </p:blipFill>
          <p:spPr>
            <a:xfrm>
              <a:off x="2146320" y="328860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7" name=""/>
          <p:cNvSpPr/>
          <p:nvPr/>
        </p:nvSpPr>
        <p:spPr>
          <a:xfrm>
            <a:off x="2106720" y="3564000"/>
            <a:ext cx="9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5646600" y="3267000"/>
            <a:ext cx="1097280" cy="1090800"/>
            <a:chOff x="5646600" y="3267000"/>
            <a:chExt cx="1097280" cy="1090800"/>
          </a:xfrm>
        </p:grpSpPr>
        <p:grpSp>
          <p:nvGrpSpPr>
            <p:cNvPr id="799" name=""/>
            <p:cNvGrpSpPr/>
            <p:nvPr/>
          </p:nvGrpSpPr>
          <p:grpSpPr>
            <a:xfrm>
              <a:off x="5646600" y="3267000"/>
              <a:ext cx="1097280" cy="1090800"/>
              <a:chOff x="5646600" y="3267000"/>
              <a:chExt cx="1097280" cy="1090800"/>
            </a:xfrm>
          </p:grpSpPr>
          <p:pic>
            <p:nvPicPr>
              <p:cNvPr id="8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46600" y="3267000"/>
                <a:ext cx="109728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>
                <a:off x="5646600" y="3267000"/>
                <a:ext cx="1089720" cy="1090800"/>
              </a:xfrm>
              <a:prstGeom prst="ellipse">
                <a:avLst/>
              </a:prstGeom>
              <a:gradFill rotWithShape="0">
                <a:gsLst>
                  <a:gs pos="0">
                    <a:srgbClr val="fba993">
                      <a:alpha val="55294"/>
                    </a:srgbClr>
                  </a:gs>
                  <a:gs pos="50000">
                    <a:srgbClr val="734d43">
                      <a:alpha val="90196"/>
                    </a:srgbClr>
                  </a:gs>
                  <a:gs pos="100000">
                    <a:srgbClr val="fba993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2" name="" descr=""/>
            <p:cNvPicPr/>
            <p:nvPr/>
          </p:nvPicPr>
          <p:blipFill>
            <a:blip r:embed="rId6"/>
            <a:stretch/>
          </p:blipFill>
          <p:spPr>
            <a:xfrm>
              <a:off x="5756040" y="3277440"/>
              <a:ext cx="86652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3" name=""/>
          <p:cNvSpPr/>
          <p:nvPr/>
        </p:nvSpPr>
        <p:spPr>
          <a:xfrm>
            <a:off x="5707080" y="355284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851280" y="5157720"/>
            <a:ext cx="1096920" cy="1090800"/>
            <a:chOff x="3851280" y="5157720"/>
            <a:chExt cx="1096920" cy="1090800"/>
          </a:xfrm>
        </p:grpSpPr>
        <p:grpSp>
          <p:nvGrpSpPr>
            <p:cNvPr id="805" name=""/>
            <p:cNvGrpSpPr/>
            <p:nvPr/>
          </p:nvGrpSpPr>
          <p:grpSpPr>
            <a:xfrm>
              <a:off x="3851280" y="5157720"/>
              <a:ext cx="1096920" cy="1090800"/>
              <a:chOff x="3851280" y="5157720"/>
              <a:chExt cx="1096920" cy="1090800"/>
            </a:xfrm>
          </p:grpSpPr>
          <p:pic>
            <p:nvPicPr>
              <p:cNvPr id="80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851280" y="5157720"/>
                <a:ext cx="109692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"/>
              <p:cNvSpPr/>
              <p:nvPr/>
            </p:nvSpPr>
            <p:spPr>
              <a:xfrm>
                <a:off x="3851280" y="5157720"/>
                <a:ext cx="1089360" cy="1090800"/>
              </a:xfrm>
              <a:prstGeom prst="ellipse">
                <a:avLst/>
              </a:prstGeom>
              <a:gradFill rotWithShape="0">
                <a:gsLst>
                  <a:gs pos="0">
                    <a:srgbClr val="d26464">
                      <a:alpha val="55294"/>
                    </a:srgbClr>
                  </a:gs>
                  <a:gs pos="50000">
                    <a:srgbClr val="602e2e">
                      <a:alpha val="90196"/>
                    </a:srgbClr>
                  </a:gs>
                  <a:gs pos="100000">
                    <a:srgbClr val="d26464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3960720" y="516816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9" name=""/>
          <p:cNvSpPr/>
          <p:nvPr/>
        </p:nvSpPr>
        <p:spPr>
          <a:xfrm>
            <a:off x="3911760" y="5443560"/>
            <a:ext cx="9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59320" y="346068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263760" y="2698920"/>
            <a:ext cx="2243160" cy="21049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6325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Description of the contents</a:t>
            </a:r>
            <a:endParaRPr b="1" lang="en-US" sz="18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273480" y="2840040"/>
            <a:ext cx="2243160" cy="21049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9015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Description of the contents</a:t>
            </a:r>
            <a:endParaRPr b="1" lang="en-US" sz="18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976320" y="2079720"/>
            <a:ext cx="18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73600" y="2079720"/>
            <a:ext cx="18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76320" y="4878360"/>
            <a:ext cx="18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830920" y="4878360"/>
            <a:ext cx="18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818" name=""/>
          <p:cNvSpPr/>
          <p:nvPr/>
        </p:nvSpPr>
        <p:spPr>
          <a:xfrm rot="18243000">
            <a:off x="5518800" y="2466000"/>
            <a:ext cx="1520640" cy="132228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 rot="12822000">
            <a:off x="2287080" y="3380400"/>
            <a:ext cx="1589400" cy="155556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665360" y="3111480"/>
            <a:ext cx="939600" cy="993960"/>
            <a:chOff x="1665360" y="3111480"/>
            <a:chExt cx="939600" cy="993960"/>
          </a:xfrm>
        </p:grpSpPr>
        <p:pic>
          <p:nvPicPr>
            <p:cNvPr id="821" name="" descr=""/>
            <p:cNvPicPr/>
            <p:nvPr/>
          </p:nvPicPr>
          <p:blipFill>
            <a:blip r:embed="rId1"/>
            <a:stretch/>
          </p:blipFill>
          <p:spPr>
            <a:xfrm>
              <a:off x="1754640" y="389088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2"/>
            <a:stretch/>
          </p:blipFill>
          <p:spPr>
            <a:xfrm>
              <a:off x="1665360" y="311148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665360" y="311148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1761480" y="312984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"/>
          <p:cNvSpPr/>
          <p:nvPr/>
        </p:nvSpPr>
        <p:spPr>
          <a:xfrm rot="19693200">
            <a:off x="3565080" y="2201760"/>
            <a:ext cx="1521000" cy="132264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2786040" y="2984400"/>
            <a:ext cx="1216080" cy="1285560"/>
            <a:chOff x="2786040" y="2984400"/>
            <a:chExt cx="1216080" cy="1285560"/>
          </a:xfrm>
        </p:grpSpPr>
        <p:pic>
          <p:nvPicPr>
            <p:cNvPr id="827" name="" descr=""/>
            <p:cNvPicPr/>
            <p:nvPr/>
          </p:nvPicPr>
          <p:blipFill>
            <a:blip r:embed="rId3"/>
            <a:stretch/>
          </p:blipFill>
          <p:spPr>
            <a:xfrm>
              <a:off x="2901240" y="39924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4"/>
            <a:stretch/>
          </p:blipFill>
          <p:spPr>
            <a:xfrm>
              <a:off x="2786040" y="29844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2786040" y="2984400"/>
              <a:ext cx="1207800" cy="1189080"/>
            </a:xfrm>
            <a:prstGeom prst="ellipse">
              <a:avLst/>
            </a:prstGeom>
            <a:solidFill>
              <a:srgbClr val="89c3b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2910600" y="3008520"/>
              <a:ext cx="94968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5257800" y="4952880"/>
            <a:ext cx="3352680" cy="1295640"/>
          </a:xfrm>
          <a:prstGeom prst="roundRect">
            <a:avLst>
              <a:gd name="adj" fmla="val 50000"/>
            </a:avLst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487840" y="5192640"/>
            <a:ext cx="2914560" cy="835200"/>
            <a:chOff x="5487840" y="5192640"/>
            <a:chExt cx="2914560" cy="835200"/>
          </a:xfrm>
        </p:grpSpPr>
        <p:sp>
          <p:nvSpPr>
            <p:cNvPr id="833" name=""/>
            <p:cNvSpPr/>
            <p:nvPr/>
          </p:nvSpPr>
          <p:spPr>
            <a:xfrm>
              <a:off x="5487840" y="51926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43360" y="5192640"/>
              <a:ext cx="83520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67560" y="5192640"/>
              <a:ext cx="834840" cy="835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25920" y="5618160"/>
              <a:ext cx="204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80000" y="5618160"/>
              <a:ext cx="181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6261480" y="4737240"/>
            <a:ext cx="1434240" cy="353520"/>
            <a:chOff x="6261480" y="4737240"/>
            <a:chExt cx="1434240" cy="353520"/>
          </a:xfrm>
        </p:grpSpPr>
        <p:sp>
          <p:nvSpPr>
            <p:cNvPr id="839" name=""/>
            <p:cNvSpPr/>
            <p:nvPr/>
          </p:nvSpPr>
          <p:spPr>
            <a:xfrm>
              <a:off x="6265800" y="4737240"/>
              <a:ext cx="1416240" cy="353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9f9f9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6261480" y="4787640"/>
              <a:ext cx="78120" cy="277920"/>
              <a:chOff x="6261480" y="4787640"/>
              <a:chExt cx="78120" cy="277920"/>
            </a:xfrm>
          </p:grpSpPr>
          <p:sp>
            <p:nvSpPr>
              <p:cNvPr id="841" name=""/>
              <p:cNvSpPr/>
              <p:nvPr/>
            </p:nvSpPr>
            <p:spPr>
              <a:xfrm flipV="1" rot="21333000">
                <a:off x="6271200" y="4789080"/>
                <a:ext cx="57960" cy="27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 rot="21333000">
                <a:off x="6273360" y="4808880"/>
                <a:ext cx="35640" cy="2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 rot="21333000">
                <a:off x="6271920" y="4840200"/>
                <a:ext cx="23040" cy="17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7609680" y="4783680"/>
              <a:ext cx="86040" cy="293040"/>
              <a:chOff x="7609680" y="4783680"/>
              <a:chExt cx="86040" cy="293040"/>
            </a:xfrm>
          </p:grpSpPr>
          <p:sp>
            <p:nvSpPr>
              <p:cNvPr id="845" name=""/>
              <p:cNvSpPr/>
              <p:nvPr/>
            </p:nvSpPr>
            <p:spPr>
              <a:xfrm flipH="1" flipV="1" rot="267000">
                <a:off x="7620480" y="4785480"/>
                <a:ext cx="63360" cy="28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 flipV="1" rot="267000">
                <a:off x="7640280" y="4807440"/>
                <a:ext cx="38880" cy="24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 rot="267000">
                <a:off x="7656120" y="4838760"/>
                <a:ext cx="24840" cy="18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8" name="" descr="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57640" y="4205880"/>
              <a:ext cx="21888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9" name=""/>
          <p:cNvGrpSpPr/>
          <p:nvPr/>
        </p:nvGrpSpPr>
        <p:grpSpPr>
          <a:xfrm>
            <a:off x="3359160" y="1585800"/>
            <a:ext cx="1136520" cy="1203120"/>
            <a:chOff x="3359160" y="1585800"/>
            <a:chExt cx="1136520" cy="1203120"/>
          </a:xfrm>
        </p:grpSpPr>
        <p:pic>
          <p:nvPicPr>
            <p:cNvPr id="850" name="" descr=""/>
            <p:cNvPicPr/>
            <p:nvPr/>
          </p:nvPicPr>
          <p:blipFill>
            <a:blip r:embed="rId6"/>
            <a:stretch/>
          </p:blipFill>
          <p:spPr>
            <a:xfrm>
              <a:off x="3467160" y="2529360"/>
              <a:ext cx="9352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7"/>
            <a:stretch/>
          </p:blipFill>
          <p:spPr>
            <a:xfrm>
              <a:off x="3359160" y="1585800"/>
              <a:ext cx="1136520" cy="110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3359160" y="1585800"/>
              <a:ext cx="1128960" cy="1112760"/>
            </a:xfrm>
            <a:prstGeom prst="ellipse">
              <a:avLst/>
            </a:prstGeom>
            <a:solidFill>
              <a:srgbClr val="d26464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3475440" y="1608120"/>
              <a:ext cx="887400" cy="384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2646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49840" y="1981080"/>
            <a:ext cx="1216080" cy="1285560"/>
            <a:chOff x="4749840" y="1981080"/>
            <a:chExt cx="1216080" cy="1285560"/>
          </a:xfrm>
        </p:grpSpPr>
        <p:pic>
          <p:nvPicPr>
            <p:cNvPr id="855" name="" descr=""/>
            <p:cNvPicPr/>
            <p:nvPr/>
          </p:nvPicPr>
          <p:blipFill>
            <a:blip r:embed="rId8"/>
            <a:stretch/>
          </p:blipFill>
          <p:spPr>
            <a:xfrm>
              <a:off x="4865040" y="298908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9"/>
            <a:stretch/>
          </p:blipFill>
          <p:spPr>
            <a:xfrm>
              <a:off x="4749840" y="198108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4749840" y="1981080"/>
              <a:ext cx="1207800" cy="1189080"/>
            </a:xfrm>
            <a:prstGeom prst="ellipse">
              <a:avLst/>
            </a:prstGeom>
            <a:solidFill>
              <a:srgbClr val="fba99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4874400" y="2005200"/>
              <a:ext cx="94968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317680" y="4138560"/>
            <a:ext cx="939960" cy="993960"/>
            <a:chOff x="2317680" y="4138560"/>
            <a:chExt cx="939960" cy="993960"/>
          </a:xfrm>
        </p:grpSpPr>
        <p:pic>
          <p:nvPicPr>
            <p:cNvPr id="860" name="" descr=""/>
            <p:cNvPicPr/>
            <p:nvPr/>
          </p:nvPicPr>
          <p:blipFill>
            <a:blip r:embed="rId10"/>
            <a:stretch/>
          </p:blipFill>
          <p:spPr>
            <a:xfrm>
              <a:off x="2406960" y="491796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11"/>
            <a:stretch/>
          </p:blipFill>
          <p:spPr>
            <a:xfrm>
              <a:off x="2317680" y="413856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2317680" y="4138560"/>
              <a:ext cx="93348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未知"/>
            <p:cNvSpPr/>
            <p:nvPr/>
          </p:nvSpPr>
          <p:spPr>
            <a:xfrm>
              <a:off x="2413800" y="415692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3627360" y="4118040"/>
            <a:ext cx="939960" cy="993600"/>
            <a:chOff x="3627360" y="4118040"/>
            <a:chExt cx="939960" cy="993600"/>
          </a:xfrm>
        </p:grpSpPr>
        <p:pic>
          <p:nvPicPr>
            <p:cNvPr id="865" name="" descr=""/>
            <p:cNvPicPr/>
            <p:nvPr/>
          </p:nvPicPr>
          <p:blipFill>
            <a:blip r:embed="rId12"/>
            <a:stretch/>
          </p:blipFill>
          <p:spPr>
            <a:xfrm>
              <a:off x="3716640" y="48970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13"/>
            <a:stretch/>
          </p:blipFill>
          <p:spPr>
            <a:xfrm>
              <a:off x="3627360" y="41180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3627360" y="411804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未知"/>
            <p:cNvSpPr/>
            <p:nvPr/>
          </p:nvSpPr>
          <p:spPr>
            <a:xfrm>
              <a:off x="3723480" y="413640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297400" y="3295800"/>
            <a:ext cx="939960" cy="993600"/>
            <a:chOff x="5297400" y="3295800"/>
            <a:chExt cx="939960" cy="993600"/>
          </a:xfrm>
        </p:grpSpPr>
        <p:pic>
          <p:nvPicPr>
            <p:cNvPr id="870" name="" descr=""/>
            <p:cNvPicPr/>
            <p:nvPr/>
          </p:nvPicPr>
          <p:blipFill>
            <a:blip r:embed="rId14"/>
            <a:stretch/>
          </p:blipFill>
          <p:spPr>
            <a:xfrm>
              <a:off x="5386680" y="40748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15"/>
            <a:stretch/>
          </p:blipFill>
          <p:spPr>
            <a:xfrm>
              <a:off x="5297400" y="32958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297400" y="329580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未知"/>
            <p:cNvSpPr/>
            <p:nvPr/>
          </p:nvSpPr>
          <p:spPr>
            <a:xfrm>
              <a:off x="5393520" y="331416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6108840" y="2023920"/>
            <a:ext cx="939600" cy="993960"/>
            <a:chOff x="6108840" y="2023920"/>
            <a:chExt cx="939600" cy="993960"/>
          </a:xfrm>
        </p:grpSpPr>
        <p:pic>
          <p:nvPicPr>
            <p:cNvPr id="875" name="" descr=""/>
            <p:cNvPicPr/>
            <p:nvPr/>
          </p:nvPicPr>
          <p:blipFill>
            <a:blip r:embed="rId16"/>
            <a:stretch/>
          </p:blipFill>
          <p:spPr>
            <a:xfrm>
              <a:off x="6198120" y="280332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" descr=""/>
            <p:cNvPicPr/>
            <p:nvPr/>
          </p:nvPicPr>
          <p:blipFill>
            <a:blip r:embed="rId17"/>
            <a:stretch/>
          </p:blipFill>
          <p:spPr>
            <a:xfrm>
              <a:off x="6108840" y="202392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6108840" y="202392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未知"/>
            <p:cNvSpPr/>
            <p:nvPr/>
          </p:nvSpPr>
          <p:spPr>
            <a:xfrm>
              <a:off x="6204960" y="204228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92600" y="3276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870440" y="22874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087960" y="22334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278320" y="34894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662120" y="33307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313000" y="4370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62736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492880" y="537840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581880" y="537840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591320" y="538812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329520" y="478152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582720" y="19670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2280" y="37195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143000" y="516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352680" y="516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226200" y="395136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010280" y="26528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Hot Tip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800600"/>
            <a:ext cx="5943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www.opena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162560" cy="2733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1" lang="en-US" sz="2000" spc="-1" strike="noStrike">
                <a:solidFill>
                  <a:srgbClr val="571d57"/>
                </a:solidFill>
                <a:latin typeface="Arial"/>
                <a:ea typeface="宋体"/>
              </a:rPr>
              <a:t>[View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1" lang="en-US" sz="2000" spc="-1" strike="noStrike">
                <a:solidFill>
                  <a:srgbClr val="571d57"/>
                </a:solidFill>
                <a:latin typeface="Arial"/>
                <a:ea typeface="宋体"/>
              </a:rPr>
              <a:t>[Master]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1" lang="en-US" sz="2000" spc="-1" strike="noStrike">
                <a:solidFill>
                  <a:srgbClr val="571d57"/>
                </a:solidFill>
                <a:latin typeface="Arial"/>
                <a:ea typeface="宋体"/>
              </a:rPr>
              <a:t>[Slide Master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1" lang="en-US" sz="2000" spc="-1" strike="noStrike">
                <a:solidFill>
                  <a:srgbClr val="571d57"/>
                </a:solidFill>
                <a:latin typeface="Arial"/>
                <a:ea typeface="宋体"/>
              </a:rPr>
              <a:t>[Notes Master]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114440" y="5334120"/>
            <a:ext cx="4876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ppt.downhot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title"/>
          </p:nvPr>
        </p:nvSpPr>
        <p:spPr>
          <a:xfrm>
            <a:off x="4114440" y="4114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0880" y="426708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3780000"/>
            <a:ext cx="29289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cc3300"/>
                </a:solidFill>
                <a:latin typeface="Arial"/>
              </a:rPr>
              <a:t>Title in here</a:t>
            </a:r>
            <a:endParaRPr b="1" lang="en-US" sz="1800" spc="-1" strike="noStrike">
              <a:ln w="0">
                <a:noFill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99120" y="2878200"/>
            <a:ext cx="938160" cy="2297160"/>
            <a:chOff x="5199120" y="2878200"/>
            <a:chExt cx="938160" cy="2297160"/>
          </a:xfrm>
        </p:grpSpPr>
        <p:sp>
          <p:nvSpPr>
            <p:cNvPr id="156" name="未知"/>
            <p:cNvSpPr/>
            <p:nvPr/>
          </p:nvSpPr>
          <p:spPr>
            <a:xfrm>
              <a:off x="5199120" y="2878200"/>
              <a:ext cx="938160" cy="2297160"/>
            </a:xfrm>
            <a:custGeom>
              <a:avLst/>
              <a:gdLst/>
              <a:ahLst/>
              <a:rect l="l" t="t" r="r" b="b"/>
              <a:pathLst>
                <a:path w="919" h="1497">
                  <a:moveTo>
                    <a:pt x="7" y="76"/>
                  </a:moveTo>
                  <a:cubicBezTo>
                    <a:pt x="7" y="76"/>
                    <a:pt x="7" y="752"/>
                    <a:pt x="7" y="1429"/>
                  </a:cubicBezTo>
                  <a:cubicBezTo>
                    <a:pt x="33" y="1477"/>
                    <a:pt x="289" y="1495"/>
                    <a:pt x="441" y="1497"/>
                  </a:cubicBezTo>
                  <a:cubicBezTo>
                    <a:pt x="593" y="1497"/>
                    <a:pt x="898" y="1486"/>
                    <a:pt x="919" y="1425"/>
                  </a:cubicBezTo>
                  <a:cubicBezTo>
                    <a:pt x="918" y="749"/>
                    <a:pt x="918" y="73"/>
                    <a:pt x="918" y="73"/>
                  </a:cubicBezTo>
                  <a:cubicBezTo>
                    <a:pt x="904" y="12"/>
                    <a:pt x="566" y="0"/>
                    <a:pt x="414" y="0"/>
                  </a:cubicBezTo>
                  <a:cubicBezTo>
                    <a:pt x="262" y="0"/>
                    <a:pt x="0" y="28"/>
                    <a:pt x="7" y="76"/>
                  </a:cubicBezTo>
                  <a:close/>
                </a:path>
              </a:pathLst>
            </a:custGeom>
            <a:gradFill rotWithShape="0">
              <a:gsLst>
                <a:gs pos="0">
                  <a:srgbClr val="b9b9b9">
                    <a:alpha val="50196"/>
                  </a:srgbClr>
                </a:gs>
                <a:gs pos="50000">
                  <a:srgbClr val="ffffff">
                    <a:alpha val="50196"/>
                  </a:srgbClr>
                </a:gs>
                <a:gs pos="100000">
                  <a:srgbClr val="b9b9b9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05960" y="2879280"/>
              <a:ext cx="930960" cy="22068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05960" y="4954320"/>
              <a:ext cx="930960" cy="22068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未知"/>
          <p:cNvSpPr/>
          <p:nvPr/>
        </p:nvSpPr>
        <p:spPr>
          <a:xfrm>
            <a:off x="6394320" y="2701800"/>
            <a:ext cx="936720" cy="2670480"/>
          </a:xfrm>
          <a:custGeom>
            <a:avLst/>
            <a:gdLst/>
            <a:ahLst/>
            <a:rect l="l" t="t" r="r" b="b"/>
            <a:pathLst>
              <a:path w="919" h="1497">
                <a:moveTo>
                  <a:pt x="7" y="76"/>
                </a:moveTo>
                <a:cubicBezTo>
                  <a:pt x="7" y="76"/>
                  <a:pt x="7" y="752"/>
                  <a:pt x="7" y="1429"/>
                </a:cubicBezTo>
                <a:cubicBezTo>
                  <a:pt x="33" y="1477"/>
                  <a:pt x="289" y="1495"/>
                  <a:pt x="441" y="1497"/>
                </a:cubicBezTo>
                <a:cubicBezTo>
                  <a:pt x="593" y="1497"/>
                  <a:pt x="898" y="1486"/>
                  <a:pt x="919" y="1425"/>
                </a:cubicBezTo>
                <a:cubicBezTo>
                  <a:pt x="918" y="749"/>
                  <a:pt x="918" y="73"/>
                  <a:pt x="918" y="73"/>
                </a:cubicBezTo>
                <a:cubicBezTo>
                  <a:pt x="904" y="12"/>
                  <a:pt x="566" y="0"/>
                  <a:pt x="414" y="0"/>
                </a:cubicBezTo>
                <a:cubicBezTo>
                  <a:pt x="262" y="0"/>
                  <a:pt x="0" y="28"/>
                  <a:pt x="7" y="76"/>
                </a:cubicBezTo>
                <a:close/>
              </a:path>
            </a:pathLst>
          </a:custGeom>
          <a:gradFill rotWithShape="0">
            <a:gsLst>
              <a:gs pos="0">
                <a:srgbClr val="b9b9b9">
                  <a:alpha val="50196"/>
                </a:srgbClr>
              </a:gs>
              <a:gs pos="50000">
                <a:srgbClr val="ffffff">
                  <a:alpha val="50196"/>
                </a:srgbClr>
              </a:gs>
              <a:gs pos="100000">
                <a:srgbClr val="b9b9b9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2703600"/>
            <a:ext cx="930240" cy="2570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5114880"/>
            <a:ext cx="930240" cy="2574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038480" y="3003480"/>
            <a:ext cx="938160" cy="1944720"/>
            <a:chOff x="4038480" y="3003480"/>
            <a:chExt cx="938160" cy="1944720"/>
          </a:xfrm>
        </p:grpSpPr>
        <p:sp>
          <p:nvSpPr>
            <p:cNvPr id="163" name="未知"/>
            <p:cNvSpPr/>
            <p:nvPr/>
          </p:nvSpPr>
          <p:spPr>
            <a:xfrm>
              <a:off x="4038480" y="3003480"/>
              <a:ext cx="938160" cy="1944720"/>
            </a:xfrm>
            <a:custGeom>
              <a:avLst/>
              <a:gdLst/>
              <a:ahLst/>
              <a:rect l="l" t="t" r="r" b="b"/>
              <a:pathLst>
                <a:path w="919" h="1497">
                  <a:moveTo>
                    <a:pt x="7" y="76"/>
                  </a:moveTo>
                  <a:cubicBezTo>
                    <a:pt x="7" y="76"/>
                    <a:pt x="7" y="752"/>
                    <a:pt x="7" y="1429"/>
                  </a:cubicBezTo>
                  <a:cubicBezTo>
                    <a:pt x="33" y="1477"/>
                    <a:pt x="289" y="1495"/>
                    <a:pt x="441" y="1497"/>
                  </a:cubicBezTo>
                  <a:cubicBezTo>
                    <a:pt x="593" y="1497"/>
                    <a:pt x="898" y="1486"/>
                    <a:pt x="919" y="1425"/>
                  </a:cubicBezTo>
                  <a:cubicBezTo>
                    <a:pt x="918" y="749"/>
                    <a:pt x="918" y="73"/>
                    <a:pt x="918" y="73"/>
                  </a:cubicBezTo>
                  <a:cubicBezTo>
                    <a:pt x="904" y="12"/>
                    <a:pt x="566" y="0"/>
                    <a:pt x="414" y="0"/>
                  </a:cubicBezTo>
                  <a:cubicBezTo>
                    <a:pt x="262" y="0"/>
                    <a:pt x="0" y="28"/>
                    <a:pt x="7" y="76"/>
                  </a:cubicBezTo>
                  <a:close/>
                </a:path>
              </a:pathLst>
            </a:custGeom>
            <a:gradFill rotWithShape="0">
              <a:gsLst>
                <a:gs pos="0">
                  <a:srgbClr val="b9b9b9">
                    <a:alpha val="50196"/>
                  </a:srgbClr>
                </a:gs>
                <a:gs pos="50000">
                  <a:srgbClr val="ffffff">
                    <a:alpha val="50196"/>
                  </a:srgbClr>
                </a:gs>
                <a:gs pos="100000">
                  <a:srgbClr val="b9b9b9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45320" y="3004560"/>
              <a:ext cx="930960" cy="1868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45320" y="4761000"/>
              <a:ext cx="930960" cy="18684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未知"/>
          <p:cNvSpPr/>
          <p:nvPr/>
        </p:nvSpPr>
        <p:spPr>
          <a:xfrm>
            <a:off x="7593120" y="2516040"/>
            <a:ext cx="936360" cy="3044880"/>
          </a:xfrm>
          <a:custGeom>
            <a:avLst/>
            <a:gdLst/>
            <a:ahLst/>
            <a:rect l="l" t="t" r="r" b="b"/>
            <a:pathLst>
              <a:path w="919" h="1497">
                <a:moveTo>
                  <a:pt x="7" y="76"/>
                </a:moveTo>
                <a:cubicBezTo>
                  <a:pt x="7" y="76"/>
                  <a:pt x="7" y="752"/>
                  <a:pt x="7" y="1429"/>
                </a:cubicBezTo>
                <a:cubicBezTo>
                  <a:pt x="33" y="1477"/>
                  <a:pt x="289" y="1495"/>
                  <a:pt x="441" y="1497"/>
                </a:cubicBezTo>
                <a:cubicBezTo>
                  <a:pt x="593" y="1497"/>
                  <a:pt x="898" y="1486"/>
                  <a:pt x="919" y="1425"/>
                </a:cubicBezTo>
                <a:cubicBezTo>
                  <a:pt x="918" y="749"/>
                  <a:pt x="918" y="73"/>
                  <a:pt x="918" y="73"/>
                </a:cubicBezTo>
                <a:cubicBezTo>
                  <a:pt x="904" y="12"/>
                  <a:pt x="566" y="0"/>
                  <a:pt x="414" y="0"/>
                </a:cubicBezTo>
                <a:cubicBezTo>
                  <a:pt x="262" y="0"/>
                  <a:pt x="0" y="28"/>
                  <a:pt x="7" y="76"/>
                </a:cubicBezTo>
                <a:close/>
              </a:path>
            </a:pathLst>
          </a:custGeom>
          <a:gradFill rotWithShape="0">
            <a:gsLst>
              <a:gs pos="0">
                <a:srgbClr val="b9b9b9">
                  <a:alpha val="50196"/>
                </a:srgbClr>
              </a:gs>
              <a:gs pos="50000">
                <a:srgbClr val="ffffff">
                  <a:alpha val="50196"/>
                </a:srgbClr>
              </a:gs>
              <a:gs pos="100000">
                <a:srgbClr val="b9b9b9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9240" y="5268960"/>
            <a:ext cx="930240" cy="29196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05720" y="4262400"/>
            <a:ext cx="92880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fea94c"/>
              </a:gs>
              <a:gs pos="50000">
                <a:srgbClr val="fdd2a3"/>
              </a:gs>
              <a:gs pos="100000">
                <a:srgbClr val="fea94c"/>
              </a:gs>
            </a:gsLst>
            <a:lin ang="10800000"/>
          </a:gradFill>
          <a:ln w="9360">
            <a:solidFill>
              <a:srgbClr val="f8f8f8">
                <a:alpha val="1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46400" y="4322880"/>
            <a:ext cx="930240" cy="623880"/>
          </a:xfrm>
          <a:prstGeom prst="can">
            <a:avLst>
              <a:gd name="adj" fmla="val 30416"/>
            </a:avLst>
          </a:prstGeom>
          <a:gradFill rotWithShape="0">
            <a:gsLst>
              <a:gs pos="0">
                <a:srgbClr val="fba993"/>
              </a:gs>
              <a:gs pos="50000">
                <a:srgbClr val="fbd2c7"/>
              </a:gs>
              <a:gs pos="100000">
                <a:srgbClr val="fba99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0280" y="3892680"/>
            <a:ext cx="930240" cy="1285920"/>
          </a:xfrm>
          <a:prstGeom prst="can">
            <a:avLst>
              <a:gd name="adj" fmla="val 19495"/>
            </a:avLst>
          </a:prstGeom>
          <a:gradFill rotWithShape="0">
            <a:gsLst>
              <a:gs pos="0">
                <a:srgbClr val="d26464"/>
              </a:gs>
              <a:gs pos="50000">
                <a:srgbClr val="e7afaf"/>
              </a:gs>
              <a:gs pos="100000">
                <a:srgbClr val="d264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96120" y="3449520"/>
            <a:ext cx="930240" cy="1922760"/>
          </a:xfrm>
          <a:prstGeom prst="can">
            <a:avLst>
              <a:gd name="adj" fmla="val 14527"/>
            </a:avLst>
          </a:prstGeom>
          <a:gradFill rotWithShape="0">
            <a:gsLst>
              <a:gs pos="0">
                <a:srgbClr val="89c3bd"/>
              </a:gs>
              <a:gs pos="50000">
                <a:srgbClr val="c2dfdc"/>
              </a:gs>
              <a:gs pos="100000">
                <a:srgbClr val="89c3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4245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4160" y="3848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34034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4222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367240"/>
            <a:ext cx="1447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94680" y="5554800"/>
            <a:ext cx="154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46360"/>
            <a:ext cx="2006640" cy="3110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2133720"/>
            <a:ext cx="2006640" cy="3110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1295280"/>
            <a:ext cx="2057400" cy="33048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180040"/>
            <a:ext cx="144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4992840"/>
            <a:ext cx="144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1676520"/>
            <a:ext cx="2068560" cy="3110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8080" y="2525760"/>
            <a:ext cx="930600" cy="2570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092560" y="1447920"/>
            <a:ext cx="2813040" cy="441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276200" y="1447920"/>
            <a:ext cx="2911680" cy="441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380960" y="3114720"/>
            <a:ext cx="2067120" cy="2095560"/>
          </a:xfrm>
          <a:prstGeom prst="ellipse">
            <a:avLst/>
          </a:prstGeom>
          <a:solidFill>
            <a:srgbClr val="dbdbdb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3920" y="2965320"/>
            <a:ext cx="2348640" cy="240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9270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927012"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7840" y="39355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7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27480" y="4519440"/>
            <a:ext cx="2805120" cy="56232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27480" y="3929040"/>
            <a:ext cx="2805120" cy="5637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27480" y="3338640"/>
            <a:ext cx="2805120" cy="563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27480" y="2747880"/>
            <a:ext cx="2805120" cy="5637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27480" y="2157480"/>
            <a:ext cx="2805120" cy="563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7360" y="508176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19840" y="447840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11560" y="3892680"/>
            <a:ext cx="5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13360" y="330840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14800" y="273384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6880" y="2119320"/>
            <a:ext cx="67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70600" y="3681360"/>
            <a:ext cx="233280" cy="1392120"/>
          </a:xfrm>
          <a:prstGeom prst="rect">
            <a:avLst/>
          </a:prstGeom>
          <a:gradFill rotWithShape="0">
            <a:gsLst>
              <a:gs pos="0">
                <a:srgbClr val="d26464"/>
              </a:gs>
              <a:gs pos="100000">
                <a:srgbClr val="5f2d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57840" y="2340000"/>
            <a:ext cx="233640" cy="2733480"/>
          </a:xfrm>
          <a:prstGeom prst="rect">
            <a:avLst/>
          </a:prstGeom>
          <a:gradFill rotWithShape="0">
            <a:gsLst>
              <a:gs pos="0">
                <a:srgbClr val="fba993"/>
              </a:gs>
              <a:gs pos="100000">
                <a:srgbClr val="724d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58040" y="2747880"/>
            <a:ext cx="233280" cy="2325600"/>
          </a:xfrm>
          <a:prstGeom prst="rect">
            <a:avLst/>
          </a:prstGeom>
          <a:gradFill rotWithShape="0">
            <a:gsLst>
              <a:gs pos="0">
                <a:srgbClr val="d26464"/>
              </a:gs>
              <a:gs pos="100000">
                <a:srgbClr val="5f2d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32360" y="508176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99080" y="508176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84880" y="508176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51760" y="190188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(unit: 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176560"/>
            <a:ext cx="37908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0120" y="1533600"/>
            <a:ext cx="250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Chart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55840" y="3778200"/>
            <a:ext cx="96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24120" y="3122640"/>
            <a:ext cx="9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165480" y="3347640"/>
            <a:ext cx="457200" cy="1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78200" y="15098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303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886200" cy="45738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4636800" y="1774800"/>
            <a:ext cx="3981240" cy="593640"/>
            <a:chOff x="4636800" y="1774800"/>
            <a:chExt cx="3981240" cy="593640"/>
          </a:xfrm>
        </p:grpSpPr>
        <p:sp>
          <p:nvSpPr>
            <p:cNvPr id="219" name=""/>
            <p:cNvSpPr/>
            <p:nvPr/>
          </p:nvSpPr>
          <p:spPr>
            <a:xfrm flipH="1">
              <a:off x="4658040" y="1774800"/>
              <a:ext cx="3960000" cy="593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36440" y="1835280"/>
              <a:ext cx="3981240" cy="4730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354560" y="1792440"/>
            <a:ext cx="530280" cy="526680"/>
            <a:chOff x="4354560" y="1792440"/>
            <a:chExt cx="530280" cy="526680"/>
          </a:xfrm>
        </p:grpSpPr>
        <p:sp>
          <p:nvSpPr>
            <p:cNvPr id="222" name=""/>
            <p:cNvSpPr/>
            <p:nvPr/>
          </p:nvSpPr>
          <p:spPr>
            <a:xfrm>
              <a:off x="4354560" y="1794960"/>
              <a:ext cx="530280" cy="524160"/>
            </a:xfrm>
            <a:prstGeom prst="ellipse">
              <a:avLst/>
            </a:prstGeom>
            <a:solidFill>
              <a:srgbClr val="d26464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4398840" y="1792440"/>
              <a:ext cx="438480" cy="43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 txBox="1"/>
          <p:nvPr/>
        </p:nvSpPr>
        <p:spPr>
          <a:xfrm>
            <a:off x="4516560" y="1892160"/>
            <a:ext cx="212760" cy="349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efefe"/>
                </a:solidFill>
                <a:effectLst>
                  <a:outerShdw dist="12600" dir="0" blurRad="0" rotWithShape="0">
                    <a:srgbClr val="dddddd">
                      <a:alpha val="50000"/>
                    </a:srgbClr>
                  </a:outerShdw>
                </a:effectLst>
                <a:latin typeface="Arial Black"/>
              </a:rPr>
              <a:t>$</a:t>
            </a:r>
            <a:endParaRPr b="0" lang="en-US" sz="1800" spc="-1" strike="noStrike">
              <a:ln w="0">
                <a:noFill/>
              </a:ln>
              <a:solidFill>
                <a:srgbClr val="fefefe"/>
              </a:solidFill>
              <a:effectLst>
                <a:outerShdw dist="12600" dir="0" blurRad="0" rotWithShape="0">
                  <a:srgbClr val="ddddd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636800" y="2712960"/>
            <a:ext cx="3981240" cy="593640"/>
            <a:chOff x="4636800" y="2712960"/>
            <a:chExt cx="3981240" cy="593640"/>
          </a:xfrm>
        </p:grpSpPr>
        <p:sp>
          <p:nvSpPr>
            <p:cNvPr id="226" name=""/>
            <p:cNvSpPr/>
            <p:nvPr/>
          </p:nvSpPr>
          <p:spPr>
            <a:xfrm flipH="1">
              <a:off x="4658040" y="2712960"/>
              <a:ext cx="3960000" cy="593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636440" y="2773440"/>
              <a:ext cx="3981240" cy="4730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354560" y="2730600"/>
            <a:ext cx="530280" cy="526680"/>
            <a:chOff x="4354560" y="2730600"/>
            <a:chExt cx="530280" cy="526680"/>
          </a:xfrm>
        </p:grpSpPr>
        <p:sp>
          <p:nvSpPr>
            <p:cNvPr id="229" name=""/>
            <p:cNvSpPr/>
            <p:nvPr/>
          </p:nvSpPr>
          <p:spPr>
            <a:xfrm>
              <a:off x="4354560" y="2733120"/>
              <a:ext cx="530280" cy="524160"/>
            </a:xfrm>
            <a:prstGeom prst="ellipse">
              <a:avLst/>
            </a:prstGeom>
            <a:solidFill>
              <a:srgbClr val="fba993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4398840" y="2730600"/>
              <a:ext cx="43848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4636800" y="3638520"/>
            <a:ext cx="3981240" cy="593640"/>
            <a:chOff x="4636800" y="3638520"/>
            <a:chExt cx="3981240" cy="593640"/>
          </a:xfrm>
        </p:grpSpPr>
        <p:sp>
          <p:nvSpPr>
            <p:cNvPr id="232" name=""/>
            <p:cNvSpPr/>
            <p:nvPr/>
          </p:nvSpPr>
          <p:spPr>
            <a:xfrm flipH="1">
              <a:off x="4658040" y="3638520"/>
              <a:ext cx="3960000" cy="593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636440" y="3699000"/>
              <a:ext cx="3981240" cy="4730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354560" y="3656160"/>
            <a:ext cx="530280" cy="526680"/>
            <a:chOff x="4354560" y="3656160"/>
            <a:chExt cx="530280" cy="526680"/>
          </a:xfrm>
        </p:grpSpPr>
        <p:sp>
          <p:nvSpPr>
            <p:cNvPr id="235" name=""/>
            <p:cNvSpPr/>
            <p:nvPr/>
          </p:nvSpPr>
          <p:spPr>
            <a:xfrm>
              <a:off x="4354560" y="3658680"/>
              <a:ext cx="530280" cy="524160"/>
            </a:xfrm>
            <a:prstGeom prst="ellipse">
              <a:avLst/>
            </a:prstGeom>
            <a:solidFill>
              <a:srgbClr val="fea94c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4398840" y="3656160"/>
              <a:ext cx="43848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4636800" y="4618080"/>
            <a:ext cx="3981240" cy="593640"/>
            <a:chOff x="4636800" y="4618080"/>
            <a:chExt cx="3981240" cy="593640"/>
          </a:xfrm>
        </p:grpSpPr>
        <p:sp>
          <p:nvSpPr>
            <p:cNvPr id="238" name=""/>
            <p:cNvSpPr/>
            <p:nvPr/>
          </p:nvSpPr>
          <p:spPr>
            <a:xfrm flipH="1">
              <a:off x="4658040" y="4618080"/>
              <a:ext cx="3960000" cy="59364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636440" y="4678560"/>
              <a:ext cx="3981240" cy="4730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354560" y="4635360"/>
            <a:ext cx="530280" cy="526680"/>
            <a:chOff x="4354560" y="4635360"/>
            <a:chExt cx="530280" cy="526680"/>
          </a:xfrm>
        </p:grpSpPr>
        <p:sp>
          <p:nvSpPr>
            <p:cNvPr id="241" name=""/>
            <p:cNvSpPr/>
            <p:nvPr/>
          </p:nvSpPr>
          <p:spPr>
            <a:xfrm>
              <a:off x="4354560" y="4637880"/>
              <a:ext cx="530280" cy="524160"/>
            </a:xfrm>
            <a:prstGeom prst="ellipse">
              <a:avLst/>
            </a:prstGeom>
            <a:solidFill>
              <a:srgbClr val="89c3bd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5"/>
            <a:stretch/>
          </p:blipFill>
          <p:spPr>
            <a:xfrm>
              <a:off x="4398840" y="4635360"/>
              <a:ext cx="438480" cy="43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4436640" y="2835360"/>
            <a:ext cx="368280" cy="285480"/>
            <a:chOff x="4436640" y="2835360"/>
            <a:chExt cx="368280" cy="285480"/>
          </a:xfrm>
        </p:grpSpPr>
        <p:sp>
          <p:nvSpPr>
            <p:cNvPr id="244" name="未知"/>
            <p:cNvSpPr/>
            <p:nvPr/>
          </p:nvSpPr>
          <p:spPr>
            <a:xfrm flipH="1">
              <a:off x="4436280" y="2893320"/>
              <a:ext cx="185400" cy="22752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solidFill>
              <a:srgbClr val="fefefe"/>
            </a:solidFill>
            <a:ln w="12600">
              <a:solidFill>
                <a:srgbClr val="fefefe"/>
              </a:solidFill>
              <a:round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503600" y="2835360"/>
              <a:ext cx="49320" cy="59760"/>
            </a:xfrm>
            <a:prstGeom prst="ellipse">
              <a:avLst/>
            </a:prstGeom>
            <a:solidFill>
              <a:srgbClr val="fefefe"/>
            </a:solidFill>
            <a:ln w="12600">
              <a:solidFill>
                <a:srgbClr val="fefefe"/>
              </a:solidFill>
              <a:miter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4627800" y="2897640"/>
              <a:ext cx="177120" cy="21816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solidFill>
              <a:srgbClr val="fefefe"/>
            </a:solidFill>
            <a:ln w="12600">
              <a:solidFill>
                <a:srgbClr val="fefefe"/>
              </a:solidFill>
              <a:round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93680" y="2842560"/>
              <a:ext cx="46800" cy="56520"/>
            </a:xfrm>
            <a:prstGeom prst="ellipse">
              <a:avLst/>
            </a:prstGeom>
            <a:solidFill>
              <a:srgbClr val="fefefe"/>
            </a:solidFill>
            <a:ln w="12600">
              <a:solidFill>
                <a:srgbClr val="fefefe"/>
              </a:solidFill>
              <a:miter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未知"/>
          <p:cNvSpPr/>
          <p:nvPr/>
        </p:nvSpPr>
        <p:spPr>
          <a:xfrm>
            <a:off x="4424400" y="4734000"/>
            <a:ext cx="384120" cy="282600"/>
          </a:xfrm>
          <a:custGeom>
            <a:avLst/>
            <a:gdLst/>
            <a:ahLst/>
            <a:rect l="l" t="t" r="r" b="b"/>
            <a:pathLst>
              <a:path w="647" h="478">
                <a:moveTo>
                  <a:pt x="518" y="239"/>
                </a:moveTo>
                <a:lnTo>
                  <a:pt x="647" y="233"/>
                </a:lnTo>
                <a:lnTo>
                  <a:pt x="329" y="0"/>
                </a:lnTo>
                <a:lnTo>
                  <a:pt x="180" y="108"/>
                </a:lnTo>
                <a:lnTo>
                  <a:pt x="180" y="57"/>
                </a:lnTo>
                <a:lnTo>
                  <a:pt x="129" y="51"/>
                </a:lnTo>
                <a:lnTo>
                  <a:pt x="129" y="136"/>
                </a:lnTo>
                <a:lnTo>
                  <a:pt x="0" y="239"/>
                </a:lnTo>
                <a:lnTo>
                  <a:pt x="107" y="245"/>
                </a:lnTo>
                <a:lnTo>
                  <a:pt x="107" y="478"/>
                </a:lnTo>
                <a:lnTo>
                  <a:pt x="518" y="478"/>
                </a:lnTo>
                <a:lnTo>
                  <a:pt x="518" y="239"/>
                </a:lnTo>
                <a:close/>
              </a:path>
            </a:pathLst>
          </a:custGeom>
          <a:solidFill>
            <a:srgbClr val="fefefe"/>
          </a:solidFill>
          <a:ln w="9360">
            <a:solidFill>
              <a:srgbClr val="fefefe"/>
            </a:solidFill>
            <a:round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394520" y="3776040"/>
            <a:ext cx="362880" cy="281160"/>
            <a:chOff x="4394520" y="3776040"/>
            <a:chExt cx="362880" cy="281160"/>
          </a:xfrm>
        </p:grpSpPr>
        <p:grpSp>
          <p:nvGrpSpPr>
            <p:cNvPr id="250" name=""/>
            <p:cNvGrpSpPr/>
            <p:nvPr/>
          </p:nvGrpSpPr>
          <p:grpSpPr>
            <a:xfrm>
              <a:off x="4394520" y="3776040"/>
              <a:ext cx="362880" cy="281160"/>
              <a:chOff x="4394520" y="3776040"/>
              <a:chExt cx="362880" cy="281160"/>
            </a:xfrm>
          </p:grpSpPr>
          <p:sp>
            <p:nvSpPr>
              <p:cNvPr id="251" name=""/>
              <p:cNvSpPr/>
              <p:nvPr/>
            </p:nvSpPr>
            <p:spPr>
              <a:xfrm>
                <a:off x="4470480" y="3863520"/>
                <a:ext cx="286920" cy="193680"/>
              </a:xfrm>
              <a:prstGeom prst="flowChartAlternateProcess">
                <a:avLst/>
              </a:prstGeom>
              <a:solidFill>
                <a:srgbClr val="fefefe"/>
              </a:solidFill>
              <a:ln w="0">
                <a:noFill/>
              </a:ln>
              <a:effectLst>
                <a:outerShdw dist="17819" dir="2700000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706600">
                <a:off x="4414320" y="3809520"/>
                <a:ext cx="286920" cy="193680"/>
              </a:xfrm>
              <a:prstGeom prst="flowChartAlternateProcess">
                <a:avLst/>
              </a:prstGeom>
              <a:solidFill>
                <a:srgbClr val="fefefe"/>
              </a:solidFill>
              <a:ln w="0">
                <a:noFill/>
              </a:ln>
              <a:effectLst>
                <a:outerShdw dist="17819" dir="2700000" blurRad="0" rotWithShape="0">
                  <a:srgbClr val="ddddd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>
              <a:off x="4445280" y="3852360"/>
              <a:ext cx="177120" cy="49320"/>
            </a:xfrm>
            <a:prstGeom prst="line">
              <a:avLst/>
            </a:prstGeom>
            <a:ln w="76320">
              <a:solidFill>
                <a:srgbClr val="fea9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892760" y="1895400"/>
            <a:ext cx="36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92760" y="2854440"/>
            <a:ext cx="36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92760" y="3768840"/>
            <a:ext cx="36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92760" y="4716360"/>
            <a:ext cx="36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30320" y="568332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3282840" y="3303720"/>
            <a:ext cx="2587680" cy="249696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cfcfc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46920" y="3303720"/>
            <a:ext cx="2587320" cy="249696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cfcfc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186600" y="3052800"/>
            <a:ext cx="2355840" cy="523800"/>
            <a:chOff x="6186600" y="3052800"/>
            <a:chExt cx="2355840" cy="523800"/>
          </a:xfrm>
        </p:grpSpPr>
        <p:sp>
          <p:nvSpPr>
            <p:cNvPr id="263" name=""/>
            <p:cNvSpPr/>
            <p:nvPr/>
          </p:nvSpPr>
          <p:spPr>
            <a:xfrm>
              <a:off x="6186600" y="30528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fba993"/>
            </a:solidFill>
            <a:ln w="381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22960" y="308448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ba99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688800" y="31129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394080" y="3052800"/>
            <a:ext cx="2355840" cy="523800"/>
            <a:chOff x="3394080" y="3052800"/>
            <a:chExt cx="2355840" cy="523800"/>
          </a:xfrm>
        </p:grpSpPr>
        <p:sp>
          <p:nvSpPr>
            <p:cNvPr id="267" name=""/>
            <p:cNvSpPr/>
            <p:nvPr/>
          </p:nvSpPr>
          <p:spPr>
            <a:xfrm>
              <a:off x="3394080" y="30528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89c3bd"/>
            </a:solidFill>
            <a:ln w="381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30440" y="308448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9c3b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890160" y="31129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0560" y="3303720"/>
            <a:ext cx="2587680" cy="249696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cfcfc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19200" y="3052800"/>
            <a:ext cx="2355840" cy="523800"/>
            <a:chOff x="619200" y="3052800"/>
            <a:chExt cx="2355840" cy="523800"/>
          </a:xfrm>
        </p:grpSpPr>
        <p:sp>
          <p:nvSpPr>
            <p:cNvPr id="272" name=""/>
            <p:cNvSpPr/>
            <p:nvPr/>
          </p:nvSpPr>
          <p:spPr>
            <a:xfrm>
              <a:off x="619200" y="30528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fea94c"/>
            </a:solidFill>
            <a:ln w="38160">
              <a:solidFill>
                <a:srgbClr val="ffffff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5560" y="308448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ea94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114920" y="31129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5320" y="1676520"/>
            <a:ext cx="77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571d57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040" y="260352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280" y="3846600"/>
            <a:ext cx="226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54480" y="387972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5880" y="387972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430440" y="2877480"/>
            <a:ext cx="2262240" cy="1817640"/>
          </a:xfrm>
          <a:prstGeom prst="upArrow">
            <a:avLst>
              <a:gd name="adj1" fmla="val 66602"/>
              <a:gd name="adj2" fmla="val 48259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7120" y="293220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fea94c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97280" y="2227320"/>
            <a:ext cx="3379680" cy="1133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09880" y="2247840"/>
            <a:ext cx="3340080" cy="46044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17680" y="4842000"/>
            <a:ext cx="6294240" cy="1452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2142000" y="2559960"/>
            <a:ext cx="865080" cy="43164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6165000" y="2605320"/>
            <a:ext cx="865080" cy="432000"/>
          </a:xfrm>
          <a:prstGeom prst="upArrow">
            <a:avLst>
              <a:gd name="adj1" fmla="val 50093"/>
              <a:gd name="adj2" fmla="val 54046"/>
            </a:avLst>
          </a:prstGeom>
          <a:gradFill rotWithShape="0">
            <a:gsLst>
              <a:gs pos="0">
                <a:srgbClr val="336699"/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90520" y="227016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1d57"/>
                </a:solidFill>
                <a:latin typeface="Calibri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56400" y="284328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lease write down of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51280" y="2693880"/>
            <a:ext cx="3243240" cy="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7120" y="198108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ea94c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16680" y="292104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ba993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21360" y="1989000"/>
            <a:ext cx="1659240" cy="762120"/>
          </a:xfrm>
          <a:prstGeom prst="roundRect">
            <a:avLst>
              <a:gd name="adj" fmla="val 16667"/>
            </a:avLst>
          </a:prstGeom>
          <a:solidFill>
            <a:srgbClr val="fba993"/>
          </a:solidFill>
          <a:ln w="38160">
            <a:solidFill>
              <a:srgbClr val="ffffff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0240" y="21765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0240" y="310680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2400" y="218592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2400" y="312588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49520" y="5175360"/>
            <a:ext cx="58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18640" y="285480"/>
            <a:ext cx="7410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1d57"/>
                </a:solidFill>
                <a:latin typeface="Verdana"/>
                <a:ea typeface="宋体"/>
              </a:rPr>
              <a:t>Click to edit title style</a:t>
            </a:r>
            <a:endParaRPr b="1" lang="en-US" sz="3000" spc="-1" strike="noStrike">
              <a:solidFill>
                <a:srgbClr val="571d57"/>
              </a:solidFill>
              <a:latin typeface="Verdan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14320" y="1001880"/>
            <a:ext cx="7520040" cy="46544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692400">
            <a:off x="2294640" y="2115360"/>
            <a:ext cx="4173840" cy="19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22" y="448"/>
                </a:moveTo>
                <a:arcTo wR="10800" hR="10800" stAng="-6393413" swAng="2073627"/>
                <a:lnTo>
                  <a:pt x="10800" y="10800"/>
                </a:lnTo>
                <a:close/>
              </a:path>
              <a:path fill="none" w="21600" h="21600">
                <a:moveTo>
                  <a:pt x="7722" y="448"/>
                </a:moveTo>
                <a:arcTo wR="10800" hR="10800" stAng="-6393413" swAng="2073627"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865600" y="5046840"/>
            <a:ext cx="3212640" cy="820080"/>
            <a:chOff x="2865600" y="5046840"/>
            <a:chExt cx="3212640" cy="820080"/>
          </a:xfrm>
        </p:grpSpPr>
        <p:pic>
          <p:nvPicPr>
            <p:cNvPr id="303" name="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865600" y="5572440"/>
              <a:ext cx="3212640" cy="29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2867040" y="5046840"/>
              <a:ext cx="3188880" cy="706320"/>
              <a:chOff x="2867040" y="5046840"/>
              <a:chExt cx="3188880" cy="706320"/>
            </a:xfrm>
          </p:grpSpPr>
          <p:sp>
            <p:nvSpPr>
              <p:cNvPr id="305" name=""/>
              <p:cNvSpPr/>
              <p:nvPr/>
            </p:nvSpPr>
            <p:spPr>
              <a:xfrm>
                <a:off x="2876760" y="5046840"/>
                <a:ext cx="3179160" cy="706320"/>
              </a:xfrm>
              <a:prstGeom prst="ellipse">
                <a:avLst/>
              </a:prstGeom>
              <a:gradFill rotWithShape="0">
                <a:gsLst>
                  <a:gs pos="0">
                    <a:srgbClr val="3b2711"/>
                  </a:gs>
                  <a:gs pos="50000">
                    <a:srgbClr val="fea94c"/>
                  </a:gs>
                  <a:gs pos="100000">
                    <a:srgbClr val="3b271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67040" y="5046840"/>
                <a:ext cx="3188880" cy="607680"/>
              </a:xfrm>
              <a:prstGeom prst="ellipse">
                <a:avLst/>
              </a:prstGeom>
              <a:gradFill rotWithShape="0">
                <a:gsLst>
                  <a:gs pos="0">
                    <a:srgbClr val="fea94c"/>
                  </a:gs>
                  <a:gs pos="100000">
                    <a:srgbClr val="fde1c1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未知"/>
          <p:cNvSpPr/>
          <p:nvPr/>
        </p:nvSpPr>
        <p:spPr>
          <a:xfrm>
            <a:off x="3618000" y="1149480"/>
            <a:ext cx="1973160" cy="43084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fea94c"/>
              </a:gs>
              <a:gs pos="100000">
                <a:srgbClr val="fdc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456000" y="1833480"/>
            <a:ext cx="366840" cy="354240"/>
            <a:chOff x="3456000" y="1833480"/>
            <a:chExt cx="366840" cy="354240"/>
          </a:xfrm>
        </p:grpSpPr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3456000" y="1833480"/>
              <a:ext cx="366840" cy="3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3456000" y="1833480"/>
              <a:ext cx="364680" cy="35424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4"/>
            <a:stretch/>
          </p:blipFill>
          <p:spPr>
            <a:xfrm>
              <a:off x="3491640" y="1837440"/>
              <a:ext cx="28980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5232240" y="2219400"/>
            <a:ext cx="300240" cy="287280"/>
            <a:chOff x="5232240" y="2219400"/>
            <a:chExt cx="300240" cy="287280"/>
          </a:xfrm>
        </p:grpSpPr>
        <p:pic>
          <p:nvPicPr>
            <p:cNvPr id="313" name="" descr=""/>
            <p:cNvPicPr/>
            <p:nvPr/>
          </p:nvPicPr>
          <p:blipFill>
            <a:blip r:embed="rId5"/>
            <a:stretch/>
          </p:blipFill>
          <p:spPr>
            <a:xfrm>
              <a:off x="5232240" y="2219400"/>
              <a:ext cx="300240" cy="2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232240" y="2219400"/>
              <a:ext cx="298080" cy="28728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6"/>
            <a:stretch/>
          </p:blipFill>
          <p:spPr>
            <a:xfrm>
              <a:off x="5262120" y="2222280"/>
              <a:ext cx="236880" cy="10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"/>
          <p:cNvGrpSpPr/>
          <p:nvPr/>
        </p:nvGrpSpPr>
        <p:grpSpPr>
          <a:xfrm>
            <a:off x="5931000" y="2792880"/>
            <a:ext cx="963000" cy="941760"/>
            <a:chOff x="5931000" y="2792880"/>
            <a:chExt cx="963000" cy="941760"/>
          </a:xfrm>
        </p:grpSpPr>
        <p:pic>
          <p:nvPicPr>
            <p:cNvPr id="317" name="" descr=""/>
            <p:cNvPicPr/>
            <p:nvPr/>
          </p:nvPicPr>
          <p:blipFill>
            <a:blip r:embed="rId7"/>
            <a:stretch/>
          </p:blipFill>
          <p:spPr>
            <a:xfrm rot="692400">
              <a:off x="6002640" y="2866680"/>
              <a:ext cx="820440" cy="7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692400">
              <a:off x="6002280" y="2866320"/>
              <a:ext cx="814680" cy="794880"/>
            </a:xfrm>
            <a:prstGeom prst="ellipse">
              <a:avLst/>
            </a:prstGeom>
            <a:gradFill rotWithShape="0">
              <a:gsLst>
                <a:gs pos="0">
                  <a:srgbClr val="fba993">
                    <a:alpha val="79215"/>
                  </a:srgbClr>
                </a:gs>
                <a:gs pos="50000">
                  <a:srgbClr val="734d43"/>
                </a:gs>
                <a:gs pos="100000">
                  <a:srgbClr val="fba993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 rot="692400">
              <a:off x="6132960" y="2878560"/>
              <a:ext cx="649080" cy="28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"/>
          <p:cNvGrpSpPr/>
          <p:nvPr/>
        </p:nvGrpSpPr>
        <p:grpSpPr>
          <a:xfrm>
            <a:off x="2054160" y="1911240"/>
            <a:ext cx="882360" cy="855360"/>
            <a:chOff x="2054160" y="1911240"/>
            <a:chExt cx="882360" cy="855360"/>
          </a:xfrm>
        </p:grpSpPr>
        <p:pic>
          <p:nvPicPr>
            <p:cNvPr id="321" name="" descr=""/>
            <p:cNvPicPr/>
            <p:nvPr/>
          </p:nvPicPr>
          <p:blipFill>
            <a:blip r:embed="rId9"/>
            <a:stretch/>
          </p:blipFill>
          <p:spPr>
            <a:xfrm>
              <a:off x="2054160" y="1911240"/>
              <a:ext cx="876600" cy="8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2054160" y="1911240"/>
              <a:ext cx="882360" cy="855360"/>
            </a:xfrm>
            <a:prstGeom prst="ellipse">
              <a:avLst/>
            </a:prstGeom>
            <a:gradFill rotWithShape="0">
              <a:gsLst>
                <a:gs pos="0">
                  <a:srgbClr val="89c3bd">
                    <a:alpha val="80000"/>
                  </a:srgbClr>
                </a:gs>
                <a:gs pos="50000">
                  <a:srgbClr val="3f5957"/>
                </a:gs>
                <a:gs pos="100000">
                  <a:srgbClr val="89c3bd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10"/>
            <a:stretch/>
          </p:blipFill>
          <p:spPr>
            <a:xfrm>
              <a:off x="2142000" y="1919160"/>
              <a:ext cx="703080" cy="30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"/>
          <p:cNvGrpSpPr/>
          <p:nvPr/>
        </p:nvGrpSpPr>
        <p:grpSpPr>
          <a:xfrm>
            <a:off x="2400480" y="3054240"/>
            <a:ext cx="591840" cy="567000"/>
            <a:chOff x="2400480" y="3054240"/>
            <a:chExt cx="591840" cy="567000"/>
          </a:xfrm>
        </p:grpSpPr>
        <p:pic>
          <p:nvPicPr>
            <p:cNvPr id="325" name="" descr=""/>
            <p:cNvPicPr/>
            <p:nvPr/>
          </p:nvPicPr>
          <p:blipFill>
            <a:blip r:embed="rId11"/>
            <a:stretch/>
          </p:blipFill>
          <p:spPr>
            <a:xfrm>
              <a:off x="2400480" y="3054240"/>
              <a:ext cx="591840" cy="5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2400480" y="3054240"/>
              <a:ext cx="587520" cy="56700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12"/>
            <a:stretch/>
          </p:blipFill>
          <p:spPr>
            <a:xfrm>
              <a:off x="2459520" y="3059640"/>
              <a:ext cx="467640" cy="2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"/>
          <p:cNvGrpSpPr/>
          <p:nvPr/>
        </p:nvGrpSpPr>
        <p:grpSpPr>
          <a:xfrm>
            <a:off x="3548160" y="3378240"/>
            <a:ext cx="1132920" cy="1095120"/>
            <a:chOff x="3548160" y="3378240"/>
            <a:chExt cx="1132920" cy="1095120"/>
          </a:xfrm>
        </p:grpSpPr>
        <p:pic>
          <p:nvPicPr>
            <p:cNvPr id="329" name="" descr=""/>
            <p:cNvPicPr/>
            <p:nvPr/>
          </p:nvPicPr>
          <p:blipFill>
            <a:blip r:embed="rId13"/>
            <a:stretch/>
          </p:blipFill>
          <p:spPr>
            <a:xfrm>
              <a:off x="3548160" y="3378240"/>
              <a:ext cx="1132920" cy="109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548160" y="3378240"/>
              <a:ext cx="1125720" cy="1095120"/>
            </a:xfrm>
            <a:prstGeom prst="ellipse">
              <a:avLst/>
            </a:prstGeom>
            <a:gradFill rotWithShape="0">
              <a:gsLst>
                <a:gs pos="0">
                  <a:srgbClr val="d26464">
                    <a:alpha val="80000"/>
                  </a:srgbClr>
                </a:gs>
                <a:gs pos="50000">
                  <a:srgbClr val="7d3b3b"/>
                </a:gs>
                <a:gs pos="100000">
                  <a:srgbClr val="d26464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4"/>
            <a:stretch/>
          </p:blipFill>
          <p:spPr>
            <a:xfrm>
              <a:off x="3660120" y="3388680"/>
              <a:ext cx="89604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"/>
          <p:cNvGrpSpPr/>
          <p:nvPr/>
        </p:nvGrpSpPr>
        <p:grpSpPr>
          <a:xfrm>
            <a:off x="5367240" y="3738600"/>
            <a:ext cx="592200" cy="569880"/>
            <a:chOff x="5367240" y="3738600"/>
            <a:chExt cx="592200" cy="569880"/>
          </a:xfrm>
        </p:grpSpPr>
        <p:pic>
          <p:nvPicPr>
            <p:cNvPr id="333" name="" descr=""/>
            <p:cNvPicPr/>
            <p:nvPr/>
          </p:nvPicPr>
          <p:blipFill>
            <a:blip r:embed="rId15"/>
            <a:stretch/>
          </p:blipFill>
          <p:spPr>
            <a:xfrm>
              <a:off x="5367240" y="3738600"/>
              <a:ext cx="59220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367240" y="3738600"/>
              <a:ext cx="587880" cy="569880"/>
            </a:xfrm>
            <a:prstGeom prst="ellipse">
              <a:avLst/>
            </a:prstGeom>
            <a:gradFill rotWithShape="0">
              <a:gsLst>
                <a:gs pos="0">
                  <a:srgbClr val="dddddd">
                    <a:alpha val="55294"/>
                  </a:srgbClr>
                </a:gs>
                <a:gs pos="50000">
                  <a:srgbClr val="656565">
                    <a:alpha val="90196"/>
                  </a:srgbClr>
                </a:gs>
                <a:gs pos="100000">
                  <a:srgbClr val="ddddd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16"/>
            <a:stretch/>
          </p:blipFill>
          <p:spPr>
            <a:xfrm>
              <a:off x="5426280" y="3744000"/>
              <a:ext cx="468000" cy="20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 rot="692400">
            <a:off x="2293920" y="2113920"/>
            <a:ext cx="4177800" cy="192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45" y="1416"/>
                </a:moveTo>
                <a:arcTo wR="10800" hR="10800" stAng="-3620089" swAng="1632255"/>
                <a:lnTo>
                  <a:pt x="10800" y="10800"/>
                </a:lnTo>
                <a:close/>
              </a:path>
              <a:path fill="none" w="21600" h="21600">
                <a:moveTo>
                  <a:pt x="16145" y="1416"/>
                </a:moveTo>
                <a:arcTo wR="10800" hR="10800" stAng="-3620089" swAng="1632255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692400">
            <a:off x="2293200" y="2116800"/>
            <a:ext cx="4177800" cy="192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7" y="10279"/>
                </a:moveTo>
                <a:arcTo wR="10800" hR="10800" stAng="-165862" swAng="2225620"/>
                <a:lnTo>
                  <a:pt x="10800" y="10800"/>
                </a:lnTo>
                <a:close/>
              </a:path>
              <a:path fill="none" w="21600" h="21600">
                <a:moveTo>
                  <a:pt x="21587" y="10279"/>
                </a:moveTo>
                <a:arcTo wR="10800" hR="10800" stAng="-165862" swAng="222562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692400">
            <a:off x="2289960" y="2099520"/>
            <a:ext cx="4184280" cy="192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863" y="19737"/>
                </a:moveTo>
                <a:arcTo wR="10800" hR="10800" stAng="3350772" swAng="1292840"/>
                <a:lnTo>
                  <a:pt x="10800" y="10800"/>
                </a:lnTo>
                <a:close/>
              </a:path>
              <a:path fill="none" w="21600" h="21600">
                <a:moveTo>
                  <a:pt x="16863" y="19737"/>
                </a:moveTo>
                <a:arcTo wR="10800" hR="10800" stAng="3350772" swAng="1292840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692400">
            <a:off x="2297520" y="2090880"/>
            <a:ext cx="4184640" cy="191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04" y="20984"/>
                </a:moveTo>
                <a:arcTo wR="10800" hR="10800" stAng="6566969" swAng="1241914"/>
                <a:lnTo>
                  <a:pt x="10800" y="10800"/>
                </a:lnTo>
                <a:close/>
              </a:path>
              <a:path fill="none" w="21600" h="21600">
                <a:moveTo>
                  <a:pt x="7204" y="20984"/>
                </a:moveTo>
                <a:arcTo wR="10800" hR="10800" stAng="6566969" swAng="1241914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692400">
            <a:off x="2259720" y="2083680"/>
            <a:ext cx="4184280" cy="192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8" y="15686"/>
                </a:moveTo>
                <a:arcTo wR="10800" hR="10800" stAng="9186116" swAng="2000789"/>
                <a:lnTo>
                  <a:pt x="10800" y="10800"/>
                </a:lnTo>
                <a:close/>
              </a:path>
              <a:path fill="none" w="21600" h="21600">
                <a:moveTo>
                  <a:pt x="1168" y="15686"/>
                </a:moveTo>
                <a:arcTo wR="10800" hR="10800" stAng="9186116" swAng="200078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692400">
            <a:off x="2267280" y="2082960"/>
            <a:ext cx="4182480" cy="192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22" y="3985"/>
                </a:moveTo>
                <a:arcTo wR="10800" hR="10800" stAng="-8452441" swAng="1099429"/>
                <a:lnTo>
                  <a:pt x="10800" y="10800"/>
                </a:lnTo>
                <a:close/>
              </a:path>
              <a:path fill="none" w="21600" h="21600">
                <a:moveTo>
                  <a:pt x="2422" y="3985"/>
                </a:moveTo>
                <a:arcTo wR="10800" hR="10800" stAng="-8452441" swAng="1099429"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77640" y="2173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38960" y="3751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76440" y="3094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31000" y="2301840"/>
            <a:ext cx="1703520" cy="488880"/>
          </a:xfrm>
          <a:noFill/>
          <a:ln w="9360">
            <a:solidFill>
              <a:srgbClr val="fba9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84920" y="4489560"/>
            <a:ext cx="2128680" cy="488880"/>
          </a:xfrm>
          <a:noFill/>
          <a:ln w="9360">
            <a:solidFill>
              <a:srgbClr val="d2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1492200"/>
            <a:ext cx="1606680" cy="487440"/>
          </a:xfrm>
          <a:noFill/>
          <a:ln w="9360">
            <a:solidFill>
              <a:srgbClr val="89c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30320" y="59878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7:13:12Z</dcterms:created>
  <dc:creator>Sunny </dc:creator>
  <dc:description/>
  <dc:language>en-US</dc:language>
  <cp:lastModifiedBy>pc</cp:lastModifiedBy>
  <dcterms:modified xsi:type="dcterms:W3CDTF">2015-07-22T07:14:58Z</dcterms:modified>
  <cp:revision>2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