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427-8F86-43B6-9452-B88E08FF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7520" y="407808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E44-3DCB-47BD-9BDE-F7544ECB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2044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CDE-D39F-441F-A99A-CF8F567D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532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348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752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532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348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020-49EA-4633-8FB9-9064278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EC0E-151A-45BA-B538-118F9C68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043-35B5-46AF-8F78-9E72DF8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A37-78B5-405F-9C95-27F4111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6703-2BA0-49D8-AF68-B8B05BA3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0F6-E831-4862-B90F-2EA4463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7520" y="833040"/>
            <a:ext cx="72406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804D-587F-4FC7-B942-78C302F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A7F-0085-432D-9ED6-FBB8E62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8DE-5103-4394-BEFE-2AF0192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2044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C83-96A9-4E16-92C5-6FBE6B3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A75-D49F-465A-B83D-7D91C2AB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7520" y="407808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270-36DD-4231-8A75-F982B2B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2044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2BD-6FDD-4049-B843-900F60E2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532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3480" y="170460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752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532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3480" y="4078080"/>
            <a:ext cx="252144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2F50-6532-4822-8C58-FB04E098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A40-87BD-4D1A-B45D-3E67548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280-0BE3-4778-A776-548E3DF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211-9E49-4364-93EC-F8678FD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7520" y="833040"/>
            <a:ext cx="72406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E5F-796E-4491-8D5E-086C9BF2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2B3-9C70-4A59-8361-6D2A648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20440" y="407808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EA8-B76A-4BB8-91AC-E583A1B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20440" y="1704600"/>
            <a:ext cx="3821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7520" y="4078080"/>
            <a:ext cx="7831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6E3-5C99-4CC3-90C5-AD088DB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wang\office图表模板\背景\36.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A473-5860-4D61-BE02-68BB0A36DDB2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3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wang\office图表模板\背景\36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2CE7-4631-4820-98A6-DFB169439A0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28760" y="1379520"/>
            <a:ext cx="620856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9b26"/>
                </a:solidFill>
                <a:latin typeface="幼圆"/>
              </a:rPr>
              <a:t>Click to edit the outline text format</a:t>
            </a: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1379520"/>
            <a:ext cx="620856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29840" y="2082960"/>
            <a:ext cx="6224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9b26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7520" y="833040"/>
            <a:ext cx="7240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7520" y="1704600"/>
            <a:ext cx="7831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9b26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8T02:28:51Z</dcterms:modified>
  <cp:revision>114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4240</vt:lpwstr>
  </property>
  <property fmtid="{D5CDD505-2E9C-101B-9397-08002B2CF9AE}" pid="3" name="name">
    <vt:lpwstr>A000120150312A10PWBG.ppt</vt:lpwstr>
  </property>
</Properties>
</file>