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E6A6-F89A-4A11-AE0D-3E9CD2B8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AF8E-A3ED-4B9C-8C24-A44269BD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74C9-3F55-43CB-AFAA-D4A1E8671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3D92-17AC-476A-AB7D-767C08F7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BC86-40A3-4857-8941-4F820CC6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4C69-99FF-4880-BCEF-2FB6E0EC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6DB3-1D45-4810-AC9B-1F630C23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2B0C-0FBA-4CE2-89E2-C703C3FD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9E51-3F68-47D4-B20F-EB8F01BA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13840"/>
            <a:ext cx="82296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C17C-A620-4934-825C-139E4E94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30F9-4924-491A-B52B-784F9FED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0F0B-D0E4-4327-BEFB-37223F53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E419-E23B-4D5B-AD86-E926E40E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006B-1627-4DA9-AE1C-C7CF2FC9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F767-0D5B-40DA-91C9-6E039AF8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4A83-81DF-4696-929D-962425954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331C-9094-405D-9493-37818E1B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1F971-BE1E-494A-9430-0EFE9FE3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9948C-A72E-43C8-B87C-AC519F11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9E111-422A-44D4-82EA-8E491B28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07F07-01D5-433C-B9EB-C3E402A8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ADD5A-A94C-4E7F-97E2-A1252D92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7AE2-D4E1-48D9-BE84-0CE753FD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13840"/>
            <a:ext cx="82296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724DF-D153-4030-BC9B-C59EB33B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9C804-EEDF-4752-A442-378E74F4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6B6B6-5D99-4C0C-A71B-1A3A8F4A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7E4AD-6BC6-4464-8758-3CB40786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33430-F851-4744-B1BA-1C4DF155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0D642-A8D1-483D-AD9F-F5CABF5AA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B6398-942F-4F9A-8F5E-978B830C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677C-FF42-4988-9C1C-38057C70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4ECC-E9FC-49C1-8829-AE60A2B6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13840"/>
            <a:ext cx="82296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3623-8B1F-405F-95EA-EBD06EA2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6897-7427-40BA-AA17-7B408514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E2D3-513E-49EF-8CD1-CFED2414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76D3-CF1E-4493-A10B-06AA944C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76E9-6F48-4FF8-AAF9-00BBBF378FCD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40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8974-1DF2-45E6-B6C9-DB856AACC7C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5356-EEAE-40FB-84F6-069FBFC3CD34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9"/>
          <p:cNvSpPr/>
          <p:nvPr/>
        </p:nvSpPr>
        <p:spPr>
          <a:xfrm>
            <a:off x="539640" y="1701720"/>
            <a:ext cx="7128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Unbenannt-2"/>
          <p:cNvPicPr/>
          <p:nvPr/>
        </p:nvPicPr>
        <p:blipFill>
          <a:blip r:embed="rId1"/>
          <a:stretch/>
        </p:blipFill>
        <p:spPr>
          <a:xfrm>
            <a:off x="2556000" y="2852640"/>
            <a:ext cx="27936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默认设置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首页主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36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；副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内页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24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；内页内容文字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华文细黑）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12720" y="2637000"/>
            <a:ext cx="338436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感谢您的关注！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1260360" y="1557360"/>
            <a:ext cx="712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2T14:50:04Z</dcterms:created>
  <dc:creator>PowerBar_lxym148</dc:creator>
  <dc:description>PowerBar：中国专业ppt设计交流论坛，是基于PowerPoint软件，以设计，创意，技巧，讨论，赏析，模板发布内容为主。
通过Nordri设计团队并汇集国内优秀PowerPoint设计者/爱好者的原创力量，建立更多与PPT相关的专业内容，为网友共享。 
</dc:description>
  <cp:keywords>ppt模板 PPT专业模板 PowerBar 专业PPT论坛</cp:keywords>
  <dc:language>en-US</dc:language>
  <cp:lastModifiedBy>微软用户</cp:lastModifiedBy>
  <dcterms:modified xsi:type="dcterms:W3CDTF">2015-07-22T09:20:00Z</dcterms:modified>
  <cp:revision>31</cp:revision>
  <dc:subject>PowerBar原创专业PPT模板</dc:subject>
  <dc:title>PowerBar原创专业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