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EB9-3625-4267-A931-96B8E5CB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1F3-40BF-441F-83CF-9046B97E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0B32-9172-4BEF-9917-DCF84E0F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3EF-589B-4CFC-B8B7-26442270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9C4F-77B2-4D27-BFBC-44148171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C071-42C2-40AF-8F62-15823D85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09E0-5636-43A8-B29C-4E396C95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21B2-D07F-419E-96E5-87FC6086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C93F-6D33-4EFF-82C0-DE71DDE8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CF7F-F1CD-47F5-BCBB-167EDA81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93F9-A876-4CED-B2A5-06567626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AF2-FDEB-49B2-B64E-570F4830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668E-0645-4827-98A4-D68772C11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6451560"/>
            <a:ext cx="9144000" cy="406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909360" y="1562040"/>
            <a:ext cx="3273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宋体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宋体"/>
              </a:rPr>
              <a:t>HYBI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宋体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924480" y="1892160"/>
            <a:ext cx="568224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宋体"/>
              </a:rPr>
              <a:t>IT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宋体"/>
              </a:rPr>
              <a:t>BEGIN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宋体"/>
              </a:rPr>
              <a:t>HER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388880" y="2921040"/>
            <a:ext cx="1920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  <a:ea typeface="宋体"/>
              </a:rPr>
              <a:t>红帽混合云建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906480" y="4229280"/>
            <a:ext cx="54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宋体"/>
              </a:rPr>
              <a:t>张国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758880" y="4610160"/>
            <a:ext cx="2647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eni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Solu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宋体"/>
              </a:rPr>
              <a:t>Archit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718920" y="4940280"/>
            <a:ext cx="1483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gzhang@redha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201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1054080" y="1562040"/>
            <a:ext cx="3175200" cy="4305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4635360" y="1968480"/>
            <a:ext cx="165240" cy="88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3"/>
          <a:stretch/>
        </p:blipFill>
        <p:spPr>
          <a:xfrm>
            <a:off x="4635360" y="2273400"/>
            <a:ext cx="165240" cy="88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4"/>
          <a:stretch/>
        </p:blipFill>
        <p:spPr>
          <a:xfrm>
            <a:off x="4915080" y="3060720"/>
            <a:ext cx="3403440" cy="914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5"/>
          <a:stretch/>
        </p:blipFill>
        <p:spPr>
          <a:xfrm>
            <a:off x="0" y="6197760"/>
            <a:ext cx="9144000" cy="660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"/>
          <p:cNvSpPr/>
          <p:nvPr/>
        </p:nvSpPr>
        <p:spPr>
          <a:xfrm>
            <a:off x="744480" y="419040"/>
            <a:ext cx="30319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RHS(Gluster)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的前世今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4865760" y="1778040"/>
            <a:ext cx="3247560" cy="6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宋体"/>
              </a:rPr>
              <a:t>2011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宋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宋体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宋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宋体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宋体"/>
              </a:rPr>
              <a:t>日被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宋体"/>
              </a:rPr>
              <a:t>RedHat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宋体"/>
              </a:rPr>
              <a:t>收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宋体"/>
              </a:rPr>
              <a:t>目前版本为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宋体"/>
              </a:rPr>
              <a:t>RHS2.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4775040" y="1765440"/>
            <a:ext cx="4051440" cy="3670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0" y="6197760"/>
            <a:ext cx="9144000" cy="66024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"/>
          <p:cNvSpPr/>
          <p:nvPr/>
        </p:nvSpPr>
        <p:spPr>
          <a:xfrm>
            <a:off x="546480" y="368280"/>
            <a:ext cx="24375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RHS(Gluster)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简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444600" y="1371600"/>
            <a:ext cx="12708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1142640" y="1308240"/>
            <a:ext cx="273096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宋体"/>
              </a:rPr>
              <a:t>RHS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宋体"/>
              </a:rPr>
              <a:t>是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宋体"/>
              </a:rPr>
              <a:t>Scale-Out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宋体"/>
              </a:rPr>
              <a:t>目标的存储解决方案，是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"/>
          <p:cNvSpPr/>
          <p:nvPr/>
        </p:nvSpPr>
        <p:spPr>
          <a:xfrm>
            <a:off x="1180440" y="1701720"/>
            <a:ext cx="2388600" cy="10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宋体"/>
              </a:rPr>
              <a:t>一个开源的分布式文件系统，具有强大的横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宋体"/>
              </a:rPr>
              <a:t>向扩展能力，通过扩展能够支持数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宋体"/>
              </a:rPr>
              <a:t>PB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宋体"/>
              </a:rPr>
              <a:t>存储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宋体"/>
              </a:rPr>
              <a:t>量和处理数千客户端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444600" y="3213000"/>
            <a:ext cx="12708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739440" y="3149640"/>
            <a:ext cx="29026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宋体"/>
              </a:rPr>
              <a:t>GlusterFS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宋体"/>
              </a:rPr>
              <a:t>借助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宋体"/>
              </a:rPr>
              <a:t>TCP/IP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宋体"/>
              </a:rPr>
              <a:t>或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宋体"/>
              </a:rPr>
              <a:t>InfiniBa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1961640" y="3517920"/>
            <a:ext cx="78804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宋体"/>
              </a:rPr>
              <a:t>RDMA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宋体"/>
              </a:rPr>
              <a:t>网络将物理分布的存储资源聚集在一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宋体"/>
              </a:rPr>
              <a:t>起，使用单一全局命名空间来管理数据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444600" y="4660920"/>
            <a:ext cx="12708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1237680" y="4610160"/>
            <a:ext cx="25027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宋体"/>
              </a:rPr>
              <a:t>GlusterFS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宋体"/>
              </a:rPr>
              <a:t>基于可堆叠的用户空间设计，可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1174320" y="4978440"/>
            <a:ext cx="194400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宋体"/>
              </a:rPr>
              <a:t>为各种不同的数据负载提供优异的性能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44600" y="1523880"/>
            <a:ext cx="152280" cy="88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444600" y="1981080"/>
            <a:ext cx="152280" cy="88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3"/>
          <a:stretch/>
        </p:blipFill>
        <p:spPr>
          <a:xfrm>
            <a:off x="444600" y="2438280"/>
            <a:ext cx="152280" cy="88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4"/>
          <a:stretch/>
        </p:blipFill>
        <p:spPr>
          <a:xfrm>
            <a:off x="444600" y="2895480"/>
            <a:ext cx="152280" cy="88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5"/>
          <a:stretch/>
        </p:blipFill>
        <p:spPr>
          <a:xfrm>
            <a:off x="444600" y="3352680"/>
            <a:ext cx="152280" cy="88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6"/>
          <a:stretch/>
        </p:blipFill>
        <p:spPr>
          <a:xfrm>
            <a:off x="444600" y="3809880"/>
            <a:ext cx="152280" cy="88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7"/>
          <a:stretch/>
        </p:blipFill>
        <p:spPr>
          <a:xfrm>
            <a:off x="0" y="6197760"/>
            <a:ext cx="9144000" cy="6602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583200" y="368280"/>
            <a:ext cx="18050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Gluster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的特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1015560" y="1397160"/>
            <a:ext cx="1067400" cy="26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宋体"/>
              </a:rPr>
              <a:t>扩展性和高性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宋体"/>
              </a:rPr>
              <a:t>高可用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宋体"/>
              </a:rPr>
              <a:t>全局统一命名空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宋体"/>
              </a:rPr>
              <a:t>弹性哈希算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宋体"/>
              </a:rPr>
              <a:t>弹性卷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宋体"/>
              </a:rPr>
              <a:t>基于标准协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4763160" y="1308240"/>
            <a:ext cx="36432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完全软件实现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Softw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Only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完整的存储操作系统栈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Stor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Opera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Sys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Stack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用户空间实现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U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Spac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模块化堆栈式架构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Modu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Stack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Architectur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原始数据格式存储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Stor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Nati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Format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无元数据服务设计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Elast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Ha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Algorithm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181160" y="939960"/>
            <a:ext cx="7467480" cy="4978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0" y="6197760"/>
            <a:ext cx="9144000" cy="66024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"/>
          <p:cNvSpPr/>
          <p:nvPr/>
        </p:nvSpPr>
        <p:spPr>
          <a:xfrm>
            <a:off x="649440" y="368280"/>
            <a:ext cx="20030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Gluster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总体架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698400" y="1206360"/>
            <a:ext cx="3936960" cy="2159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4775040" y="1206360"/>
            <a:ext cx="3746520" cy="2146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2629080" y="3632040"/>
            <a:ext cx="4076640" cy="2082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4"/>
          <a:stretch/>
        </p:blipFill>
        <p:spPr>
          <a:xfrm>
            <a:off x="0" y="6197760"/>
            <a:ext cx="9144000" cy="6602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1"/>
          <p:cNvSpPr/>
          <p:nvPr/>
        </p:nvSpPr>
        <p:spPr>
          <a:xfrm>
            <a:off x="635760" y="330120"/>
            <a:ext cx="29448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Gluster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的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种基本卷类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914400" y="1168560"/>
            <a:ext cx="3581280" cy="2197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4889520" y="1168560"/>
            <a:ext cx="3619440" cy="2184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3"/>
          <a:stretch/>
        </p:blipFill>
        <p:spPr>
          <a:xfrm>
            <a:off x="939960" y="3594240"/>
            <a:ext cx="3581280" cy="2273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4"/>
          <a:stretch/>
        </p:blipFill>
        <p:spPr>
          <a:xfrm>
            <a:off x="4927680" y="3594240"/>
            <a:ext cx="3556080" cy="2222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5"/>
          <a:stretch/>
        </p:blipFill>
        <p:spPr>
          <a:xfrm>
            <a:off x="0" y="6197760"/>
            <a:ext cx="9144000" cy="6602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711720" y="330120"/>
            <a:ext cx="23994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Gluster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的复合卷类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558720" y="1206360"/>
            <a:ext cx="8420040" cy="48135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0" y="6197760"/>
            <a:ext cx="9144000" cy="66024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"/>
          <p:cNvSpPr/>
          <p:nvPr/>
        </p:nvSpPr>
        <p:spPr>
          <a:xfrm>
            <a:off x="721800" y="368280"/>
            <a:ext cx="22014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管理和使用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Glus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469800" y="1117440"/>
            <a:ext cx="4203720" cy="1498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5105520" y="1092240"/>
            <a:ext cx="3606840" cy="1536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3"/>
          <a:stretch/>
        </p:blipFill>
        <p:spPr>
          <a:xfrm>
            <a:off x="2057400" y="2705040"/>
            <a:ext cx="5245200" cy="3378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4"/>
          <a:stretch/>
        </p:blipFill>
        <p:spPr>
          <a:xfrm>
            <a:off x="0" y="6197760"/>
            <a:ext cx="9144000" cy="6602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"/>
          <p:cNvSpPr/>
          <p:nvPr/>
        </p:nvSpPr>
        <p:spPr>
          <a:xfrm>
            <a:off x="715320" y="368280"/>
            <a:ext cx="22014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Gluster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的灾备方案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4203720" y="774720"/>
            <a:ext cx="4305240" cy="2413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0" y="3340080"/>
            <a:ext cx="9144000" cy="35179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"/>
          <p:cNvSpPr/>
          <p:nvPr/>
        </p:nvSpPr>
        <p:spPr>
          <a:xfrm>
            <a:off x="652680" y="368280"/>
            <a:ext cx="20854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Glus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主要用途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"/>
          <p:cNvSpPr/>
          <p:nvPr/>
        </p:nvSpPr>
        <p:spPr>
          <a:xfrm>
            <a:off x="1108800" y="1434960"/>
            <a:ext cx="88128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内容存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近线存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1165680" y="2031840"/>
            <a:ext cx="10339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高性能计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4559400" y="2349360"/>
            <a:ext cx="3797280" cy="3022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0" y="6197760"/>
            <a:ext cx="9144000" cy="66024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"/>
          <p:cNvSpPr/>
          <p:nvPr/>
        </p:nvSpPr>
        <p:spPr>
          <a:xfrm>
            <a:off x="781560" y="368280"/>
            <a:ext cx="239940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Gluster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和混合云计算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"/>
          <p:cNvSpPr/>
          <p:nvPr/>
        </p:nvSpPr>
        <p:spPr>
          <a:xfrm>
            <a:off x="2171520" y="1892160"/>
            <a:ext cx="4579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提供一个统一命名空间的共享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储空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"/>
          <p:cNvSpPr/>
          <p:nvPr/>
        </p:nvSpPr>
        <p:spPr>
          <a:xfrm>
            <a:off x="1302840" y="2425680"/>
            <a:ext cx="150948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横向扩展，消除性能瓶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原始数据存放，兼容性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1085040" y="2971800"/>
            <a:ext cx="27068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HEV3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计划支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lus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作为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拟机存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477720" y="2616120"/>
            <a:ext cx="2103480" cy="660600"/>
          </a:xfrm>
          <a:custGeom>
            <a:avLst/>
            <a:gdLst/>
            <a:ahLst/>
            <a:rect l="l" t="t" r="r" b="b"/>
            <a:pathLst>
              <a:path w="2102992" h="659892">
                <a:moveTo>
                  <a:pt x="0" y="0"/>
                </a:moveTo>
                <a:lnTo>
                  <a:pt x="1773047" y="0"/>
                </a:lnTo>
                <a:lnTo>
                  <a:pt x="2102992" y="329946"/>
                </a:lnTo>
                <a:lnTo>
                  <a:pt x="1773047" y="659892"/>
                </a:lnTo>
                <a:lnTo>
                  <a:pt x="0" y="659892"/>
                </a:lnTo>
                <a:lnTo>
                  <a:pt x="329907" y="329946"/>
                </a:lnTo>
                <a:lnTo>
                  <a:pt x="0" y="0"/>
                </a:lnTo>
              </a:path>
            </a:pathLst>
          </a:custGeom>
          <a:solidFill>
            <a:srgbClr val="4f81bd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465120" y="2603520"/>
            <a:ext cx="2128680" cy="685800"/>
          </a:xfrm>
          <a:custGeom>
            <a:avLst/>
            <a:gdLst/>
            <a:ahLst/>
            <a:rect l="l" t="t" r="r" b="b"/>
            <a:pathLst>
              <a:path w="2128392" h="685292">
                <a:moveTo>
                  <a:pt x="12700" y="12700"/>
                </a:moveTo>
                <a:lnTo>
                  <a:pt x="1785747" y="12700"/>
                </a:lnTo>
                <a:lnTo>
                  <a:pt x="2115692" y="342646"/>
                </a:lnTo>
                <a:lnTo>
                  <a:pt x="1785747" y="672592"/>
                </a:lnTo>
                <a:lnTo>
                  <a:pt x="12700" y="672592"/>
                </a:lnTo>
                <a:lnTo>
                  <a:pt x="342607" y="342646"/>
                </a:lnTo>
                <a:lnTo>
                  <a:pt x="12700" y="1270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2416320" y="2616120"/>
            <a:ext cx="2125440" cy="660600"/>
          </a:xfrm>
          <a:custGeom>
            <a:avLst/>
            <a:gdLst/>
            <a:ahLst/>
            <a:rect l="l" t="t" r="r" b="b"/>
            <a:pathLst>
              <a:path w="2126233" h="659892">
                <a:moveTo>
                  <a:pt x="0" y="0"/>
                </a:moveTo>
                <a:lnTo>
                  <a:pt x="1796414" y="0"/>
                </a:lnTo>
                <a:lnTo>
                  <a:pt x="2126233" y="329946"/>
                </a:lnTo>
                <a:lnTo>
                  <a:pt x="1796414" y="659892"/>
                </a:lnTo>
                <a:lnTo>
                  <a:pt x="0" y="659892"/>
                </a:lnTo>
                <a:lnTo>
                  <a:pt x="329945" y="329946"/>
                </a:lnTo>
                <a:lnTo>
                  <a:pt x="0" y="0"/>
                </a:lnTo>
              </a:path>
            </a:pathLst>
          </a:custGeom>
          <a:solidFill>
            <a:srgbClr val="4f81bd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2403360" y="2603520"/>
            <a:ext cx="2151000" cy="685800"/>
          </a:xfrm>
          <a:custGeom>
            <a:avLst/>
            <a:gdLst/>
            <a:ahLst/>
            <a:rect l="l" t="t" r="r" b="b"/>
            <a:pathLst>
              <a:path w="2151633" h="685292">
                <a:moveTo>
                  <a:pt x="12700" y="12700"/>
                </a:moveTo>
                <a:lnTo>
                  <a:pt x="1809114" y="12700"/>
                </a:lnTo>
                <a:lnTo>
                  <a:pt x="2138933" y="342646"/>
                </a:lnTo>
                <a:lnTo>
                  <a:pt x="1809114" y="672592"/>
                </a:lnTo>
                <a:lnTo>
                  <a:pt x="12700" y="672592"/>
                </a:lnTo>
                <a:lnTo>
                  <a:pt x="342645" y="342646"/>
                </a:lnTo>
                <a:lnTo>
                  <a:pt x="12700" y="1270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4381560" y="2616120"/>
            <a:ext cx="2082600" cy="660600"/>
          </a:xfrm>
          <a:custGeom>
            <a:avLst/>
            <a:gdLst/>
            <a:ahLst/>
            <a:rect l="l" t="t" r="r" b="b"/>
            <a:pathLst>
              <a:path w="2081911" h="659892">
                <a:moveTo>
                  <a:pt x="0" y="0"/>
                </a:moveTo>
                <a:lnTo>
                  <a:pt x="1751965" y="0"/>
                </a:lnTo>
                <a:lnTo>
                  <a:pt x="2081911" y="329946"/>
                </a:lnTo>
                <a:lnTo>
                  <a:pt x="1751965" y="659892"/>
                </a:lnTo>
                <a:lnTo>
                  <a:pt x="0" y="659892"/>
                </a:lnTo>
                <a:lnTo>
                  <a:pt x="329946" y="329946"/>
                </a:lnTo>
                <a:lnTo>
                  <a:pt x="0" y="0"/>
                </a:lnTo>
              </a:path>
            </a:pathLst>
          </a:custGeom>
          <a:solidFill>
            <a:srgbClr val="bccfe6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4368960" y="2603520"/>
            <a:ext cx="2108160" cy="685800"/>
          </a:xfrm>
          <a:custGeom>
            <a:avLst/>
            <a:gdLst/>
            <a:ahLst/>
            <a:rect l="l" t="t" r="r" b="b"/>
            <a:pathLst>
              <a:path w="2107311" h="685292">
                <a:moveTo>
                  <a:pt x="12700" y="12700"/>
                </a:moveTo>
                <a:lnTo>
                  <a:pt x="1764665" y="12700"/>
                </a:lnTo>
                <a:lnTo>
                  <a:pt x="2094611" y="342646"/>
                </a:lnTo>
                <a:lnTo>
                  <a:pt x="1764665" y="672592"/>
                </a:lnTo>
                <a:lnTo>
                  <a:pt x="12700" y="672592"/>
                </a:lnTo>
                <a:lnTo>
                  <a:pt x="342646" y="342646"/>
                </a:lnTo>
                <a:lnTo>
                  <a:pt x="12700" y="12700"/>
                </a:lnTo>
              </a:path>
            </a:pathLst>
          </a:custGeom>
          <a:noFill/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3173400" y="1805040"/>
            <a:ext cx="309600" cy="326880"/>
          </a:xfrm>
          <a:custGeom>
            <a:avLst/>
            <a:gdLst/>
            <a:ahLst/>
            <a:rect l="l" t="t" r="r" b="b"/>
            <a:pathLst>
              <a:path w="310642" h="327279">
                <a:moveTo>
                  <a:pt x="97535" y="3810"/>
                </a:moveTo>
                <a:lnTo>
                  <a:pt x="228472" y="81788"/>
                </a:lnTo>
                <a:lnTo>
                  <a:pt x="277241" y="0"/>
                </a:lnTo>
                <a:lnTo>
                  <a:pt x="310641" y="241554"/>
                </a:lnTo>
                <a:lnTo>
                  <a:pt x="82169" y="327279"/>
                </a:lnTo>
                <a:lnTo>
                  <a:pt x="130936" y="245364"/>
                </a:lnTo>
                <a:lnTo>
                  <a:pt x="0" y="167386"/>
                </a:lnTo>
                <a:lnTo>
                  <a:pt x="97535" y="3810"/>
                </a:lnTo>
              </a:path>
            </a:pathLst>
          </a:custGeom>
          <a:solidFill>
            <a:srgbClr val="95b3d7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3166920" y="1798560"/>
            <a:ext cx="322560" cy="339840"/>
          </a:xfrm>
          <a:custGeom>
            <a:avLst/>
            <a:gdLst/>
            <a:ahLst/>
            <a:rect l="l" t="t" r="r" b="b"/>
            <a:pathLst>
              <a:path w="323342" h="339979">
                <a:moveTo>
                  <a:pt x="103885" y="10160"/>
                </a:moveTo>
                <a:lnTo>
                  <a:pt x="234822" y="88138"/>
                </a:lnTo>
                <a:lnTo>
                  <a:pt x="283591" y="6350"/>
                </a:lnTo>
                <a:lnTo>
                  <a:pt x="316991" y="247904"/>
                </a:lnTo>
                <a:lnTo>
                  <a:pt x="88519" y="333629"/>
                </a:lnTo>
                <a:lnTo>
                  <a:pt x="137286" y="251714"/>
                </a:lnTo>
                <a:lnTo>
                  <a:pt x="6350" y="173736"/>
                </a:lnTo>
                <a:lnTo>
                  <a:pt x="103885" y="10160"/>
                </a:lnTo>
              </a:path>
            </a:pathLst>
          </a:custGeom>
          <a:noFill/>
          <a:ln w="1260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4316400" y="2262240"/>
            <a:ext cx="311040" cy="326880"/>
          </a:xfrm>
          <a:custGeom>
            <a:avLst/>
            <a:gdLst/>
            <a:ahLst/>
            <a:rect l="l" t="t" r="r" b="b"/>
            <a:pathLst>
              <a:path w="310642" h="327279">
                <a:moveTo>
                  <a:pt x="97536" y="3810"/>
                </a:moveTo>
                <a:lnTo>
                  <a:pt x="228473" y="81788"/>
                </a:lnTo>
                <a:lnTo>
                  <a:pt x="277241" y="0"/>
                </a:lnTo>
                <a:lnTo>
                  <a:pt x="310642" y="241554"/>
                </a:lnTo>
                <a:lnTo>
                  <a:pt x="82169" y="327279"/>
                </a:lnTo>
                <a:lnTo>
                  <a:pt x="130937" y="245364"/>
                </a:lnTo>
                <a:lnTo>
                  <a:pt x="0" y="167386"/>
                </a:lnTo>
                <a:lnTo>
                  <a:pt x="97536" y="3810"/>
                </a:lnTo>
              </a:path>
            </a:pathLst>
          </a:custGeom>
          <a:solidFill>
            <a:srgbClr val="95b3d7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4309920" y="2255760"/>
            <a:ext cx="324000" cy="339840"/>
          </a:xfrm>
          <a:custGeom>
            <a:avLst/>
            <a:gdLst/>
            <a:ahLst/>
            <a:rect l="l" t="t" r="r" b="b"/>
            <a:pathLst>
              <a:path w="323342" h="339979">
                <a:moveTo>
                  <a:pt x="103886" y="10160"/>
                </a:moveTo>
                <a:lnTo>
                  <a:pt x="234823" y="88138"/>
                </a:lnTo>
                <a:lnTo>
                  <a:pt x="283591" y="6350"/>
                </a:lnTo>
                <a:lnTo>
                  <a:pt x="316992" y="247904"/>
                </a:lnTo>
                <a:lnTo>
                  <a:pt x="88519" y="333629"/>
                </a:lnTo>
                <a:lnTo>
                  <a:pt x="137287" y="251714"/>
                </a:lnTo>
                <a:lnTo>
                  <a:pt x="6350" y="173736"/>
                </a:lnTo>
                <a:lnTo>
                  <a:pt x="103886" y="10160"/>
                </a:lnTo>
              </a:path>
            </a:pathLst>
          </a:custGeom>
          <a:noFill/>
          <a:ln w="1260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reeform 3"/>
          <p:cNvSpPr/>
          <p:nvPr/>
        </p:nvSpPr>
        <p:spPr>
          <a:xfrm>
            <a:off x="2806560" y="4397400"/>
            <a:ext cx="316080" cy="376200"/>
          </a:xfrm>
          <a:custGeom>
            <a:avLst/>
            <a:gdLst/>
            <a:ahLst/>
            <a:rect l="l" t="t" r="r" b="b"/>
            <a:pathLst>
              <a:path w="315467" h="376936">
                <a:moveTo>
                  <a:pt x="0" y="116458"/>
                </a:moveTo>
                <a:lnTo>
                  <a:pt x="150748" y="94233"/>
                </a:lnTo>
                <a:lnTo>
                  <a:pt x="136778" y="0"/>
                </a:lnTo>
                <a:lnTo>
                  <a:pt x="315467" y="166115"/>
                </a:lnTo>
                <a:lnTo>
                  <a:pt x="192531" y="376935"/>
                </a:lnTo>
                <a:lnTo>
                  <a:pt x="178561" y="282702"/>
                </a:lnTo>
                <a:lnTo>
                  <a:pt x="27813" y="304927"/>
                </a:lnTo>
                <a:lnTo>
                  <a:pt x="0" y="116458"/>
                </a:lnTo>
              </a:path>
            </a:pathLst>
          </a:custGeom>
          <a:solidFill>
            <a:srgbClr val="95b3d7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reeform 3"/>
          <p:cNvSpPr/>
          <p:nvPr/>
        </p:nvSpPr>
        <p:spPr>
          <a:xfrm>
            <a:off x="2800440" y="4390920"/>
            <a:ext cx="328680" cy="389160"/>
          </a:xfrm>
          <a:custGeom>
            <a:avLst/>
            <a:gdLst/>
            <a:ahLst/>
            <a:rect l="l" t="t" r="r" b="b"/>
            <a:pathLst>
              <a:path w="328167" h="389636">
                <a:moveTo>
                  <a:pt x="6350" y="122808"/>
                </a:moveTo>
                <a:lnTo>
                  <a:pt x="157098" y="100583"/>
                </a:lnTo>
                <a:lnTo>
                  <a:pt x="143128" y="6350"/>
                </a:lnTo>
                <a:lnTo>
                  <a:pt x="321817" y="172465"/>
                </a:lnTo>
                <a:lnTo>
                  <a:pt x="198881" y="383285"/>
                </a:lnTo>
                <a:lnTo>
                  <a:pt x="184911" y="289052"/>
                </a:lnTo>
                <a:lnTo>
                  <a:pt x="34163" y="311277"/>
                </a:lnTo>
                <a:lnTo>
                  <a:pt x="6350" y="122808"/>
                </a:lnTo>
              </a:path>
            </a:pathLst>
          </a:custGeom>
          <a:noFill/>
          <a:ln w="1260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reeform 3"/>
          <p:cNvSpPr/>
          <p:nvPr/>
        </p:nvSpPr>
        <p:spPr>
          <a:xfrm>
            <a:off x="4510080" y="4137120"/>
            <a:ext cx="316080" cy="376200"/>
          </a:xfrm>
          <a:custGeom>
            <a:avLst/>
            <a:gdLst/>
            <a:ahLst/>
            <a:rect l="l" t="t" r="r" b="b"/>
            <a:pathLst>
              <a:path w="315467" h="376936">
                <a:moveTo>
                  <a:pt x="0" y="116585"/>
                </a:moveTo>
                <a:lnTo>
                  <a:pt x="150748" y="94234"/>
                </a:lnTo>
                <a:lnTo>
                  <a:pt x="136778" y="0"/>
                </a:lnTo>
                <a:lnTo>
                  <a:pt x="315467" y="166242"/>
                </a:lnTo>
                <a:lnTo>
                  <a:pt x="192532" y="376935"/>
                </a:lnTo>
                <a:lnTo>
                  <a:pt x="178561" y="282702"/>
                </a:lnTo>
                <a:lnTo>
                  <a:pt x="27813" y="305053"/>
                </a:lnTo>
                <a:lnTo>
                  <a:pt x="0" y="116585"/>
                </a:lnTo>
              </a:path>
            </a:pathLst>
          </a:custGeom>
          <a:solidFill>
            <a:srgbClr val="95b3d7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reeform 3"/>
          <p:cNvSpPr/>
          <p:nvPr/>
        </p:nvSpPr>
        <p:spPr>
          <a:xfrm>
            <a:off x="4503600" y="4130640"/>
            <a:ext cx="328680" cy="388800"/>
          </a:xfrm>
          <a:custGeom>
            <a:avLst/>
            <a:gdLst/>
            <a:ahLst/>
            <a:rect l="l" t="t" r="r" b="b"/>
            <a:pathLst>
              <a:path w="328167" h="389636">
                <a:moveTo>
                  <a:pt x="6350" y="122935"/>
                </a:moveTo>
                <a:lnTo>
                  <a:pt x="157098" y="100584"/>
                </a:lnTo>
                <a:lnTo>
                  <a:pt x="143128" y="6350"/>
                </a:lnTo>
                <a:lnTo>
                  <a:pt x="321817" y="172592"/>
                </a:lnTo>
                <a:lnTo>
                  <a:pt x="198882" y="383285"/>
                </a:lnTo>
                <a:lnTo>
                  <a:pt x="184911" y="289052"/>
                </a:lnTo>
                <a:lnTo>
                  <a:pt x="34163" y="311403"/>
                </a:lnTo>
                <a:lnTo>
                  <a:pt x="6350" y="122935"/>
                </a:lnTo>
              </a:path>
            </a:pathLst>
          </a:custGeom>
          <a:noFill/>
          <a:ln w="1260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6262560" y="3832200"/>
            <a:ext cx="316080" cy="376200"/>
          </a:xfrm>
          <a:custGeom>
            <a:avLst/>
            <a:gdLst/>
            <a:ahLst/>
            <a:rect l="l" t="t" r="r" b="b"/>
            <a:pathLst>
              <a:path w="315467" h="376936">
                <a:moveTo>
                  <a:pt x="0" y="116585"/>
                </a:moveTo>
                <a:lnTo>
                  <a:pt x="150748" y="94234"/>
                </a:lnTo>
                <a:lnTo>
                  <a:pt x="136778" y="0"/>
                </a:lnTo>
                <a:lnTo>
                  <a:pt x="315467" y="166242"/>
                </a:lnTo>
                <a:lnTo>
                  <a:pt x="192532" y="376935"/>
                </a:lnTo>
                <a:lnTo>
                  <a:pt x="178561" y="282702"/>
                </a:lnTo>
                <a:lnTo>
                  <a:pt x="27813" y="305053"/>
                </a:lnTo>
                <a:lnTo>
                  <a:pt x="0" y="116585"/>
                </a:lnTo>
              </a:path>
            </a:pathLst>
          </a:custGeom>
          <a:solidFill>
            <a:srgbClr val="95b3d7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reeform 3"/>
          <p:cNvSpPr/>
          <p:nvPr/>
        </p:nvSpPr>
        <p:spPr>
          <a:xfrm>
            <a:off x="6256440" y="3825720"/>
            <a:ext cx="328680" cy="389160"/>
          </a:xfrm>
          <a:custGeom>
            <a:avLst/>
            <a:gdLst/>
            <a:ahLst/>
            <a:rect l="l" t="t" r="r" b="b"/>
            <a:pathLst>
              <a:path w="328167" h="389636">
                <a:moveTo>
                  <a:pt x="6350" y="122935"/>
                </a:moveTo>
                <a:lnTo>
                  <a:pt x="157098" y="100584"/>
                </a:lnTo>
                <a:lnTo>
                  <a:pt x="143128" y="6350"/>
                </a:lnTo>
                <a:lnTo>
                  <a:pt x="321817" y="172592"/>
                </a:lnTo>
                <a:lnTo>
                  <a:pt x="198882" y="383285"/>
                </a:lnTo>
                <a:lnTo>
                  <a:pt x="184911" y="289052"/>
                </a:lnTo>
                <a:lnTo>
                  <a:pt x="34163" y="311403"/>
                </a:lnTo>
                <a:lnTo>
                  <a:pt x="6350" y="122935"/>
                </a:lnTo>
              </a:path>
            </a:pathLst>
          </a:custGeom>
          <a:noFill/>
          <a:ln w="1260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727280" y="1422360"/>
            <a:ext cx="7416720" cy="3911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0" y="6197760"/>
            <a:ext cx="9144000" cy="660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981360" y="2857680"/>
            <a:ext cx="11361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Distribu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2919600" y="2857680"/>
            <a:ext cx="11329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Virtualiz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4902480" y="2870280"/>
            <a:ext cx="10659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Converge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I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7207200" y="2730600"/>
            <a:ext cx="82512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Federat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I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667800" y="546120"/>
            <a:ext cx="17632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微软雅黑"/>
                <a:ea typeface="宋体"/>
              </a:rPr>
              <a:t>混合云的进化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Privat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Clou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722160" y="4648320"/>
            <a:ext cx="429588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Public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Clou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**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t’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appe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ime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0" y="6197760"/>
            <a:ext cx="9144000" cy="660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"/>
          <p:cNvSpPr/>
          <p:nvPr/>
        </p:nvSpPr>
        <p:spPr>
          <a:xfrm>
            <a:off x="909360" y="1079640"/>
            <a:ext cx="3273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宋体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宋体"/>
              </a:rPr>
              <a:t>HYBI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宋体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"/>
          <p:cNvSpPr/>
          <p:nvPr/>
        </p:nvSpPr>
        <p:spPr>
          <a:xfrm>
            <a:off x="843120" y="1422360"/>
            <a:ext cx="5285880" cy="9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宋体"/>
              </a:rPr>
              <a:t>I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宋体"/>
              </a:rPr>
              <a:t>BEGIN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宋体"/>
              </a:rPr>
              <a:t>HE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"/>
          <p:cNvSpPr/>
          <p:nvPr/>
        </p:nvSpPr>
        <p:spPr>
          <a:xfrm>
            <a:off x="653400" y="2832120"/>
            <a:ext cx="284580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宋体"/>
              </a:rPr>
              <a:t>Tr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宋体"/>
              </a:rPr>
              <a:t>OpenSource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宋体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宋体"/>
              </a:rPr>
              <a:t>Tr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宋体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宋体"/>
              </a:rPr>
              <a:t>Hat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宋体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1914480" y="1308240"/>
            <a:ext cx="2347920" cy="1163520"/>
          </a:xfrm>
          <a:custGeom>
            <a:avLst/>
            <a:gdLst/>
            <a:ahLst/>
            <a:rect l="l" t="t" r="r" b="b"/>
            <a:pathLst>
              <a:path w="2349372" h="1163523">
                <a:moveTo>
                  <a:pt x="0" y="1163523"/>
                </a:moveTo>
                <a:lnTo>
                  <a:pt x="2349372" y="1163523"/>
                </a:lnTo>
                <a:lnTo>
                  <a:pt x="2349372" y="0"/>
                </a:lnTo>
                <a:lnTo>
                  <a:pt x="0" y="0"/>
                </a:lnTo>
                <a:lnTo>
                  <a:pt x="0" y="1163523"/>
                </a:lnTo>
              </a:path>
            </a:pathLst>
          </a:custGeom>
          <a:solidFill>
            <a:srgbClr val="c5000b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1908000" y="1301760"/>
            <a:ext cx="2360880" cy="1176480"/>
          </a:xfrm>
          <a:custGeom>
            <a:avLst/>
            <a:gdLst/>
            <a:ahLst/>
            <a:rect l="l" t="t" r="r" b="b"/>
            <a:pathLst>
              <a:path w="2362072" h="1176223">
                <a:moveTo>
                  <a:pt x="6350" y="1169873"/>
                </a:moveTo>
                <a:lnTo>
                  <a:pt x="2355722" y="1169873"/>
                </a:lnTo>
                <a:lnTo>
                  <a:pt x="2355722" y="6350"/>
                </a:lnTo>
                <a:lnTo>
                  <a:pt x="6350" y="6350"/>
                </a:lnTo>
                <a:lnTo>
                  <a:pt x="6350" y="1169873"/>
                </a:lnTo>
              </a:path>
            </a:pathLst>
          </a:cu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4675320" y="2355840"/>
            <a:ext cx="2436840" cy="2457360"/>
          </a:xfrm>
          <a:custGeom>
            <a:avLst/>
            <a:gdLst/>
            <a:ahLst/>
            <a:rect l="l" t="t" r="r" b="b"/>
            <a:pathLst>
              <a:path w="2436876" h="2458465">
                <a:moveTo>
                  <a:pt x="0" y="2458465"/>
                </a:moveTo>
                <a:lnTo>
                  <a:pt x="2436876" y="2458465"/>
                </a:lnTo>
                <a:lnTo>
                  <a:pt x="2436876" y="0"/>
                </a:lnTo>
                <a:lnTo>
                  <a:pt x="0" y="0"/>
                </a:lnTo>
                <a:lnTo>
                  <a:pt x="0" y="2458465"/>
                </a:lnTo>
              </a:path>
            </a:pathLst>
          </a:custGeom>
          <a:solidFill>
            <a:srgbClr val="cfe7f6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4668840" y="2349360"/>
            <a:ext cx="2449440" cy="2470320"/>
          </a:xfrm>
          <a:custGeom>
            <a:avLst/>
            <a:gdLst/>
            <a:ahLst/>
            <a:rect l="l" t="t" r="r" b="b"/>
            <a:pathLst>
              <a:path w="2449576" h="2471165">
                <a:moveTo>
                  <a:pt x="6350" y="2464815"/>
                </a:moveTo>
                <a:lnTo>
                  <a:pt x="2443226" y="2464815"/>
                </a:lnTo>
                <a:lnTo>
                  <a:pt x="2443226" y="6350"/>
                </a:lnTo>
                <a:lnTo>
                  <a:pt x="6350" y="6350"/>
                </a:lnTo>
                <a:lnTo>
                  <a:pt x="6350" y="2464815"/>
                </a:lnTo>
              </a:path>
            </a:pathLst>
          </a:cu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1914480" y="5011560"/>
            <a:ext cx="5211720" cy="1116360"/>
          </a:xfrm>
          <a:custGeom>
            <a:avLst/>
            <a:gdLst/>
            <a:ahLst/>
            <a:rect l="l" t="t" r="r" b="b"/>
            <a:pathLst>
              <a:path w="5212080" h="1115644">
                <a:moveTo>
                  <a:pt x="0" y="1115644"/>
                </a:moveTo>
                <a:lnTo>
                  <a:pt x="5212080" y="1115644"/>
                </a:lnTo>
                <a:lnTo>
                  <a:pt x="5212080" y="0"/>
                </a:lnTo>
                <a:lnTo>
                  <a:pt x="0" y="0"/>
                </a:lnTo>
                <a:lnTo>
                  <a:pt x="0" y="1115644"/>
                </a:lnTo>
              </a:path>
            </a:pathLst>
          </a:custGeom>
          <a:solidFill>
            <a:srgbClr val="cfe7f6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1908000" y="5005440"/>
            <a:ext cx="5224680" cy="1128600"/>
          </a:xfrm>
          <a:custGeom>
            <a:avLst/>
            <a:gdLst/>
            <a:ahLst/>
            <a:rect l="l" t="t" r="r" b="b"/>
            <a:pathLst>
              <a:path w="5224780" h="1128344">
                <a:moveTo>
                  <a:pt x="6350" y="1121994"/>
                </a:moveTo>
                <a:lnTo>
                  <a:pt x="5218430" y="1121994"/>
                </a:lnTo>
                <a:lnTo>
                  <a:pt x="5218430" y="6350"/>
                </a:lnTo>
                <a:lnTo>
                  <a:pt x="6350" y="6350"/>
                </a:lnTo>
                <a:lnTo>
                  <a:pt x="6350" y="1121994"/>
                </a:lnTo>
              </a:path>
            </a:pathLst>
          </a:cu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3"/>
          <p:cNvSpPr/>
          <p:nvPr/>
        </p:nvSpPr>
        <p:spPr>
          <a:xfrm>
            <a:off x="2470320" y="5595840"/>
            <a:ext cx="1280880" cy="457200"/>
          </a:xfrm>
          <a:custGeom>
            <a:avLst/>
            <a:gdLst/>
            <a:ahLst/>
            <a:rect l="l" t="t" r="r" b="b"/>
            <a:pathLst>
              <a:path w="1280160" h="457200">
                <a:moveTo>
                  <a:pt x="0" y="457200"/>
                </a:moveTo>
                <a:lnTo>
                  <a:pt x="1280160" y="457200"/>
                </a:lnTo>
                <a:lnTo>
                  <a:pt x="1280160" y="0"/>
                </a:lnTo>
                <a:lnTo>
                  <a:pt x="0" y="0"/>
                </a:lnTo>
                <a:lnTo>
                  <a:pt x="0" y="457200"/>
                </a:lnTo>
              </a:path>
            </a:pathLst>
          </a:custGeom>
          <a:solidFill>
            <a:srgbClr val="cfe7f6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2463840" y="5589720"/>
            <a:ext cx="1293840" cy="469800"/>
          </a:xfrm>
          <a:custGeom>
            <a:avLst/>
            <a:gdLst/>
            <a:ahLst/>
            <a:rect l="l" t="t" r="r" b="b"/>
            <a:pathLst>
              <a:path w="1292860" h="469900">
                <a:moveTo>
                  <a:pt x="6350" y="463550"/>
                </a:moveTo>
                <a:lnTo>
                  <a:pt x="1286510" y="463550"/>
                </a:lnTo>
                <a:lnTo>
                  <a:pt x="1286510" y="6350"/>
                </a:lnTo>
                <a:lnTo>
                  <a:pt x="6350" y="6350"/>
                </a:lnTo>
                <a:lnTo>
                  <a:pt x="6350" y="463550"/>
                </a:lnTo>
              </a:path>
            </a:pathLst>
          </a:cu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3879720" y="5595840"/>
            <a:ext cx="1279800" cy="457200"/>
          </a:xfrm>
          <a:custGeom>
            <a:avLst/>
            <a:gdLst/>
            <a:ahLst/>
            <a:rect l="l" t="t" r="r" b="b"/>
            <a:pathLst>
              <a:path w="1279779" h="457200">
                <a:moveTo>
                  <a:pt x="0" y="457200"/>
                </a:moveTo>
                <a:lnTo>
                  <a:pt x="1279779" y="457200"/>
                </a:lnTo>
                <a:lnTo>
                  <a:pt x="1279779" y="0"/>
                </a:lnTo>
                <a:lnTo>
                  <a:pt x="0" y="0"/>
                </a:lnTo>
                <a:lnTo>
                  <a:pt x="0" y="457200"/>
                </a:lnTo>
              </a:path>
            </a:pathLst>
          </a:custGeom>
          <a:solidFill>
            <a:srgbClr val="c5000b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3873600" y="5589720"/>
            <a:ext cx="1292040" cy="469800"/>
          </a:xfrm>
          <a:custGeom>
            <a:avLst/>
            <a:gdLst/>
            <a:ahLst/>
            <a:rect l="l" t="t" r="r" b="b"/>
            <a:pathLst>
              <a:path w="1292479" h="469900">
                <a:moveTo>
                  <a:pt x="6350" y="463550"/>
                </a:moveTo>
                <a:lnTo>
                  <a:pt x="1286129" y="463550"/>
                </a:lnTo>
                <a:lnTo>
                  <a:pt x="1286129" y="6350"/>
                </a:lnTo>
                <a:lnTo>
                  <a:pt x="6350" y="6350"/>
                </a:lnTo>
                <a:lnTo>
                  <a:pt x="6350" y="463550"/>
                </a:lnTo>
              </a:path>
            </a:pathLst>
          </a:cu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5288040" y="5595840"/>
            <a:ext cx="1280880" cy="457200"/>
          </a:xfrm>
          <a:custGeom>
            <a:avLst/>
            <a:gdLst/>
            <a:ahLst/>
            <a:rect l="l" t="t" r="r" b="b"/>
            <a:pathLst>
              <a:path w="1280160" h="457200">
                <a:moveTo>
                  <a:pt x="0" y="457200"/>
                </a:moveTo>
                <a:lnTo>
                  <a:pt x="1280160" y="457200"/>
                </a:lnTo>
                <a:lnTo>
                  <a:pt x="1280160" y="0"/>
                </a:lnTo>
                <a:lnTo>
                  <a:pt x="0" y="0"/>
                </a:lnTo>
                <a:lnTo>
                  <a:pt x="0" y="457200"/>
                </a:lnTo>
              </a:path>
            </a:pathLst>
          </a:custGeom>
          <a:solidFill>
            <a:srgbClr val="cfe7f6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5281560" y="5589720"/>
            <a:ext cx="1293840" cy="469800"/>
          </a:xfrm>
          <a:custGeom>
            <a:avLst/>
            <a:gdLst/>
            <a:ahLst/>
            <a:rect l="l" t="t" r="r" b="b"/>
            <a:pathLst>
              <a:path w="1292860" h="469900">
                <a:moveTo>
                  <a:pt x="6350" y="463550"/>
                </a:moveTo>
                <a:lnTo>
                  <a:pt x="1286510" y="463550"/>
                </a:lnTo>
                <a:lnTo>
                  <a:pt x="1286510" y="6350"/>
                </a:lnTo>
                <a:lnTo>
                  <a:pt x="6350" y="6350"/>
                </a:lnTo>
                <a:lnTo>
                  <a:pt x="6350" y="463550"/>
                </a:lnTo>
              </a:path>
            </a:pathLst>
          </a:cu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1914480" y="2568600"/>
            <a:ext cx="2376360" cy="2244600"/>
          </a:xfrm>
          <a:custGeom>
            <a:avLst/>
            <a:gdLst/>
            <a:ahLst/>
            <a:rect l="l" t="t" r="r" b="b"/>
            <a:pathLst>
              <a:path w="2377440" h="2245994">
                <a:moveTo>
                  <a:pt x="0" y="2245994"/>
                </a:moveTo>
                <a:lnTo>
                  <a:pt x="2377440" y="2245994"/>
                </a:lnTo>
                <a:lnTo>
                  <a:pt x="2377440" y="0"/>
                </a:lnTo>
                <a:lnTo>
                  <a:pt x="0" y="0"/>
                </a:lnTo>
                <a:lnTo>
                  <a:pt x="0" y="2245994"/>
                </a:lnTo>
              </a:path>
            </a:pathLst>
          </a:custGeom>
          <a:solidFill>
            <a:srgbClr val="cfe7f6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1908000" y="2562120"/>
            <a:ext cx="2389320" cy="2257560"/>
          </a:xfrm>
          <a:custGeom>
            <a:avLst/>
            <a:gdLst/>
            <a:ahLst/>
            <a:rect l="l" t="t" r="r" b="b"/>
            <a:pathLst>
              <a:path w="2390140" h="2258694">
                <a:moveTo>
                  <a:pt x="6350" y="2252344"/>
                </a:moveTo>
                <a:lnTo>
                  <a:pt x="2383790" y="2252344"/>
                </a:lnTo>
                <a:lnTo>
                  <a:pt x="2383790" y="6350"/>
                </a:lnTo>
                <a:lnTo>
                  <a:pt x="6350" y="6350"/>
                </a:lnTo>
                <a:lnTo>
                  <a:pt x="6350" y="2252344"/>
                </a:lnTo>
              </a:path>
            </a:pathLst>
          </a:cu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1600200" y="4881600"/>
            <a:ext cx="5775480" cy="73080"/>
          </a:xfrm>
          <a:custGeom>
            <a:avLst/>
            <a:gdLst/>
            <a:ahLst/>
            <a:rect l="l" t="t" r="r" b="b"/>
            <a:pathLst>
              <a:path w="5775087" h="73439">
                <a:moveTo>
                  <a:pt x="18359" y="18359"/>
                </a:moveTo>
                <a:lnTo>
                  <a:pt x="5756727" y="18359"/>
                </a:lnTo>
              </a:path>
            </a:pathLst>
          </a:custGeom>
          <a:noFill/>
          <a:ln w="38160">
            <a:solidFill>
              <a:srgbClr val="c5000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7338960" y="2174760"/>
            <a:ext cx="73080" cy="2745000"/>
          </a:xfrm>
          <a:custGeom>
            <a:avLst/>
            <a:gdLst/>
            <a:ahLst/>
            <a:rect l="l" t="t" r="r" b="b"/>
            <a:pathLst>
              <a:path w="73439" h="2744232">
                <a:moveTo>
                  <a:pt x="18360" y="2725872"/>
                </a:moveTo>
                <a:lnTo>
                  <a:pt x="18741" y="18359"/>
                </a:lnTo>
              </a:path>
            </a:pathLst>
          </a:custGeom>
          <a:noFill/>
          <a:ln w="38160">
            <a:solidFill>
              <a:srgbClr val="c5000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4470480" y="2174760"/>
            <a:ext cx="2906640" cy="73080"/>
          </a:xfrm>
          <a:custGeom>
            <a:avLst/>
            <a:gdLst/>
            <a:ahLst/>
            <a:rect l="l" t="t" r="r" b="b"/>
            <a:pathLst>
              <a:path w="2906665" h="73439">
                <a:moveTo>
                  <a:pt x="2888305" y="18359"/>
                </a:moveTo>
                <a:lnTo>
                  <a:pt x="18359" y="18613"/>
                </a:lnTo>
              </a:path>
            </a:pathLst>
          </a:custGeom>
          <a:noFill/>
          <a:ln w="38160">
            <a:solidFill>
              <a:srgbClr val="c5000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4470480" y="1123920"/>
            <a:ext cx="73080" cy="1087560"/>
          </a:xfrm>
          <a:custGeom>
            <a:avLst/>
            <a:gdLst/>
            <a:ahLst/>
            <a:rect l="l" t="t" r="r" b="b"/>
            <a:pathLst>
              <a:path w="73439" h="1087136">
                <a:moveTo>
                  <a:pt x="18359" y="1068776"/>
                </a:moveTo>
                <a:lnTo>
                  <a:pt x="18740" y="18359"/>
                </a:lnTo>
              </a:path>
            </a:pathLst>
          </a:custGeom>
          <a:noFill/>
          <a:ln w="38160">
            <a:solidFill>
              <a:srgbClr val="c5000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1589040" y="1123920"/>
            <a:ext cx="2917800" cy="74520"/>
          </a:xfrm>
          <a:custGeom>
            <a:avLst/>
            <a:gdLst/>
            <a:ahLst/>
            <a:rect l="l" t="t" r="r" b="b"/>
            <a:pathLst>
              <a:path w="2918603" h="73439">
                <a:moveTo>
                  <a:pt x="2900243" y="18359"/>
                </a:moveTo>
                <a:lnTo>
                  <a:pt x="18359" y="18740"/>
                </a:lnTo>
              </a:path>
            </a:pathLst>
          </a:custGeom>
          <a:noFill/>
          <a:ln w="38160">
            <a:solidFill>
              <a:srgbClr val="c5000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1589040" y="1123920"/>
            <a:ext cx="49320" cy="3795840"/>
          </a:xfrm>
          <a:custGeom>
            <a:avLst/>
            <a:gdLst/>
            <a:ahLst/>
            <a:rect l="l" t="t" r="r" b="b"/>
            <a:pathLst>
              <a:path w="49419" h="3794395">
                <a:moveTo>
                  <a:pt x="18359" y="18359"/>
                </a:moveTo>
                <a:lnTo>
                  <a:pt x="31059" y="3776035"/>
                </a:lnTo>
              </a:path>
            </a:pathLst>
          </a:custGeom>
          <a:noFill/>
          <a:ln w="38160">
            <a:solidFill>
              <a:srgbClr val="c5000b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6197760"/>
            <a:ext cx="9144000" cy="660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5428440" y="3517920"/>
            <a:ext cx="90288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OpenSt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2761560" y="5753160"/>
            <a:ext cx="6865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4201200" y="5765760"/>
            <a:ext cx="6271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宋体"/>
              </a:rPr>
              <a:t>Stora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5524200" y="5753160"/>
            <a:ext cx="801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2177640" y="3568680"/>
            <a:ext cx="303624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31752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Re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Hat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Enterpri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31752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Virtualiz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31752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10840" y="482760"/>
            <a:ext cx="6140880" cy="16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1866960"/>
                <a:tab algn="l" pos="449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RHC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Ha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Clou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Infra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1866960"/>
                <a:tab algn="l" pos="449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1866960"/>
                <a:tab algn="l" pos="449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798"/>
              </a:lnSpc>
              <a:tabLst>
                <a:tab algn="l" pos="0"/>
                <a:tab algn="l" pos="1866960"/>
                <a:tab algn="l" pos="449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2000" spc="-1" strike="noStrike">
                <a:solidFill>
                  <a:srgbClr val="c5000b"/>
                </a:solidFill>
                <a:latin typeface="Times New Roman"/>
                <a:ea typeface="宋体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c5000b"/>
                </a:solidFill>
                <a:latin typeface="Times New Roman"/>
                <a:ea typeface="宋体"/>
              </a:rPr>
              <a:t>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c5000b"/>
                </a:solidFill>
                <a:latin typeface="Times New Roman"/>
                <a:ea typeface="宋体"/>
              </a:rPr>
              <a:t>Clou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1866960"/>
                <a:tab algn="l" pos="449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2000" spc="-1" strike="noStrike">
                <a:solidFill>
                  <a:srgbClr val="c5000b"/>
                </a:solidFill>
                <a:latin typeface="Times New Roman"/>
                <a:ea typeface="宋体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1866960"/>
                <a:tab algn="l" pos="4495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宋体"/>
              </a:rPr>
              <a:t>CloudForm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Times New Roman"/>
                <a:ea typeface="宋体"/>
              </a:rPr>
              <a:t>2.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952560" y="3244680"/>
            <a:ext cx="1060560" cy="384480"/>
          </a:xfrm>
          <a:custGeom>
            <a:avLst/>
            <a:gdLst/>
            <a:ahLst/>
            <a:rect l="l" t="t" r="r" b="b"/>
            <a:pathLst>
              <a:path w="1061250" h="383794">
                <a:moveTo>
                  <a:pt x="0" y="64008"/>
                </a:moveTo>
                <a:cubicBezTo>
                  <a:pt x="0" y="28702"/>
                  <a:pt x="28625" y="0"/>
                  <a:pt x="63944" y="0"/>
                </a:cubicBezTo>
                <a:lnTo>
                  <a:pt x="997242" y="0"/>
                </a:lnTo>
                <a:cubicBezTo>
                  <a:pt x="1032675" y="0"/>
                  <a:pt x="1061250" y="28702"/>
                  <a:pt x="1061250" y="64008"/>
                </a:cubicBezTo>
                <a:lnTo>
                  <a:pt x="1061250" y="319785"/>
                </a:lnTo>
                <a:cubicBezTo>
                  <a:pt x="1061250" y="355091"/>
                  <a:pt x="1032675" y="383794"/>
                  <a:pt x="997242" y="383794"/>
                </a:cubicBezTo>
                <a:lnTo>
                  <a:pt x="63944" y="383794"/>
                </a:lnTo>
                <a:cubicBezTo>
                  <a:pt x="28625" y="383794"/>
                  <a:pt x="0" y="355091"/>
                  <a:pt x="0" y="319785"/>
                </a:cubicBezTo>
                <a:lnTo>
                  <a:pt x="0" y="64008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925560" y="3218040"/>
            <a:ext cx="1114200" cy="438120"/>
          </a:xfrm>
          <a:custGeom>
            <a:avLst/>
            <a:gdLst/>
            <a:ahLst/>
            <a:rect l="l" t="t" r="r" b="b"/>
            <a:pathLst>
              <a:path w="1115225" h="437769">
                <a:moveTo>
                  <a:pt x="26987" y="90995"/>
                </a:moveTo>
                <a:cubicBezTo>
                  <a:pt x="26987" y="55689"/>
                  <a:pt x="55613" y="26987"/>
                  <a:pt x="90931" y="26987"/>
                </a:cubicBezTo>
                <a:lnTo>
                  <a:pt x="1024229" y="26987"/>
                </a:lnTo>
                <a:cubicBezTo>
                  <a:pt x="1059662" y="26987"/>
                  <a:pt x="1088237" y="55689"/>
                  <a:pt x="1088237" y="90995"/>
                </a:cubicBezTo>
                <a:lnTo>
                  <a:pt x="1088237" y="346773"/>
                </a:lnTo>
                <a:cubicBezTo>
                  <a:pt x="1088237" y="382079"/>
                  <a:pt x="1059662" y="410781"/>
                  <a:pt x="1024229" y="410781"/>
                </a:cubicBezTo>
                <a:lnTo>
                  <a:pt x="90931" y="410781"/>
                </a:lnTo>
                <a:cubicBezTo>
                  <a:pt x="55613" y="410781"/>
                  <a:pt x="26987" y="382079"/>
                  <a:pt x="26987" y="346773"/>
                </a:cubicBezTo>
                <a:lnTo>
                  <a:pt x="26987" y="90995"/>
                </a:lnTo>
              </a:path>
            </a:pathLst>
          </a:custGeom>
          <a:noFill/>
          <a:ln w="5076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952560" y="2593800"/>
            <a:ext cx="1039680" cy="438480"/>
          </a:xfrm>
          <a:custGeom>
            <a:avLst/>
            <a:gdLst/>
            <a:ahLst/>
            <a:rect l="l" t="t" r="r" b="b"/>
            <a:pathLst>
              <a:path w="1039660" h="436880">
                <a:moveTo>
                  <a:pt x="0" y="72770"/>
                </a:moveTo>
                <a:cubicBezTo>
                  <a:pt x="0" y="32511"/>
                  <a:pt x="32600" y="0"/>
                  <a:pt x="72821" y="0"/>
                </a:cubicBezTo>
                <a:lnTo>
                  <a:pt x="966889" y="0"/>
                </a:lnTo>
                <a:cubicBezTo>
                  <a:pt x="1007020" y="0"/>
                  <a:pt x="1039660" y="32511"/>
                  <a:pt x="1039660" y="72770"/>
                </a:cubicBezTo>
                <a:lnTo>
                  <a:pt x="1039660" y="364108"/>
                </a:lnTo>
                <a:cubicBezTo>
                  <a:pt x="1039660" y="404241"/>
                  <a:pt x="1007020" y="436880"/>
                  <a:pt x="966889" y="436880"/>
                </a:cubicBezTo>
                <a:lnTo>
                  <a:pt x="72821" y="436880"/>
                </a:lnTo>
                <a:cubicBezTo>
                  <a:pt x="32600" y="436880"/>
                  <a:pt x="0" y="404241"/>
                  <a:pt x="0" y="364108"/>
                </a:cubicBezTo>
                <a:lnTo>
                  <a:pt x="0" y="7277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925560" y="2567160"/>
            <a:ext cx="1093680" cy="492120"/>
          </a:xfrm>
          <a:custGeom>
            <a:avLst/>
            <a:gdLst/>
            <a:ahLst/>
            <a:rect l="l" t="t" r="r" b="b"/>
            <a:pathLst>
              <a:path w="1093635" h="490855">
                <a:moveTo>
                  <a:pt x="26987" y="99758"/>
                </a:moveTo>
                <a:cubicBezTo>
                  <a:pt x="26987" y="59499"/>
                  <a:pt x="59588" y="26987"/>
                  <a:pt x="99809" y="26987"/>
                </a:cubicBezTo>
                <a:lnTo>
                  <a:pt x="993876" y="26987"/>
                </a:lnTo>
                <a:cubicBezTo>
                  <a:pt x="1034008" y="26987"/>
                  <a:pt x="1066647" y="59499"/>
                  <a:pt x="1066647" y="99758"/>
                </a:cubicBezTo>
                <a:lnTo>
                  <a:pt x="1066647" y="391096"/>
                </a:lnTo>
                <a:cubicBezTo>
                  <a:pt x="1066647" y="431228"/>
                  <a:pt x="1034008" y="463867"/>
                  <a:pt x="993876" y="463867"/>
                </a:cubicBezTo>
                <a:lnTo>
                  <a:pt x="99809" y="463867"/>
                </a:lnTo>
                <a:cubicBezTo>
                  <a:pt x="59588" y="463867"/>
                  <a:pt x="26987" y="431228"/>
                  <a:pt x="26987" y="391096"/>
                </a:cubicBezTo>
                <a:lnTo>
                  <a:pt x="26987" y="99758"/>
                </a:lnTo>
              </a:path>
            </a:pathLst>
          </a:custGeom>
          <a:noFill/>
          <a:ln w="5076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952560" y="4513320"/>
            <a:ext cx="1060560" cy="458640"/>
          </a:xfrm>
          <a:custGeom>
            <a:avLst/>
            <a:gdLst/>
            <a:ahLst/>
            <a:rect l="l" t="t" r="r" b="b"/>
            <a:pathLst>
              <a:path w="1061250" h="458342">
                <a:moveTo>
                  <a:pt x="0" y="76327"/>
                </a:moveTo>
                <a:cubicBezTo>
                  <a:pt x="0" y="34163"/>
                  <a:pt x="34201" y="0"/>
                  <a:pt x="76390" y="0"/>
                </a:cubicBezTo>
                <a:lnTo>
                  <a:pt x="984795" y="0"/>
                </a:lnTo>
                <a:cubicBezTo>
                  <a:pt x="1027087" y="0"/>
                  <a:pt x="1061250" y="34163"/>
                  <a:pt x="1061250" y="76327"/>
                </a:cubicBezTo>
                <a:lnTo>
                  <a:pt x="1061250" y="381889"/>
                </a:lnTo>
                <a:cubicBezTo>
                  <a:pt x="1061250" y="424179"/>
                  <a:pt x="1027087" y="458342"/>
                  <a:pt x="984795" y="458342"/>
                </a:cubicBezTo>
                <a:lnTo>
                  <a:pt x="76390" y="458342"/>
                </a:lnTo>
                <a:cubicBezTo>
                  <a:pt x="34201" y="458342"/>
                  <a:pt x="0" y="424179"/>
                  <a:pt x="0" y="381889"/>
                </a:cubicBezTo>
                <a:lnTo>
                  <a:pt x="0" y="76327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925560" y="4486320"/>
            <a:ext cx="1114200" cy="512640"/>
          </a:xfrm>
          <a:custGeom>
            <a:avLst/>
            <a:gdLst/>
            <a:ahLst/>
            <a:rect l="l" t="t" r="r" b="b"/>
            <a:pathLst>
              <a:path w="1115225" h="512317">
                <a:moveTo>
                  <a:pt x="26987" y="103314"/>
                </a:moveTo>
                <a:cubicBezTo>
                  <a:pt x="26987" y="61150"/>
                  <a:pt x="61188" y="26987"/>
                  <a:pt x="103377" y="26987"/>
                </a:cubicBezTo>
                <a:lnTo>
                  <a:pt x="1011783" y="26987"/>
                </a:lnTo>
                <a:cubicBezTo>
                  <a:pt x="1054074" y="26987"/>
                  <a:pt x="1088237" y="61150"/>
                  <a:pt x="1088237" y="103314"/>
                </a:cubicBezTo>
                <a:lnTo>
                  <a:pt x="1088237" y="408876"/>
                </a:lnTo>
                <a:cubicBezTo>
                  <a:pt x="1088237" y="451167"/>
                  <a:pt x="1054074" y="485330"/>
                  <a:pt x="1011783" y="485330"/>
                </a:cubicBezTo>
                <a:lnTo>
                  <a:pt x="103377" y="485330"/>
                </a:lnTo>
                <a:cubicBezTo>
                  <a:pt x="61188" y="485330"/>
                  <a:pt x="26987" y="451167"/>
                  <a:pt x="26987" y="408876"/>
                </a:cubicBezTo>
                <a:lnTo>
                  <a:pt x="26987" y="103314"/>
                </a:lnTo>
              </a:path>
            </a:pathLst>
          </a:custGeom>
          <a:noFill/>
          <a:ln w="5076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925560" y="3814920"/>
            <a:ext cx="1114200" cy="512640"/>
          </a:xfrm>
          <a:custGeom>
            <a:avLst/>
            <a:gdLst/>
            <a:ahLst/>
            <a:rect l="l" t="t" r="r" b="b"/>
            <a:pathLst>
              <a:path w="1115225" h="512317">
                <a:moveTo>
                  <a:pt x="26987" y="103441"/>
                </a:moveTo>
                <a:cubicBezTo>
                  <a:pt x="26987" y="61150"/>
                  <a:pt x="61188" y="26987"/>
                  <a:pt x="103377" y="26987"/>
                </a:cubicBezTo>
                <a:lnTo>
                  <a:pt x="1011910" y="26987"/>
                </a:lnTo>
                <a:cubicBezTo>
                  <a:pt x="1054074" y="26987"/>
                  <a:pt x="1088237" y="61150"/>
                  <a:pt x="1088237" y="103441"/>
                </a:cubicBezTo>
                <a:lnTo>
                  <a:pt x="1088237" y="409003"/>
                </a:lnTo>
                <a:cubicBezTo>
                  <a:pt x="1088237" y="451167"/>
                  <a:pt x="1054074" y="485330"/>
                  <a:pt x="1011910" y="485330"/>
                </a:cubicBezTo>
                <a:lnTo>
                  <a:pt x="103377" y="485330"/>
                </a:lnTo>
                <a:cubicBezTo>
                  <a:pt x="61188" y="485330"/>
                  <a:pt x="26987" y="451167"/>
                  <a:pt x="26987" y="409003"/>
                </a:cubicBezTo>
                <a:lnTo>
                  <a:pt x="26987" y="103441"/>
                </a:lnTo>
              </a:path>
            </a:pathLst>
          </a:custGeom>
          <a:noFill/>
          <a:ln w="5076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952560" y="5184720"/>
            <a:ext cx="1052280" cy="459000"/>
          </a:xfrm>
          <a:custGeom>
            <a:avLst/>
            <a:gdLst/>
            <a:ahLst/>
            <a:rect l="l" t="t" r="r" b="b"/>
            <a:pathLst>
              <a:path w="1052233" h="458419">
                <a:moveTo>
                  <a:pt x="0" y="76453"/>
                </a:moveTo>
                <a:cubicBezTo>
                  <a:pt x="0" y="34290"/>
                  <a:pt x="34201" y="0"/>
                  <a:pt x="76390" y="0"/>
                </a:cubicBezTo>
                <a:lnTo>
                  <a:pt x="975779" y="0"/>
                </a:lnTo>
                <a:cubicBezTo>
                  <a:pt x="1018070" y="0"/>
                  <a:pt x="1052233" y="34290"/>
                  <a:pt x="1052233" y="76453"/>
                </a:cubicBezTo>
                <a:lnTo>
                  <a:pt x="1052233" y="382015"/>
                </a:lnTo>
                <a:cubicBezTo>
                  <a:pt x="1052233" y="424218"/>
                  <a:pt x="1018070" y="458419"/>
                  <a:pt x="975779" y="458419"/>
                </a:cubicBezTo>
                <a:lnTo>
                  <a:pt x="76390" y="458419"/>
                </a:lnTo>
                <a:cubicBezTo>
                  <a:pt x="34201" y="458419"/>
                  <a:pt x="0" y="424218"/>
                  <a:pt x="0" y="382015"/>
                </a:cubicBezTo>
                <a:lnTo>
                  <a:pt x="0" y="76453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925560" y="5157720"/>
            <a:ext cx="1106280" cy="513000"/>
          </a:xfrm>
          <a:custGeom>
            <a:avLst/>
            <a:gdLst/>
            <a:ahLst/>
            <a:rect l="l" t="t" r="r" b="b"/>
            <a:pathLst>
              <a:path w="1106208" h="512394">
                <a:moveTo>
                  <a:pt x="26987" y="103441"/>
                </a:moveTo>
                <a:cubicBezTo>
                  <a:pt x="26987" y="61277"/>
                  <a:pt x="61188" y="26987"/>
                  <a:pt x="103377" y="26987"/>
                </a:cubicBezTo>
                <a:lnTo>
                  <a:pt x="1002766" y="26987"/>
                </a:lnTo>
                <a:cubicBezTo>
                  <a:pt x="1045057" y="26987"/>
                  <a:pt x="1079220" y="61277"/>
                  <a:pt x="1079220" y="103441"/>
                </a:cubicBezTo>
                <a:lnTo>
                  <a:pt x="1079220" y="409003"/>
                </a:lnTo>
                <a:cubicBezTo>
                  <a:pt x="1079220" y="451205"/>
                  <a:pt x="1045057" y="485406"/>
                  <a:pt x="1002766" y="485406"/>
                </a:cubicBezTo>
                <a:lnTo>
                  <a:pt x="103377" y="485406"/>
                </a:lnTo>
                <a:cubicBezTo>
                  <a:pt x="61188" y="485406"/>
                  <a:pt x="26987" y="451205"/>
                  <a:pt x="26987" y="409003"/>
                </a:cubicBezTo>
                <a:lnTo>
                  <a:pt x="26987" y="103441"/>
                </a:lnTo>
              </a:path>
            </a:pathLst>
          </a:custGeom>
          <a:noFill/>
          <a:ln w="5076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1008000" y="1890720"/>
            <a:ext cx="839880" cy="169920"/>
          </a:xfrm>
          <a:custGeom>
            <a:avLst/>
            <a:gdLst/>
            <a:ahLst/>
            <a:rect l="l" t="t" r="r" b="b"/>
            <a:pathLst>
              <a:path w="840828" h="170434">
                <a:moveTo>
                  <a:pt x="828128" y="85217"/>
                </a:moveTo>
                <a:cubicBezTo>
                  <a:pt x="828128" y="125222"/>
                  <a:pt x="645502" y="157733"/>
                  <a:pt x="420331" y="157733"/>
                </a:cubicBezTo>
                <a:cubicBezTo>
                  <a:pt x="195224" y="157733"/>
                  <a:pt x="12700" y="125222"/>
                  <a:pt x="12700" y="85217"/>
                </a:cubicBezTo>
                <a:cubicBezTo>
                  <a:pt x="12700" y="45211"/>
                  <a:pt x="195224" y="12700"/>
                  <a:pt x="420331" y="12700"/>
                </a:cubicBezTo>
                <a:cubicBezTo>
                  <a:pt x="645502" y="12700"/>
                  <a:pt x="828128" y="45211"/>
                  <a:pt x="828128" y="85217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1008000" y="1962000"/>
            <a:ext cx="839880" cy="533520"/>
          </a:xfrm>
          <a:custGeom>
            <a:avLst/>
            <a:gdLst/>
            <a:ahLst/>
            <a:rect l="l" t="t" r="r" b="b"/>
            <a:pathLst>
              <a:path w="840828" h="532892">
                <a:moveTo>
                  <a:pt x="828128" y="12700"/>
                </a:moveTo>
                <a:lnTo>
                  <a:pt x="828128" y="447675"/>
                </a:lnTo>
                <a:cubicBezTo>
                  <a:pt x="828128" y="487679"/>
                  <a:pt x="645502" y="520191"/>
                  <a:pt x="420331" y="520191"/>
                </a:cubicBezTo>
                <a:cubicBezTo>
                  <a:pt x="195224" y="520191"/>
                  <a:pt x="12700" y="487679"/>
                  <a:pt x="12700" y="447675"/>
                </a:cubicBezTo>
                <a:lnTo>
                  <a:pt x="12700" y="12700"/>
                </a:ln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003320" y="1892160"/>
            <a:ext cx="851040" cy="596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990720" y="2666880"/>
            <a:ext cx="914400" cy="330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977760" y="3263760"/>
            <a:ext cx="965520" cy="34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4"/>
          <a:stretch/>
        </p:blipFill>
        <p:spPr>
          <a:xfrm>
            <a:off x="1219320" y="3835440"/>
            <a:ext cx="635040" cy="482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5"/>
          <a:stretch/>
        </p:blipFill>
        <p:spPr>
          <a:xfrm>
            <a:off x="1257480" y="4648320"/>
            <a:ext cx="495000" cy="228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6"/>
          <a:stretch/>
        </p:blipFill>
        <p:spPr>
          <a:xfrm>
            <a:off x="965160" y="5232240"/>
            <a:ext cx="965160" cy="330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7"/>
          <a:stretch/>
        </p:blipFill>
        <p:spPr>
          <a:xfrm>
            <a:off x="2489040" y="1486080"/>
            <a:ext cx="6045480" cy="4317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8"/>
          <a:stretch/>
        </p:blipFill>
        <p:spPr>
          <a:xfrm>
            <a:off x="0" y="6197760"/>
            <a:ext cx="9144000" cy="6602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624240" y="495360"/>
            <a:ext cx="29800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混合云管理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ManageIQ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1209240" y="2070000"/>
            <a:ext cx="4640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CMD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830880" y="1434960"/>
            <a:ext cx="11192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Times New Roman"/>
                <a:ea typeface="宋体"/>
              </a:rPr>
              <a:t>Integ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6197760"/>
            <a:ext cx="9144000" cy="660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139680" y="1092240"/>
            <a:ext cx="8801280" cy="51307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2609280" y="495360"/>
            <a:ext cx="3315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统一监控，管理和自动化企业云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0" y="6197760"/>
            <a:ext cx="9144000" cy="660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139680" y="1092240"/>
            <a:ext cx="8801280" cy="51307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"/>
          <p:cNvSpPr/>
          <p:nvPr/>
        </p:nvSpPr>
        <p:spPr>
          <a:xfrm>
            <a:off x="2609280" y="495360"/>
            <a:ext cx="33156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统一监控，管理和自动化企业云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7104960" y="6464160"/>
            <a:ext cx="1152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698760" y="6654960"/>
            <a:ext cx="166284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©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Copyrigh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ManageIQ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7080" y="1206360"/>
            <a:ext cx="8889840" cy="4775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0" y="6197760"/>
            <a:ext cx="9144000" cy="6602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"/>
          <p:cNvSpPr/>
          <p:nvPr/>
        </p:nvSpPr>
        <p:spPr>
          <a:xfrm>
            <a:off x="834120" y="355680"/>
            <a:ext cx="2256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EVM-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管理你的混合云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8321040" y="6578640"/>
            <a:ext cx="709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698760" y="6654960"/>
            <a:ext cx="166284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©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Copyrigh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ManageIQ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201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226280" cy="5283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0" y="6197760"/>
            <a:ext cx="9144000" cy="6602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"/>
          <p:cNvSpPr/>
          <p:nvPr/>
        </p:nvSpPr>
        <p:spPr>
          <a:xfrm>
            <a:off x="834120" y="355680"/>
            <a:ext cx="2256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EVM-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管理你的混合云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8321040" y="6578640"/>
            <a:ext cx="709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698760" y="6654960"/>
            <a:ext cx="166284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©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Copyrigh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ManageIQ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201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3957480" y="137808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114300"/>
                </a:moveTo>
                <a:cubicBezTo>
                  <a:pt x="0" y="51180"/>
                  <a:pt x="51180" y="0"/>
                  <a:pt x="114300" y="0"/>
                </a:cubicBezTo>
                <a:cubicBezTo>
                  <a:pt x="177419" y="0"/>
                  <a:pt x="228600" y="51180"/>
                  <a:pt x="228600" y="114300"/>
                </a:cubicBezTo>
                <a:cubicBezTo>
                  <a:pt x="228600" y="177419"/>
                  <a:pt x="177419" y="228600"/>
                  <a:pt x="114300" y="228600"/>
                </a:cubicBezTo>
                <a:cubicBezTo>
                  <a:pt x="51180" y="228600"/>
                  <a:pt x="0" y="177419"/>
                  <a:pt x="0" y="11430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3951360" y="1371600"/>
            <a:ext cx="241200" cy="241200"/>
          </a:xfrm>
          <a:custGeom>
            <a:avLst/>
            <a:gdLst/>
            <a:ahLst/>
            <a:rect l="l" t="t" r="r" b="b"/>
            <a:pathLst>
              <a:path w="241300" h="241300">
                <a:moveTo>
                  <a:pt x="6350" y="120650"/>
                </a:moveTo>
                <a:cubicBezTo>
                  <a:pt x="6350" y="57530"/>
                  <a:pt x="57530" y="6350"/>
                  <a:pt x="120650" y="6350"/>
                </a:cubicBezTo>
                <a:cubicBezTo>
                  <a:pt x="183769" y="6350"/>
                  <a:pt x="234950" y="57530"/>
                  <a:pt x="234950" y="120650"/>
                </a:cubicBezTo>
                <a:cubicBezTo>
                  <a:pt x="234950" y="183769"/>
                  <a:pt x="183769" y="234950"/>
                  <a:pt x="120650" y="234950"/>
                </a:cubicBezTo>
                <a:cubicBezTo>
                  <a:pt x="57530" y="234950"/>
                  <a:pt x="6350" y="183769"/>
                  <a:pt x="6350" y="120650"/>
                </a:cubicBezTo>
              </a:path>
            </a:pathLst>
          </a:cu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5843520" y="1378080"/>
            <a:ext cx="228600" cy="228600"/>
          </a:xfrm>
          <a:custGeom>
            <a:avLst/>
            <a:gdLst/>
            <a:ahLst/>
            <a:rect l="l" t="t" r="r" b="b"/>
            <a:pathLst>
              <a:path w="228600" h="228600">
                <a:moveTo>
                  <a:pt x="0" y="114300"/>
                </a:moveTo>
                <a:cubicBezTo>
                  <a:pt x="0" y="51180"/>
                  <a:pt x="51180" y="0"/>
                  <a:pt x="114300" y="0"/>
                </a:cubicBezTo>
                <a:cubicBezTo>
                  <a:pt x="177419" y="0"/>
                  <a:pt x="228600" y="51180"/>
                  <a:pt x="228600" y="114300"/>
                </a:cubicBezTo>
                <a:cubicBezTo>
                  <a:pt x="228600" y="177419"/>
                  <a:pt x="177419" y="228600"/>
                  <a:pt x="114300" y="228600"/>
                </a:cubicBezTo>
                <a:cubicBezTo>
                  <a:pt x="51180" y="228600"/>
                  <a:pt x="0" y="177419"/>
                  <a:pt x="0" y="11430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5837400" y="1371600"/>
            <a:ext cx="241200" cy="241200"/>
          </a:xfrm>
          <a:custGeom>
            <a:avLst/>
            <a:gdLst/>
            <a:ahLst/>
            <a:rect l="l" t="t" r="r" b="b"/>
            <a:pathLst>
              <a:path w="241300" h="241300">
                <a:moveTo>
                  <a:pt x="6350" y="120650"/>
                </a:moveTo>
                <a:cubicBezTo>
                  <a:pt x="6350" y="57530"/>
                  <a:pt x="57530" y="6350"/>
                  <a:pt x="120650" y="6350"/>
                </a:cubicBezTo>
                <a:cubicBezTo>
                  <a:pt x="183769" y="6350"/>
                  <a:pt x="234950" y="57530"/>
                  <a:pt x="234950" y="120650"/>
                </a:cubicBezTo>
                <a:cubicBezTo>
                  <a:pt x="234950" y="183769"/>
                  <a:pt x="183769" y="234950"/>
                  <a:pt x="120650" y="234950"/>
                </a:cubicBezTo>
                <a:cubicBezTo>
                  <a:pt x="57530" y="234950"/>
                  <a:pt x="6350" y="183769"/>
                  <a:pt x="6350" y="120650"/>
                </a:cubicBezTo>
              </a:path>
            </a:pathLst>
          </a:cu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2868480" y="2924280"/>
            <a:ext cx="828720" cy="9360"/>
          </a:xfrm>
          <a:custGeom>
            <a:avLst/>
            <a:gdLst/>
            <a:ahLst/>
            <a:rect l="l" t="t" r="r" b="b"/>
            <a:pathLst>
              <a:path w="828675" h="9525">
                <a:moveTo>
                  <a:pt x="0" y="0"/>
                </a:moveTo>
                <a:lnTo>
                  <a:pt x="414273" y="0"/>
                </a:lnTo>
                <a:lnTo>
                  <a:pt x="828675" y="0"/>
                </a:lnTo>
                <a:lnTo>
                  <a:pt x="828675" y="9525"/>
                </a:lnTo>
                <a:lnTo>
                  <a:pt x="414273" y="9525"/>
                </a:lnTo>
                <a:lnTo>
                  <a:pt x="0" y="9525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1057320" y="1378080"/>
            <a:ext cx="228600" cy="228600"/>
          </a:xfrm>
          <a:custGeom>
            <a:avLst/>
            <a:gdLst/>
            <a:ahLst/>
            <a:rect l="l" t="t" r="r" b="b"/>
            <a:pathLst>
              <a:path w="228625" h="228600">
                <a:moveTo>
                  <a:pt x="0" y="114300"/>
                </a:moveTo>
                <a:cubicBezTo>
                  <a:pt x="0" y="51180"/>
                  <a:pt x="51180" y="0"/>
                  <a:pt x="114300" y="0"/>
                </a:cubicBezTo>
                <a:cubicBezTo>
                  <a:pt x="177431" y="0"/>
                  <a:pt x="228625" y="51180"/>
                  <a:pt x="228625" y="114300"/>
                </a:cubicBezTo>
                <a:cubicBezTo>
                  <a:pt x="228625" y="177419"/>
                  <a:pt x="177431" y="228600"/>
                  <a:pt x="114300" y="228600"/>
                </a:cubicBezTo>
                <a:cubicBezTo>
                  <a:pt x="51180" y="228600"/>
                  <a:pt x="0" y="177419"/>
                  <a:pt x="0" y="11430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1050840" y="1371600"/>
            <a:ext cx="241560" cy="241200"/>
          </a:xfrm>
          <a:custGeom>
            <a:avLst/>
            <a:gdLst/>
            <a:ahLst/>
            <a:rect l="l" t="t" r="r" b="b"/>
            <a:pathLst>
              <a:path w="241325" h="241300">
                <a:moveTo>
                  <a:pt x="6350" y="120650"/>
                </a:moveTo>
                <a:cubicBezTo>
                  <a:pt x="6350" y="57530"/>
                  <a:pt x="57530" y="6350"/>
                  <a:pt x="120650" y="6350"/>
                </a:cubicBezTo>
                <a:cubicBezTo>
                  <a:pt x="183781" y="6350"/>
                  <a:pt x="234975" y="57530"/>
                  <a:pt x="234975" y="120650"/>
                </a:cubicBezTo>
                <a:cubicBezTo>
                  <a:pt x="234975" y="183769"/>
                  <a:pt x="183781" y="234950"/>
                  <a:pt x="120650" y="234950"/>
                </a:cubicBezTo>
                <a:cubicBezTo>
                  <a:pt x="57530" y="234950"/>
                  <a:pt x="6350" y="183769"/>
                  <a:pt x="6350" y="120650"/>
                </a:cubicBezTo>
              </a:path>
            </a:pathLst>
          </a:cu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482760" y="1409760"/>
            <a:ext cx="7454880" cy="190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1092240" y="1625760"/>
            <a:ext cx="101520" cy="2247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3"/>
          <a:stretch/>
        </p:blipFill>
        <p:spPr>
          <a:xfrm>
            <a:off x="4013280" y="1676520"/>
            <a:ext cx="101520" cy="977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4"/>
          <a:stretch/>
        </p:blipFill>
        <p:spPr>
          <a:xfrm>
            <a:off x="5880240" y="1701720"/>
            <a:ext cx="101520" cy="2387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5"/>
          <a:stretch/>
        </p:blipFill>
        <p:spPr>
          <a:xfrm>
            <a:off x="0" y="6197760"/>
            <a:ext cx="9144000" cy="6602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"/>
          <p:cNvSpPr/>
          <p:nvPr/>
        </p:nvSpPr>
        <p:spPr>
          <a:xfrm>
            <a:off x="5841720" y="4254480"/>
            <a:ext cx="268020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259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Jul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259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259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lou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59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59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59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59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59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59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59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59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59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59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59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59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259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441360" y="469800"/>
            <a:ext cx="4933800" cy="38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584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CloudForm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2.0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基于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宋体"/>
              </a:rPr>
              <a:t>ManageIQ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584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584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584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584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584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584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584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584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584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584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584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584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584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584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584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584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8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584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NNOUNCE+G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PR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584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HE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min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releas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584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584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584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00"/>
              </a:lnSpc>
              <a:tabLst>
                <a:tab algn="l" pos="0"/>
                <a:tab algn="l" pos="584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April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"/>
          <p:cNvSpPr/>
          <p:nvPr/>
        </p:nvSpPr>
        <p:spPr>
          <a:xfrm>
            <a:off x="750600" y="4317840"/>
            <a:ext cx="239724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loudFor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098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rebrand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anageIQ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©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Copyrigh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ManageIQ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  <a:ea typeface="宋体"/>
              </a:rPr>
              <a:t>201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ingsoft</cp:lastModifiedBy>
  <dcterms:modified xsi:type="dcterms:W3CDTF">2015-09-06T04:22:15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fileid">
    <vt:lpwstr>587324</vt:lpwstr>
  </property>
  <property fmtid="{D5CDD505-2E9C-101B-9397-08002B2CF9AE}" pid="4" name="name">
    <vt:lpwstr>N4kgBYg2pb63503.ppt</vt:lpwstr>
  </property>
</Properties>
</file>