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4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6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图片素材来自互联网，版权归原作者所有。本模板仅供学习与参考，请勿使用于商业用途
</dc:description>
  <cp:keywords>ppt幻灯设计/ppt模板设计</cp:keywords>
  <dc:language>en-US</dc:language>
  <cp:lastModifiedBy>keke</cp:lastModifiedBy>
  <dcterms:modified xsi:type="dcterms:W3CDTF">2015-06-30T07:09:19Z</dcterms:modified>
  <cp:revision>67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