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D51-6086-49BE-BABC-247035DD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822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0AA-386C-4608-94B8-3B15E5D4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DDA-C1D3-4B4F-BA0A-8C3A7A2F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336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336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784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784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8CF-9D7E-4572-97CE-7A4645B8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7336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1123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336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87F-69EF-465E-9837-846C5F5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822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822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7336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7336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4784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47840"/>
            <a:ext cx="264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FDA-20C2-4DDC-A0DA-499FF6C8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953-51B1-4D2A-9722-476F4013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7AD-EE03-43E3-9013-D083C7A6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5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FC8-8F2C-4804-B18B-38742CF7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22D-FB51-4E2A-9398-95B15FE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784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807-68B7-42CB-9736-48BF71A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3360"/>
            <a:ext cx="4015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82296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7F4-EDDD-4E90-86BD-D3D6578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36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4646-C0FC-4CD9-AB1F-56E60BB92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2133720"/>
            <a:ext cx="640404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8000" y="2133720"/>
            <a:ext cx="640404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6:41:15Z</dcterms:created>
  <dc:creator/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182</vt:lpwstr>
  </property>
</Properties>
</file>