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40F-A1EC-4D50-AD99-8C36D145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53276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203360"/>
            <a:ext cx="53276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2F8-2166-4B2A-8192-7080DEDD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203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69160" y="4203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B1E-925C-43F1-85B2-E948FF79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40720" y="3789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2520" y="3789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203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40720" y="4203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42520" y="4203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F2F-F776-40C8-83B2-DEC39BF9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7E9B-DBC3-42E9-9C37-18982154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3789360"/>
            <a:ext cx="53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912-4DC1-4380-B2AB-6ABF7E33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53276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203D-B778-4E57-BFD9-A9155FA1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E1AB-C7D0-447D-B90F-84FDB510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4692-37C0-4DF6-AA8B-D1B83EC5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2276280"/>
            <a:ext cx="532764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B9B7-694E-470A-B80C-0BC73A24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4203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340A-C6B4-434C-AE64-FBF3EFB0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3789360"/>
            <a:ext cx="53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3E6-F761-4ACC-963F-C1EAC431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69160" y="4203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8C96-D5EC-4926-81B6-4694971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203360"/>
            <a:ext cx="53276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0064-C093-4DC6-8C5A-BB1C57A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53276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4203360"/>
            <a:ext cx="53276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163E-2ACF-4FFD-8E95-A8112381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4203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69160" y="4203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5750-115C-4B63-A745-263C70A0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40720" y="3789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2520" y="3789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4203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340720" y="4203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42520" y="4203360"/>
            <a:ext cx="171540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5443-79A2-420A-A80C-127F8244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53276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9D8-5A07-4451-AD78-DB2BF9DE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C23-1208-4E50-9F32-8302E99B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EC1-42B5-4BBE-94A8-E130536F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276280"/>
            <a:ext cx="532764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2B5-5FB5-4EEF-ADD2-B6D0CC56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203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9A8-9865-437E-8338-D0378AF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69160" y="4203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5E7-4D1B-4ADE-ADAA-A1B3DDED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69160" y="3789360"/>
            <a:ext cx="2599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203360"/>
            <a:ext cx="53276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C8E-2595-4ACA-ACA9-4D80746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D802-18B3-402E-ADA6-62916868A5A5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A27C-C520-481D-A6FD-2ABA8EDA1AC7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280" y="3789360"/>
            <a:ext cx="53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2432160"/>
            <a:ext cx="8210520" cy="2712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1517760"/>
            <a:ext cx="8217000" cy="914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9900"/>
              </a:gs>
            </a:gsLst>
            <a:lin ang="135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9800" y="5132520"/>
            <a:ext cx="8215560" cy="9144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135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9600" y="5159520"/>
            <a:ext cx="3959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560" y="2459160"/>
            <a:ext cx="2489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57880" y="2459160"/>
            <a:ext cx="24210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6560" y="1509840"/>
            <a:ext cx="8213760" cy="3873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5138640"/>
            <a:ext cx="8219880" cy="3873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1530360"/>
            <a:ext cx="3956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3699000"/>
            <a:ext cx="8210520" cy="0"/>
          </a:xfrm>
          <a:prstGeom prst="line">
            <a:avLst/>
          </a:prstGeom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8360" y="3711600"/>
            <a:ext cx="82105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560" y="3908520"/>
            <a:ext cx="2489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7880" y="3908520"/>
            <a:ext cx="24210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14640" y="1933560"/>
            <a:ext cx="1342800" cy="3687840"/>
            <a:chOff x="3914640" y="1933560"/>
            <a:chExt cx="1342800" cy="3687840"/>
          </a:xfrm>
        </p:grpSpPr>
        <p:sp>
          <p:nvSpPr>
            <p:cNvPr id="285" name=""/>
            <p:cNvSpPr/>
            <p:nvPr/>
          </p:nvSpPr>
          <p:spPr>
            <a:xfrm>
              <a:off x="4041720" y="1933560"/>
              <a:ext cx="1085760" cy="3687840"/>
            </a:xfrm>
            <a:prstGeom prst="upDownArrow">
              <a:avLst>
                <a:gd name="adj1" fmla="val 56991"/>
                <a:gd name="adj2" fmla="val 4505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50021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2753280" y="3603960"/>
              <a:ext cx="2657160" cy="334800"/>
            </a:xfrm>
            <a:custGeom>
              <a:avLst/>
              <a:gdLst>
                <a:gd name="textAreaLeft" fmla="*/ 215280 w 2657160"/>
                <a:gd name="textAreaRight" fmla="*/ 2441880 w 2657160"/>
                <a:gd name="textAreaTop" fmla="*/ 27000 h 334800"/>
                <a:gd name="textAreaBottom" fmla="*/ 307800 h 33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c0c0c0">
                    <a:alpha val="68235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3761280" y="3604320"/>
              <a:ext cx="2657160" cy="335160"/>
            </a:xfrm>
            <a:custGeom>
              <a:avLst/>
              <a:gdLst>
                <a:gd name="textAreaLeft" fmla="*/ 215280 w 2657160"/>
                <a:gd name="textAreaRight" fmla="*/ 2441880 w 2657160"/>
                <a:gd name="textAreaTop" fmla="*/ 27000 h 335160"/>
                <a:gd name="textAreaBottom" fmla="*/ 308160 h 33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c0c0c0">
                    <a:alpha val="68235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 rot="10800000">
            <a:off x="468000" y="6046920"/>
            <a:ext cx="8210520" cy="334800"/>
          </a:xfrm>
          <a:custGeom>
            <a:avLst/>
            <a:gdLst>
              <a:gd name="textAreaLeft" fmla="*/ 664920 w 8210520"/>
              <a:gd name="textAreaRight" fmla="*/ 7545600 w 8210520"/>
              <a:gd name="textAreaTop" fmla="*/ 27000 h 334800"/>
              <a:gd name="textAreaBottom" fmla="*/ 30780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32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本次课程结束，谢谢欣赏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39280" y="3789360"/>
            <a:ext cx="53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37591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16000" y="1628640"/>
            <a:ext cx="6912000" cy="1092240"/>
            <a:chOff x="1116000" y="1628640"/>
            <a:chExt cx="6912000" cy="1092240"/>
          </a:xfrm>
        </p:grpSpPr>
        <p:sp>
          <p:nvSpPr>
            <p:cNvPr id="87" name=""/>
            <p:cNvSpPr/>
            <p:nvPr/>
          </p:nvSpPr>
          <p:spPr>
            <a:xfrm>
              <a:off x="1116000" y="171432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3280" y="16286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527120" y="176040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80000" y="17143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6000" y="2433600"/>
              <a:ext cx="6912000" cy="287280"/>
            </a:xfrm>
            <a:custGeom>
              <a:avLst/>
              <a:gdLst>
                <a:gd name="textAreaLeft" fmla="*/ 750600 w 6912000"/>
                <a:gd name="textAreaRight" fmla="*/ 6161400 w 691200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3280" y="213660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517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16000" y="2693880"/>
            <a:ext cx="6912000" cy="1092240"/>
            <a:chOff x="1116000" y="2693880"/>
            <a:chExt cx="6912000" cy="1092240"/>
          </a:xfrm>
        </p:grpSpPr>
        <p:sp>
          <p:nvSpPr>
            <p:cNvPr id="94" name=""/>
            <p:cNvSpPr/>
            <p:nvPr/>
          </p:nvSpPr>
          <p:spPr>
            <a:xfrm>
              <a:off x="1116000" y="277956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3280" y="269388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527120" y="282564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0000" y="277956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16000" y="3498840"/>
              <a:ext cx="6912000" cy="287280"/>
            </a:xfrm>
            <a:custGeom>
              <a:avLst/>
              <a:gdLst>
                <a:gd name="textAreaLeft" fmla="*/ 750600 w 6912000"/>
                <a:gd name="textAreaRight" fmla="*/ 6161400 w 691200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03280" y="320184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517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116000" y="3732120"/>
            <a:ext cx="6912000" cy="1092240"/>
            <a:chOff x="1116000" y="3732120"/>
            <a:chExt cx="6912000" cy="1092240"/>
          </a:xfrm>
        </p:grpSpPr>
        <p:sp>
          <p:nvSpPr>
            <p:cNvPr id="101" name=""/>
            <p:cNvSpPr/>
            <p:nvPr/>
          </p:nvSpPr>
          <p:spPr>
            <a:xfrm>
              <a:off x="1116000" y="381780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03280" y="373212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527120" y="386388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0000" y="381780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16000" y="4537080"/>
              <a:ext cx="6912000" cy="287280"/>
            </a:xfrm>
            <a:custGeom>
              <a:avLst/>
              <a:gdLst>
                <a:gd name="textAreaLeft" fmla="*/ 750600 w 6912000"/>
                <a:gd name="textAreaRight" fmla="*/ 6161400 w 691200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3280" y="424008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517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116000" y="4797360"/>
            <a:ext cx="6912000" cy="1092240"/>
            <a:chOff x="1116000" y="4797360"/>
            <a:chExt cx="6912000" cy="1092240"/>
          </a:xfrm>
        </p:grpSpPr>
        <p:sp>
          <p:nvSpPr>
            <p:cNvPr id="108" name=""/>
            <p:cNvSpPr/>
            <p:nvPr/>
          </p:nvSpPr>
          <p:spPr>
            <a:xfrm>
              <a:off x="1116000" y="488304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03280" y="479736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1527120" y="492912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0000" y="488304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6000" y="5602320"/>
              <a:ext cx="6912000" cy="287280"/>
            </a:xfrm>
            <a:custGeom>
              <a:avLst/>
              <a:gdLst>
                <a:gd name="textAreaLeft" fmla="*/ 750600 w 6912000"/>
                <a:gd name="textAreaRight" fmla="*/ 6161400 w 691200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03280" y="530532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517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5" name=""/>
          <p:cNvSpPr/>
          <p:nvPr/>
        </p:nvSpPr>
        <p:spPr>
          <a:xfrm>
            <a:off x="1122480" y="2127240"/>
            <a:ext cx="625932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170080"/>
            <a:ext cx="5592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2480" y="3241800"/>
            <a:ext cx="625932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284640"/>
            <a:ext cx="5592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22480" y="4335480"/>
            <a:ext cx="625932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4378320"/>
            <a:ext cx="5592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22480" y="5429160"/>
            <a:ext cx="625932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472000"/>
            <a:ext cx="5592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67360" y="2060640"/>
            <a:ext cx="825480" cy="802800"/>
            <a:chOff x="6867360" y="2060640"/>
            <a:chExt cx="825480" cy="802800"/>
          </a:xfrm>
        </p:grpSpPr>
        <p:grpSp>
          <p:nvGrpSpPr>
            <p:cNvPr id="124" name=""/>
            <p:cNvGrpSpPr/>
            <p:nvPr/>
          </p:nvGrpSpPr>
          <p:grpSpPr>
            <a:xfrm>
              <a:off x="6867360" y="2060640"/>
              <a:ext cx="825480" cy="802800"/>
              <a:chOff x="6867360" y="2060640"/>
              <a:chExt cx="825480" cy="8028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867360" y="2060640"/>
                <a:ext cx="825480" cy="802800"/>
                <a:chOff x="6867360" y="2060640"/>
                <a:chExt cx="825480" cy="802800"/>
              </a:xfrm>
            </p:grpSpPr>
            <p:pic>
              <p:nvPicPr>
                <p:cNvPr id="12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67360" y="2060640"/>
                  <a:ext cx="825480" cy="80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>
                  <a:off x="6867360" y="2060640"/>
                  <a:ext cx="820080" cy="80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9800" y="206820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"/>
            <p:cNvSpPr txBox="1"/>
            <p:nvPr/>
          </p:nvSpPr>
          <p:spPr>
            <a:xfrm>
              <a:off x="7149240" y="2276640"/>
              <a:ext cx="18648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867360" y="3174840"/>
            <a:ext cx="825480" cy="803160"/>
            <a:chOff x="6867360" y="3174840"/>
            <a:chExt cx="825480" cy="803160"/>
          </a:xfrm>
        </p:grpSpPr>
        <p:grpSp>
          <p:nvGrpSpPr>
            <p:cNvPr id="131" name=""/>
            <p:cNvGrpSpPr/>
            <p:nvPr/>
          </p:nvGrpSpPr>
          <p:grpSpPr>
            <a:xfrm>
              <a:off x="6867360" y="3174840"/>
              <a:ext cx="825480" cy="803160"/>
              <a:chOff x="6867360" y="3174840"/>
              <a:chExt cx="825480" cy="803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67360" y="3174840"/>
                <a:ext cx="825480" cy="803160"/>
                <a:chOff x="6867360" y="3174840"/>
                <a:chExt cx="825480" cy="80316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67360" y="317484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>
                  <a:off x="6867360" y="317484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49800" y="318240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 txBox="1"/>
            <p:nvPr/>
          </p:nvSpPr>
          <p:spPr>
            <a:xfrm>
              <a:off x="7175160" y="339084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867360" y="4267080"/>
            <a:ext cx="825480" cy="803160"/>
            <a:chOff x="6867360" y="4267080"/>
            <a:chExt cx="825480" cy="803160"/>
          </a:xfrm>
        </p:grpSpPr>
        <p:grpSp>
          <p:nvGrpSpPr>
            <p:cNvPr id="138" name=""/>
            <p:cNvGrpSpPr/>
            <p:nvPr/>
          </p:nvGrpSpPr>
          <p:grpSpPr>
            <a:xfrm>
              <a:off x="6867360" y="4267080"/>
              <a:ext cx="825480" cy="803160"/>
              <a:chOff x="6867360" y="4267080"/>
              <a:chExt cx="825480" cy="80316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6867360" y="4267080"/>
                <a:ext cx="825480" cy="803160"/>
                <a:chOff x="6867360" y="4267080"/>
                <a:chExt cx="825480" cy="80316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67360" y="426708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>
                  <a:off x="6867360" y="426708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49800" y="427464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 txBox="1"/>
            <p:nvPr/>
          </p:nvSpPr>
          <p:spPr>
            <a:xfrm>
              <a:off x="7175160" y="448308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867360" y="5349960"/>
            <a:ext cx="825480" cy="803160"/>
            <a:chOff x="6867360" y="5349960"/>
            <a:chExt cx="825480" cy="803160"/>
          </a:xfrm>
        </p:grpSpPr>
        <p:grpSp>
          <p:nvGrpSpPr>
            <p:cNvPr id="145" name=""/>
            <p:cNvGrpSpPr/>
            <p:nvPr/>
          </p:nvGrpSpPr>
          <p:grpSpPr>
            <a:xfrm>
              <a:off x="6867360" y="5349960"/>
              <a:ext cx="825480" cy="803160"/>
              <a:chOff x="6867360" y="5349960"/>
              <a:chExt cx="825480" cy="8031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6867360" y="5349960"/>
                <a:ext cx="825480" cy="803160"/>
                <a:chOff x="6867360" y="5349960"/>
                <a:chExt cx="825480" cy="803160"/>
              </a:xfrm>
            </p:grpSpPr>
            <p:pic>
              <p:nvPicPr>
                <p:cNvPr id="14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67360" y="534996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6867360" y="534996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bc000d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49800" y="535752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 txBox="1"/>
            <p:nvPr/>
          </p:nvSpPr>
          <p:spPr>
            <a:xfrm>
              <a:off x="7137360" y="5565960"/>
              <a:ext cx="2664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55640" y="1988640"/>
            <a:ext cx="2305080" cy="937080"/>
            <a:chOff x="755640" y="1988640"/>
            <a:chExt cx="2305080" cy="937080"/>
          </a:xfrm>
        </p:grpSpPr>
        <p:sp>
          <p:nvSpPr>
            <p:cNvPr id="153" name=""/>
            <p:cNvSpPr/>
            <p:nvPr/>
          </p:nvSpPr>
          <p:spPr>
            <a:xfrm>
              <a:off x="755640" y="2133360"/>
              <a:ext cx="2305080" cy="792360"/>
            </a:xfrm>
            <a:prstGeom prst="downArrowCallout">
              <a:avLst>
                <a:gd name="adj1" fmla="val 72681"/>
                <a:gd name="adj2" fmla="val 36337"/>
                <a:gd name="adj3" fmla="val 14028"/>
                <a:gd name="adj4" fmla="val 8594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800000">
              <a:off x="761760" y="1988640"/>
              <a:ext cx="2298600" cy="144360"/>
            </a:xfrm>
            <a:custGeom>
              <a:avLst/>
              <a:gdLst>
                <a:gd name="textAreaLeft" fmla="*/ 228600 w 2298600"/>
                <a:gd name="textAreaRight" fmla="*/ 2070000 w 2298600"/>
                <a:gd name="textAreaTop" fmla="*/ 14400 h 144360"/>
                <a:gd name="textAreaBottom" fmla="*/ 1299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79" y="21600"/>
                  </a:lnTo>
                  <a:lnTo>
                    <a:pt x="72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517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48000" y="1988640"/>
            <a:ext cx="2305080" cy="937080"/>
            <a:chOff x="3348000" y="1988640"/>
            <a:chExt cx="2305080" cy="937080"/>
          </a:xfrm>
        </p:grpSpPr>
        <p:sp>
          <p:nvSpPr>
            <p:cNvPr id="156" name=""/>
            <p:cNvSpPr/>
            <p:nvPr/>
          </p:nvSpPr>
          <p:spPr>
            <a:xfrm>
              <a:off x="3348000" y="2133360"/>
              <a:ext cx="2305080" cy="792360"/>
            </a:xfrm>
            <a:prstGeom prst="downArrowCallout">
              <a:avLst>
                <a:gd name="adj1" fmla="val 72681"/>
                <a:gd name="adj2" fmla="val 36337"/>
                <a:gd name="adj3" fmla="val 14060"/>
                <a:gd name="adj4" fmla="val 8594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3350880" y="1988640"/>
              <a:ext cx="2298600" cy="144360"/>
            </a:xfrm>
            <a:custGeom>
              <a:avLst/>
              <a:gdLst>
                <a:gd name="textAreaLeft" fmla="*/ 228600 w 2298600"/>
                <a:gd name="textAreaRight" fmla="*/ 2070000 w 2298600"/>
                <a:gd name="textAreaTop" fmla="*/ 14400 h 144360"/>
                <a:gd name="textAreaBottom" fmla="*/ 1299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79" y="21600"/>
                  </a:lnTo>
                  <a:lnTo>
                    <a:pt x="72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517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40000" y="1988640"/>
            <a:ext cx="2305440" cy="937080"/>
            <a:chOff x="5940000" y="1988640"/>
            <a:chExt cx="2305440" cy="937080"/>
          </a:xfrm>
        </p:grpSpPr>
        <p:sp>
          <p:nvSpPr>
            <p:cNvPr id="159" name=""/>
            <p:cNvSpPr/>
            <p:nvPr/>
          </p:nvSpPr>
          <p:spPr>
            <a:xfrm>
              <a:off x="5940360" y="2133360"/>
              <a:ext cx="2305080" cy="792360"/>
            </a:xfrm>
            <a:prstGeom prst="downArrowCallout">
              <a:avLst>
                <a:gd name="adj1" fmla="val 72681"/>
                <a:gd name="adj2" fmla="val 36337"/>
                <a:gd name="adj3" fmla="val 14060"/>
                <a:gd name="adj4" fmla="val 8594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5940000" y="1988640"/>
              <a:ext cx="2298600" cy="144360"/>
            </a:xfrm>
            <a:custGeom>
              <a:avLst/>
              <a:gdLst>
                <a:gd name="textAreaLeft" fmla="*/ 228600 w 2298600"/>
                <a:gd name="textAreaRight" fmla="*/ 2070000 w 2298600"/>
                <a:gd name="textAreaTop" fmla="*/ 14400 h 144360"/>
                <a:gd name="textAreaBottom" fmla="*/ 1299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79" y="21600"/>
                  </a:lnTo>
                  <a:lnTo>
                    <a:pt x="72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517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55280" y="2854440"/>
            <a:ext cx="2305080" cy="2879280"/>
            <a:chOff x="755280" y="2854440"/>
            <a:chExt cx="2305080" cy="2879280"/>
          </a:xfrm>
        </p:grpSpPr>
        <p:sp>
          <p:nvSpPr>
            <p:cNvPr id="162" name=""/>
            <p:cNvSpPr/>
            <p:nvPr/>
          </p:nvSpPr>
          <p:spPr>
            <a:xfrm rot="10800000">
              <a:off x="755280" y="3141360"/>
              <a:ext cx="2305080" cy="2592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755280" y="2854440"/>
              <a:ext cx="2305080" cy="287280"/>
            </a:xfrm>
            <a:custGeom>
              <a:avLst/>
              <a:gdLst>
                <a:gd name="textAreaLeft" fmla="*/ 250200 w 2305080"/>
                <a:gd name="textAreaRight" fmla="*/ 2054880 w 230508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925560" y="2357280"/>
            <a:ext cx="194292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314172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347640" y="2854440"/>
            <a:ext cx="2305080" cy="2879280"/>
            <a:chOff x="3347640" y="2854440"/>
            <a:chExt cx="2305080" cy="2879280"/>
          </a:xfrm>
        </p:grpSpPr>
        <p:sp>
          <p:nvSpPr>
            <p:cNvPr id="167" name=""/>
            <p:cNvSpPr/>
            <p:nvPr/>
          </p:nvSpPr>
          <p:spPr>
            <a:xfrm rot="10800000">
              <a:off x="3347640" y="3141360"/>
              <a:ext cx="2305080" cy="2592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0800000">
              <a:off x="3347640" y="2854440"/>
              <a:ext cx="2305080" cy="287280"/>
            </a:xfrm>
            <a:custGeom>
              <a:avLst/>
              <a:gdLst>
                <a:gd name="textAreaLeft" fmla="*/ 250200 w 2305080"/>
                <a:gd name="textAreaRight" fmla="*/ 2054880 w 230508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 txBox="1"/>
          <p:nvPr/>
        </p:nvSpPr>
        <p:spPr>
          <a:xfrm>
            <a:off x="3517920" y="2357280"/>
            <a:ext cx="194292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314172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940000" y="2854440"/>
            <a:ext cx="2305080" cy="2879280"/>
            <a:chOff x="5940000" y="2854440"/>
            <a:chExt cx="2305080" cy="2879280"/>
          </a:xfrm>
        </p:grpSpPr>
        <p:sp>
          <p:nvSpPr>
            <p:cNvPr id="172" name=""/>
            <p:cNvSpPr/>
            <p:nvPr/>
          </p:nvSpPr>
          <p:spPr>
            <a:xfrm rot="10800000">
              <a:off x="5940000" y="3141360"/>
              <a:ext cx="2305080" cy="2592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5940000" y="2854440"/>
              <a:ext cx="2305080" cy="287280"/>
            </a:xfrm>
            <a:custGeom>
              <a:avLst/>
              <a:gdLst>
                <a:gd name="textAreaLeft" fmla="*/ 250200 w 2305080"/>
                <a:gd name="textAreaRight" fmla="*/ 2054880 w 230508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 txBox="1"/>
          <p:nvPr/>
        </p:nvSpPr>
        <p:spPr>
          <a:xfrm>
            <a:off x="6110280" y="2357280"/>
            <a:ext cx="194328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314172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55440" y="2521080"/>
            <a:ext cx="7235640" cy="2368080"/>
            <a:chOff x="955440" y="2521080"/>
            <a:chExt cx="7235640" cy="2368080"/>
          </a:xfrm>
        </p:grpSpPr>
        <p:sp>
          <p:nvSpPr>
            <p:cNvPr id="178" name=""/>
            <p:cNvSpPr/>
            <p:nvPr/>
          </p:nvSpPr>
          <p:spPr>
            <a:xfrm rot="10800000">
              <a:off x="955440" y="2520720"/>
              <a:ext cx="7235640" cy="118440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955440" y="3704760"/>
              <a:ext cx="7235640" cy="118404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rot="2700000">
            <a:off x="3706560" y="2840040"/>
            <a:ext cx="1730520" cy="1730160"/>
          </a:xfrm>
          <a:prstGeom prst="roundRect">
            <a:avLst>
              <a:gd name="adj" fmla="val 4199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54520" y="3584520"/>
            <a:ext cx="144144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82" name=""/>
          <p:cNvSpPr/>
          <p:nvPr/>
        </p:nvSpPr>
        <p:spPr>
          <a:xfrm>
            <a:off x="974880" y="255276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3500000">
            <a:off x="3110400" y="4285080"/>
            <a:ext cx="1558800" cy="185760"/>
          </a:xfrm>
          <a:custGeom>
            <a:avLst/>
            <a:gdLst>
              <a:gd name="textAreaLeft" fmla="*/ 126000 w 1558800"/>
              <a:gd name="textAreaRight" fmla="*/ 1432800 w 1558800"/>
              <a:gd name="textAreaTop" fmla="*/ 14760 h 185760"/>
              <a:gd name="textAreaBottom" fmla="*/ 17100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517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700000">
            <a:off x="4469760" y="2936160"/>
            <a:ext cx="1558800" cy="185760"/>
          </a:xfrm>
          <a:custGeom>
            <a:avLst/>
            <a:gdLst>
              <a:gd name="textAreaLeft" fmla="*/ 126000 w 1558800"/>
              <a:gd name="textAreaRight" fmla="*/ 1432800 w 1558800"/>
              <a:gd name="textAreaTop" fmla="*/ 14760 h 185760"/>
              <a:gd name="textAreaBottom" fmla="*/ 17100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517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rot="18900000">
            <a:off x="3113280" y="2936160"/>
            <a:ext cx="1558800" cy="185760"/>
          </a:xfrm>
          <a:custGeom>
            <a:avLst/>
            <a:gdLst>
              <a:gd name="textAreaLeft" fmla="*/ 126000 w 1558800"/>
              <a:gd name="textAreaRight" fmla="*/ 1432800 w 1558800"/>
              <a:gd name="textAreaTop" fmla="*/ 14760 h 185760"/>
              <a:gd name="textAreaBottom" fmla="*/ 17100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517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rot="8100000">
            <a:off x="4462200" y="4285080"/>
            <a:ext cx="1558800" cy="185760"/>
          </a:xfrm>
          <a:custGeom>
            <a:avLst/>
            <a:gdLst>
              <a:gd name="textAreaLeft" fmla="*/ 126000 w 1558800"/>
              <a:gd name="textAreaRight" fmla="*/ 1432800 w 1558800"/>
              <a:gd name="textAreaTop" fmla="*/ 14760 h 185760"/>
              <a:gd name="textAreaBottom" fmla="*/ 17100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517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5960" y="2552760"/>
            <a:ext cx="287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4880" y="3705120"/>
            <a:ext cx="2663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3705120"/>
            <a:ext cx="2879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1" name=""/>
          <p:cNvSpPr/>
          <p:nvPr/>
        </p:nvSpPr>
        <p:spPr>
          <a:xfrm flipV="1" rot="10800000">
            <a:off x="2287440" y="5013360"/>
            <a:ext cx="4422960" cy="4348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4505400" y="1843200"/>
            <a:ext cx="1720800" cy="2570040"/>
          </a:xfrm>
          <a:custGeom>
            <a:avLst/>
            <a:gdLst/>
            <a:ahLst/>
            <a:rect l="l" t="t" r="r" b="b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54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3006720" y="3562200"/>
            <a:ext cx="2981160" cy="1708200"/>
          </a:xfrm>
          <a:custGeom>
            <a:avLst/>
            <a:gdLst/>
            <a:ahLst/>
            <a:rect l="l" t="t" r="r" b="b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2771640" y="1844640"/>
            <a:ext cx="1730520" cy="2570040"/>
          </a:xfrm>
          <a:custGeom>
            <a:avLst/>
            <a:gdLst/>
            <a:ahLst/>
            <a:rect l="l" t="t" r="r" b="b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6300000">
            <a:off x="3064680" y="4066920"/>
            <a:ext cx="38916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3500000">
            <a:off x="4311360" y="1937880"/>
            <a:ext cx="388800" cy="392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0700000">
            <a:off x="5551560" y="407628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148560" y="2196720"/>
            <a:ext cx="2732400" cy="2727720"/>
            <a:chOff x="3148560" y="2196720"/>
            <a:chExt cx="2732400" cy="2727720"/>
          </a:xfrm>
        </p:grpSpPr>
        <p:sp>
          <p:nvSpPr>
            <p:cNvPr id="199" name=""/>
            <p:cNvSpPr/>
            <p:nvPr/>
          </p:nvSpPr>
          <p:spPr>
            <a:xfrm rot="649800">
              <a:off x="3346560" y="2395440"/>
              <a:ext cx="2336400" cy="233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649800">
              <a:off x="3477960" y="2522160"/>
              <a:ext cx="2073240" cy="2075400"/>
            </a:xfrm>
            <a:prstGeom prst="ellipse">
              <a:avLst/>
            </a:prstGeom>
            <a:gradFill rotWithShape="0">
              <a:gsLst>
                <a:gs pos="0">
                  <a:srgbClr val="bc000d">
                    <a:alpha val="90196"/>
                  </a:srgbClr>
                </a:gs>
                <a:gs pos="100000">
                  <a:srgbClr val="ff0517"/>
                </a:gs>
              </a:gsLst>
              <a:lin ang="135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 rot="3535800">
            <a:off x="5289480" y="2847600"/>
            <a:ext cx="873360" cy="14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02" name=""/>
          <p:cNvSpPr txBox="1"/>
          <p:nvPr/>
        </p:nvSpPr>
        <p:spPr>
          <a:xfrm rot="18000000">
            <a:off x="2911320" y="2847960"/>
            <a:ext cx="873360" cy="14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059360" y="4797360"/>
            <a:ext cx="873000" cy="14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3641760" y="2513160"/>
            <a:ext cx="1738440" cy="8348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046400" y="3343320"/>
            <a:ext cx="959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2637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263700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05440" y="558972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17440" y="3460680"/>
            <a:ext cx="6913800" cy="2055960"/>
          </a:xfrm>
          <a:prstGeom prst="roundRect">
            <a:avLst>
              <a:gd name="adj" fmla="val 277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1731960"/>
            <a:ext cx="2879640" cy="936720"/>
          </a:xfrm>
          <a:prstGeom prst="roundRect">
            <a:avLst>
              <a:gd name="adj" fmla="val 5426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7440" y="1731960"/>
            <a:ext cx="2880000" cy="936720"/>
          </a:xfrm>
          <a:prstGeom prst="roundRect">
            <a:avLst>
              <a:gd name="adj" fmla="val 5426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9800" y="2671920"/>
            <a:ext cx="2879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7440" y="2671920"/>
            <a:ext cx="28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710160" y="1406520"/>
            <a:ext cx="1656360" cy="1621800"/>
            <a:chOff x="3710160" y="1406520"/>
            <a:chExt cx="1656360" cy="1621800"/>
          </a:xfrm>
        </p:grpSpPr>
        <p:grpSp>
          <p:nvGrpSpPr>
            <p:cNvPr id="215" name=""/>
            <p:cNvGrpSpPr/>
            <p:nvPr/>
          </p:nvGrpSpPr>
          <p:grpSpPr>
            <a:xfrm>
              <a:off x="3710160" y="1406520"/>
              <a:ext cx="1656360" cy="1621800"/>
              <a:chOff x="3710160" y="1406520"/>
              <a:chExt cx="1656360" cy="1621800"/>
            </a:xfrm>
          </p:grpSpPr>
          <p:pic>
            <p:nvPicPr>
              <p:cNvPr id="2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0160" y="1406520"/>
                <a:ext cx="1656360" cy="161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3710160" y="1406520"/>
                <a:ext cx="1645200" cy="1621800"/>
              </a:xfrm>
              <a:prstGeom prst="ellipse">
                <a:avLst/>
              </a:prstGeom>
              <a:gradFill rotWithShape="0">
                <a:gsLst>
                  <a:gs pos="0">
                    <a:srgbClr val="ff0517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3876480" y="1421640"/>
              <a:ext cx="1307880" cy="57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1117440" y="5516640"/>
            <a:ext cx="6913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011480" y="1914480"/>
            <a:ext cx="1079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1" name=""/>
          <p:cNvSpPr/>
          <p:nvPr/>
        </p:nvSpPr>
        <p:spPr>
          <a:xfrm>
            <a:off x="4000680" y="2813040"/>
            <a:ext cx="1145880" cy="863640"/>
          </a:xfrm>
          <a:prstGeom prst="downArrow">
            <a:avLst>
              <a:gd name="adj1" fmla="val 52074"/>
              <a:gd name="adj2" fmla="val 57903"/>
            </a:avLst>
          </a:prstGeom>
          <a:gradFill rotWithShape="0">
            <a:gsLst>
              <a:gs pos="0">
                <a:srgbClr val="bc000d">
                  <a:alpha val="0"/>
                </a:srgbClr>
              </a:gs>
              <a:gs pos="100000">
                <a:srgbClr val="ff0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3867120"/>
            <a:ext cx="69152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细黑"/>
              </a:rPr>
              <a:t>单击此处添加段落文字内容     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4514760"/>
            <a:ext cx="69152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细黑"/>
              </a:rPr>
              <a:t>单击此处添加段落文字内容     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rcRect l="0" t="0" r="0" b="13"/>
          <a:stretch/>
        </p:blipFill>
        <p:spPr>
          <a:xfrm>
            <a:off x="468360" y="2698920"/>
            <a:ext cx="1535040" cy="5051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rot="16200000">
            <a:off x="2091960" y="2563200"/>
            <a:ext cx="908280" cy="1092240"/>
          </a:xfrm>
          <a:prstGeom prst="leftArrow">
            <a:avLst>
              <a:gd name="adj1" fmla="val 50000"/>
              <a:gd name="adj2" fmla="val 48301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2117520" y="2620800"/>
            <a:ext cx="857520" cy="981000"/>
          </a:xfrm>
          <a:prstGeom prst="leftArrow">
            <a:avLst>
              <a:gd name="adj1" fmla="val 50000"/>
              <a:gd name="adj2" fmla="val 48301"/>
            </a:avLst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6149880" y="2563560"/>
            <a:ext cx="908280" cy="1091880"/>
          </a:xfrm>
          <a:prstGeom prst="leftArrow">
            <a:avLst>
              <a:gd name="adj1" fmla="val 50000"/>
              <a:gd name="adj2" fmla="val 48301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6172200" y="2617560"/>
            <a:ext cx="863640" cy="981000"/>
          </a:xfrm>
          <a:prstGeom prst="leftArrow">
            <a:avLst>
              <a:gd name="adj1" fmla="val 50000"/>
              <a:gd name="adj2" fmla="val 48301"/>
            </a:avLst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092480" y="2671560"/>
            <a:ext cx="959040" cy="981360"/>
          </a:xfrm>
          <a:prstGeom prst="leftArrow">
            <a:avLst>
              <a:gd name="adj1" fmla="val 50000"/>
              <a:gd name="adj2" fmla="val 48301"/>
            </a:avLst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ffffff">
                  <a:alpha val="45098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2" name=""/>
          <p:cNvSpPr/>
          <p:nvPr/>
        </p:nvSpPr>
        <p:spPr>
          <a:xfrm>
            <a:off x="4535640" y="2611440"/>
            <a:ext cx="0" cy="4539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9640" y="4114800"/>
            <a:ext cx="0" cy="4539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7640" y="4114800"/>
            <a:ext cx="0" cy="4539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546440"/>
            <a:ext cx="0" cy="4543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0" y="2036880"/>
            <a:ext cx="2556000" cy="755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7f7f7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0" y="1676520"/>
            <a:ext cx="2556000" cy="32544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27280" y="3214800"/>
            <a:ext cx="2520720" cy="288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27280" y="3538440"/>
            <a:ext cx="2520720" cy="827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7f7f7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214800"/>
            <a:ext cx="2521080" cy="288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9280" y="3538440"/>
            <a:ext cx="2521080" cy="827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7f7f7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"/>
          <p:cNvCxnSpPr/>
          <p:nvPr/>
        </p:nvCxnSpPr>
        <p:spPr>
          <a:xfrm flipH="1" rot="16200000">
            <a:off x="4570200" y="2086200"/>
            <a:ext cx="2520" cy="5330160"/>
          </a:xfrm>
          <a:prstGeom prst="bentConnector3">
            <a:avLst>
              <a:gd name="adj1" fmla="val -12300000"/>
            </a:avLst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4552560" y="1646640"/>
            <a:ext cx="2520" cy="3132720"/>
          </a:xfrm>
          <a:prstGeom prst="bentConnector3">
            <a:avLst>
              <a:gd name="adj1" fmla="val -9500000"/>
            </a:avLst>
          </a:prstGeom>
          <a:ln w="28440">
            <a:solidFill>
              <a:srgbClr val="b2b2b2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611280" y="4726080"/>
            <a:ext cx="2520720" cy="288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049720"/>
            <a:ext cx="2520720" cy="827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7f7f7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726080"/>
            <a:ext cx="2520720" cy="288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4920" y="5049720"/>
            <a:ext cx="2521080" cy="827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7f7f7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4726080"/>
            <a:ext cx="2521080" cy="288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5049720"/>
            <a:ext cx="2521080" cy="827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7f7f7"/>
              </a:gs>
            </a:gsLst>
            <a:lin ang="108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1" name=""/>
          <p:cNvSpPr/>
          <p:nvPr/>
        </p:nvSpPr>
        <p:spPr>
          <a:xfrm>
            <a:off x="3551400" y="1906560"/>
            <a:ext cx="1766880" cy="34308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3a0004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51400" y="1906560"/>
            <a:ext cx="17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60680" y="2336760"/>
            <a:ext cx="1952640" cy="82872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630760" y="1671480"/>
            <a:ext cx="611280" cy="2694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451240" y="3868560"/>
            <a:ext cx="546120" cy="2681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8139240" y="3868560"/>
            <a:ext cx="536400" cy="2729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58720" y="3676680"/>
            <a:ext cx="1768680" cy="34272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8720" y="3676680"/>
            <a:ext cx="177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4106880"/>
            <a:ext cx="1954080" cy="82872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2960" y="3676680"/>
            <a:ext cx="1766880" cy="34272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2960" y="3676680"/>
            <a:ext cx="17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32600" y="4106880"/>
            <a:ext cx="1954080" cy="82872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51400" y="3676680"/>
            <a:ext cx="1766880" cy="34272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51400" y="3676680"/>
            <a:ext cx="17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60680" y="4106880"/>
            <a:ext cx="1952640" cy="82872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53" idx="2"/>
            <a:endCxn id="264" idx="0"/>
          </p:cNvCxnSpPr>
          <p:nvPr/>
        </p:nvCxnSpPr>
        <p:spPr>
          <a:xfrm flipV="1" rot="10800000">
            <a:off x="4436280" y="3165120"/>
            <a:ext cx="1080" cy="511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53" idx="2"/>
            <a:endCxn id="258" idx="0"/>
          </p:cNvCxnSpPr>
          <p:nvPr/>
        </p:nvCxnSpPr>
        <p:spPr>
          <a:xfrm rot="5400000">
            <a:off x="2685240" y="1925640"/>
            <a:ext cx="511920" cy="29916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3" idx="2"/>
            <a:endCxn id="261" idx="0"/>
          </p:cNvCxnSpPr>
          <p:nvPr/>
        </p:nvCxnSpPr>
        <p:spPr>
          <a:xfrm flipH="1" rot="16200000">
            <a:off x="5517360" y="2084760"/>
            <a:ext cx="511920" cy="26726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5464080" y="3924360"/>
            <a:ext cx="5302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9:53:19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