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自定义放映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20"/>
        <p:sld r:id="rId21"/>
        <p:sld r:id="rId22"/>
        <p:sld r:id="rId23"/>
        <p:sld r:id="rId23"/>
        <p:sld r:id="rId24"/>
        <p:sld r:id="rId25"/>
        <p:sld r:id="rId26"/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666-4383-4DD5-A632-3D039C2D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175-C4C3-4714-8AFE-D7016956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17E-7548-4B40-AC3D-65E863DA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707-B8B5-4883-AB43-4301E224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38D-92D6-4256-A6A3-283CE1B7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8ED-30D3-4F7E-A76A-CAB5E7BB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E54-BBBD-4D7A-82F7-E6DA7B0F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3BE-F33D-46EC-8A13-2C09C760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81B-6C15-4BD0-B79C-9692D84E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E5E-EDA9-48DC-88CE-9DE81BB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97A-76E5-4116-AF09-2AC15CC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18B-D27D-4B48-BB6B-9276353E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DED0-EF49-4A77-B613-B2E6AA4EA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png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png"/><Relationship Id="rId1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png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png"/><Relationship Id="rId1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5.png"/><Relationship Id="rId2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3.png"/><Relationship Id="rId1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隶书"/>
              </a:rPr>
              <a:t>张  衡  传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br>
              <a:rPr sz="2400"/>
            </a:br>
            <a:r>
              <a:rPr b="0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范  晔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cc99"/>
                </a:solidFill>
                <a:latin typeface="华文新魏"/>
                <a:ea typeface="华文新魏"/>
              </a:rPr>
              <a:t>江苏省东台市职业教育中心校     高昌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8954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2904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429000" y="2590920"/>
          <a:ext cx="1839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90920"/>
                    <a:ext cx="1839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第一部分译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289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533520"/>
          <a:ext cx="9144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752480" y="1447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~~~~~~~~~~~~~~~~~~~~~~~~~~~~~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514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~~~~~~~~~~~~~~~~~~~~~~~~~~~~~~~~~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~~~~~~~~~~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7680" y="266688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3960" y="152388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重点词、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48320" y="8380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5335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古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553080" y="609480"/>
          <a:ext cx="762120" cy="5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609480"/>
                    <a:ext cx="7621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648320" y="13716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今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629400" y="1295280"/>
          <a:ext cx="1874880" cy="5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1295280"/>
                    <a:ext cx="18748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629400" y="1981080"/>
          <a:ext cx="21337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1981080"/>
                    <a:ext cx="2133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04920" y="5334120"/>
          <a:ext cx="241596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5334120"/>
                    <a:ext cx="241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04920" y="1143000"/>
          <a:ext cx="419076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1143000"/>
                    <a:ext cx="4190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505320" y="4648320"/>
          <a:ext cx="5333760" cy="52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4648320"/>
                    <a:ext cx="53337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819520" y="4800600"/>
            <a:ext cx="457200" cy="1523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581280" y="5867280"/>
          <a:ext cx="4267440" cy="47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5867280"/>
                    <a:ext cx="42674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80880" y="3200400"/>
          <a:ext cx="2362320" cy="65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880" y="3200400"/>
                    <a:ext cx="23623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 flipV="1">
            <a:off x="2819520" y="28954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2590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古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952880" y="2666880"/>
          <a:ext cx="2387880" cy="590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52880" y="2666880"/>
                    <a:ext cx="23878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819520" y="35053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9880" y="3657600"/>
          <a:ext cx="464832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09880" y="3657600"/>
                    <a:ext cx="4648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研讨第二部分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1066680"/>
          <a:ext cx="83822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3822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685800" y="2438280"/>
          <a:ext cx="800100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80010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85800" y="4572000"/>
          <a:ext cx="487692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572000"/>
                    <a:ext cx="4876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研讨第二部分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-2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重点词、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609480"/>
          <a:ext cx="845820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84582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57200" y="2209680"/>
          <a:ext cx="290520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209680"/>
                    <a:ext cx="29052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V="1">
            <a:off x="3505320" y="2133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419720" y="1905120"/>
          <a:ext cx="228600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905120"/>
                    <a:ext cx="2286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505320" y="2514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95680" y="2590920"/>
          <a:ext cx="34290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2590920"/>
                    <a:ext cx="3429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" y="3809880"/>
          <a:ext cx="3048120" cy="64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809880"/>
                    <a:ext cx="304812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 flipV="1">
            <a:off x="3505320" y="37339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419720" y="3200400"/>
          <a:ext cx="281916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3200400"/>
                    <a:ext cx="2819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505320" y="403848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495680" y="4114800"/>
          <a:ext cx="441972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4114800"/>
                    <a:ext cx="4419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33520" y="5410080"/>
          <a:ext cx="914400" cy="542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520" y="5410080"/>
                    <a:ext cx="914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981080" y="5181480"/>
          <a:ext cx="1143000" cy="941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5181480"/>
                    <a:ext cx="11430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4343400" y="1295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1295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~~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1295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~~~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第二部分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-2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译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2424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609480"/>
          <a:ext cx="9144000" cy="739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73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研讨第二部分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533520"/>
          <a:ext cx="6095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6095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28600" y="3352680"/>
          <a:ext cx="17874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52680"/>
                    <a:ext cx="17874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133720" y="1676520"/>
            <a:ext cx="228600" cy="449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90920" y="1523880"/>
          <a:ext cx="609588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1523880"/>
                    <a:ext cx="6095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514600" y="2286000"/>
          <a:ext cx="6095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2286000"/>
                    <a:ext cx="6095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590920" y="3276720"/>
          <a:ext cx="609588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3276720"/>
                    <a:ext cx="6095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590920" y="4114800"/>
          <a:ext cx="563868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4114800"/>
                    <a:ext cx="56386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124080" y="4800600"/>
          <a:ext cx="4419720" cy="619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24080" y="4800600"/>
                    <a:ext cx="4419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2590920" y="5562720"/>
          <a:ext cx="609588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562720"/>
                    <a:ext cx="6095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重点词、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143000"/>
          <a:ext cx="4952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4952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09480" y="2514600"/>
          <a:ext cx="4056120" cy="5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14600"/>
                    <a:ext cx="40561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09480" y="259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23623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﹝                   ﹞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3276720"/>
          <a:ext cx="6095880" cy="51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276720"/>
                    <a:ext cx="60958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5800" y="4191120"/>
          <a:ext cx="1828800" cy="4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4191120"/>
                    <a:ext cx="18288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0948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267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9625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﹝ 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971800" y="4191120"/>
          <a:ext cx="4191120" cy="49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4191120"/>
                    <a:ext cx="419112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685800" y="5181480"/>
          <a:ext cx="175248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5181480"/>
                    <a:ext cx="1752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762120" y="51814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53341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5334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590920" y="5105520"/>
          <a:ext cx="6553080" cy="76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5105520"/>
                    <a:ext cx="6553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85800" y="6019920"/>
          <a:ext cx="1676520" cy="679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5800" y="6019920"/>
                    <a:ext cx="16765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62120" y="62485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58672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586728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743200" y="6019920"/>
          <a:ext cx="480060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43200" y="6019920"/>
                    <a:ext cx="4800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第二部分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-3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译文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609480"/>
          <a:ext cx="838188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83818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242892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990720"/>
          <a:ext cx="8915400" cy="549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90720"/>
                    <a:ext cx="891540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第二部分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-3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译文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533520"/>
          <a:ext cx="9144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327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研讨第三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066680"/>
          <a:ext cx="662940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66294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33520" y="2209680"/>
          <a:ext cx="2643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09680"/>
                    <a:ext cx="2643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581280" y="2133720"/>
          <a:ext cx="83844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133720"/>
                    <a:ext cx="838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952880" y="2362320"/>
          <a:ext cx="1535400" cy="46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2362320"/>
                    <a:ext cx="153540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62120" y="3276720"/>
          <a:ext cx="137160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276720"/>
                    <a:ext cx="1371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590920" y="3200400"/>
          <a:ext cx="990360" cy="79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3200400"/>
                    <a:ext cx="9903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191120" y="3048120"/>
          <a:ext cx="3047760" cy="52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3048120"/>
                    <a:ext cx="30477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343400" y="3733920"/>
          <a:ext cx="2057400" cy="53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43400" y="3733920"/>
                    <a:ext cx="20574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762120" y="4495680"/>
          <a:ext cx="1676160" cy="577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4495680"/>
                    <a:ext cx="16761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657600" y="4495680"/>
          <a:ext cx="4008600" cy="547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57600" y="4495680"/>
                    <a:ext cx="40086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762120" y="5562720"/>
          <a:ext cx="1752480" cy="571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2120" y="5562720"/>
                    <a:ext cx="17524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657600" y="5486400"/>
          <a:ext cx="2438280" cy="68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657600" y="5486400"/>
                    <a:ext cx="24382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教学目标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: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752480"/>
          <a:ext cx="807732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0773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重点词、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04920" y="685800"/>
          <a:ext cx="15238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15238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04920" y="1447920"/>
          <a:ext cx="312408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47920"/>
                    <a:ext cx="31240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 flipV="1">
            <a:off x="3352680" y="13716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267080" y="1066680"/>
          <a:ext cx="198144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1066680"/>
                    <a:ext cx="19814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3352680" y="1828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267080" y="1981080"/>
          <a:ext cx="38102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1981080"/>
                    <a:ext cx="38102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380880" y="3200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3809880"/>
          <a:ext cx="8458200" cy="266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3809880"/>
                    <a:ext cx="8458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457200" y="6248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6248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66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第三部分译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762120"/>
          <a:ext cx="9144000" cy="20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0" y="2971800"/>
          <a:ext cx="9144000" cy="211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71800"/>
                    <a:ext cx="914400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0" y="2971800"/>
            <a:ext cx="1143000" cy="4572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写作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90720" y="2057400"/>
          <a:ext cx="71625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162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课堂练习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28600" y="990720"/>
          <a:ext cx="83818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818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4114800" y="1981080"/>
          <a:ext cx="50652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81080"/>
                    <a:ext cx="5065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600200" y="3733920"/>
          <a:ext cx="45720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733920"/>
                    <a:ext cx="4572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990720" y="5410080"/>
          <a:ext cx="45720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0080"/>
                    <a:ext cx="4572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课堂练习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28600" y="990720"/>
          <a:ext cx="86868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5486400" y="3276720"/>
          <a:ext cx="4986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276720"/>
                    <a:ext cx="49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3124080" y="3886200"/>
          <a:ext cx="64476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644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6019920" y="4648320"/>
          <a:ext cx="5382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648320"/>
                    <a:ext cx="538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124080" y="5334120"/>
          <a:ext cx="58608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5334120"/>
                    <a:ext cx="586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1447920" y="5257800"/>
          <a:ext cx="11430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5257800"/>
                    <a:ext cx="1143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5943600" y="6019920"/>
          <a:ext cx="6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6019920"/>
                    <a:ext cx="6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作   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6248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四、五、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华文琥珀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录象介绍张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1940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895480" y="1600200"/>
          <a:ext cx="27450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27450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83055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张衡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228960" y="609120"/>
            <a:ext cx="9372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张衡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(78-139)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，字平子，南阳西鄂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今河南南阳县石桥镇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人。他是我国东汉时期伟大的天文学家，为我国天文学的发展作出了不可磨灭的贡献；在数学、地理、绘画和文学等方面，张衡也表现出了非凡的才能和广博的学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张衡是东汉中期浑天说的代表人物之一；他指出月球本身并不发光，月光其实是日光的反射；他还正确地解释了月食的成因，并且认识到宇宙的无限性和行星运动的快慢与距离 地球远近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张衡观测记录了两千五百颗恒星，创制了世界上第一架能比较准确地表演天象的漏水转浑天仪，第一架测试地震的仪器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候风地动仪，还制造出了指南车、自动记里鼓车、飞行数里的木鸟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张衡共著有科学、哲学、和文学著作三十二篇，其中天文著作有《灵宪》和《灵宪图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为了纪念张衡的功绩，人们将月球背面的一环形山命名为“张衡环形山”，将小行星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1802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命名为“张衡小行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世纪中国著名文学家、历史学家郭沫若对张衡的评价是：“如此全面发展之人物，在世界史中亦所罕见，万祀千龄，令人景仰。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默读课文，理解文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理清文章的思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照注释，掌握文中文言句式，古今词义、一词多义、专指词语用法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思考文章是如何选取材料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正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0880" y="1066680"/>
          <a:ext cx="4083120" cy="5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08312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8600" y="1981080"/>
          <a:ext cx="868680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981080"/>
                    <a:ext cx="86868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286000" y="1828800"/>
          <a:ext cx="99072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1828800"/>
                    <a:ext cx="990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867280" y="1905120"/>
          <a:ext cx="838440" cy="190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1905120"/>
                    <a:ext cx="8384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7010280" y="1828800"/>
          <a:ext cx="838440" cy="198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1828800"/>
                    <a:ext cx="838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124080" y="3505320"/>
          <a:ext cx="838440" cy="21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3505320"/>
                    <a:ext cx="8384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162920" y="3657600"/>
          <a:ext cx="685800" cy="1905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62920" y="3657600"/>
                    <a:ext cx="685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077320" y="3352680"/>
          <a:ext cx="761760" cy="243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077320" y="3352680"/>
                    <a:ext cx="761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研究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838080"/>
          <a:ext cx="342900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3429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80880" y="1523880"/>
          <a:ext cx="358164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5816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57200" y="3886200"/>
          <a:ext cx="326088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886200"/>
                    <a:ext cx="32608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" y="5334120"/>
          <a:ext cx="320040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334120"/>
                    <a:ext cx="32004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990720" y="2286000"/>
          <a:ext cx="815328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286000"/>
                    <a:ext cx="8153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0880" y="3048120"/>
          <a:ext cx="449604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3048120"/>
                    <a:ext cx="4496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914400" y="4648320"/>
          <a:ext cx="4648320" cy="54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" y="4648320"/>
                    <a:ext cx="4648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914400" y="6019920"/>
          <a:ext cx="365760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14400" y="6019920"/>
                    <a:ext cx="3657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研讨第一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685800"/>
          <a:ext cx="8610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610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62120" y="2971800"/>
          <a:ext cx="99036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971800"/>
                    <a:ext cx="9903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209680" y="2971800"/>
          <a:ext cx="47246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2971800"/>
                    <a:ext cx="4724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62120" y="4038480"/>
          <a:ext cx="990360" cy="52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038480"/>
                    <a:ext cx="9903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981080" y="3733920"/>
            <a:ext cx="152640" cy="129528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362320" y="3657600"/>
          <a:ext cx="441936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3657600"/>
                    <a:ext cx="4419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362320" y="4419720"/>
          <a:ext cx="4114800" cy="663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4419720"/>
                    <a:ext cx="41148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762120" y="5562720"/>
          <a:ext cx="990360" cy="684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5562720"/>
                    <a:ext cx="9903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905120" y="541008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362320" y="5334120"/>
          <a:ext cx="44956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5334120"/>
                    <a:ext cx="44956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362320" y="6095880"/>
          <a:ext cx="4647960" cy="53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2320" y="6095880"/>
                    <a:ext cx="4647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09:18:54Z</dcterms:created>
  <dc:creator>Gcm</dc:creator>
  <dc:description/>
  <dc:language>en-US</dc:language>
  <cp:lastModifiedBy>USER</cp:lastModifiedBy>
  <dcterms:modified xsi:type="dcterms:W3CDTF">2015-08-07T08:51:36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