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41360" y="121320"/>
            <a:ext cx="7407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32000" y="836280"/>
            <a:ext cx="74880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332000" y="3882600"/>
            <a:ext cx="74880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41360" y="121320"/>
            <a:ext cx="7407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836280"/>
            <a:ext cx="36540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9240" y="836280"/>
            <a:ext cx="36540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32000" y="3882600"/>
            <a:ext cx="36540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69240" y="3882600"/>
            <a:ext cx="36540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41360" y="121320"/>
            <a:ext cx="7407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32000" y="836280"/>
            <a:ext cx="24109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63880" y="836280"/>
            <a:ext cx="24109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95760" y="836280"/>
            <a:ext cx="24109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332000" y="3882600"/>
            <a:ext cx="24109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863880" y="3882600"/>
            <a:ext cx="24109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95760" y="3882600"/>
            <a:ext cx="24109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41360" y="121320"/>
            <a:ext cx="7407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32000" y="836280"/>
            <a:ext cx="748800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1360" y="121320"/>
            <a:ext cx="7407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32000" y="836280"/>
            <a:ext cx="7488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41360" y="121320"/>
            <a:ext cx="7407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32000" y="836280"/>
            <a:ext cx="3654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69240" y="836280"/>
            <a:ext cx="3654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41360" y="121320"/>
            <a:ext cx="7407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41360" y="188640"/>
            <a:ext cx="740736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1360" y="121320"/>
            <a:ext cx="7407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836280"/>
            <a:ext cx="36540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69240" y="836280"/>
            <a:ext cx="3654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32000" y="3882600"/>
            <a:ext cx="36540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41360" y="121320"/>
            <a:ext cx="7407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332000" y="836280"/>
            <a:ext cx="748800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41360" y="121320"/>
            <a:ext cx="7407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32000" y="836280"/>
            <a:ext cx="3654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69240" y="836280"/>
            <a:ext cx="36540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69240" y="3882600"/>
            <a:ext cx="36540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41360" y="121320"/>
            <a:ext cx="7407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32000" y="836280"/>
            <a:ext cx="36540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9240" y="836280"/>
            <a:ext cx="36540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32000" y="3882600"/>
            <a:ext cx="74880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41360" y="121320"/>
            <a:ext cx="7407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32000" y="836280"/>
            <a:ext cx="74880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332000" y="3882600"/>
            <a:ext cx="74880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41360" y="121320"/>
            <a:ext cx="7407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32000" y="836280"/>
            <a:ext cx="36540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9240" y="836280"/>
            <a:ext cx="36540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32000" y="3882600"/>
            <a:ext cx="36540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69240" y="3882600"/>
            <a:ext cx="36540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41360" y="121320"/>
            <a:ext cx="7407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836280"/>
            <a:ext cx="24109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63880" y="836280"/>
            <a:ext cx="24109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95760" y="836280"/>
            <a:ext cx="24109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332000" y="3882600"/>
            <a:ext cx="24109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863880" y="3882600"/>
            <a:ext cx="24109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395760" y="3882600"/>
            <a:ext cx="24109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41360" y="121320"/>
            <a:ext cx="7407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332000" y="836280"/>
            <a:ext cx="7488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41360" y="121320"/>
            <a:ext cx="7407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32000" y="836280"/>
            <a:ext cx="3654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69240" y="836280"/>
            <a:ext cx="3654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41360" y="121320"/>
            <a:ext cx="7407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341360" y="188640"/>
            <a:ext cx="740736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41360" y="121320"/>
            <a:ext cx="7407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32000" y="836280"/>
            <a:ext cx="36540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69240" y="836280"/>
            <a:ext cx="3654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332000" y="3882600"/>
            <a:ext cx="36540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41360" y="121320"/>
            <a:ext cx="7407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32000" y="836280"/>
            <a:ext cx="3654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9240" y="836280"/>
            <a:ext cx="36540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69240" y="3882600"/>
            <a:ext cx="36540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41360" y="121320"/>
            <a:ext cx="7407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32000" y="836280"/>
            <a:ext cx="36540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9240" y="836280"/>
            <a:ext cx="36540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32000" y="3882600"/>
            <a:ext cx="74880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1360" y="188640"/>
            <a:ext cx="740736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836280"/>
            <a:ext cx="7488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111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111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1360" y="188640"/>
            <a:ext cx="740736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332000" y="836280"/>
            <a:ext cx="7488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111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111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4720" y="1628640"/>
            <a:ext cx="582912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单击此处添加标题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6920" y="259920"/>
            <a:ext cx="6985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24000" y="1528920"/>
            <a:ext cx="66312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8000" y="188640"/>
            <a:ext cx="7056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63280" y="1052280"/>
            <a:ext cx="705636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7T04:28:03Z</dcterms:created>
  <dc:creator>airfly</dc:creator>
  <dc:description/>
  <dc:language>en-US</dc:language>
  <cp:lastModifiedBy>jccook</cp:lastModifiedBy>
  <dcterms:modified xsi:type="dcterms:W3CDTF">2014-08-29T07:42:51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