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2E4-3672-4B6C-8626-D577B69C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2EF-F4D0-41E5-8924-3897417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B6F-F0FA-4B28-9E90-2B9178D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A76-713F-41EC-AFAF-6A42D228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A90-BA8C-4C42-B5F5-69E6525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CA1-0B88-4854-AAE6-77FEF5DD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A2A-476A-4907-999B-7F6B46F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4AA-2041-4623-A108-21F81DEC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F8B-EC50-495E-9EAC-2FDDFF43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C06-02DF-44A1-BA46-BCE6E99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080-9AE2-42E9-93E8-2F3BB593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814-9068-49A6-8B14-ECCCDEE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EC7-8833-4A07-85E7-FCD82DECD7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F58-F615-441E-A212-54EB93927F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8.png"/><Relationship Id="rId65" Type="http://schemas.openxmlformats.org/officeDocument/2006/relationships/image" Target="../media/image9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29"/>
          <p:cNvSpPr/>
          <p:nvPr/>
        </p:nvSpPr>
        <p:spPr>
          <a:xfrm>
            <a:off x="5286240" y="500040"/>
            <a:ext cx="71640" cy="214200"/>
          </a:xfrm>
          <a:custGeom>
            <a:avLst/>
            <a:gdLst>
              <a:gd name="textAreaLeft" fmla="*/ 0 w 71640"/>
              <a:gd name="textAreaRight" fmla="*/ 72000 w 71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28"/>
          <p:cNvSpPr/>
          <p:nvPr/>
        </p:nvSpPr>
        <p:spPr>
          <a:xfrm>
            <a:off x="5500800" y="1285920"/>
            <a:ext cx="71280" cy="214200"/>
          </a:xfrm>
          <a:custGeom>
            <a:avLst/>
            <a:gdLst>
              <a:gd name="textAreaLeft" fmla="*/ 0 w 71280"/>
              <a:gd name="textAreaRight" fmla="*/ 71640 w 71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440" y="5921280"/>
            <a:ext cx="18045360" cy="293760"/>
            <a:chOff x="28440" y="5921280"/>
            <a:chExt cx="18045360" cy="293760"/>
          </a:xfrm>
        </p:grpSpPr>
        <p:sp>
          <p:nvSpPr>
            <p:cNvPr id="44" name="任意多边形 22"/>
            <p:cNvSpPr/>
            <p:nvPr/>
          </p:nvSpPr>
          <p:spPr>
            <a:xfrm>
              <a:off x="28440" y="5921280"/>
              <a:ext cx="9282240" cy="265320"/>
            </a:xfrm>
            <a:custGeom>
              <a:avLst/>
              <a:gdLst>
                <a:gd name="textAreaLeft" fmla="*/ 0 w 9282240"/>
                <a:gd name="textAreaRight" fmla="*/ 9282600 w 9282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9282546" h="265546">
                  <a:moveTo>
                    <a:pt x="0" y="256309"/>
                  </a:moveTo>
                  <a:lnTo>
                    <a:pt x="3879273" y="256309"/>
                  </a:lnTo>
                  <a:cubicBezTo>
                    <a:pt x="4999182" y="237836"/>
                    <a:pt x="6142182" y="184727"/>
                    <a:pt x="6719455" y="145473"/>
                  </a:cubicBezTo>
                  <a:cubicBezTo>
                    <a:pt x="7296728" y="106219"/>
                    <a:pt x="7174346" y="41564"/>
                    <a:pt x="7342909" y="20782"/>
                  </a:cubicBezTo>
                  <a:cubicBezTo>
                    <a:pt x="7511473" y="0"/>
                    <a:pt x="7580745" y="6928"/>
                    <a:pt x="7730836" y="20782"/>
                  </a:cubicBezTo>
                  <a:cubicBezTo>
                    <a:pt x="7880927" y="34637"/>
                    <a:pt x="8070273" y="66964"/>
                    <a:pt x="8243455" y="103909"/>
                  </a:cubicBezTo>
                  <a:cubicBezTo>
                    <a:pt x="8416637" y="140854"/>
                    <a:pt x="8608291" y="219364"/>
                    <a:pt x="8769927" y="242455"/>
                  </a:cubicBezTo>
                  <a:cubicBezTo>
                    <a:pt x="8931563" y="265546"/>
                    <a:pt x="9213273" y="242455"/>
                    <a:pt x="9213273" y="242455"/>
                  </a:cubicBezTo>
                  <a:lnTo>
                    <a:pt x="9282546" y="242455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46"/>
            <p:cNvSpPr/>
            <p:nvPr/>
          </p:nvSpPr>
          <p:spPr>
            <a:xfrm>
              <a:off x="8930160" y="6169680"/>
              <a:ext cx="9143640" cy="453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427018" h="30018">
                  <a:moveTo>
                    <a:pt x="0" y="0"/>
                  </a:moveTo>
                  <a:lnTo>
                    <a:pt x="318655" y="13854"/>
                  </a:lnTo>
                  <a:lnTo>
                    <a:pt x="803564" y="27709"/>
                  </a:lnTo>
                  <a:cubicBezTo>
                    <a:pt x="988291" y="30018"/>
                    <a:pt x="1207654" y="28863"/>
                    <a:pt x="1427018" y="2770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250"/>
          <p:cNvSpPr/>
          <p:nvPr/>
        </p:nvSpPr>
        <p:spPr>
          <a:xfrm>
            <a:off x="5786280" y="4071960"/>
            <a:ext cx="357480" cy="357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27"/>
          <p:cNvSpPr/>
          <p:nvPr/>
        </p:nvSpPr>
        <p:spPr>
          <a:xfrm>
            <a:off x="5143680" y="2571840"/>
            <a:ext cx="642600" cy="12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6"/>
          <p:cNvSpPr/>
          <p:nvPr/>
        </p:nvSpPr>
        <p:spPr>
          <a:xfrm>
            <a:off x="3500280" y="313848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5"/>
          <p:cNvSpPr/>
          <p:nvPr/>
        </p:nvSpPr>
        <p:spPr>
          <a:xfrm>
            <a:off x="3500280" y="242424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91"/>
          <p:cNvSpPr/>
          <p:nvPr/>
        </p:nvSpPr>
        <p:spPr>
          <a:xfrm>
            <a:off x="3714840" y="3139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4"/>
          <p:cNvSpPr/>
          <p:nvPr/>
        </p:nvSpPr>
        <p:spPr>
          <a:xfrm>
            <a:off x="4000680" y="31399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7"/>
          <p:cNvSpPr/>
          <p:nvPr/>
        </p:nvSpPr>
        <p:spPr>
          <a:xfrm>
            <a:off x="4429080" y="31399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7"/>
          <p:cNvSpPr/>
          <p:nvPr/>
        </p:nvSpPr>
        <p:spPr>
          <a:xfrm>
            <a:off x="3714840" y="25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H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24" descr=""/>
          <p:cNvPicPr/>
          <p:nvPr/>
        </p:nvPicPr>
        <p:blipFill>
          <a:blip r:embed="rId1"/>
          <a:stretch/>
        </p:blipFill>
        <p:spPr>
          <a:xfrm>
            <a:off x="5143680" y="2428920"/>
            <a:ext cx="642600" cy="1428840"/>
          </a:xfrm>
          <a:prstGeom prst="rect">
            <a:avLst/>
          </a:prstGeom>
          <a:ln w="0">
            <a:noFill/>
          </a:ln>
        </p:spPr>
      </p:pic>
      <p:sp>
        <p:nvSpPr>
          <p:cNvPr id="55" name="直接连接符 231"/>
          <p:cNvSpPr/>
          <p:nvPr/>
        </p:nvSpPr>
        <p:spPr>
          <a:xfrm>
            <a:off x="5500800" y="3571920"/>
            <a:ext cx="285480" cy="1429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248"/>
          <p:cNvSpPr/>
          <p:nvPr/>
        </p:nvSpPr>
        <p:spPr>
          <a:xfrm>
            <a:off x="5500800" y="3571920"/>
            <a:ext cx="500040" cy="861840"/>
          </a:xfrm>
          <a:custGeom>
            <a:avLst/>
            <a:gdLst>
              <a:gd name="textAreaLeft" fmla="*/ 0 w 500040"/>
              <a:gd name="textAreaRight" fmla="*/ 500400 w 50004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421240" h="719191">
                <a:moveTo>
                  <a:pt x="0" y="0"/>
                </a:moveTo>
                <a:cubicBezTo>
                  <a:pt x="101029" y="53939"/>
                  <a:pt x="202059" y="107879"/>
                  <a:pt x="256854" y="143838"/>
                </a:cubicBezTo>
                <a:cubicBezTo>
                  <a:pt x="311650" y="179798"/>
                  <a:pt x="308225" y="179797"/>
                  <a:pt x="328773" y="215757"/>
                </a:cubicBezTo>
                <a:cubicBezTo>
                  <a:pt x="349321" y="251717"/>
                  <a:pt x="364733" y="275690"/>
                  <a:pt x="380144" y="359596"/>
                </a:cubicBezTo>
                <a:cubicBezTo>
                  <a:pt x="395555" y="443502"/>
                  <a:pt x="408397" y="581346"/>
                  <a:pt x="421240" y="719191"/>
                </a:cubicBezTo>
              </a:path>
            </a:pathLst>
          </a:custGeom>
          <a:noFill/>
          <a:ln w="284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58" name="圆柱形 249"/>
            <p:cNvSpPr/>
            <p:nvPr/>
          </p:nvSpPr>
          <p:spPr>
            <a:xfrm>
              <a:off x="5786280" y="3929040"/>
              <a:ext cx="35712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斜纹 17"/>
            <p:cNvSpPr/>
            <p:nvPr/>
          </p:nvSpPr>
          <p:spPr>
            <a:xfrm>
              <a:off x="6143760" y="4071960"/>
              <a:ext cx="357120" cy="1429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7190" h="142876">
                  <a:moveTo>
                    <a:pt x="0" y="71438"/>
                  </a:moveTo>
                  <a:lnTo>
                    <a:pt x="178595" y="0"/>
                  </a:lnTo>
                  <a:lnTo>
                    <a:pt x="357190" y="0"/>
                  </a:lnTo>
                  <a:lnTo>
                    <a:pt x="0" y="142876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空心弧 18"/>
            <p:cNvSpPr/>
            <p:nvPr/>
          </p:nvSpPr>
          <p:spPr>
            <a:xfrm rot="16200000">
              <a:off x="5643360" y="3999960"/>
              <a:ext cx="214200" cy="357120"/>
            </a:xfrm>
            <a:prstGeom prst="blockArc">
              <a:avLst>
                <a:gd name="adj1" fmla="val 10446422"/>
                <a:gd name="adj2" fmla="val 353578"/>
                <a:gd name="adj3" fmla="val 17185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20" descr=""/>
          <p:cNvPicPr/>
          <p:nvPr/>
        </p:nvPicPr>
        <p:blipFill>
          <a:blip r:embed="rId2"/>
          <a:stretch/>
        </p:blipFill>
        <p:spPr>
          <a:xfrm rot="19887600">
            <a:off x="9037440" y="180000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62" name="任意多边形 25"/>
          <p:cNvSpPr/>
          <p:nvPr/>
        </p:nvSpPr>
        <p:spPr>
          <a:xfrm>
            <a:off x="6438960" y="5929200"/>
            <a:ext cx="2276280" cy="166680"/>
          </a:xfrm>
          <a:custGeom>
            <a:avLst/>
            <a:gdLst>
              <a:gd name="textAreaLeft" fmla="*/ 0 w 2276280"/>
              <a:gd name="textAreaRight" fmla="*/ 2276640 w 22762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2078182" h="166254">
                <a:moveTo>
                  <a:pt x="0" y="145472"/>
                </a:moveTo>
                <a:cubicBezTo>
                  <a:pt x="193963" y="139699"/>
                  <a:pt x="387927" y="133926"/>
                  <a:pt x="512618" y="117763"/>
                </a:cubicBezTo>
                <a:cubicBezTo>
                  <a:pt x="637309" y="101600"/>
                  <a:pt x="692728" y="66964"/>
                  <a:pt x="748146" y="48491"/>
                </a:cubicBezTo>
                <a:cubicBezTo>
                  <a:pt x="803564" y="30018"/>
                  <a:pt x="789710" y="13854"/>
                  <a:pt x="845128" y="6927"/>
                </a:cubicBezTo>
                <a:cubicBezTo>
                  <a:pt x="900546" y="0"/>
                  <a:pt x="974437" y="2309"/>
                  <a:pt x="1080655" y="6927"/>
                </a:cubicBezTo>
                <a:cubicBezTo>
                  <a:pt x="1186873" y="11545"/>
                  <a:pt x="1336964" y="11545"/>
                  <a:pt x="1482437" y="34636"/>
                </a:cubicBezTo>
                <a:cubicBezTo>
                  <a:pt x="1627910" y="57727"/>
                  <a:pt x="1854200" y="124690"/>
                  <a:pt x="1953491" y="145472"/>
                </a:cubicBezTo>
                <a:cubicBezTo>
                  <a:pt x="2052782" y="166254"/>
                  <a:pt x="2065482" y="162790"/>
                  <a:pt x="2078182" y="159327"/>
                </a:cubicBezTo>
              </a:path>
            </a:pathLst>
          </a:custGeom>
          <a:noFill/>
          <a:ln w="9540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64" name="矩形 26"/>
            <p:cNvSpPr/>
            <p:nvPr/>
          </p:nvSpPr>
          <p:spPr>
            <a:xfrm>
              <a:off x="5786280" y="4071960"/>
              <a:ext cx="357120" cy="3571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572080" y="3929040"/>
              <a:ext cx="928800" cy="500040"/>
              <a:chOff x="5572080" y="3929040"/>
              <a:chExt cx="928800" cy="500040"/>
            </a:xfrm>
          </p:grpSpPr>
          <p:sp>
            <p:nvSpPr>
              <p:cNvPr id="66" name="圆柱形 28"/>
              <p:cNvSpPr/>
              <p:nvPr/>
            </p:nvSpPr>
            <p:spPr>
              <a:xfrm>
                <a:off x="5786280" y="3929040"/>
                <a:ext cx="357120" cy="5000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斜纹 29"/>
              <p:cNvSpPr/>
              <p:nvPr/>
            </p:nvSpPr>
            <p:spPr>
              <a:xfrm>
                <a:off x="6143760" y="4071960"/>
                <a:ext cx="357120" cy="1429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7190" h="142876">
                    <a:moveTo>
                      <a:pt x="0" y="71438"/>
                    </a:moveTo>
                    <a:lnTo>
                      <a:pt x="178595" y="0"/>
                    </a:lnTo>
                    <a:lnTo>
                      <a:pt x="357190" y="0"/>
                    </a:lnTo>
                    <a:lnTo>
                      <a:pt x="0" y="142876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空心弧 30"/>
              <p:cNvSpPr/>
              <p:nvPr/>
            </p:nvSpPr>
            <p:spPr>
              <a:xfrm rot="16200000">
                <a:off x="5643360" y="3999960"/>
                <a:ext cx="214200" cy="357120"/>
              </a:xfrm>
              <a:prstGeom prst="blockArc">
                <a:avLst>
                  <a:gd name="adj1" fmla="val 10446422"/>
                  <a:gd name="adj2" fmla="val 353578"/>
                  <a:gd name="adj3" fmla="val 17185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33"/>
          <p:cNvSpPr/>
          <p:nvPr/>
        </p:nvSpPr>
        <p:spPr>
          <a:xfrm rot="5628600">
            <a:off x="6703200" y="3772440"/>
            <a:ext cx="3571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00880" y="3714840"/>
            <a:ext cx="928800" cy="500040"/>
            <a:chOff x="6500880" y="3714840"/>
            <a:chExt cx="928800" cy="500040"/>
          </a:xfrm>
        </p:grpSpPr>
        <p:sp>
          <p:nvSpPr>
            <p:cNvPr id="71" name="圆柱形 35"/>
            <p:cNvSpPr/>
            <p:nvPr/>
          </p:nvSpPr>
          <p:spPr>
            <a:xfrm>
              <a:off x="6715080" y="3714840"/>
              <a:ext cx="35712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斜纹 36"/>
            <p:cNvSpPr/>
            <p:nvPr/>
          </p:nvSpPr>
          <p:spPr>
            <a:xfrm>
              <a:off x="7072560" y="3857760"/>
              <a:ext cx="357120" cy="1429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7190" h="142876">
                  <a:moveTo>
                    <a:pt x="0" y="71438"/>
                  </a:moveTo>
                  <a:lnTo>
                    <a:pt x="178595" y="0"/>
                  </a:lnTo>
                  <a:lnTo>
                    <a:pt x="357190" y="0"/>
                  </a:lnTo>
                  <a:lnTo>
                    <a:pt x="0" y="142876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空心弧 37"/>
            <p:cNvSpPr/>
            <p:nvPr/>
          </p:nvSpPr>
          <p:spPr>
            <a:xfrm rot="16200000">
              <a:off x="6572160" y="3785760"/>
              <a:ext cx="214200" cy="357120"/>
            </a:xfrm>
            <a:prstGeom prst="blockArc">
              <a:avLst>
                <a:gd name="adj1" fmla="val 10446422"/>
                <a:gd name="adj2" fmla="val 353578"/>
                <a:gd name="adj3" fmla="val 17185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任意多边形 38"/>
          <p:cNvSpPr/>
          <p:nvPr/>
        </p:nvSpPr>
        <p:spPr>
          <a:xfrm>
            <a:off x="7215120" y="4214880"/>
            <a:ext cx="530280" cy="1687320"/>
          </a:xfrm>
          <a:custGeom>
            <a:avLst/>
            <a:gdLst>
              <a:gd name="textAreaLeft" fmla="*/ 0 w 530280"/>
              <a:gd name="textAreaRight" fmla="*/ 530640 w 53028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12618" h="1620981">
                <a:moveTo>
                  <a:pt x="0" y="0"/>
                </a:moveTo>
                <a:cubicBezTo>
                  <a:pt x="88900" y="24245"/>
                  <a:pt x="177800" y="48491"/>
                  <a:pt x="263236" y="318654"/>
                </a:cubicBezTo>
                <a:cubicBezTo>
                  <a:pt x="348672" y="588817"/>
                  <a:pt x="430645" y="1104899"/>
                  <a:pt x="512618" y="1620981"/>
                </a:cubicBezTo>
              </a:path>
            </a:pathLst>
          </a:custGeom>
          <a:noFill/>
          <a:ln w="381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629760" y="3493440"/>
            <a:ext cx="651240" cy="886680"/>
            <a:chOff x="6629760" y="3493440"/>
            <a:chExt cx="651240" cy="886680"/>
          </a:xfrm>
        </p:grpSpPr>
        <p:sp>
          <p:nvSpPr>
            <p:cNvPr id="76" name="圆柱形 48"/>
            <p:cNvSpPr/>
            <p:nvPr/>
          </p:nvSpPr>
          <p:spPr>
            <a:xfrm rot="3715800">
              <a:off x="6755760" y="3640320"/>
              <a:ext cx="35712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斜纹 49"/>
            <p:cNvSpPr/>
            <p:nvPr/>
          </p:nvSpPr>
          <p:spPr>
            <a:xfrm rot="3715800">
              <a:off x="6955200" y="4117320"/>
              <a:ext cx="357120" cy="1429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7190" h="142876">
                  <a:moveTo>
                    <a:pt x="0" y="71438"/>
                  </a:moveTo>
                  <a:lnTo>
                    <a:pt x="178595" y="0"/>
                  </a:lnTo>
                  <a:lnTo>
                    <a:pt x="357190" y="0"/>
                  </a:lnTo>
                  <a:lnTo>
                    <a:pt x="0" y="142876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空心弧 50"/>
            <p:cNvSpPr/>
            <p:nvPr/>
          </p:nvSpPr>
          <p:spPr>
            <a:xfrm rot="19916400">
              <a:off x="6726600" y="3522600"/>
              <a:ext cx="214200" cy="357120"/>
            </a:xfrm>
            <a:prstGeom prst="blockArc">
              <a:avLst>
                <a:gd name="adj1" fmla="val 10446422"/>
                <a:gd name="adj2" fmla="val 353578"/>
                <a:gd name="adj3" fmla="val 17185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467480" y="5357520"/>
            <a:ext cx="462240" cy="571680"/>
            <a:chOff x="7467480" y="5357520"/>
            <a:chExt cx="462240" cy="571680"/>
          </a:xfrm>
        </p:grpSpPr>
        <p:sp>
          <p:nvSpPr>
            <p:cNvPr id="80" name="任意多边形 54"/>
            <p:cNvSpPr/>
            <p:nvPr/>
          </p:nvSpPr>
          <p:spPr>
            <a:xfrm>
              <a:off x="7715160" y="5428800"/>
              <a:ext cx="214560" cy="1965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467480" y="5357520"/>
              <a:ext cx="369360" cy="571680"/>
              <a:chOff x="7467480" y="5357520"/>
              <a:chExt cx="369360" cy="5716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467480" y="5357520"/>
                <a:ext cx="369360" cy="571680"/>
                <a:chOff x="7467480" y="5357520"/>
                <a:chExt cx="369360" cy="571680"/>
              </a:xfrm>
            </p:grpSpPr>
            <p:sp>
              <p:nvSpPr>
                <p:cNvPr id="83" name="任意多边形 51"/>
                <p:cNvSpPr/>
                <p:nvPr/>
              </p:nvSpPr>
              <p:spPr>
                <a:xfrm rot="1593000">
                  <a:off x="7490880" y="5419800"/>
                  <a:ext cx="322200" cy="18108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任意多边形 55"/>
                <p:cNvSpPr/>
                <p:nvPr/>
              </p:nvSpPr>
              <p:spPr>
                <a:xfrm>
                  <a:off x="7726320" y="5545800"/>
                  <a:ext cx="45720" cy="38340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任意多边形 57"/>
              <p:cNvSpPr/>
              <p:nvPr/>
            </p:nvSpPr>
            <p:spPr>
              <a:xfrm>
                <a:off x="7720200" y="549972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图片 225" descr=""/>
          <p:cNvPicPr/>
          <p:nvPr/>
        </p:nvPicPr>
        <p:blipFill>
          <a:blip r:embed="rId3"/>
          <a:stretch/>
        </p:blipFill>
        <p:spPr>
          <a:xfrm>
            <a:off x="1143000" y="-212760"/>
            <a:ext cx="9144000" cy="27846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6858000" y="5715000"/>
            <a:ext cx="142920" cy="369720"/>
            <a:chOff x="6858000" y="5715000"/>
            <a:chExt cx="142920" cy="369720"/>
          </a:xfrm>
        </p:grpSpPr>
        <p:sp>
          <p:nvSpPr>
            <p:cNvPr id="88" name="任意多边形 78"/>
            <p:cNvSpPr/>
            <p:nvPr/>
          </p:nvSpPr>
          <p:spPr>
            <a:xfrm>
              <a:off x="68580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79"/>
            <p:cNvSpPr/>
            <p:nvPr/>
          </p:nvSpPr>
          <p:spPr>
            <a:xfrm>
              <a:off x="69058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80"/>
            <p:cNvSpPr/>
            <p:nvPr/>
          </p:nvSpPr>
          <p:spPr>
            <a:xfrm>
              <a:off x="69238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72200" y="5630760"/>
            <a:ext cx="142920" cy="370080"/>
            <a:chOff x="7072200" y="5630760"/>
            <a:chExt cx="142920" cy="370080"/>
          </a:xfrm>
        </p:grpSpPr>
        <p:sp>
          <p:nvSpPr>
            <p:cNvPr id="92" name="任意多边形 94"/>
            <p:cNvSpPr/>
            <p:nvPr/>
          </p:nvSpPr>
          <p:spPr>
            <a:xfrm>
              <a:off x="7072200" y="566136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5"/>
            <p:cNvSpPr/>
            <p:nvPr/>
          </p:nvSpPr>
          <p:spPr>
            <a:xfrm>
              <a:off x="7120080" y="563076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96"/>
            <p:cNvSpPr/>
            <p:nvPr/>
          </p:nvSpPr>
          <p:spPr>
            <a:xfrm>
              <a:off x="7138080" y="569844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15120" y="5572080"/>
            <a:ext cx="142920" cy="370080"/>
            <a:chOff x="7215120" y="5572080"/>
            <a:chExt cx="142920" cy="370080"/>
          </a:xfrm>
        </p:grpSpPr>
        <p:sp>
          <p:nvSpPr>
            <p:cNvPr id="96" name="任意多边形 98"/>
            <p:cNvSpPr/>
            <p:nvPr/>
          </p:nvSpPr>
          <p:spPr>
            <a:xfrm>
              <a:off x="72151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99"/>
            <p:cNvSpPr/>
            <p:nvPr/>
          </p:nvSpPr>
          <p:spPr>
            <a:xfrm>
              <a:off x="726300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0"/>
            <p:cNvSpPr/>
            <p:nvPr/>
          </p:nvSpPr>
          <p:spPr>
            <a:xfrm>
              <a:off x="72810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286760" y="5572080"/>
            <a:ext cx="142920" cy="370080"/>
            <a:chOff x="7286760" y="5572080"/>
            <a:chExt cx="142920" cy="370080"/>
          </a:xfrm>
        </p:grpSpPr>
        <p:sp>
          <p:nvSpPr>
            <p:cNvPr id="100" name="任意多边形 102"/>
            <p:cNvSpPr/>
            <p:nvPr/>
          </p:nvSpPr>
          <p:spPr>
            <a:xfrm>
              <a:off x="728676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3"/>
            <p:cNvSpPr/>
            <p:nvPr/>
          </p:nvSpPr>
          <p:spPr>
            <a:xfrm>
              <a:off x="733464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4"/>
            <p:cNvSpPr/>
            <p:nvPr/>
          </p:nvSpPr>
          <p:spPr>
            <a:xfrm>
              <a:off x="735264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929720" y="5572080"/>
            <a:ext cx="142560" cy="370080"/>
            <a:chOff x="7929720" y="5572080"/>
            <a:chExt cx="142560" cy="370080"/>
          </a:xfrm>
        </p:grpSpPr>
        <p:sp>
          <p:nvSpPr>
            <p:cNvPr id="104" name="任意多边形 106"/>
            <p:cNvSpPr/>
            <p:nvPr/>
          </p:nvSpPr>
          <p:spPr>
            <a:xfrm>
              <a:off x="79297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07"/>
            <p:cNvSpPr/>
            <p:nvPr/>
          </p:nvSpPr>
          <p:spPr>
            <a:xfrm>
              <a:off x="7977600" y="5572080"/>
              <a:ext cx="94680" cy="370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08"/>
            <p:cNvSpPr/>
            <p:nvPr/>
          </p:nvSpPr>
          <p:spPr>
            <a:xfrm>
              <a:off x="79956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8072280" y="5643720"/>
            <a:ext cx="142920" cy="369720"/>
            <a:chOff x="8072280" y="5643720"/>
            <a:chExt cx="142920" cy="369720"/>
          </a:xfrm>
        </p:grpSpPr>
        <p:sp>
          <p:nvSpPr>
            <p:cNvPr id="108" name="任意多边形 110"/>
            <p:cNvSpPr/>
            <p:nvPr/>
          </p:nvSpPr>
          <p:spPr>
            <a:xfrm>
              <a:off x="807228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11"/>
            <p:cNvSpPr/>
            <p:nvPr/>
          </p:nvSpPr>
          <p:spPr>
            <a:xfrm>
              <a:off x="812016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12"/>
            <p:cNvSpPr/>
            <p:nvPr/>
          </p:nvSpPr>
          <p:spPr>
            <a:xfrm>
              <a:off x="813816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58120" y="5715000"/>
            <a:ext cx="142920" cy="369720"/>
            <a:chOff x="8358120" y="5715000"/>
            <a:chExt cx="142920" cy="369720"/>
          </a:xfrm>
        </p:grpSpPr>
        <p:sp>
          <p:nvSpPr>
            <p:cNvPr id="112" name="任意多边形 114"/>
            <p:cNvSpPr/>
            <p:nvPr/>
          </p:nvSpPr>
          <p:spPr>
            <a:xfrm>
              <a:off x="835812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15"/>
            <p:cNvSpPr/>
            <p:nvPr/>
          </p:nvSpPr>
          <p:spPr>
            <a:xfrm>
              <a:off x="840600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16"/>
            <p:cNvSpPr/>
            <p:nvPr/>
          </p:nvSpPr>
          <p:spPr>
            <a:xfrm>
              <a:off x="842400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215200" y="5643720"/>
            <a:ext cx="142920" cy="369720"/>
            <a:chOff x="8215200" y="5643720"/>
            <a:chExt cx="142920" cy="369720"/>
          </a:xfrm>
        </p:grpSpPr>
        <p:sp>
          <p:nvSpPr>
            <p:cNvPr id="116" name="任意多边形 118"/>
            <p:cNvSpPr/>
            <p:nvPr/>
          </p:nvSpPr>
          <p:spPr>
            <a:xfrm>
              <a:off x="821520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19"/>
            <p:cNvSpPr/>
            <p:nvPr/>
          </p:nvSpPr>
          <p:spPr>
            <a:xfrm>
              <a:off x="826308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20"/>
            <p:cNvSpPr/>
            <p:nvPr/>
          </p:nvSpPr>
          <p:spPr>
            <a:xfrm>
              <a:off x="828108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286840" y="5715000"/>
            <a:ext cx="142920" cy="369720"/>
            <a:chOff x="8286840" y="5715000"/>
            <a:chExt cx="142920" cy="369720"/>
          </a:xfrm>
        </p:grpSpPr>
        <p:sp>
          <p:nvSpPr>
            <p:cNvPr id="120" name="任意多边形 122"/>
            <p:cNvSpPr/>
            <p:nvPr/>
          </p:nvSpPr>
          <p:spPr>
            <a:xfrm>
              <a:off x="828684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23"/>
            <p:cNvSpPr/>
            <p:nvPr/>
          </p:nvSpPr>
          <p:spPr>
            <a:xfrm>
              <a:off x="833472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24"/>
            <p:cNvSpPr/>
            <p:nvPr/>
          </p:nvSpPr>
          <p:spPr>
            <a:xfrm>
              <a:off x="835272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00920" y="5643720"/>
            <a:ext cx="142920" cy="369720"/>
            <a:chOff x="7000920" y="5643720"/>
            <a:chExt cx="142920" cy="369720"/>
          </a:xfrm>
        </p:grpSpPr>
        <p:sp>
          <p:nvSpPr>
            <p:cNvPr id="124" name="任意多边形 126"/>
            <p:cNvSpPr/>
            <p:nvPr/>
          </p:nvSpPr>
          <p:spPr>
            <a:xfrm>
              <a:off x="70009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27"/>
            <p:cNvSpPr/>
            <p:nvPr/>
          </p:nvSpPr>
          <p:spPr>
            <a:xfrm>
              <a:off x="704880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28"/>
            <p:cNvSpPr/>
            <p:nvPr/>
          </p:nvSpPr>
          <p:spPr>
            <a:xfrm>
              <a:off x="70668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715080" y="5715000"/>
            <a:ext cx="142920" cy="369720"/>
            <a:chOff x="6715080" y="5715000"/>
            <a:chExt cx="142920" cy="369720"/>
          </a:xfrm>
        </p:grpSpPr>
        <p:sp>
          <p:nvSpPr>
            <p:cNvPr id="128" name="任意多边形 130"/>
            <p:cNvSpPr/>
            <p:nvPr/>
          </p:nvSpPr>
          <p:spPr>
            <a:xfrm>
              <a:off x="671508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31"/>
            <p:cNvSpPr/>
            <p:nvPr/>
          </p:nvSpPr>
          <p:spPr>
            <a:xfrm>
              <a:off x="676296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32"/>
            <p:cNvSpPr/>
            <p:nvPr/>
          </p:nvSpPr>
          <p:spPr>
            <a:xfrm>
              <a:off x="678096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86720" y="5643720"/>
            <a:ext cx="142560" cy="369720"/>
            <a:chOff x="6786720" y="5643720"/>
            <a:chExt cx="142560" cy="369720"/>
          </a:xfrm>
        </p:grpSpPr>
        <p:sp>
          <p:nvSpPr>
            <p:cNvPr id="132" name="任意多边形 134"/>
            <p:cNvSpPr/>
            <p:nvPr/>
          </p:nvSpPr>
          <p:spPr>
            <a:xfrm>
              <a:off x="67867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35"/>
            <p:cNvSpPr/>
            <p:nvPr/>
          </p:nvSpPr>
          <p:spPr>
            <a:xfrm>
              <a:off x="6834600" y="5643720"/>
              <a:ext cx="94680" cy="3697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36"/>
            <p:cNvSpPr/>
            <p:nvPr/>
          </p:nvSpPr>
          <p:spPr>
            <a:xfrm>
              <a:off x="68526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43800" y="5715000"/>
            <a:ext cx="142920" cy="369720"/>
            <a:chOff x="6643800" y="5715000"/>
            <a:chExt cx="142920" cy="369720"/>
          </a:xfrm>
        </p:grpSpPr>
        <p:sp>
          <p:nvSpPr>
            <p:cNvPr id="136" name="任意多边形 138"/>
            <p:cNvSpPr/>
            <p:nvPr/>
          </p:nvSpPr>
          <p:spPr>
            <a:xfrm>
              <a:off x="66438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39"/>
            <p:cNvSpPr/>
            <p:nvPr/>
          </p:nvSpPr>
          <p:spPr>
            <a:xfrm>
              <a:off x="66916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40"/>
            <p:cNvSpPr/>
            <p:nvPr/>
          </p:nvSpPr>
          <p:spPr>
            <a:xfrm>
              <a:off x="67096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143840" y="5572080"/>
            <a:ext cx="142920" cy="370080"/>
            <a:chOff x="7143840" y="5572080"/>
            <a:chExt cx="142920" cy="370080"/>
          </a:xfrm>
        </p:grpSpPr>
        <p:sp>
          <p:nvSpPr>
            <p:cNvPr id="140" name="任意多边形 142"/>
            <p:cNvSpPr/>
            <p:nvPr/>
          </p:nvSpPr>
          <p:spPr>
            <a:xfrm>
              <a:off x="714384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43"/>
            <p:cNvSpPr/>
            <p:nvPr/>
          </p:nvSpPr>
          <p:spPr>
            <a:xfrm>
              <a:off x="719172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44"/>
            <p:cNvSpPr/>
            <p:nvPr/>
          </p:nvSpPr>
          <p:spPr>
            <a:xfrm>
              <a:off x="720972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太阳形 145"/>
          <p:cNvSpPr/>
          <p:nvPr/>
        </p:nvSpPr>
        <p:spPr>
          <a:xfrm>
            <a:off x="-1212840" y="571680"/>
            <a:ext cx="156996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6"/>
          <p:cNvSpPr/>
          <p:nvPr/>
        </p:nvSpPr>
        <p:spPr>
          <a:xfrm>
            <a:off x="3500280" y="2824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华文行楷"/>
              </a:rPr>
              <a:t> </a:t>
            </a:r>
            <a:r>
              <a:rPr b="0" lang="en-US" sz="1600" spc="-1" strike="noStrike">
                <a:solidFill>
                  <a:srgbClr val="00b0f0"/>
                </a:solidFill>
                <a:latin typeface="Arial Black"/>
                <a:ea typeface="华文行楷"/>
              </a:rPr>
              <a:t>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8"/>
          <p:cNvSpPr/>
          <p:nvPr/>
        </p:nvSpPr>
        <p:spPr>
          <a:xfrm>
            <a:off x="2857680" y="40291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保护环境   人人有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9"/>
          <p:cNvSpPr/>
          <p:nvPr/>
        </p:nvSpPr>
        <p:spPr>
          <a:xfrm>
            <a:off x="6215040" y="46432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积攒绿色   储蓄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时间线 01.wav" descr=""/>
          <p:cNvPicPr/>
          <p:nvPr/>
        </p:nvPicPr>
        <p:blipFill>
          <a:blip r:embed="rId4"/>
          <a:stretch/>
        </p:blipFill>
        <p:spPr>
          <a:xfrm>
            <a:off x="-303120" y="292896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1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6.47698E-008 L -0.07778 0.00278 E">
                                      <p:cBhvr>
                                        <p:cTn id="24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301 L 0.00191 0.34158 E">
                                      <p:cBhvr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2581E-006 L 0.0125 0.45306 E">
                                      <p:cBhvr>
                                        <p:cTn id="34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" dur="10" fill="hold"/>
                                        <p:tgtEl>
                                          <p:spTgt spid="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382 0 C -0.05746 0.04051 -0.11111 0.08125 -0.17656 0.08889 C -0.24201 0.09653 -0.35972 0.05347 -0.39635 0.04653 E">
                                      <p:cBhvr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1"/>
                            </p:stCondLst>
                            <p:childTnLst>
                              <p:par>
                                <p:cTn id="4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1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1"/>
                            </p:stCondLst>
                            <p:childTnLst>
                              <p:par>
                                <p:cTn id="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4.74341E-006 C 0.09479 -0.04554 0.18976 -0.09108 0.35677 -0.10195 C 0.52379 -0.11281 0.76285 -0.089 1.00191 -0.06519 E">
                                      <p:cBhvr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254 0.04653 C -0.51597 0.01227 -0.63924 -0.02175 -0.76268 -0.02708 C -0.88611 -0.0324 -1.00955 -0.00879 -1.13282 0.01505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1"/>
                            </p:stCondLst>
                            <p:childTnLst>
                              <p:par>
                                <p:cTn id="8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151 -0.01829 0.03038 -0.03657 0.04705 -0.0419 C 0.06389 -0.04722 0.09184 -0.0331 0.09983 -0.03148 E">
                                      <p:cBhvr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1"/>
                            </p:stCondLst>
                            <p:childTnLst>
                              <p:par>
                                <p:cTn id="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002"/>
                            </p:stCondLst>
                            <p:childTnLst>
                              <p:par>
                                <p:cTn id="101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9502"/>
                            </p:stCondLst>
                            <p:childTnLst>
                              <p:par>
                                <p:cTn id="10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6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102"/>
                            </p:stCondLst>
                            <p:childTnLst>
                              <p:par>
                                <p:cTn id="1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602"/>
                            </p:stCondLst>
                            <p:childTnLst>
                              <p:par>
                                <p:cTn id="11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603"/>
                            </p:stCondLst>
                            <p:childTnLst>
                              <p:par>
                                <p:cTn id="1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9931 0.02014 -0.19792 0.04074 -0.27917 0.08912 C -0.36042 0.13703 -0.45348 0.25625 -0.4882 0.28981 E">
                                      <p:cBhvr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940">
                                      <p:cBhvr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1603"/>
                            </p:stCondLst>
                            <p:childTnLst>
                              <p:par>
                                <p:cTn id="13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任意多边形 140"/>
          <p:cNvSpPr/>
          <p:nvPr/>
        </p:nvSpPr>
        <p:spPr>
          <a:xfrm>
            <a:off x="0" y="5286240"/>
            <a:ext cx="7156440" cy="1590840"/>
          </a:xfrm>
          <a:custGeom>
            <a:avLst/>
            <a:gdLst>
              <a:gd name="textAreaLeft" fmla="*/ 0 w 7156440"/>
              <a:gd name="textAreaRight" fmla="*/ 7156800 w 715644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7156174" h="1490869">
                <a:moveTo>
                  <a:pt x="0" y="0"/>
                </a:moveTo>
                <a:lnTo>
                  <a:pt x="0" y="1451113"/>
                </a:lnTo>
                <a:lnTo>
                  <a:pt x="5963478" y="1490869"/>
                </a:lnTo>
                <a:lnTo>
                  <a:pt x="7156174" y="8547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26" descr=""/>
          <p:cNvPicPr/>
          <p:nvPr/>
        </p:nvPicPr>
        <p:blipFill>
          <a:blip r:embed="rId1"/>
          <a:stretch/>
        </p:blipFill>
        <p:spPr>
          <a:xfrm>
            <a:off x="128592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54" descr=""/>
          <p:cNvPicPr/>
          <p:nvPr/>
        </p:nvPicPr>
        <p:blipFill>
          <a:blip r:embed="rId2"/>
          <a:srcRect l="0" t="0" r="1220" b="16399"/>
          <a:stretch/>
        </p:blipFill>
        <p:spPr>
          <a:xfrm rot="20896800">
            <a:off x="4744800" y="-330120"/>
            <a:ext cx="11796480" cy="5732280"/>
          </a:xfrm>
          <a:prstGeom prst="rect">
            <a:avLst/>
          </a:prstGeom>
          <a:ln w="0">
            <a:noFill/>
          </a:ln>
        </p:spPr>
      </p:pic>
      <p:sp>
        <p:nvSpPr>
          <p:cNvPr id="151" name="直接连接符 51"/>
          <p:cNvSpPr/>
          <p:nvPr/>
        </p:nvSpPr>
        <p:spPr>
          <a:xfrm>
            <a:off x="5000760" y="5856120"/>
            <a:ext cx="414324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1"/>
          <p:cNvSpPr/>
          <p:nvPr/>
        </p:nvSpPr>
        <p:spPr>
          <a:xfrm>
            <a:off x="0" y="5349960"/>
            <a:ext cx="7236000" cy="86508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7053942" h="1014548">
                <a:moveTo>
                  <a:pt x="0" y="21771"/>
                </a:moveTo>
                <a:cubicBezTo>
                  <a:pt x="992777" y="10885"/>
                  <a:pt x="1985554" y="0"/>
                  <a:pt x="3161211" y="165463"/>
                </a:cubicBezTo>
                <a:cubicBezTo>
                  <a:pt x="4336868" y="330926"/>
                  <a:pt x="5695405" y="672737"/>
                  <a:pt x="7053942" y="1014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梯形 32"/>
          <p:cNvSpPr/>
          <p:nvPr/>
        </p:nvSpPr>
        <p:spPr>
          <a:xfrm flipV="1">
            <a:off x="1835280" y="4583160"/>
            <a:ext cx="360360" cy="936720"/>
          </a:xfrm>
          <a:custGeom>
            <a:avLst/>
            <a:gdLst>
              <a:gd name="textAreaLeft" fmla="*/ 79200 w 360360"/>
              <a:gd name="textAreaRight" fmla="*/ 281160 w 36036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18920" y="4223880"/>
            <a:ext cx="865440" cy="864000"/>
            <a:chOff x="1618920" y="4223880"/>
            <a:chExt cx="865440" cy="864000"/>
          </a:xfrm>
        </p:grpSpPr>
        <p:sp>
          <p:nvSpPr>
            <p:cNvPr id="155" name="任意多边形 36"/>
            <p:cNvSpPr/>
            <p:nvPr/>
          </p:nvSpPr>
          <p:spPr>
            <a:xfrm rot="10800000">
              <a:off x="1618920" y="4596840"/>
              <a:ext cx="446040" cy="81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37"/>
            <p:cNvSpPr/>
            <p:nvPr/>
          </p:nvSpPr>
          <p:spPr>
            <a:xfrm rot="5400000">
              <a:off x="1779480" y="4814640"/>
              <a:ext cx="468360" cy="777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8"/>
            <p:cNvSpPr/>
            <p:nvPr/>
          </p:nvSpPr>
          <p:spPr>
            <a:xfrm rot="16200000">
              <a:off x="1850040" y="4420080"/>
              <a:ext cx="468360" cy="759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39"/>
            <p:cNvSpPr/>
            <p:nvPr/>
          </p:nvSpPr>
          <p:spPr>
            <a:xfrm>
              <a:off x="2038320" y="4672080"/>
              <a:ext cx="446040" cy="792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图片 40" descr=""/>
          <p:cNvPicPr/>
          <p:nvPr/>
        </p:nvPicPr>
        <p:blipFill>
          <a:blip r:embed="rId3"/>
          <a:stretch/>
        </p:blipFill>
        <p:spPr>
          <a:xfrm>
            <a:off x="971640" y="5016600"/>
            <a:ext cx="522360" cy="7189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1" descr=""/>
          <p:cNvPicPr/>
          <p:nvPr/>
        </p:nvPicPr>
        <p:blipFill>
          <a:blip r:embed="rId4"/>
          <a:stretch/>
        </p:blipFill>
        <p:spPr>
          <a:xfrm>
            <a:off x="2857680" y="6072120"/>
            <a:ext cx="750600" cy="1038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2" descr=""/>
          <p:cNvPicPr/>
          <p:nvPr/>
        </p:nvPicPr>
        <p:blipFill>
          <a:blip r:embed="rId5"/>
          <a:stretch/>
        </p:blipFill>
        <p:spPr>
          <a:xfrm>
            <a:off x="0" y="494352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3" descr=""/>
          <p:cNvPicPr/>
          <p:nvPr/>
        </p:nvPicPr>
        <p:blipFill>
          <a:blip r:embed="rId6"/>
          <a:stretch/>
        </p:blipFill>
        <p:spPr>
          <a:xfrm>
            <a:off x="179280" y="5016600"/>
            <a:ext cx="312840" cy="431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5" descr=""/>
          <p:cNvPicPr/>
          <p:nvPr/>
        </p:nvPicPr>
        <p:blipFill>
          <a:blip r:embed="rId7"/>
          <a:stretch/>
        </p:blipFill>
        <p:spPr>
          <a:xfrm>
            <a:off x="2928960" y="5819760"/>
            <a:ext cx="750960" cy="10382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6" descr=""/>
          <p:cNvPicPr/>
          <p:nvPr/>
        </p:nvPicPr>
        <p:blipFill>
          <a:blip r:embed="rId8"/>
          <a:stretch/>
        </p:blipFill>
        <p:spPr>
          <a:xfrm>
            <a:off x="2428920" y="521496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7" descr=""/>
          <p:cNvPicPr/>
          <p:nvPr/>
        </p:nvPicPr>
        <p:blipFill>
          <a:blip r:embed="rId9"/>
          <a:stretch/>
        </p:blipFill>
        <p:spPr>
          <a:xfrm>
            <a:off x="3071880" y="578628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66" name="任意多边形 48"/>
          <p:cNvSpPr/>
          <p:nvPr/>
        </p:nvSpPr>
        <p:spPr>
          <a:xfrm>
            <a:off x="6227640" y="6600960"/>
            <a:ext cx="609840" cy="71280"/>
          </a:xfrm>
          <a:custGeom>
            <a:avLst/>
            <a:gdLst>
              <a:gd name="textAreaLeft" fmla="*/ 0 w 609840"/>
              <a:gd name="textAreaRight" fmla="*/ 610200 w 609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49"/>
          <p:cNvSpPr/>
          <p:nvPr/>
        </p:nvSpPr>
        <p:spPr>
          <a:xfrm>
            <a:off x="6012000" y="667224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56"/>
          <p:cNvSpPr/>
          <p:nvPr/>
        </p:nvSpPr>
        <p:spPr>
          <a:xfrm>
            <a:off x="6643800" y="5857920"/>
            <a:ext cx="0" cy="42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61"/>
          <p:cNvSpPr/>
          <p:nvPr/>
        </p:nvSpPr>
        <p:spPr>
          <a:xfrm>
            <a:off x="6858000" y="5857920"/>
            <a:ext cx="0" cy="426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2"/>
          <p:cNvSpPr/>
          <p:nvPr/>
        </p:nvSpPr>
        <p:spPr>
          <a:xfrm>
            <a:off x="8215200" y="5857920"/>
            <a:ext cx="0" cy="64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3"/>
          <p:cNvSpPr/>
          <p:nvPr/>
        </p:nvSpPr>
        <p:spPr>
          <a:xfrm>
            <a:off x="8429760" y="5857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0" descr=""/>
          <p:cNvPicPr/>
          <p:nvPr/>
        </p:nvPicPr>
        <p:blipFill>
          <a:blip r:embed="rId10"/>
          <a:stretch/>
        </p:blipFill>
        <p:spPr>
          <a:xfrm>
            <a:off x="500040" y="54291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1" descr=""/>
          <p:cNvPicPr/>
          <p:nvPr/>
        </p:nvPicPr>
        <p:blipFill>
          <a:blip r:embed="rId11"/>
          <a:stretch/>
        </p:blipFill>
        <p:spPr>
          <a:xfrm>
            <a:off x="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3" descr=""/>
          <p:cNvPicPr/>
          <p:nvPr/>
        </p:nvPicPr>
        <p:blipFill>
          <a:blip r:embed="rId12"/>
          <a:stretch/>
        </p:blipFill>
        <p:spPr>
          <a:xfrm>
            <a:off x="107172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4" descr=""/>
          <p:cNvPicPr/>
          <p:nvPr/>
        </p:nvPicPr>
        <p:blipFill>
          <a:blip r:embed="rId13"/>
          <a:stretch/>
        </p:blipFill>
        <p:spPr>
          <a:xfrm>
            <a:off x="50004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5" descr=""/>
          <p:cNvPicPr/>
          <p:nvPr/>
        </p:nvPicPr>
        <p:blipFill>
          <a:blip r:embed="rId14"/>
          <a:stretch/>
        </p:blipFill>
        <p:spPr>
          <a:xfrm>
            <a:off x="714240" y="535788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6" descr=""/>
          <p:cNvPicPr/>
          <p:nvPr/>
        </p:nvPicPr>
        <p:blipFill>
          <a:blip r:embed="rId15"/>
          <a:stretch/>
        </p:blipFill>
        <p:spPr>
          <a:xfrm>
            <a:off x="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7" descr=""/>
          <p:cNvPicPr/>
          <p:nvPr/>
        </p:nvPicPr>
        <p:blipFill>
          <a:blip r:embed="rId16"/>
          <a:stretch/>
        </p:blipFill>
        <p:spPr>
          <a:xfrm>
            <a:off x="92880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8" descr=""/>
          <p:cNvPicPr/>
          <p:nvPr/>
        </p:nvPicPr>
        <p:blipFill>
          <a:blip r:embed="rId17"/>
          <a:stretch/>
        </p:blipFill>
        <p:spPr>
          <a:xfrm>
            <a:off x="1357200" y="58197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9" descr=""/>
          <p:cNvPicPr/>
          <p:nvPr/>
        </p:nvPicPr>
        <p:blipFill>
          <a:blip r:embed="rId18"/>
          <a:stretch/>
        </p:blipFill>
        <p:spPr>
          <a:xfrm>
            <a:off x="1357200" y="550080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0" descr=""/>
          <p:cNvPicPr/>
          <p:nvPr/>
        </p:nvPicPr>
        <p:blipFill>
          <a:blip r:embed="rId19"/>
          <a:stretch/>
        </p:blipFill>
        <p:spPr>
          <a:xfrm>
            <a:off x="16430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1" descr=""/>
          <p:cNvPicPr/>
          <p:nvPr/>
        </p:nvPicPr>
        <p:blipFill>
          <a:blip r:embed="rId20"/>
          <a:stretch/>
        </p:blipFill>
        <p:spPr>
          <a:xfrm>
            <a:off x="1795320" y="55101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82" descr=""/>
          <p:cNvPicPr/>
          <p:nvPr/>
        </p:nvPicPr>
        <p:blipFill>
          <a:blip r:embed="rId21"/>
          <a:stretch/>
        </p:blipFill>
        <p:spPr>
          <a:xfrm>
            <a:off x="2143080" y="5500800"/>
            <a:ext cx="752400" cy="9856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3" descr=""/>
          <p:cNvPicPr/>
          <p:nvPr/>
        </p:nvPicPr>
        <p:blipFill>
          <a:blip r:embed="rId22"/>
          <a:stretch/>
        </p:blipFill>
        <p:spPr>
          <a:xfrm>
            <a:off x="242892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4" descr=""/>
          <p:cNvPicPr/>
          <p:nvPr/>
        </p:nvPicPr>
        <p:blipFill>
          <a:blip r:embed="rId23"/>
          <a:stretch/>
        </p:blipFill>
        <p:spPr>
          <a:xfrm>
            <a:off x="164304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5" descr=""/>
          <p:cNvPicPr/>
          <p:nvPr/>
        </p:nvPicPr>
        <p:blipFill>
          <a:blip r:embed="rId24"/>
          <a:stretch/>
        </p:blipFill>
        <p:spPr>
          <a:xfrm>
            <a:off x="3571920" y="5786280"/>
            <a:ext cx="550800" cy="7606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6" descr=""/>
          <p:cNvPicPr/>
          <p:nvPr/>
        </p:nvPicPr>
        <p:blipFill>
          <a:blip r:embed="rId25"/>
          <a:stretch/>
        </p:blipFill>
        <p:spPr>
          <a:xfrm>
            <a:off x="2928960" y="55720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7" descr=""/>
          <p:cNvPicPr/>
          <p:nvPr/>
        </p:nvPicPr>
        <p:blipFill>
          <a:blip r:embed="rId26"/>
          <a:stretch/>
        </p:blipFill>
        <p:spPr>
          <a:xfrm>
            <a:off x="214308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8" descr=""/>
          <p:cNvPicPr/>
          <p:nvPr/>
        </p:nvPicPr>
        <p:blipFill>
          <a:blip r:embed="rId27"/>
          <a:stretch/>
        </p:blipFill>
        <p:spPr>
          <a:xfrm>
            <a:off x="25718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91" descr=""/>
          <p:cNvPicPr/>
          <p:nvPr/>
        </p:nvPicPr>
        <p:blipFill>
          <a:blip r:embed="rId28"/>
          <a:stretch/>
        </p:blipFill>
        <p:spPr>
          <a:xfrm>
            <a:off x="2295360" y="6249960"/>
            <a:ext cx="551160" cy="7603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2" descr=""/>
          <p:cNvPicPr/>
          <p:nvPr/>
        </p:nvPicPr>
        <p:blipFill>
          <a:blip r:embed="rId29"/>
          <a:stretch/>
        </p:blipFill>
        <p:spPr>
          <a:xfrm>
            <a:off x="28584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3" descr=""/>
          <p:cNvPicPr/>
          <p:nvPr/>
        </p:nvPicPr>
        <p:blipFill>
          <a:blip r:embed="rId30"/>
          <a:stretch/>
        </p:blipFill>
        <p:spPr>
          <a:xfrm>
            <a:off x="2143080" y="528624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93" name="太阳形 94"/>
          <p:cNvSpPr/>
          <p:nvPr/>
        </p:nvSpPr>
        <p:spPr>
          <a:xfrm>
            <a:off x="-1212840" y="142920"/>
            <a:ext cx="156996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29000" y="4429080"/>
            <a:ext cx="1000080" cy="1214640"/>
            <a:chOff x="3429000" y="4429080"/>
            <a:chExt cx="1000080" cy="1214640"/>
          </a:xfrm>
        </p:grpSpPr>
        <p:pic>
          <p:nvPicPr>
            <p:cNvPr id="195" name="图片 96" descr=""/>
            <p:cNvPicPr/>
            <p:nvPr/>
          </p:nvPicPr>
          <p:blipFill>
            <a:blip r:embed="rId31"/>
            <a:stretch/>
          </p:blipFill>
          <p:spPr>
            <a:xfrm>
              <a:off x="3429000" y="457200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97" descr=""/>
            <p:cNvPicPr/>
            <p:nvPr/>
          </p:nvPicPr>
          <p:blipFill>
            <a:blip r:embed="rId32"/>
            <a:stretch/>
          </p:blipFill>
          <p:spPr>
            <a:xfrm>
              <a:off x="4214880" y="442908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图片 99" descr=""/>
          <p:cNvPicPr/>
          <p:nvPr/>
        </p:nvPicPr>
        <p:blipFill>
          <a:blip r:embed="rId33"/>
          <a:stretch/>
        </p:blipFill>
        <p:spPr>
          <a:xfrm>
            <a:off x="228600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0" descr=""/>
          <p:cNvPicPr/>
          <p:nvPr/>
        </p:nvPicPr>
        <p:blipFill>
          <a:blip r:embed="rId34"/>
          <a:stretch/>
        </p:blipFill>
        <p:spPr>
          <a:xfrm>
            <a:off x="92880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01" descr=""/>
          <p:cNvPicPr/>
          <p:nvPr/>
        </p:nvPicPr>
        <p:blipFill>
          <a:blip r:embed="rId35"/>
          <a:stretch/>
        </p:blipFill>
        <p:spPr>
          <a:xfrm>
            <a:off x="28584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2" descr=""/>
          <p:cNvPicPr/>
          <p:nvPr/>
        </p:nvPicPr>
        <p:blipFill>
          <a:blip r:embed="rId36"/>
          <a:stretch/>
        </p:blipFill>
        <p:spPr>
          <a:xfrm>
            <a:off x="100008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3" descr=""/>
          <p:cNvPicPr/>
          <p:nvPr/>
        </p:nvPicPr>
        <p:blipFill>
          <a:blip r:embed="rId37"/>
          <a:stretch/>
        </p:blipFill>
        <p:spPr>
          <a:xfrm>
            <a:off x="142884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4" descr=""/>
          <p:cNvPicPr/>
          <p:nvPr/>
        </p:nvPicPr>
        <p:blipFill>
          <a:blip r:embed="rId38"/>
          <a:stretch/>
        </p:blipFill>
        <p:spPr>
          <a:xfrm>
            <a:off x="178596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05" descr=""/>
          <p:cNvPicPr/>
          <p:nvPr/>
        </p:nvPicPr>
        <p:blipFill>
          <a:blip r:embed="rId39"/>
          <a:stretch/>
        </p:blipFill>
        <p:spPr>
          <a:xfrm>
            <a:off x="1071720" y="571500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6" descr=""/>
          <p:cNvPicPr/>
          <p:nvPr/>
        </p:nvPicPr>
        <p:blipFill>
          <a:blip r:embed="rId40"/>
          <a:stretch/>
        </p:blipFill>
        <p:spPr>
          <a:xfrm>
            <a:off x="2214720" y="57862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7" descr=""/>
          <p:cNvPicPr/>
          <p:nvPr/>
        </p:nvPicPr>
        <p:blipFill>
          <a:blip r:embed="rId41"/>
          <a:stretch/>
        </p:blipFill>
        <p:spPr>
          <a:xfrm>
            <a:off x="1214280" y="58579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8" descr=""/>
          <p:cNvPicPr/>
          <p:nvPr/>
        </p:nvPicPr>
        <p:blipFill>
          <a:blip r:embed="rId42"/>
          <a:stretch/>
        </p:blipFill>
        <p:spPr>
          <a:xfrm>
            <a:off x="14288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9" descr=""/>
          <p:cNvPicPr/>
          <p:nvPr/>
        </p:nvPicPr>
        <p:blipFill>
          <a:blip r:embed="rId43"/>
          <a:stretch/>
        </p:blipFill>
        <p:spPr>
          <a:xfrm>
            <a:off x="571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10" descr=""/>
          <p:cNvPicPr/>
          <p:nvPr/>
        </p:nvPicPr>
        <p:blipFill>
          <a:blip r:embed="rId44"/>
          <a:stretch/>
        </p:blipFill>
        <p:spPr>
          <a:xfrm>
            <a:off x="1952640" y="53816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1" descr=""/>
          <p:cNvPicPr/>
          <p:nvPr/>
        </p:nvPicPr>
        <p:blipFill>
          <a:blip r:embed="rId45"/>
          <a:stretch/>
        </p:blipFill>
        <p:spPr>
          <a:xfrm>
            <a:off x="242892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2" descr=""/>
          <p:cNvPicPr/>
          <p:nvPr/>
        </p:nvPicPr>
        <p:blipFill>
          <a:blip r:embed="rId46"/>
          <a:stretch/>
        </p:blipFill>
        <p:spPr>
          <a:xfrm>
            <a:off x="28584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3" descr=""/>
          <p:cNvPicPr/>
          <p:nvPr/>
        </p:nvPicPr>
        <p:blipFill>
          <a:blip r:embed="rId47"/>
          <a:stretch/>
        </p:blipFill>
        <p:spPr>
          <a:xfrm>
            <a:off x="1357200" y="55008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14" descr=""/>
          <p:cNvPicPr/>
          <p:nvPr/>
        </p:nvPicPr>
        <p:blipFill>
          <a:blip r:embed="rId48"/>
          <a:stretch/>
        </p:blipFill>
        <p:spPr>
          <a:xfrm>
            <a:off x="428760" y="55720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5" descr=""/>
          <p:cNvPicPr/>
          <p:nvPr/>
        </p:nvPicPr>
        <p:blipFill>
          <a:blip r:embed="rId49"/>
          <a:stretch/>
        </p:blipFill>
        <p:spPr>
          <a:xfrm>
            <a:off x="19288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6" descr=""/>
          <p:cNvPicPr/>
          <p:nvPr/>
        </p:nvPicPr>
        <p:blipFill>
          <a:blip r:embed="rId50"/>
          <a:stretch/>
        </p:blipFill>
        <p:spPr>
          <a:xfrm>
            <a:off x="2000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7" descr=""/>
          <p:cNvPicPr/>
          <p:nvPr/>
        </p:nvPicPr>
        <p:blipFill>
          <a:blip r:embed="rId51"/>
          <a:stretch/>
        </p:blipFill>
        <p:spPr>
          <a:xfrm>
            <a:off x="2286000" y="592920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18" descr=""/>
          <p:cNvPicPr/>
          <p:nvPr/>
        </p:nvPicPr>
        <p:blipFill>
          <a:blip r:embed="rId52"/>
          <a:stretch/>
        </p:blipFill>
        <p:spPr>
          <a:xfrm>
            <a:off x="264312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9" descr=""/>
          <p:cNvPicPr/>
          <p:nvPr/>
        </p:nvPicPr>
        <p:blipFill>
          <a:blip r:embed="rId53"/>
          <a:stretch/>
        </p:blipFill>
        <p:spPr>
          <a:xfrm>
            <a:off x="23572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20" descr=""/>
          <p:cNvPicPr/>
          <p:nvPr/>
        </p:nvPicPr>
        <p:blipFill>
          <a:blip r:embed="rId54"/>
          <a:stretch/>
        </p:blipFill>
        <p:spPr>
          <a:xfrm>
            <a:off x="1928880" y="56437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21" descr=""/>
          <p:cNvPicPr/>
          <p:nvPr/>
        </p:nvPicPr>
        <p:blipFill>
          <a:blip r:embed="rId55"/>
          <a:stretch/>
        </p:blipFill>
        <p:spPr>
          <a:xfrm>
            <a:off x="214308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22" descr=""/>
          <p:cNvPicPr/>
          <p:nvPr/>
        </p:nvPicPr>
        <p:blipFill>
          <a:blip r:embed="rId56"/>
          <a:stretch/>
        </p:blipFill>
        <p:spPr>
          <a:xfrm>
            <a:off x="200016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3" descr=""/>
          <p:cNvPicPr/>
          <p:nvPr/>
        </p:nvPicPr>
        <p:blipFill>
          <a:blip r:embed="rId57"/>
          <a:stretch/>
        </p:blipFill>
        <p:spPr>
          <a:xfrm>
            <a:off x="42876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4" descr=""/>
          <p:cNvPicPr/>
          <p:nvPr/>
        </p:nvPicPr>
        <p:blipFill>
          <a:blip r:embed="rId58"/>
          <a:stretch/>
        </p:blipFill>
        <p:spPr>
          <a:xfrm>
            <a:off x="857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5" descr=""/>
          <p:cNvPicPr/>
          <p:nvPr/>
        </p:nvPicPr>
        <p:blipFill>
          <a:blip r:embed="rId59"/>
          <a:stretch/>
        </p:blipFill>
        <p:spPr>
          <a:xfrm>
            <a:off x="7142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7" descr=""/>
          <p:cNvPicPr/>
          <p:nvPr/>
        </p:nvPicPr>
        <p:blipFill>
          <a:blip r:embed="rId60"/>
          <a:stretch/>
        </p:blipFill>
        <p:spPr>
          <a:xfrm>
            <a:off x="214308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28" descr=""/>
          <p:cNvPicPr/>
          <p:nvPr/>
        </p:nvPicPr>
        <p:blipFill>
          <a:blip r:embed="rId61"/>
          <a:stretch/>
        </p:blipFill>
        <p:spPr>
          <a:xfrm>
            <a:off x="2857680" y="592920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29" descr=""/>
          <p:cNvPicPr/>
          <p:nvPr/>
        </p:nvPicPr>
        <p:blipFill>
          <a:blip r:embed="rId62"/>
          <a:stretch/>
        </p:blipFill>
        <p:spPr>
          <a:xfrm>
            <a:off x="1714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30" descr=""/>
          <p:cNvPicPr/>
          <p:nvPr/>
        </p:nvPicPr>
        <p:blipFill>
          <a:blip r:embed="rId63"/>
          <a:stretch/>
        </p:blipFill>
        <p:spPr>
          <a:xfrm>
            <a:off x="1214280" y="6215040"/>
            <a:ext cx="495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214880" y="5072040"/>
            <a:ext cx="285840" cy="285840"/>
            <a:chOff x="4214880" y="5072040"/>
            <a:chExt cx="285840" cy="285840"/>
          </a:xfrm>
        </p:grpSpPr>
        <p:sp>
          <p:nvSpPr>
            <p:cNvPr id="229" name="椭圆 131"/>
            <p:cNvSpPr/>
            <p:nvPr/>
          </p:nvSpPr>
          <p:spPr>
            <a:xfrm>
              <a:off x="421488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32"/>
            <p:cNvSpPr/>
            <p:nvPr/>
          </p:nvSpPr>
          <p:spPr>
            <a:xfrm>
              <a:off x="4367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33"/>
            <p:cNvSpPr/>
            <p:nvPr/>
          </p:nvSpPr>
          <p:spPr>
            <a:xfrm>
              <a:off x="428616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34"/>
            <p:cNvSpPr/>
            <p:nvPr/>
          </p:nvSpPr>
          <p:spPr>
            <a:xfrm>
              <a:off x="435780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35"/>
            <p:cNvSpPr/>
            <p:nvPr/>
          </p:nvSpPr>
          <p:spPr>
            <a:xfrm>
              <a:off x="4286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36"/>
            <p:cNvSpPr/>
            <p:nvPr/>
          </p:nvSpPr>
          <p:spPr>
            <a:xfrm>
              <a:off x="442944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137"/>
            <p:cNvSpPr/>
            <p:nvPr/>
          </p:nvSpPr>
          <p:spPr>
            <a:xfrm>
              <a:off x="421488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38"/>
            <p:cNvSpPr/>
            <p:nvPr/>
          </p:nvSpPr>
          <p:spPr>
            <a:xfrm>
              <a:off x="442944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139"/>
            <p:cNvSpPr/>
            <p:nvPr/>
          </p:nvSpPr>
          <p:spPr>
            <a:xfrm>
              <a:off x="428616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41"/>
            <p:cNvSpPr/>
            <p:nvPr/>
          </p:nvSpPr>
          <p:spPr>
            <a:xfrm>
              <a:off x="4286160" y="507204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42"/>
            <p:cNvSpPr/>
            <p:nvPr/>
          </p:nvSpPr>
          <p:spPr>
            <a:xfrm>
              <a:off x="435780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429840" y="3000240"/>
            <a:ext cx="1000080" cy="1214640"/>
            <a:chOff x="9429840" y="3000240"/>
            <a:chExt cx="1000080" cy="1214640"/>
          </a:xfrm>
        </p:grpSpPr>
        <p:pic>
          <p:nvPicPr>
            <p:cNvPr id="241" name="图片 156" descr=""/>
            <p:cNvPicPr/>
            <p:nvPr/>
          </p:nvPicPr>
          <p:blipFill>
            <a:blip r:embed="rId64"/>
            <a:stretch/>
          </p:blipFill>
          <p:spPr>
            <a:xfrm>
              <a:off x="9429840" y="314316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图片 157" descr=""/>
            <p:cNvPicPr/>
            <p:nvPr/>
          </p:nvPicPr>
          <p:blipFill>
            <a:blip r:embed="rId65"/>
            <a:stretch/>
          </p:blipFill>
          <p:spPr>
            <a:xfrm>
              <a:off x="10215720" y="300024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图片 158" descr=""/>
          <p:cNvPicPr/>
          <p:nvPr/>
        </p:nvPicPr>
        <p:blipFill>
          <a:blip r:embed="rId66"/>
          <a:stretch/>
        </p:blipFill>
        <p:spPr>
          <a:xfrm>
            <a:off x="9144000" y="5500800"/>
            <a:ext cx="1000080" cy="3585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8" descr=""/>
          <p:cNvPicPr/>
          <p:nvPr/>
        </p:nvPicPr>
        <p:blipFill>
          <a:blip r:embed="rId67"/>
          <a:stretch/>
        </p:blipFill>
        <p:spPr>
          <a:xfrm>
            <a:off x="4857840" y="5479920"/>
            <a:ext cx="1000080" cy="358920"/>
          </a:xfrm>
          <a:prstGeom prst="rect">
            <a:avLst/>
          </a:prstGeom>
          <a:ln w="0">
            <a:noFill/>
          </a:ln>
        </p:spPr>
      </p:pic>
      <p:sp>
        <p:nvSpPr>
          <p:cNvPr id="245" name="直接连接符 145"/>
          <p:cNvSpPr/>
          <p:nvPr/>
        </p:nvSpPr>
        <p:spPr>
          <a:xfrm flipH="1" flipV="1">
            <a:off x="356760" y="3429000"/>
            <a:ext cx="19080" cy="1658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箭头连接符 147"/>
          <p:cNvCxnSpPr/>
          <p:nvPr/>
        </p:nvCxnSpPr>
        <p:spPr>
          <a:xfrm flipV="1">
            <a:off x="357120" y="2714400"/>
            <a:ext cx="1215360" cy="7149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med" type="arrow" w="med"/>
          </a:ln>
        </p:spPr>
      </p:cxnSp>
      <p:sp>
        <p:nvSpPr>
          <p:cNvPr id="247" name="圆角矩形 148"/>
          <p:cNvSpPr/>
          <p:nvPr/>
        </p:nvSpPr>
        <p:spPr>
          <a:xfrm>
            <a:off x="1571760" y="1928880"/>
            <a:ext cx="36432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在这片树林里，我是一个幼童，在长辈的呵护下快乐的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51"/>
          <p:cNvSpPr/>
          <p:nvPr/>
        </p:nvSpPr>
        <p:spPr>
          <a:xfrm>
            <a:off x="357120" y="3857760"/>
            <a:ext cx="1857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2"/>
          <p:cNvSpPr/>
          <p:nvPr/>
        </p:nvSpPr>
        <p:spPr>
          <a:xfrm>
            <a:off x="428760" y="3429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然而有一天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60"/>
          <p:cNvSpPr/>
          <p:nvPr/>
        </p:nvSpPr>
        <p:spPr>
          <a:xfrm>
            <a:off x="4572000" y="314316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人类的到来，改变了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69F-AF73-471C-A407-7FCF82990565}" type="slidenum">
              <a:t>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3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3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3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15904E-006 C 0.07014 -0.03282 0.14063 -0.06542 0.26459 -0.07328 C 0.38872 -0.0809 0.56615 -0.06403 0.74376 -0.04692 E">
                                      <p:cBhvr>
                                        <p:cTn id="424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dur="indefinite" nodeType="after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59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dur="indefinite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6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001"/>
                            </p:stCondLst>
                            <p:childTnLst>
                              <p:par>
                                <p:cTn id="46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8001"/>
                            </p:stCondLst>
                            <p:childTnLst>
                              <p:par>
                                <p:cTn id="6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001"/>
                            </p:stCondLst>
                            <p:childTnLst>
                              <p:par>
                                <p:cTn id="63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3699E-006 L -0.46806 -0.00277 E">
                                      <p:cBhvr>
                                        <p:cTn id="64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1001"/>
                            </p:stCondLst>
                            <p:childTnLst>
                              <p:par>
                                <p:cTn id="6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1002"/>
                            </p:stCondLst>
                            <p:childTnLst>
                              <p:par>
                                <p:cTn id="6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4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5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3002"/>
                            </p:stCondLst>
                            <p:childTnLst>
                              <p:par>
                                <p:cTn id="65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3502"/>
                            </p:stCondLst>
                            <p:childTnLst>
                              <p:par>
                                <p:cTn id="6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23 L 0.5283 0.00023 E">
                                      <p:cBhvr>
                                        <p:cTn id="662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43" descr=""/>
          <p:cNvPicPr/>
          <p:nvPr/>
        </p:nvPicPr>
        <p:blipFill>
          <a:blip r:embed="rId1"/>
          <a:stretch/>
        </p:blipFill>
        <p:spPr>
          <a:xfrm>
            <a:off x="5143680" y="6000840"/>
            <a:ext cx="295200" cy="14292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21"/>
          <p:cNvSpPr/>
          <p:nvPr/>
        </p:nvSpPr>
        <p:spPr>
          <a:xfrm>
            <a:off x="4714920" y="5857920"/>
            <a:ext cx="98582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16" descr=""/>
          <p:cNvPicPr/>
          <p:nvPr/>
        </p:nvPicPr>
        <p:blipFill>
          <a:blip r:embed="rId2"/>
          <a:srcRect l="0" t="0" r="64661" b="3318"/>
          <a:stretch/>
        </p:blipFill>
        <p:spPr>
          <a:xfrm>
            <a:off x="3071880" y="478620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" descr=""/>
          <p:cNvPicPr/>
          <p:nvPr/>
        </p:nvPicPr>
        <p:blipFill>
          <a:blip r:embed="rId3"/>
          <a:stretch/>
        </p:blipFill>
        <p:spPr>
          <a:xfrm>
            <a:off x="-998640" y="5500800"/>
            <a:ext cx="998640" cy="3585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3"/>
          <p:cNvSpPr/>
          <p:nvPr/>
        </p:nvSpPr>
        <p:spPr>
          <a:xfrm>
            <a:off x="0" y="5857920"/>
            <a:ext cx="6215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17" descr=""/>
          <p:cNvPicPr/>
          <p:nvPr/>
        </p:nvPicPr>
        <p:blipFill>
          <a:blip r:embed="rId4"/>
          <a:srcRect l="35491" t="0" r="0" b="512"/>
          <a:stretch/>
        </p:blipFill>
        <p:spPr>
          <a:xfrm>
            <a:off x="4071960" y="4857840"/>
            <a:ext cx="200016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28" descr=""/>
          <p:cNvPicPr/>
          <p:nvPr/>
        </p:nvPicPr>
        <p:blipFill>
          <a:blip r:embed="rId5"/>
          <a:stretch/>
        </p:blipFill>
        <p:spPr>
          <a:xfrm>
            <a:off x="2214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2" descr=""/>
          <p:cNvPicPr/>
          <p:nvPr/>
        </p:nvPicPr>
        <p:blipFill>
          <a:blip r:embed="rId6"/>
          <a:stretch/>
        </p:blipFill>
        <p:spPr>
          <a:xfrm>
            <a:off x="2500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3" descr=""/>
          <p:cNvPicPr/>
          <p:nvPr/>
        </p:nvPicPr>
        <p:blipFill>
          <a:blip r:embed="rId7"/>
          <a:stretch/>
        </p:blipFill>
        <p:spPr>
          <a:xfrm>
            <a:off x="2786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4" descr=""/>
          <p:cNvPicPr/>
          <p:nvPr/>
        </p:nvPicPr>
        <p:blipFill>
          <a:blip r:embed="rId8"/>
          <a:stretch/>
        </p:blipFill>
        <p:spPr>
          <a:xfrm>
            <a:off x="3071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35" descr=""/>
          <p:cNvPicPr/>
          <p:nvPr/>
        </p:nvPicPr>
        <p:blipFill>
          <a:blip r:embed="rId9"/>
          <a:stretch/>
        </p:blipFill>
        <p:spPr>
          <a:xfrm>
            <a:off x="3357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36" descr=""/>
          <p:cNvPicPr/>
          <p:nvPr/>
        </p:nvPicPr>
        <p:blipFill>
          <a:blip r:embed="rId10"/>
          <a:stretch/>
        </p:blipFill>
        <p:spPr>
          <a:xfrm>
            <a:off x="785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7" descr=""/>
          <p:cNvPicPr/>
          <p:nvPr/>
        </p:nvPicPr>
        <p:blipFill>
          <a:blip r:embed="rId11"/>
          <a:stretch/>
        </p:blipFill>
        <p:spPr>
          <a:xfrm>
            <a:off x="1071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8" descr=""/>
          <p:cNvPicPr/>
          <p:nvPr/>
        </p:nvPicPr>
        <p:blipFill>
          <a:blip r:embed="rId12"/>
          <a:stretch/>
        </p:blipFill>
        <p:spPr>
          <a:xfrm>
            <a:off x="1357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9" descr=""/>
          <p:cNvPicPr/>
          <p:nvPr/>
        </p:nvPicPr>
        <p:blipFill>
          <a:blip r:embed="rId13"/>
          <a:stretch/>
        </p:blipFill>
        <p:spPr>
          <a:xfrm>
            <a:off x="1643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40" descr=""/>
          <p:cNvPicPr/>
          <p:nvPr/>
        </p:nvPicPr>
        <p:blipFill>
          <a:blip r:embed="rId14"/>
          <a:stretch/>
        </p:blipFill>
        <p:spPr>
          <a:xfrm>
            <a:off x="1928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41" descr=""/>
          <p:cNvPicPr/>
          <p:nvPr/>
        </p:nvPicPr>
        <p:blipFill>
          <a:blip r:embed="rId15"/>
          <a:stretch/>
        </p:blipFill>
        <p:spPr>
          <a:xfrm>
            <a:off x="23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42" descr=""/>
          <p:cNvPicPr/>
          <p:nvPr/>
        </p:nvPicPr>
        <p:blipFill>
          <a:blip r:embed="rId16"/>
          <a:stretch/>
        </p:blipFill>
        <p:spPr>
          <a:xfrm>
            <a:off x="-54000" y="5643720"/>
            <a:ext cx="411120" cy="5713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44" descr=""/>
          <p:cNvPicPr/>
          <p:nvPr/>
        </p:nvPicPr>
        <p:blipFill>
          <a:blip r:embed="rId17"/>
          <a:stretch/>
        </p:blipFill>
        <p:spPr>
          <a:xfrm>
            <a:off x="50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5" descr=""/>
          <p:cNvPicPr/>
          <p:nvPr/>
        </p:nvPicPr>
        <p:blipFill>
          <a:blip r:embed="rId18"/>
          <a:srcRect l="16659" t="73430" r="22212" b="14568"/>
          <a:stretch/>
        </p:blipFill>
        <p:spPr>
          <a:xfrm>
            <a:off x="4929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46" descr=""/>
          <p:cNvPicPr/>
          <p:nvPr/>
        </p:nvPicPr>
        <p:blipFill>
          <a:blip r:embed="rId19"/>
          <a:srcRect l="16659" t="73430" r="22212" b="14568"/>
          <a:stretch/>
        </p:blipFill>
        <p:spPr>
          <a:xfrm>
            <a:off x="3500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47" descr=""/>
          <p:cNvPicPr/>
          <p:nvPr/>
        </p:nvPicPr>
        <p:blipFill>
          <a:blip r:embed="rId20"/>
          <a:srcRect l="16659" t="73430" r="22212" b="14568"/>
          <a:stretch/>
        </p:blipFill>
        <p:spPr>
          <a:xfrm>
            <a:off x="4643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53" descr=""/>
          <p:cNvPicPr/>
          <p:nvPr/>
        </p:nvPicPr>
        <p:blipFill>
          <a:blip r:embed="rId21"/>
          <a:srcRect l="16659" t="73430" r="22212" b="14568"/>
          <a:stretch/>
        </p:blipFill>
        <p:spPr>
          <a:xfrm>
            <a:off x="3857760" y="5643720"/>
            <a:ext cx="785520" cy="214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55" descr=""/>
          <p:cNvPicPr/>
          <p:nvPr/>
        </p:nvPicPr>
        <p:blipFill>
          <a:blip r:embed="rId22"/>
          <a:srcRect l="16659" t="73430" r="22212" b="14568"/>
          <a:stretch/>
        </p:blipFill>
        <p:spPr>
          <a:xfrm>
            <a:off x="2428920" y="55008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7" descr=""/>
          <p:cNvPicPr/>
          <p:nvPr/>
        </p:nvPicPr>
        <p:blipFill>
          <a:blip r:embed="rId23"/>
          <a:srcRect l="16659" t="73430" r="22212" b="14568"/>
          <a:stretch/>
        </p:blipFill>
        <p:spPr>
          <a:xfrm>
            <a:off x="264312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8" descr=""/>
          <p:cNvPicPr/>
          <p:nvPr/>
        </p:nvPicPr>
        <p:blipFill>
          <a:blip r:embed="rId24"/>
          <a:srcRect l="16659" t="73430" r="22212" b="14568"/>
          <a:stretch/>
        </p:blipFill>
        <p:spPr>
          <a:xfrm>
            <a:off x="8001000" y="57150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59" descr=""/>
          <p:cNvPicPr/>
          <p:nvPr/>
        </p:nvPicPr>
        <p:blipFill>
          <a:blip r:embed="rId25"/>
          <a:srcRect l="16659" t="73430" r="22212" b="14568"/>
          <a:stretch/>
        </p:blipFill>
        <p:spPr>
          <a:xfrm>
            <a:off x="635796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0" descr=""/>
          <p:cNvPicPr/>
          <p:nvPr/>
        </p:nvPicPr>
        <p:blipFill>
          <a:blip r:embed="rId26"/>
          <a:srcRect l="16659" t="73430" r="22212" b="14568"/>
          <a:stretch/>
        </p:blipFill>
        <p:spPr>
          <a:xfrm>
            <a:off x="6072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61" descr=""/>
          <p:cNvPicPr/>
          <p:nvPr/>
        </p:nvPicPr>
        <p:blipFill>
          <a:blip r:embed="rId27"/>
          <a:srcRect l="16659" t="73430" r="22212" b="14568"/>
          <a:stretch/>
        </p:blipFill>
        <p:spPr>
          <a:xfrm>
            <a:off x="714384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5" descr=""/>
          <p:cNvPicPr/>
          <p:nvPr/>
        </p:nvPicPr>
        <p:blipFill>
          <a:blip r:embed="rId28"/>
          <a:stretch/>
        </p:blipFill>
        <p:spPr>
          <a:xfrm>
            <a:off x="857160" y="5500800"/>
            <a:ext cx="1000080" cy="3585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38"/>
          <p:cNvSpPr/>
          <p:nvPr/>
        </p:nvSpPr>
        <p:spPr>
          <a:xfrm>
            <a:off x="1928880" y="27147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物质满足的背后，是环境的苍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48"/>
          <p:cNvSpPr/>
          <p:nvPr/>
        </p:nvSpPr>
        <p:spPr>
          <a:xfrm>
            <a:off x="285840" y="3143160"/>
            <a:ext cx="40719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为了眼前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不惜付出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6059E-006 L 0.64913 -0.00277 E">
                                      <p:cBhvr>
                                        <p:cTn id="668" dur="3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1"/>
                            </p:stCondLst>
                            <p:childTnLst>
                              <p:par>
                                <p:cTn id="67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7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1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9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8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6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0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1"/>
                            </p:stCondLst>
                            <p:childTnLst>
                              <p:par>
                                <p:cTn id="7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9112E-006 L 0.93437 -0.00254 E">
                                      <p:cBhvr>
                                        <p:cTn id="721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1"/>
                            </p:stCondLst>
                            <p:childTnLst>
                              <p:par>
                                <p:cTn id="761" dur="indefinite" nodeType="after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114"/>
          <p:cNvSpPr/>
          <p:nvPr/>
        </p:nvSpPr>
        <p:spPr>
          <a:xfrm>
            <a:off x="500040" y="5500800"/>
            <a:ext cx="8429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图片 66" descr=""/>
          <p:cNvPicPr/>
          <p:nvPr/>
        </p:nvPicPr>
        <p:blipFill>
          <a:blip r:embed="rId1"/>
          <a:stretch/>
        </p:blipFill>
        <p:spPr>
          <a:xfrm>
            <a:off x="110808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78" descr=""/>
          <p:cNvPicPr/>
          <p:nvPr/>
        </p:nvPicPr>
        <p:blipFill>
          <a:blip r:embed="rId2"/>
          <a:stretch/>
        </p:blipFill>
        <p:spPr>
          <a:xfrm>
            <a:off x="32148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52" descr=""/>
          <p:cNvPicPr/>
          <p:nvPr/>
        </p:nvPicPr>
        <p:blipFill>
          <a:blip r:embed="rId3"/>
          <a:stretch/>
        </p:blipFill>
        <p:spPr>
          <a:xfrm rot="10800000">
            <a:off x="7429320" y="564336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6" descr=""/>
          <p:cNvPicPr/>
          <p:nvPr/>
        </p:nvPicPr>
        <p:blipFill>
          <a:blip r:embed="rId4"/>
          <a:stretch/>
        </p:blipFill>
        <p:spPr>
          <a:xfrm rot="10800000">
            <a:off x="4965480" y="564336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87" descr=""/>
          <p:cNvPicPr/>
          <p:nvPr/>
        </p:nvPicPr>
        <p:blipFill>
          <a:blip r:embed="rId5"/>
          <a:stretch/>
        </p:blipFill>
        <p:spPr>
          <a:xfrm rot="10800000">
            <a:off x="6071760" y="564336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84" descr=""/>
          <p:cNvPicPr/>
          <p:nvPr/>
        </p:nvPicPr>
        <p:blipFill>
          <a:blip r:embed="rId6"/>
          <a:stretch/>
        </p:blipFill>
        <p:spPr>
          <a:xfrm>
            <a:off x="557208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769" descr=""/>
          <p:cNvPicPr/>
          <p:nvPr/>
        </p:nvPicPr>
        <p:blipFill>
          <a:blip r:embed="rId7"/>
          <a:stretch/>
        </p:blipFill>
        <p:spPr>
          <a:xfrm>
            <a:off x="74916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95" descr=""/>
          <p:cNvPicPr/>
          <p:nvPr/>
        </p:nvPicPr>
        <p:blipFill>
          <a:blip r:embed="rId8"/>
          <a:stretch/>
        </p:blipFill>
        <p:spPr>
          <a:xfrm rot="10800000">
            <a:off x="5299200" y="5643360"/>
            <a:ext cx="1473120" cy="2142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79" descr=""/>
          <p:cNvPicPr/>
          <p:nvPr/>
        </p:nvPicPr>
        <p:blipFill>
          <a:blip r:embed="rId9"/>
          <a:stretch/>
        </p:blipFill>
        <p:spPr>
          <a:xfrm>
            <a:off x="2857680" y="5643720"/>
            <a:ext cx="2428560" cy="2142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96" descr=""/>
          <p:cNvPicPr/>
          <p:nvPr/>
        </p:nvPicPr>
        <p:blipFill>
          <a:blip r:embed="rId10"/>
          <a:stretch/>
        </p:blipFill>
        <p:spPr>
          <a:xfrm>
            <a:off x="4869000" y="5643720"/>
            <a:ext cx="2763720" cy="2142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3" descr=""/>
          <p:cNvPicPr/>
          <p:nvPr/>
        </p:nvPicPr>
        <p:blipFill>
          <a:blip r:embed="rId11"/>
          <a:stretch/>
        </p:blipFill>
        <p:spPr>
          <a:xfrm>
            <a:off x="3348000" y="5643720"/>
            <a:ext cx="2805120" cy="214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94" descr=""/>
          <p:cNvPicPr/>
          <p:nvPr/>
        </p:nvPicPr>
        <p:blipFill>
          <a:blip r:embed="rId12"/>
          <a:stretch/>
        </p:blipFill>
        <p:spPr>
          <a:xfrm rot="10800000">
            <a:off x="2869920" y="5643360"/>
            <a:ext cx="3330360" cy="2142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00" descr=""/>
          <p:cNvPicPr/>
          <p:nvPr/>
        </p:nvPicPr>
        <p:blipFill>
          <a:blip r:embed="rId13"/>
          <a:stretch/>
        </p:blipFill>
        <p:spPr>
          <a:xfrm rot="16200000">
            <a:off x="6548400" y="5547960"/>
            <a:ext cx="1690920" cy="214200"/>
          </a:xfrm>
          <a:prstGeom prst="rect">
            <a:avLst/>
          </a:prstGeom>
          <a:ln w="0">
            <a:noFill/>
          </a:ln>
        </p:spPr>
      </p:pic>
      <p:sp>
        <p:nvSpPr>
          <p:cNvPr id="297" name="直接连接符 107"/>
          <p:cNvSpPr/>
          <p:nvPr/>
        </p:nvSpPr>
        <p:spPr>
          <a:xfrm flipH="1" flipV="1">
            <a:off x="157320" y="450072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108"/>
          <p:cNvSpPr/>
          <p:nvPr/>
        </p:nvSpPr>
        <p:spPr>
          <a:xfrm flipH="1">
            <a:off x="309600" y="4429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109"/>
          <p:cNvSpPr/>
          <p:nvPr/>
        </p:nvSpPr>
        <p:spPr>
          <a:xfrm flipH="1" flipV="1">
            <a:off x="461880" y="4357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110"/>
          <p:cNvSpPr/>
          <p:nvPr/>
        </p:nvSpPr>
        <p:spPr>
          <a:xfrm flipH="1">
            <a:off x="614520" y="4286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11"/>
          <p:cNvSpPr/>
          <p:nvPr/>
        </p:nvSpPr>
        <p:spPr>
          <a:xfrm flipH="1" flipV="1">
            <a:off x="766800" y="4214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12"/>
          <p:cNvSpPr/>
          <p:nvPr/>
        </p:nvSpPr>
        <p:spPr>
          <a:xfrm flipH="1">
            <a:off x="91908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13"/>
          <p:cNvSpPr/>
          <p:nvPr/>
        </p:nvSpPr>
        <p:spPr>
          <a:xfrm flipH="1">
            <a:off x="107172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97" descr=""/>
          <p:cNvPicPr/>
          <p:nvPr/>
        </p:nvPicPr>
        <p:blipFill>
          <a:blip r:embed="rId14"/>
          <a:stretch/>
        </p:blipFill>
        <p:spPr>
          <a:xfrm rot="16200000">
            <a:off x="6226200" y="5643360"/>
            <a:ext cx="2763720" cy="2142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99" descr=""/>
          <p:cNvPicPr/>
          <p:nvPr/>
        </p:nvPicPr>
        <p:blipFill>
          <a:blip r:embed="rId15"/>
          <a:stretch/>
        </p:blipFill>
        <p:spPr>
          <a:xfrm rot="16200000">
            <a:off x="6833520" y="5596560"/>
            <a:ext cx="1977840" cy="2145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01" descr=""/>
          <p:cNvPicPr/>
          <p:nvPr/>
        </p:nvPicPr>
        <p:blipFill>
          <a:blip r:embed="rId16"/>
          <a:stretch/>
        </p:blipFill>
        <p:spPr>
          <a:xfrm rot="16200000">
            <a:off x="2475720" y="5667840"/>
            <a:ext cx="1692360" cy="2142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02" descr=""/>
          <p:cNvPicPr/>
          <p:nvPr/>
        </p:nvPicPr>
        <p:blipFill>
          <a:blip r:embed="rId17"/>
          <a:stretch/>
        </p:blipFill>
        <p:spPr>
          <a:xfrm rot="16200000">
            <a:off x="2863800" y="5636880"/>
            <a:ext cx="1344600" cy="2142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0" descr=""/>
          <p:cNvPicPr/>
          <p:nvPr/>
        </p:nvPicPr>
        <p:blipFill>
          <a:blip r:embed="rId18"/>
          <a:stretch/>
        </p:blipFill>
        <p:spPr>
          <a:xfrm rot="10800000">
            <a:off x="2356920" y="565272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83" descr=""/>
          <p:cNvPicPr/>
          <p:nvPr/>
        </p:nvPicPr>
        <p:blipFill>
          <a:blip r:embed="rId19"/>
          <a:stretch/>
        </p:blipFill>
        <p:spPr>
          <a:xfrm>
            <a:off x="59292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81" descr=""/>
          <p:cNvPicPr/>
          <p:nvPr/>
        </p:nvPicPr>
        <p:blipFill>
          <a:blip r:embed="rId20"/>
          <a:stretch/>
        </p:blipFill>
        <p:spPr>
          <a:xfrm rot="10800000">
            <a:off x="2251080" y="5643360"/>
            <a:ext cx="1571760" cy="2142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85" descr=""/>
          <p:cNvPicPr/>
          <p:nvPr/>
        </p:nvPicPr>
        <p:blipFill>
          <a:blip r:embed="rId21"/>
          <a:stretch/>
        </p:blipFill>
        <p:spPr>
          <a:xfrm rot="10800000">
            <a:off x="5071680" y="565272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2" descr=""/>
          <p:cNvPicPr/>
          <p:nvPr/>
        </p:nvPicPr>
        <p:blipFill>
          <a:blip r:embed="rId22"/>
          <a:stretch/>
        </p:blipFill>
        <p:spPr>
          <a:xfrm rot="10800000">
            <a:off x="3357360" y="564336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767" descr=""/>
          <p:cNvPicPr/>
          <p:nvPr/>
        </p:nvPicPr>
        <p:blipFill>
          <a:blip r:embed="rId23"/>
          <a:stretch/>
        </p:blipFill>
        <p:spPr>
          <a:xfrm rot="5400000">
            <a:off x="678240" y="4822200"/>
            <a:ext cx="1214640" cy="4284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65" descr=""/>
          <p:cNvPicPr/>
          <p:nvPr/>
        </p:nvPicPr>
        <p:blipFill>
          <a:blip r:embed="rId24"/>
          <a:stretch/>
        </p:blipFill>
        <p:spPr>
          <a:xfrm rot="5400000">
            <a:off x="7964640" y="4821840"/>
            <a:ext cx="1214640" cy="428760"/>
          </a:xfrm>
          <a:prstGeom prst="rect">
            <a:avLst/>
          </a:prstGeom>
          <a:ln w="0">
            <a:noFill/>
          </a:ln>
        </p:spPr>
      </p:pic>
      <p:sp>
        <p:nvSpPr>
          <p:cNvPr id="315" name="直接连接符 25"/>
          <p:cNvSpPr/>
          <p:nvPr/>
        </p:nvSpPr>
        <p:spPr>
          <a:xfrm flipH="1">
            <a:off x="128232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42"/>
          <p:cNvSpPr/>
          <p:nvPr/>
        </p:nvSpPr>
        <p:spPr>
          <a:xfrm flipH="1" flipV="1">
            <a:off x="152280" y="507204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51" descr=""/>
          <p:cNvPicPr/>
          <p:nvPr/>
        </p:nvPicPr>
        <p:blipFill>
          <a:blip r:embed="rId25"/>
          <a:stretch/>
        </p:blipFill>
        <p:spPr>
          <a:xfrm rot="10800000">
            <a:off x="7536960" y="565272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53" descr=""/>
          <p:cNvPicPr/>
          <p:nvPr/>
        </p:nvPicPr>
        <p:blipFill>
          <a:blip r:embed="rId26"/>
          <a:stretch/>
        </p:blipFill>
        <p:spPr>
          <a:xfrm rot="10800000">
            <a:off x="8537400" y="5643360"/>
            <a:ext cx="857520" cy="214200"/>
          </a:xfrm>
          <a:prstGeom prst="rect">
            <a:avLst/>
          </a:prstGeom>
          <a:ln w="0">
            <a:noFill/>
          </a:ln>
        </p:spPr>
      </p:pic>
      <p:sp>
        <p:nvSpPr>
          <p:cNvPr id="319" name="直接连接符 54"/>
          <p:cNvSpPr/>
          <p:nvPr/>
        </p:nvSpPr>
        <p:spPr>
          <a:xfrm flipH="1">
            <a:off x="842760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55"/>
          <p:cNvSpPr/>
          <p:nvPr/>
        </p:nvSpPr>
        <p:spPr>
          <a:xfrm flipH="1">
            <a:off x="8927640" y="4714920"/>
            <a:ext cx="1800" cy="92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56"/>
          <p:cNvSpPr/>
          <p:nvPr/>
        </p:nvSpPr>
        <p:spPr>
          <a:xfrm flipH="1">
            <a:off x="899964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9" descr=""/>
          <p:cNvPicPr/>
          <p:nvPr/>
        </p:nvPicPr>
        <p:blipFill>
          <a:blip r:embed="rId27"/>
          <a:stretch/>
        </p:blipFill>
        <p:spPr>
          <a:xfrm rot="10800000">
            <a:off x="250560" y="565272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766" descr=""/>
          <p:cNvPicPr/>
          <p:nvPr/>
        </p:nvPicPr>
        <p:blipFill>
          <a:blip r:embed="rId28"/>
          <a:stretch/>
        </p:blipFill>
        <p:spPr>
          <a:xfrm rot="10800000">
            <a:off x="142920" y="5643360"/>
            <a:ext cx="1571760" cy="214200"/>
          </a:xfrm>
          <a:prstGeom prst="rect">
            <a:avLst/>
          </a:prstGeom>
          <a:ln w="0">
            <a:noFill/>
          </a:ln>
        </p:spPr>
      </p:pic>
      <p:sp>
        <p:nvSpPr>
          <p:cNvPr id="324" name="直接连接符 38"/>
          <p:cNvSpPr/>
          <p:nvPr/>
        </p:nvSpPr>
        <p:spPr>
          <a:xfrm flipH="1" flipV="1">
            <a:off x="152280" y="5357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152280" y="5286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1"/>
          <p:cNvSpPr/>
          <p:nvPr/>
        </p:nvSpPr>
        <p:spPr>
          <a:xfrm flipH="1">
            <a:off x="641520" y="442908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1"/>
          <p:cNvSpPr/>
          <p:nvPr/>
        </p:nvSpPr>
        <p:spPr>
          <a:xfrm>
            <a:off x="0" y="585792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768" descr=""/>
          <p:cNvPicPr/>
          <p:nvPr/>
        </p:nvPicPr>
        <p:blipFill>
          <a:blip r:embed="rId29"/>
          <a:stretch/>
        </p:blipFill>
        <p:spPr>
          <a:xfrm rot="10800000">
            <a:off x="1250640" y="564336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770" descr=""/>
          <p:cNvPicPr/>
          <p:nvPr/>
        </p:nvPicPr>
        <p:blipFill>
          <a:blip r:embed="rId30"/>
          <a:stretch/>
        </p:blipFill>
        <p:spPr>
          <a:xfrm>
            <a:off x="9182160" y="2681280"/>
            <a:ext cx="2565360" cy="46080"/>
          </a:xfrm>
          <a:prstGeom prst="rect">
            <a:avLst/>
          </a:prstGeom>
          <a:ln w="0">
            <a:noFill/>
          </a:ln>
        </p:spPr>
      </p:pic>
      <p:sp>
        <p:nvSpPr>
          <p:cNvPr id="330" name="直接连接符 22"/>
          <p:cNvSpPr/>
          <p:nvPr/>
        </p:nvSpPr>
        <p:spPr>
          <a:xfrm flipH="1">
            <a:off x="85572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23"/>
          <p:cNvSpPr/>
          <p:nvPr/>
        </p:nvSpPr>
        <p:spPr>
          <a:xfrm flipH="1">
            <a:off x="945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24"/>
          <p:cNvSpPr/>
          <p:nvPr/>
        </p:nvSpPr>
        <p:spPr>
          <a:xfrm flipH="1">
            <a:off x="114156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26"/>
          <p:cNvSpPr/>
          <p:nvPr/>
        </p:nvSpPr>
        <p:spPr>
          <a:xfrm flipH="1">
            <a:off x="1428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8"/>
          <p:cNvSpPr/>
          <p:nvPr/>
        </p:nvSpPr>
        <p:spPr>
          <a:xfrm flipH="1">
            <a:off x="71280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0"/>
          <p:cNvSpPr/>
          <p:nvPr/>
        </p:nvSpPr>
        <p:spPr>
          <a:xfrm flipH="1">
            <a:off x="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36"/>
          <p:cNvSpPr/>
          <p:nvPr/>
        </p:nvSpPr>
        <p:spPr>
          <a:xfrm flipH="1" flipV="1">
            <a:off x="152280" y="5500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37"/>
          <p:cNvSpPr/>
          <p:nvPr/>
        </p:nvSpPr>
        <p:spPr>
          <a:xfrm flipH="1">
            <a:off x="214200" y="5715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40"/>
          <p:cNvSpPr/>
          <p:nvPr/>
        </p:nvSpPr>
        <p:spPr>
          <a:xfrm flipH="1" flipV="1">
            <a:off x="152280" y="521496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41"/>
          <p:cNvSpPr/>
          <p:nvPr/>
        </p:nvSpPr>
        <p:spPr>
          <a:xfrm flipH="1">
            <a:off x="152280" y="51436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43"/>
          <p:cNvSpPr/>
          <p:nvPr/>
        </p:nvSpPr>
        <p:spPr>
          <a:xfrm flipH="1">
            <a:off x="152280" y="50007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4"/>
          <p:cNvSpPr/>
          <p:nvPr/>
        </p:nvSpPr>
        <p:spPr>
          <a:xfrm flipH="1" flipV="1">
            <a:off x="152280" y="492876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5"/>
          <p:cNvSpPr/>
          <p:nvPr/>
        </p:nvSpPr>
        <p:spPr>
          <a:xfrm flipH="1">
            <a:off x="15228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46"/>
          <p:cNvSpPr/>
          <p:nvPr/>
        </p:nvSpPr>
        <p:spPr>
          <a:xfrm flipH="1">
            <a:off x="1641600" y="4572000"/>
            <a:ext cx="1440" cy="1071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7"/>
          <p:cNvSpPr/>
          <p:nvPr/>
        </p:nvSpPr>
        <p:spPr>
          <a:xfrm flipH="1">
            <a:off x="171252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57"/>
          <p:cNvSpPr/>
          <p:nvPr/>
        </p:nvSpPr>
        <p:spPr>
          <a:xfrm flipH="1">
            <a:off x="792756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59"/>
          <p:cNvSpPr/>
          <p:nvPr/>
        </p:nvSpPr>
        <p:spPr>
          <a:xfrm flipH="1">
            <a:off x="800100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60"/>
          <p:cNvSpPr/>
          <p:nvPr/>
        </p:nvSpPr>
        <p:spPr>
          <a:xfrm flipH="1">
            <a:off x="8642520" y="4357800"/>
            <a:ext cx="288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61"/>
          <p:cNvSpPr/>
          <p:nvPr/>
        </p:nvSpPr>
        <p:spPr>
          <a:xfrm flipH="1">
            <a:off x="823284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62"/>
          <p:cNvSpPr/>
          <p:nvPr/>
        </p:nvSpPr>
        <p:spPr>
          <a:xfrm flipH="1">
            <a:off x="814392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3"/>
          <p:cNvSpPr/>
          <p:nvPr/>
        </p:nvSpPr>
        <p:spPr>
          <a:xfrm flipH="1">
            <a:off x="853704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64"/>
          <p:cNvSpPr/>
          <p:nvPr/>
        </p:nvSpPr>
        <p:spPr>
          <a:xfrm flipH="1">
            <a:off x="8997480" y="4429080"/>
            <a:ext cx="3240" cy="128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68"/>
          <p:cNvSpPr/>
          <p:nvPr/>
        </p:nvSpPr>
        <p:spPr>
          <a:xfrm flipH="1">
            <a:off x="304920" y="48578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69"/>
          <p:cNvSpPr/>
          <p:nvPr/>
        </p:nvSpPr>
        <p:spPr>
          <a:xfrm flipH="1" flipV="1">
            <a:off x="457200" y="478584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70"/>
          <p:cNvSpPr/>
          <p:nvPr/>
        </p:nvSpPr>
        <p:spPr>
          <a:xfrm flipH="1">
            <a:off x="457200" y="471492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71"/>
          <p:cNvSpPr/>
          <p:nvPr/>
        </p:nvSpPr>
        <p:spPr>
          <a:xfrm flipH="1" flipV="1">
            <a:off x="457200" y="464292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折角形 6"/>
          <p:cNvSpPr/>
          <p:nvPr/>
        </p:nvSpPr>
        <p:spPr>
          <a:xfrm>
            <a:off x="5929200" y="3786120"/>
            <a:ext cx="571680" cy="714600"/>
          </a:xfrm>
          <a:prstGeom prst="foldedCorner">
            <a:avLst>
              <a:gd name="adj" fmla="val 34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宋体"/>
                <a:ea typeface="宋体"/>
              </a:rPr>
              <a:t>肥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折角形 4"/>
          <p:cNvSpPr/>
          <p:nvPr/>
        </p:nvSpPr>
        <p:spPr>
          <a:xfrm>
            <a:off x="492912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宋体"/>
                <a:ea typeface="宋体"/>
              </a:rPr>
              <a:t>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折角形 2"/>
          <p:cNvSpPr/>
          <p:nvPr/>
        </p:nvSpPr>
        <p:spPr>
          <a:xfrm>
            <a:off x="2857680" y="3786120"/>
            <a:ext cx="571320" cy="714600"/>
          </a:xfrm>
          <a:prstGeom prst="foldedCorner">
            <a:avLst>
              <a:gd name="adj" fmla="val 388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装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73"/>
          <p:cNvSpPr/>
          <p:nvPr/>
        </p:nvSpPr>
        <p:spPr>
          <a:xfrm flipH="1">
            <a:off x="213948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74"/>
          <p:cNvSpPr/>
          <p:nvPr/>
        </p:nvSpPr>
        <p:spPr>
          <a:xfrm flipH="1">
            <a:off x="1999800" y="43149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75"/>
          <p:cNvSpPr/>
          <p:nvPr/>
        </p:nvSpPr>
        <p:spPr>
          <a:xfrm flipH="1">
            <a:off x="178452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6"/>
          <p:cNvSpPr/>
          <p:nvPr/>
        </p:nvSpPr>
        <p:spPr>
          <a:xfrm flipH="1">
            <a:off x="171468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77"/>
          <p:cNvSpPr/>
          <p:nvPr/>
        </p:nvSpPr>
        <p:spPr>
          <a:xfrm flipH="1">
            <a:off x="185688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12"/>
          <p:cNvSpPr/>
          <p:nvPr/>
        </p:nvSpPr>
        <p:spPr>
          <a:xfrm>
            <a:off x="0" y="5856120"/>
            <a:ext cx="914400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折角形 1"/>
          <p:cNvSpPr/>
          <p:nvPr/>
        </p:nvSpPr>
        <p:spPr>
          <a:xfrm>
            <a:off x="1857240" y="3786120"/>
            <a:ext cx="571680" cy="714600"/>
          </a:xfrm>
          <a:prstGeom prst="foldedCorner">
            <a:avLst>
              <a:gd name="adj" fmla="val 32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bf8e"/>
                </a:solidFill>
                <a:latin typeface="宋体"/>
                <a:ea typeface="宋体"/>
              </a:rPr>
              <a:t>家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8"/>
          <p:cNvSpPr/>
          <p:nvPr/>
        </p:nvSpPr>
        <p:spPr>
          <a:xfrm flipH="1">
            <a:off x="304920" y="5429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89"/>
          <p:cNvSpPr/>
          <p:nvPr/>
        </p:nvSpPr>
        <p:spPr>
          <a:xfrm flipH="1">
            <a:off x="414036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90"/>
          <p:cNvSpPr/>
          <p:nvPr/>
        </p:nvSpPr>
        <p:spPr>
          <a:xfrm flipH="1">
            <a:off x="4212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1"/>
          <p:cNvSpPr/>
          <p:nvPr/>
        </p:nvSpPr>
        <p:spPr>
          <a:xfrm flipH="1">
            <a:off x="678456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92"/>
          <p:cNvSpPr/>
          <p:nvPr/>
        </p:nvSpPr>
        <p:spPr>
          <a:xfrm flipH="1">
            <a:off x="6927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折角形 5"/>
          <p:cNvSpPr/>
          <p:nvPr/>
        </p:nvSpPr>
        <p:spPr>
          <a:xfrm>
            <a:off x="685800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造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103"/>
          <p:cNvSpPr/>
          <p:nvPr/>
        </p:nvSpPr>
        <p:spPr>
          <a:xfrm flipH="1">
            <a:off x="3429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104"/>
          <p:cNvSpPr/>
          <p:nvPr/>
        </p:nvSpPr>
        <p:spPr>
          <a:xfrm flipH="1">
            <a:off x="75009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105"/>
          <p:cNvSpPr/>
          <p:nvPr/>
        </p:nvSpPr>
        <p:spPr>
          <a:xfrm flipH="1">
            <a:off x="7714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106"/>
          <p:cNvSpPr/>
          <p:nvPr/>
        </p:nvSpPr>
        <p:spPr>
          <a:xfrm flipH="1">
            <a:off x="285840" y="4572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15"/>
          <p:cNvSpPr/>
          <p:nvPr/>
        </p:nvSpPr>
        <p:spPr>
          <a:xfrm flipH="1">
            <a:off x="4285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116"/>
          <p:cNvSpPr/>
          <p:nvPr/>
        </p:nvSpPr>
        <p:spPr>
          <a:xfrm flipH="1">
            <a:off x="44388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117"/>
          <p:cNvSpPr/>
          <p:nvPr/>
        </p:nvSpPr>
        <p:spPr>
          <a:xfrm flipH="1">
            <a:off x="4572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118"/>
          <p:cNvSpPr/>
          <p:nvPr/>
        </p:nvSpPr>
        <p:spPr>
          <a:xfrm flipH="1">
            <a:off x="47847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23"/>
          <p:cNvSpPr/>
          <p:nvPr/>
        </p:nvSpPr>
        <p:spPr>
          <a:xfrm flipH="1" flipV="1">
            <a:off x="-211320" y="5643720"/>
            <a:ext cx="98564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8"/>
          <p:cNvSpPr/>
          <p:nvPr/>
        </p:nvSpPr>
        <p:spPr>
          <a:xfrm>
            <a:off x="0" y="5643720"/>
            <a:ext cx="9144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783" descr=""/>
          <p:cNvPicPr/>
          <p:nvPr/>
        </p:nvPicPr>
        <p:blipFill>
          <a:blip r:embed="rId31"/>
          <a:stretch/>
        </p:blipFill>
        <p:spPr>
          <a:xfrm>
            <a:off x="-1141560" y="5499000"/>
            <a:ext cx="1000440" cy="35892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2071800" y="3786120"/>
            <a:ext cx="5429160" cy="520560"/>
            <a:chOff x="2071800" y="3786120"/>
            <a:chExt cx="5429160" cy="520560"/>
          </a:xfrm>
        </p:grpSpPr>
        <p:sp>
          <p:nvSpPr>
            <p:cNvPr id="384" name="任意多边形 785"/>
            <p:cNvSpPr/>
            <p:nvPr/>
          </p:nvSpPr>
          <p:spPr>
            <a:xfrm>
              <a:off x="2071800" y="3786120"/>
              <a:ext cx="261360" cy="4777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261583" h="477078">
                  <a:moveTo>
                    <a:pt x="41848" y="0"/>
                  </a:moveTo>
                  <a:cubicBezTo>
                    <a:pt x="30689" y="33479"/>
                    <a:pt x="0" y="85790"/>
                    <a:pt x="41848" y="119269"/>
                  </a:cubicBezTo>
                  <a:cubicBezTo>
                    <a:pt x="63181" y="136336"/>
                    <a:pt x="94857" y="132522"/>
                    <a:pt x="121361" y="139148"/>
                  </a:cubicBezTo>
                  <a:cubicBezTo>
                    <a:pt x="147717" y="99613"/>
                    <a:pt x="190618" y="69257"/>
                    <a:pt x="141239" y="19878"/>
                  </a:cubicBezTo>
                  <a:cubicBezTo>
                    <a:pt x="126423" y="5062"/>
                    <a:pt x="101482" y="6626"/>
                    <a:pt x="81604" y="0"/>
                  </a:cubicBezTo>
                  <a:cubicBezTo>
                    <a:pt x="34293" y="141934"/>
                    <a:pt x="6980" y="96023"/>
                    <a:pt x="101483" y="159026"/>
                  </a:cubicBezTo>
                  <a:cubicBezTo>
                    <a:pt x="94857" y="185530"/>
                    <a:pt x="96758" y="215807"/>
                    <a:pt x="81604" y="238539"/>
                  </a:cubicBezTo>
                  <a:cubicBezTo>
                    <a:pt x="68352" y="258417"/>
                    <a:pt x="8718" y="298174"/>
                    <a:pt x="21970" y="278296"/>
                  </a:cubicBezTo>
                  <a:cubicBezTo>
                    <a:pt x="73349" y="201226"/>
                    <a:pt x="54171" y="241326"/>
                    <a:pt x="81604" y="159026"/>
                  </a:cubicBezTo>
                  <a:lnTo>
                    <a:pt x="161117" y="178904"/>
                  </a:lnTo>
                  <a:cubicBezTo>
                    <a:pt x="167743" y="198782"/>
                    <a:pt x="166180" y="223723"/>
                    <a:pt x="180996" y="238539"/>
                  </a:cubicBezTo>
                  <a:cubicBezTo>
                    <a:pt x="195812" y="253355"/>
                    <a:pt x="261583" y="258417"/>
                    <a:pt x="240630" y="258417"/>
                  </a:cubicBezTo>
                  <a:cubicBezTo>
                    <a:pt x="206844" y="258417"/>
                    <a:pt x="174369" y="245165"/>
                    <a:pt x="141239" y="238539"/>
                  </a:cubicBezTo>
                  <a:cubicBezTo>
                    <a:pt x="114735" y="245165"/>
                    <a:pt x="78118" y="236561"/>
                    <a:pt x="61726" y="258417"/>
                  </a:cubicBezTo>
                  <a:cubicBezTo>
                    <a:pt x="49154" y="275180"/>
                    <a:pt x="81604" y="297098"/>
                    <a:pt x="81604" y="318052"/>
                  </a:cubicBezTo>
                  <a:cubicBezTo>
                    <a:pt x="81604" y="371473"/>
                    <a:pt x="68352" y="424069"/>
                    <a:pt x="61726" y="477078"/>
                  </a:cubicBezTo>
                  <a:cubicBezTo>
                    <a:pt x="61726" y="477078"/>
                    <a:pt x="58847" y="340878"/>
                    <a:pt x="81604" y="278296"/>
                  </a:cubicBezTo>
                  <a:cubicBezTo>
                    <a:pt x="88765" y="258604"/>
                    <a:pt x="121361" y="265043"/>
                    <a:pt x="141239" y="258417"/>
                  </a:cubicBezTo>
                  <a:cubicBezTo>
                    <a:pt x="141239" y="258417"/>
                    <a:pt x="187106" y="436550"/>
                    <a:pt x="161117" y="397565"/>
                  </a:cubicBezTo>
                  <a:cubicBezTo>
                    <a:pt x="117686" y="332417"/>
                    <a:pt x="121361" y="361821"/>
                    <a:pt x="121361" y="31805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17"/>
            <p:cNvSpPr/>
            <p:nvPr/>
          </p:nvSpPr>
          <p:spPr>
            <a:xfrm>
              <a:off x="2286000" y="378612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人类对自然资源的需求没有尽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折角形 3"/>
          <p:cNvSpPr/>
          <p:nvPr/>
        </p:nvSpPr>
        <p:spPr>
          <a:xfrm>
            <a:off x="3929040" y="3786120"/>
            <a:ext cx="571680" cy="714600"/>
          </a:xfrm>
          <a:prstGeom prst="foldedCorner">
            <a:avLst>
              <a:gd name="adj" fmla="val 326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建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2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47549E-007 L 0.61423 6.47549E-007 E">
                                      <p:cBhvr>
                                        <p:cTn id="833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dur="indefinite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56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33334 L 2.77778E-007 0.00254 E">
                                      <p:cBhvr>
                                        <p:cTn id="877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dur="indefinite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24 -2.96296E-006 L 1.17327 -2.96296E-006 E">
                                      <p:cBhvr>
                                        <p:cTn id="88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8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5357880" y="5643720"/>
            <a:ext cx="642960" cy="214200"/>
            <a:chOff x="5357880" y="5643720"/>
            <a:chExt cx="642960" cy="214200"/>
          </a:xfrm>
        </p:grpSpPr>
        <p:sp>
          <p:nvSpPr>
            <p:cNvPr id="388" name="十二角星 73"/>
            <p:cNvSpPr/>
            <p:nvPr/>
          </p:nvSpPr>
          <p:spPr>
            <a:xfrm>
              <a:off x="5357880" y="5715000"/>
              <a:ext cx="500040" cy="1429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0066" h="142876">
                  <a:moveTo>
                    <a:pt x="0" y="71438"/>
                  </a:moveTo>
                  <a:lnTo>
                    <a:pt x="68898" y="57570"/>
                  </a:lnTo>
                  <a:lnTo>
                    <a:pt x="33498" y="35719"/>
                  </a:lnTo>
                  <a:lnTo>
                    <a:pt x="117432" y="33552"/>
                  </a:lnTo>
                  <a:lnTo>
                    <a:pt x="125016" y="9570"/>
                  </a:lnTo>
                  <a:lnTo>
                    <a:pt x="201498" y="19685"/>
                  </a:lnTo>
                  <a:lnTo>
                    <a:pt x="250033" y="0"/>
                  </a:lnTo>
                  <a:lnTo>
                    <a:pt x="298567" y="19685"/>
                  </a:lnTo>
                  <a:lnTo>
                    <a:pt x="375049" y="9570"/>
                  </a:lnTo>
                  <a:lnTo>
                    <a:pt x="382633" y="33552"/>
                  </a:lnTo>
                  <a:lnTo>
                    <a:pt x="466567" y="35719"/>
                  </a:lnTo>
                  <a:lnTo>
                    <a:pt x="431167" y="57570"/>
                  </a:lnTo>
                  <a:lnTo>
                    <a:pt x="500066" y="71438"/>
                  </a:lnTo>
                  <a:lnTo>
                    <a:pt x="431167" y="85305"/>
                  </a:lnTo>
                  <a:lnTo>
                    <a:pt x="466567" y="107157"/>
                  </a:lnTo>
                  <a:lnTo>
                    <a:pt x="382633" y="109323"/>
                  </a:lnTo>
                  <a:lnTo>
                    <a:pt x="375049" y="133305"/>
                  </a:lnTo>
                  <a:lnTo>
                    <a:pt x="298567" y="123190"/>
                  </a:lnTo>
                  <a:lnTo>
                    <a:pt x="250033" y="142876"/>
                  </a:lnTo>
                  <a:lnTo>
                    <a:pt x="201498" y="123190"/>
                  </a:lnTo>
                  <a:lnTo>
                    <a:pt x="125016" y="133305"/>
                  </a:lnTo>
                  <a:lnTo>
                    <a:pt x="117432" y="109323"/>
                  </a:lnTo>
                  <a:lnTo>
                    <a:pt x="33498" y="107157"/>
                  </a:lnTo>
                  <a:lnTo>
                    <a:pt x="68898" y="85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5429160" y="5643720"/>
              <a:ext cx="571680" cy="194400"/>
              <a:chOff x="5429160" y="5643720"/>
              <a:chExt cx="571680" cy="194400"/>
            </a:xfrm>
          </p:grpSpPr>
          <p:sp>
            <p:nvSpPr>
              <p:cNvPr id="390" name="任意多边形 65"/>
              <p:cNvSpPr/>
              <p:nvPr/>
            </p:nvSpPr>
            <p:spPr>
              <a:xfrm>
                <a:off x="5429160" y="5755680"/>
                <a:ext cx="211320" cy="612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70686" h="556770">
                    <a:moveTo>
                      <a:pt x="207648" y="0"/>
                    </a:moveTo>
                    <a:lnTo>
                      <a:pt x="149282" y="68094"/>
                    </a:lnTo>
                    <a:cubicBezTo>
                      <a:pt x="39543" y="137928"/>
                      <a:pt x="0" y="136187"/>
                      <a:pt x="52005" y="136187"/>
                    </a:cubicBezTo>
                    <a:cubicBezTo>
                      <a:pt x="41920" y="226959"/>
                      <a:pt x="42278" y="194373"/>
                      <a:pt x="42278" y="233464"/>
                    </a:cubicBezTo>
                    <a:lnTo>
                      <a:pt x="81188" y="379379"/>
                    </a:lnTo>
                    <a:lnTo>
                      <a:pt x="178465" y="389106"/>
                    </a:lnTo>
                    <a:lnTo>
                      <a:pt x="227103" y="457200"/>
                    </a:lnTo>
                    <a:cubicBezTo>
                      <a:pt x="166444" y="517859"/>
                      <a:pt x="196251" y="515566"/>
                      <a:pt x="159009" y="515566"/>
                    </a:cubicBezTo>
                    <a:lnTo>
                      <a:pt x="275741" y="515566"/>
                    </a:lnTo>
                    <a:cubicBezTo>
                      <a:pt x="387313" y="505423"/>
                      <a:pt x="357421" y="531163"/>
                      <a:pt x="392473" y="496111"/>
                    </a:cubicBezTo>
                    <a:cubicBezTo>
                      <a:pt x="453915" y="475630"/>
                      <a:pt x="430331" y="476655"/>
                      <a:pt x="460567" y="476655"/>
                    </a:cubicBezTo>
                    <a:lnTo>
                      <a:pt x="460567" y="476655"/>
                    </a:lnTo>
                    <a:cubicBezTo>
                      <a:pt x="540681" y="556770"/>
                      <a:pt x="501703" y="554477"/>
                      <a:pt x="548116" y="554477"/>
                    </a:cubicBezTo>
                    <a:cubicBezTo>
                      <a:pt x="647969" y="521193"/>
                      <a:pt x="604903" y="525294"/>
                      <a:pt x="674575" y="525294"/>
                    </a:cubicBezTo>
                    <a:lnTo>
                      <a:pt x="1151231" y="515566"/>
                    </a:lnTo>
                    <a:lnTo>
                      <a:pt x="1170686" y="505838"/>
                    </a:ln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464800" y="5643720"/>
                <a:ext cx="536040" cy="194400"/>
                <a:chOff x="5464800" y="5643720"/>
                <a:chExt cx="536040" cy="194400"/>
              </a:xfrm>
            </p:grpSpPr>
            <p:sp>
              <p:nvSpPr>
                <p:cNvPr id="392" name="任意多边形 64"/>
                <p:cNvSpPr/>
                <p:nvPr/>
              </p:nvSpPr>
              <p:spPr>
                <a:xfrm>
                  <a:off x="5464800" y="5643720"/>
                  <a:ext cx="536040" cy="194400"/>
                </a:xfrm>
                <a:custGeom>
                  <a:avLst/>
                  <a:gdLst>
                    <a:gd name="textAreaLeft" fmla="*/ 0 w 536040"/>
                    <a:gd name="textAreaRight" fmla="*/ 536400 w 53604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2968208" h="1765889">
                      <a:moveTo>
                        <a:pt x="0" y="1034238"/>
                      </a:moveTo>
                      <a:lnTo>
                        <a:pt x="145915" y="713226"/>
                      </a:lnTo>
                      <a:lnTo>
                        <a:pt x="389106" y="460306"/>
                      </a:lnTo>
                      <a:lnTo>
                        <a:pt x="428017" y="392213"/>
                      </a:lnTo>
                      <a:cubicBezTo>
                        <a:pt x="327560" y="412304"/>
                        <a:pt x="330740" y="444736"/>
                        <a:pt x="330740" y="401940"/>
                      </a:cubicBezTo>
                      <a:cubicBezTo>
                        <a:pt x="208613" y="320522"/>
                        <a:pt x="214009" y="370883"/>
                        <a:pt x="214009" y="304664"/>
                      </a:cubicBezTo>
                      <a:lnTo>
                        <a:pt x="214009" y="226843"/>
                      </a:lnTo>
                      <a:lnTo>
                        <a:pt x="457200" y="236570"/>
                      </a:lnTo>
                      <a:lnTo>
                        <a:pt x="544749" y="197660"/>
                      </a:lnTo>
                      <a:cubicBezTo>
                        <a:pt x="485451" y="0"/>
                        <a:pt x="418676" y="3106"/>
                        <a:pt x="496111" y="3106"/>
                      </a:cubicBezTo>
                      <a:cubicBezTo>
                        <a:pt x="595106" y="161499"/>
                        <a:pt x="532207" y="158749"/>
                        <a:pt x="603115" y="158749"/>
                      </a:cubicBezTo>
                      <a:lnTo>
                        <a:pt x="768485" y="158749"/>
                      </a:lnTo>
                      <a:lnTo>
                        <a:pt x="904672" y="51745"/>
                      </a:lnTo>
                      <a:lnTo>
                        <a:pt x="914400" y="90655"/>
                      </a:lnTo>
                      <a:cubicBezTo>
                        <a:pt x="825098" y="229571"/>
                        <a:pt x="772884" y="226843"/>
                        <a:pt x="836579" y="226843"/>
                      </a:cubicBezTo>
                      <a:lnTo>
                        <a:pt x="992221" y="401940"/>
                      </a:lnTo>
                      <a:lnTo>
                        <a:pt x="924128" y="645132"/>
                      </a:lnTo>
                      <a:cubicBezTo>
                        <a:pt x="963550" y="891525"/>
                        <a:pt x="963038" y="806228"/>
                        <a:pt x="963038" y="898051"/>
                      </a:cubicBezTo>
                      <a:cubicBezTo>
                        <a:pt x="942597" y="1030921"/>
                        <a:pt x="986232" y="1024511"/>
                        <a:pt x="924128" y="1024511"/>
                      </a:cubicBezTo>
                      <a:lnTo>
                        <a:pt x="826851" y="1043966"/>
                      </a:lnTo>
                      <a:lnTo>
                        <a:pt x="690664" y="868868"/>
                      </a:lnTo>
                      <a:lnTo>
                        <a:pt x="622570" y="1024511"/>
                      </a:lnTo>
                      <a:lnTo>
                        <a:pt x="817123" y="1287157"/>
                      </a:lnTo>
                      <a:lnTo>
                        <a:pt x="972766" y="1345523"/>
                      </a:lnTo>
                      <a:lnTo>
                        <a:pt x="933855" y="1462255"/>
                      </a:lnTo>
                      <a:lnTo>
                        <a:pt x="972766" y="1569260"/>
                      </a:lnTo>
                      <a:cubicBezTo>
                        <a:pt x="1101987" y="1648780"/>
                        <a:pt x="1049731" y="1647081"/>
                        <a:pt x="1108953" y="1647081"/>
                      </a:cubicBezTo>
                      <a:lnTo>
                        <a:pt x="1760706" y="1656809"/>
                      </a:lnTo>
                      <a:lnTo>
                        <a:pt x="1819072" y="1608170"/>
                      </a:lnTo>
                      <a:lnTo>
                        <a:pt x="1809345" y="1569260"/>
                      </a:lnTo>
                      <a:lnTo>
                        <a:pt x="1702340" y="1520621"/>
                      </a:lnTo>
                      <a:lnTo>
                        <a:pt x="1643975" y="1520621"/>
                      </a:lnTo>
                      <a:lnTo>
                        <a:pt x="1371600" y="1520621"/>
                      </a:lnTo>
                      <a:lnTo>
                        <a:pt x="1215958" y="1520621"/>
                      </a:lnTo>
                      <a:lnTo>
                        <a:pt x="1167319" y="1481711"/>
                      </a:lnTo>
                      <a:lnTo>
                        <a:pt x="1439694" y="1442800"/>
                      </a:lnTo>
                      <a:lnTo>
                        <a:pt x="1741251" y="1442800"/>
                      </a:lnTo>
                      <a:cubicBezTo>
                        <a:pt x="1837477" y="1549718"/>
                        <a:pt x="1785176" y="1540077"/>
                        <a:pt x="1867711" y="1540077"/>
                      </a:cubicBezTo>
                      <a:lnTo>
                        <a:pt x="1877438" y="1598443"/>
                      </a:lnTo>
                      <a:lnTo>
                        <a:pt x="1964987" y="1598443"/>
                      </a:lnTo>
                      <a:lnTo>
                        <a:pt x="2042809" y="1578987"/>
                      </a:lnTo>
                      <a:lnTo>
                        <a:pt x="1877438" y="1685991"/>
                      </a:lnTo>
                      <a:cubicBezTo>
                        <a:pt x="1958477" y="1696121"/>
                        <a:pt x="1929117" y="1695719"/>
                        <a:pt x="1964987" y="1695719"/>
                      </a:cubicBezTo>
                      <a:cubicBezTo>
                        <a:pt x="2026552" y="1705980"/>
                        <a:pt x="2003629" y="1705447"/>
                        <a:pt x="2033081" y="1705447"/>
                      </a:cubicBezTo>
                      <a:lnTo>
                        <a:pt x="2033081" y="1705447"/>
                      </a:lnTo>
                      <a:cubicBezTo>
                        <a:pt x="2055779" y="1692477"/>
                        <a:pt x="2077376" y="1677354"/>
                        <a:pt x="2101175" y="1666536"/>
                      </a:cubicBezTo>
                      <a:cubicBezTo>
                        <a:pt x="2113346" y="1661004"/>
                        <a:pt x="2140085" y="1656809"/>
                        <a:pt x="2140085" y="1656809"/>
                      </a:cubicBezTo>
                      <a:lnTo>
                        <a:pt x="2159540" y="1617898"/>
                      </a:lnTo>
                      <a:lnTo>
                        <a:pt x="2169268" y="1559532"/>
                      </a:lnTo>
                      <a:lnTo>
                        <a:pt x="2071992" y="1481711"/>
                      </a:lnTo>
                      <a:lnTo>
                        <a:pt x="2042809" y="1296885"/>
                      </a:lnTo>
                      <a:cubicBezTo>
                        <a:pt x="1973344" y="1148032"/>
                        <a:pt x="1921041" y="1150970"/>
                        <a:pt x="1984443" y="1150970"/>
                      </a:cubicBezTo>
                      <a:lnTo>
                        <a:pt x="2140085" y="1267702"/>
                      </a:lnTo>
                      <a:lnTo>
                        <a:pt x="2315183" y="1501166"/>
                      </a:lnTo>
                      <a:cubicBezTo>
                        <a:pt x="2356572" y="1614984"/>
                        <a:pt x="2388040" y="1591197"/>
                        <a:pt x="2334638" y="1617898"/>
                      </a:cubicBezTo>
                      <a:lnTo>
                        <a:pt x="2256817" y="1666536"/>
                      </a:lnTo>
                      <a:cubicBezTo>
                        <a:pt x="2180967" y="1679178"/>
                        <a:pt x="2196045" y="1656914"/>
                        <a:pt x="2208179" y="1705447"/>
                      </a:cubicBezTo>
                      <a:cubicBezTo>
                        <a:pt x="2208965" y="1708593"/>
                        <a:pt x="2208179" y="1711932"/>
                        <a:pt x="2208179" y="1715174"/>
                      </a:cubicBezTo>
                      <a:lnTo>
                        <a:pt x="2208179" y="1715174"/>
                      </a:lnTo>
                      <a:cubicBezTo>
                        <a:pt x="2269036" y="1765889"/>
                        <a:pt x="2241220" y="1763813"/>
                        <a:pt x="2276272" y="1763813"/>
                      </a:cubicBezTo>
                      <a:lnTo>
                        <a:pt x="2354094" y="1744357"/>
                      </a:lnTo>
                      <a:lnTo>
                        <a:pt x="2529192" y="1647081"/>
                      </a:lnTo>
                      <a:lnTo>
                        <a:pt x="2587558" y="1608170"/>
                      </a:lnTo>
                      <a:lnTo>
                        <a:pt x="2480553" y="1462255"/>
                      </a:lnTo>
                      <a:lnTo>
                        <a:pt x="2577830" y="1433072"/>
                      </a:lnTo>
                      <a:lnTo>
                        <a:pt x="2607013" y="1481711"/>
                      </a:lnTo>
                      <a:lnTo>
                        <a:pt x="2889115" y="1647081"/>
                      </a:lnTo>
                      <a:lnTo>
                        <a:pt x="2898843" y="1695719"/>
                      </a:lnTo>
                      <a:lnTo>
                        <a:pt x="2957209" y="1715174"/>
                      </a:lnTo>
                      <a:cubicBezTo>
                        <a:pt x="2968208" y="1660177"/>
                        <a:pt x="2966936" y="1683070"/>
                        <a:pt x="2966936" y="1647081"/>
                      </a:cubicBezTo>
                      <a:lnTo>
                        <a:pt x="2966936" y="1617898"/>
                      </a:lnTo>
                      <a:lnTo>
                        <a:pt x="2937753" y="1608170"/>
                      </a:lnTo>
                      <a:lnTo>
                        <a:pt x="2869660" y="1588715"/>
                      </a:lnTo>
                      <a:lnTo>
                        <a:pt x="2704289" y="1510894"/>
                      </a:lnTo>
                      <a:lnTo>
                        <a:pt x="2626468" y="1442800"/>
                      </a:lnTo>
                      <a:cubicBezTo>
                        <a:pt x="2691712" y="1377556"/>
                        <a:pt x="2684834" y="1411948"/>
                        <a:pt x="2684834" y="1355251"/>
                      </a:cubicBezTo>
                      <a:lnTo>
                        <a:pt x="2694562" y="1228791"/>
                      </a:lnTo>
                      <a:lnTo>
                        <a:pt x="2665379" y="1131515"/>
                      </a:lnTo>
                      <a:lnTo>
                        <a:pt x="2538919" y="966145"/>
                      </a:lnTo>
                      <a:lnTo>
                        <a:pt x="2373549" y="839685"/>
                      </a:lnTo>
                      <a:lnTo>
                        <a:pt x="2237362" y="771591"/>
                      </a:lnTo>
                      <a:lnTo>
                        <a:pt x="2023353" y="654860"/>
                      </a:lnTo>
                      <a:lnTo>
                        <a:pt x="1819072" y="606221"/>
                      </a:lnTo>
                      <a:lnTo>
                        <a:pt x="1391055" y="538128"/>
                      </a:lnTo>
                      <a:lnTo>
                        <a:pt x="992221" y="567311"/>
                      </a:lnTo>
                      <a:lnTo>
                        <a:pt x="933855" y="596494"/>
                      </a:lnTo>
                      <a:lnTo>
                        <a:pt x="933855" y="586766"/>
                      </a:lnTo>
                    </a:path>
                  </a:pathLst>
                </a:custGeom>
                <a:solidFill>
                  <a:srgbClr val="b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任意多边形 67"/>
                <p:cNvSpPr/>
                <p:nvPr/>
              </p:nvSpPr>
              <p:spPr>
                <a:xfrm>
                  <a:off x="5566680" y="5689080"/>
                  <a:ext cx="15480" cy="93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7549" h="87549">
                      <a:moveTo>
                        <a:pt x="0" y="19455"/>
                      </a:moveTo>
                      <a:lnTo>
                        <a:pt x="87549" y="87549"/>
                      </a:lnTo>
                      <a:lnTo>
                        <a:pt x="87549" y="29183"/>
                      </a:lnTo>
                      <a:lnTo>
                        <a:pt x="68094" y="0"/>
                      </a:lnTo>
                      <a:lnTo>
                        <a:pt x="0" y="194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任意多边形 68"/>
                <p:cNvSpPr/>
                <p:nvPr/>
              </p:nvSpPr>
              <p:spPr>
                <a:xfrm>
                  <a:off x="5469840" y="5707440"/>
                  <a:ext cx="172080" cy="105120"/>
                </a:xfrm>
                <a:custGeom>
                  <a:avLst/>
                  <a:gdLst>
                    <a:gd name="textAreaLeft" fmla="*/ 0 w 172080"/>
                    <a:gd name="textAreaRight" fmla="*/ 172440 w 17208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953311" h="953311">
                      <a:moveTo>
                        <a:pt x="0" y="447473"/>
                      </a:moveTo>
                      <a:lnTo>
                        <a:pt x="953311" y="953311"/>
                      </a:lnTo>
                      <a:lnTo>
                        <a:pt x="924128" y="865762"/>
                      </a:lnTo>
                      <a:lnTo>
                        <a:pt x="943583" y="758758"/>
                      </a:lnTo>
                      <a:lnTo>
                        <a:pt x="787940" y="680936"/>
                      </a:lnTo>
                      <a:lnTo>
                        <a:pt x="603115" y="437745"/>
                      </a:lnTo>
                      <a:lnTo>
                        <a:pt x="651753" y="282102"/>
                      </a:lnTo>
                      <a:lnTo>
                        <a:pt x="787940" y="428017"/>
                      </a:lnTo>
                      <a:lnTo>
                        <a:pt x="894945" y="437745"/>
                      </a:lnTo>
                      <a:lnTo>
                        <a:pt x="924128" y="398834"/>
                      </a:lnTo>
                      <a:lnTo>
                        <a:pt x="924128" y="243192"/>
                      </a:lnTo>
                      <a:lnTo>
                        <a:pt x="904672" y="0"/>
                      </a:lnTo>
                      <a:lnTo>
                        <a:pt x="0" y="447473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任意多边形 69"/>
                <p:cNvSpPr/>
                <p:nvPr/>
              </p:nvSpPr>
              <p:spPr>
                <a:xfrm>
                  <a:off x="5635080" y="5710320"/>
                  <a:ext cx="3600" cy="3204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21289" h="291830">
                      <a:moveTo>
                        <a:pt x="0" y="0"/>
                      </a:moveTo>
                      <a:cubicBezTo>
                        <a:pt x="3243" y="48638"/>
                        <a:pt x="9728" y="97169"/>
                        <a:pt x="9728" y="145915"/>
                      </a:cubicBezTo>
                      <a:cubicBezTo>
                        <a:pt x="9728" y="156169"/>
                        <a:pt x="0" y="164844"/>
                        <a:pt x="0" y="175098"/>
                      </a:cubicBezTo>
                      <a:cubicBezTo>
                        <a:pt x="0" y="248077"/>
                        <a:pt x="11780" y="199191"/>
                        <a:pt x="19455" y="252919"/>
                      </a:cubicBezTo>
                      <a:cubicBezTo>
                        <a:pt x="21289" y="265759"/>
                        <a:pt x="19455" y="278860"/>
                        <a:pt x="19455" y="2918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70"/>
                <p:cNvSpPr/>
                <p:nvPr/>
              </p:nvSpPr>
              <p:spPr>
                <a:xfrm>
                  <a:off x="5601600" y="5736240"/>
                  <a:ext cx="38880" cy="212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15866" h="194553">
                      <a:moveTo>
                        <a:pt x="30850" y="145915"/>
                      </a:moveTo>
                      <a:cubicBezTo>
                        <a:pt x="0" y="94496"/>
                        <a:pt x="1668" y="116184"/>
                        <a:pt x="1668" y="87549"/>
                      </a:cubicBezTo>
                      <a:lnTo>
                        <a:pt x="69761" y="9728"/>
                      </a:lnTo>
                      <a:lnTo>
                        <a:pt x="205948" y="0"/>
                      </a:lnTo>
                      <a:cubicBezTo>
                        <a:pt x="215866" y="168607"/>
                        <a:pt x="215676" y="110151"/>
                        <a:pt x="215676" y="175098"/>
                      </a:cubicBezTo>
                      <a:lnTo>
                        <a:pt x="118399" y="194553"/>
                      </a:lnTo>
                      <a:lnTo>
                        <a:pt x="30850" y="145915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7" name="爆炸形 1 61"/>
          <p:cNvSpPr/>
          <p:nvPr/>
        </p:nvSpPr>
        <p:spPr>
          <a:xfrm>
            <a:off x="5429160" y="5429160"/>
            <a:ext cx="214560" cy="2858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47" descr=""/>
          <p:cNvPicPr/>
          <p:nvPr/>
        </p:nvPicPr>
        <p:blipFill>
          <a:blip r:embed="rId1"/>
          <a:stretch/>
        </p:blipFill>
        <p:spPr>
          <a:xfrm>
            <a:off x="4214880" y="5214960"/>
            <a:ext cx="357120" cy="42876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41" descr=""/>
          <p:cNvPicPr/>
          <p:nvPr/>
        </p:nvPicPr>
        <p:blipFill>
          <a:blip r:embed="rId2"/>
          <a:stretch/>
        </p:blipFill>
        <p:spPr>
          <a:xfrm>
            <a:off x="5572080" y="5000760"/>
            <a:ext cx="397080" cy="6951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31" descr=""/>
          <p:cNvPicPr/>
          <p:nvPr/>
        </p:nvPicPr>
        <p:blipFill>
          <a:blip r:embed="rId3"/>
          <a:stretch/>
        </p:blipFill>
        <p:spPr>
          <a:xfrm>
            <a:off x="4357800" y="5143680"/>
            <a:ext cx="299880" cy="533160"/>
          </a:xfrm>
          <a:prstGeom prst="rect">
            <a:avLst/>
          </a:prstGeom>
          <a:ln w="0">
            <a:noFill/>
          </a:ln>
        </p:spPr>
      </p:pic>
      <p:sp>
        <p:nvSpPr>
          <p:cNvPr id="401" name="直接连接符 33"/>
          <p:cNvSpPr/>
          <p:nvPr/>
        </p:nvSpPr>
        <p:spPr>
          <a:xfrm>
            <a:off x="-141120" y="5857920"/>
            <a:ext cx="98568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图片 35" descr=""/>
          <p:cNvPicPr/>
          <p:nvPr/>
        </p:nvPicPr>
        <p:blipFill>
          <a:blip r:embed="rId4"/>
          <a:stretch/>
        </p:blipFill>
        <p:spPr>
          <a:xfrm>
            <a:off x="4929120" y="4857840"/>
            <a:ext cx="642960" cy="112392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36" descr=""/>
          <p:cNvPicPr/>
          <p:nvPr/>
        </p:nvPicPr>
        <p:blipFill>
          <a:blip r:embed="rId5"/>
          <a:stretch/>
        </p:blipFill>
        <p:spPr>
          <a:xfrm>
            <a:off x="6286680" y="4876920"/>
            <a:ext cx="357120" cy="6238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37" descr=""/>
          <p:cNvPicPr/>
          <p:nvPr/>
        </p:nvPicPr>
        <p:blipFill>
          <a:blip r:embed="rId6"/>
          <a:stretch/>
        </p:blipFill>
        <p:spPr>
          <a:xfrm>
            <a:off x="6119640" y="5045040"/>
            <a:ext cx="381240" cy="455760"/>
          </a:xfrm>
          <a:prstGeom prst="rect">
            <a:avLst/>
          </a:prstGeom>
          <a:ln w="0">
            <a:noFill/>
          </a:ln>
        </p:spPr>
      </p:pic>
      <p:sp>
        <p:nvSpPr>
          <p:cNvPr id="405" name="任意多边形 38"/>
          <p:cNvSpPr/>
          <p:nvPr/>
        </p:nvSpPr>
        <p:spPr>
          <a:xfrm>
            <a:off x="-165240" y="3760920"/>
            <a:ext cx="9366480" cy="1352520"/>
          </a:xfrm>
          <a:custGeom>
            <a:avLst/>
            <a:gdLst>
              <a:gd name="textAreaLeft" fmla="*/ 0 w 9366480"/>
              <a:gd name="textAreaRight" fmla="*/ 9366840 w 936648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9367935" h="1352938">
                <a:moveTo>
                  <a:pt x="0" y="1296955"/>
                </a:moveTo>
                <a:cubicBezTo>
                  <a:pt x="161730" y="1324946"/>
                  <a:pt x="323461" y="1352938"/>
                  <a:pt x="522514" y="1259632"/>
                </a:cubicBezTo>
                <a:cubicBezTo>
                  <a:pt x="721567" y="1166326"/>
                  <a:pt x="970383" y="762000"/>
                  <a:pt x="1194318" y="737118"/>
                </a:cubicBezTo>
                <a:cubicBezTo>
                  <a:pt x="1418253" y="712237"/>
                  <a:pt x="1558212" y="1125894"/>
                  <a:pt x="1866122" y="1110343"/>
                </a:cubicBezTo>
                <a:cubicBezTo>
                  <a:pt x="2174032" y="1094792"/>
                  <a:pt x="2699658" y="712236"/>
                  <a:pt x="3041780" y="643812"/>
                </a:cubicBezTo>
                <a:cubicBezTo>
                  <a:pt x="3383902" y="575388"/>
                  <a:pt x="3545632" y="796212"/>
                  <a:pt x="3918857" y="699796"/>
                </a:cubicBezTo>
                <a:cubicBezTo>
                  <a:pt x="4292082" y="603380"/>
                  <a:pt x="4817707" y="130628"/>
                  <a:pt x="5281127" y="65314"/>
                </a:cubicBezTo>
                <a:cubicBezTo>
                  <a:pt x="5744548" y="0"/>
                  <a:pt x="6301274" y="139959"/>
                  <a:pt x="6699380" y="307910"/>
                </a:cubicBezTo>
                <a:cubicBezTo>
                  <a:pt x="7097486" y="475861"/>
                  <a:pt x="7324531" y="973494"/>
                  <a:pt x="7669763" y="1073020"/>
                </a:cubicBezTo>
                <a:cubicBezTo>
                  <a:pt x="8014995" y="1172546"/>
                  <a:pt x="8487746" y="867747"/>
                  <a:pt x="8770775" y="905069"/>
                </a:cubicBezTo>
                <a:cubicBezTo>
                  <a:pt x="9053804" y="942391"/>
                  <a:pt x="9210869" y="1119673"/>
                  <a:pt x="9367935" y="129695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39"/>
          <p:cNvSpPr/>
          <p:nvPr/>
        </p:nvSpPr>
        <p:spPr>
          <a:xfrm>
            <a:off x="1571760" y="4857840"/>
            <a:ext cx="857160" cy="642960"/>
          </a:xfrm>
          <a:custGeom>
            <a:avLst/>
            <a:gdLst>
              <a:gd name="textAreaLeft" fmla="*/ 0 w 857160"/>
              <a:gd name="textAreaRight" fmla="*/ 857520 w 8571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690466" h="485192">
                <a:moveTo>
                  <a:pt x="0" y="0"/>
                </a:moveTo>
                <a:cubicBezTo>
                  <a:pt x="185057" y="108857"/>
                  <a:pt x="370114" y="217715"/>
                  <a:pt x="485192" y="298580"/>
                </a:cubicBezTo>
                <a:cubicBezTo>
                  <a:pt x="600270" y="379445"/>
                  <a:pt x="645368" y="432318"/>
                  <a:pt x="690466" y="4851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0"/>
          <p:cNvSpPr/>
          <p:nvPr/>
        </p:nvSpPr>
        <p:spPr>
          <a:xfrm>
            <a:off x="7016760" y="478620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45029" h="503854">
                <a:moveTo>
                  <a:pt x="1045029" y="0"/>
                </a:moveTo>
                <a:cubicBezTo>
                  <a:pt x="908180" y="13996"/>
                  <a:pt x="771331" y="27992"/>
                  <a:pt x="597160" y="111968"/>
                </a:cubicBezTo>
                <a:cubicBezTo>
                  <a:pt x="422989" y="195944"/>
                  <a:pt x="211494" y="349899"/>
                  <a:pt x="0" y="5038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图片 42" descr=""/>
          <p:cNvPicPr/>
          <p:nvPr/>
        </p:nvPicPr>
        <p:blipFill>
          <a:blip r:embed="rId7"/>
          <a:stretch/>
        </p:blipFill>
        <p:spPr>
          <a:xfrm>
            <a:off x="6357960" y="4643280"/>
            <a:ext cx="642960" cy="112428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43" descr=""/>
          <p:cNvPicPr/>
          <p:nvPr/>
        </p:nvPicPr>
        <p:blipFill>
          <a:blip r:embed="rId8"/>
          <a:stretch/>
        </p:blipFill>
        <p:spPr>
          <a:xfrm>
            <a:off x="642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44" descr=""/>
          <p:cNvPicPr/>
          <p:nvPr/>
        </p:nvPicPr>
        <p:blipFill>
          <a:blip r:embed="rId9"/>
          <a:stretch/>
        </p:blipFill>
        <p:spPr>
          <a:xfrm>
            <a:off x="7358040" y="5214960"/>
            <a:ext cx="300240" cy="53496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45" descr=""/>
          <p:cNvPicPr/>
          <p:nvPr/>
        </p:nvPicPr>
        <p:blipFill>
          <a:blip r:embed="rId10"/>
          <a:stretch/>
        </p:blipFill>
        <p:spPr>
          <a:xfrm>
            <a:off x="4071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46" descr=""/>
          <p:cNvPicPr/>
          <p:nvPr/>
        </p:nvPicPr>
        <p:blipFill>
          <a:blip r:embed="rId11"/>
          <a:stretch/>
        </p:blipFill>
        <p:spPr>
          <a:xfrm>
            <a:off x="1000080" y="5286240"/>
            <a:ext cx="300240" cy="533520"/>
          </a:xfrm>
          <a:prstGeom prst="rect">
            <a:avLst/>
          </a:prstGeom>
          <a:ln w="0">
            <a:noFill/>
          </a:ln>
        </p:spPr>
      </p:pic>
      <p:sp>
        <p:nvSpPr>
          <p:cNvPr id="413" name="圆角矩形 49"/>
          <p:cNvSpPr/>
          <p:nvPr/>
        </p:nvSpPr>
        <p:spPr>
          <a:xfrm>
            <a:off x="571680" y="300024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生命变得不再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流程图: 终止 59"/>
          <p:cNvSpPr/>
          <p:nvPr/>
        </p:nvSpPr>
        <p:spPr>
          <a:xfrm>
            <a:off x="2786040" y="5572080"/>
            <a:ext cx="71640" cy="46080"/>
          </a:xfrm>
          <a:prstGeom prst="flowChartTermina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34" descr=""/>
          <p:cNvPicPr/>
          <p:nvPr/>
        </p:nvPicPr>
        <p:blipFill>
          <a:blip r:embed="rId12"/>
          <a:stretch/>
        </p:blipFill>
        <p:spPr>
          <a:xfrm>
            <a:off x="5214960" y="4987800"/>
            <a:ext cx="857160" cy="94140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2571840" y="5500800"/>
            <a:ext cx="357120" cy="357120"/>
            <a:chOff x="2571840" y="5500800"/>
            <a:chExt cx="357120" cy="357120"/>
          </a:xfrm>
        </p:grpSpPr>
        <p:sp>
          <p:nvSpPr>
            <p:cNvPr id="417" name="任意多边形 23"/>
            <p:cNvSpPr/>
            <p:nvPr/>
          </p:nvSpPr>
          <p:spPr>
            <a:xfrm>
              <a:off x="2571840" y="5500800"/>
              <a:ext cx="357120" cy="357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255633" h="3787593">
                  <a:moveTo>
                    <a:pt x="0" y="1092200"/>
                  </a:moveTo>
                  <a:lnTo>
                    <a:pt x="177800" y="1104900"/>
                  </a:lnTo>
                  <a:lnTo>
                    <a:pt x="177800" y="1117600"/>
                  </a:lnTo>
                  <a:lnTo>
                    <a:pt x="596900" y="1117600"/>
                  </a:lnTo>
                  <a:lnTo>
                    <a:pt x="647700" y="1016000"/>
                  </a:lnTo>
                  <a:lnTo>
                    <a:pt x="1143000" y="1016000"/>
                  </a:lnTo>
                  <a:lnTo>
                    <a:pt x="1231900" y="850900"/>
                  </a:lnTo>
                  <a:lnTo>
                    <a:pt x="1905000" y="838200"/>
                  </a:lnTo>
                  <a:lnTo>
                    <a:pt x="1968500" y="1016000"/>
                  </a:lnTo>
                  <a:lnTo>
                    <a:pt x="2451100" y="1041400"/>
                  </a:lnTo>
                  <a:lnTo>
                    <a:pt x="2476500" y="965200"/>
                  </a:lnTo>
                  <a:lnTo>
                    <a:pt x="2476500" y="914400"/>
                  </a:lnTo>
                  <a:lnTo>
                    <a:pt x="2413000" y="825500"/>
                  </a:lnTo>
                  <a:lnTo>
                    <a:pt x="2349500" y="685800"/>
                  </a:lnTo>
                  <a:lnTo>
                    <a:pt x="2324100" y="571500"/>
                  </a:lnTo>
                  <a:lnTo>
                    <a:pt x="2146300" y="660400"/>
                  </a:lnTo>
                  <a:lnTo>
                    <a:pt x="2120900" y="647700"/>
                  </a:lnTo>
                  <a:lnTo>
                    <a:pt x="2260600" y="558800"/>
                  </a:lnTo>
                  <a:lnTo>
                    <a:pt x="2273300" y="444500"/>
                  </a:lnTo>
                  <a:lnTo>
                    <a:pt x="2222500" y="177800"/>
                  </a:lnTo>
                  <a:lnTo>
                    <a:pt x="2400300" y="50800"/>
                  </a:lnTo>
                  <a:lnTo>
                    <a:pt x="2679700" y="0"/>
                  </a:lnTo>
                  <a:lnTo>
                    <a:pt x="2819400" y="50800"/>
                  </a:lnTo>
                  <a:lnTo>
                    <a:pt x="2921000" y="139700"/>
                  </a:lnTo>
                  <a:lnTo>
                    <a:pt x="2933700" y="279400"/>
                  </a:lnTo>
                  <a:lnTo>
                    <a:pt x="2946400" y="381000"/>
                  </a:lnTo>
                  <a:lnTo>
                    <a:pt x="2946400" y="381000"/>
                  </a:lnTo>
                  <a:lnTo>
                    <a:pt x="2971800" y="457200"/>
                  </a:lnTo>
                  <a:lnTo>
                    <a:pt x="2971800" y="520700"/>
                  </a:lnTo>
                  <a:cubicBezTo>
                    <a:pt x="3093501" y="588312"/>
                    <a:pt x="3086100" y="540615"/>
                    <a:pt x="3086100" y="609600"/>
                  </a:cubicBezTo>
                  <a:lnTo>
                    <a:pt x="3136900" y="673100"/>
                  </a:lnTo>
                  <a:lnTo>
                    <a:pt x="3390900" y="749300"/>
                  </a:lnTo>
                  <a:lnTo>
                    <a:pt x="3721100" y="1143000"/>
                  </a:lnTo>
                  <a:lnTo>
                    <a:pt x="3860800" y="1574800"/>
                  </a:lnTo>
                  <a:lnTo>
                    <a:pt x="4038600" y="2044700"/>
                  </a:lnTo>
                  <a:lnTo>
                    <a:pt x="4025900" y="2374900"/>
                  </a:lnTo>
                  <a:lnTo>
                    <a:pt x="4102100" y="2578100"/>
                  </a:lnTo>
                  <a:lnTo>
                    <a:pt x="4114800" y="2870200"/>
                  </a:lnTo>
                  <a:lnTo>
                    <a:pt x="3987800" y="2984500"/>
                  </a:lnTo>
                  <a:lnTo>
                    <a:pt x="4191000" y="3416300"/>
                  </a:lnTo>
                  <a:cubicBezTo>
                    <a:pt x="4255633" y="3648979"/>
                    <a:pt x="4254500" y="3565815"/>
                    <a:pt x="4254500" y="3657600"/>
                  </a:cubicBezTo>
                  <a:lnTo>
                    <a:pt x="4203700" y="3721100"/>
                  </a:lnTo>
                  <a:cubicBezTo>
                    <a:pt x="4137207" y="3787593"/>
                    <a:pt x="4170134" y="3784600"/>
                    <a:pt x="4127500" y="3784600"/>
                  </a:cubicBezTo>
                  <a:lnTo>
                    <a:pt x="4051300" y="3784600"/>
                  </a:lnTo>
                  <a:lnTo>
                    <a:pt x="3937000" y="3784600"/>
                  </a:lnTo>
                  <a:lnTo>
                    <a:pt x="3848100" y="3695700"/>
                  </a:lnTo>
                  <a:lnTo>
                    <a:pt x="3848100" y="3594100"/>
                  </a:lnTo>
                  <a:lnTo>
                    <a:pt x="3822700" y="3441700"/>
                  </a:lnTo>
                  <a:lnTo>
                    <a:pt x="3746500" y="3251200"/>
                  </a:lnTo>
                  <a:lnTo>
                    <a:pt x="3708400" y="3086100"/>
                  </a:lnTo>
                  <a:lnTo>
                    <a:pt x="3810000" y="3416300"/>
                  </a:lnTo>
                  <a:lnTo>
                    <a:pt x="3810000" y="3606800"/>
                  </a:lnTo>
                  <a:lnTo>
                    <a:pt x="3530600" y="3721100"/>
                  </a:lnTo>
                  <a:cubicBezTo>
                    <a:pt x="3408035" y="3748337"/>
                    <a:pt x="3455329" y="3746500"/>
                    <a:pt x="3390900" y="3746500"/>
                  </a:cubicBezTo>
                  <a:cubicBezTo>
                    <a:pt x="3191952" y="3759763"/>
                    <a:pt x="3264041" y="3759200"/>
                    <a:pt x="3175000" y="3759200"/>
                  </a:cubicBezTo>
                  <a:lnTo>
                    <a:pt x="3111500" y="3733800"/>
                  </a:lnTo>
                  <a:lnTo>
                    <a:pt x="3111500" y="3632200"/>
                  </a:lnTo>
                  <a:lnTo>
                    <a:pt x="3111500" y="3416300"/>
                  </a:lnTo>
                  <a:lnTo>
                    <a:pt x="3111500" y="3263900"/>
                  </a:lnTo>
                  <a:lnTo>
                    <a:pt x="3111500" y="3111500"/>
                  </a:lnTo>
                  <a:lnTo>
                    <a:pt x="3060700" y="2971800"/>
                  </a:lnTo>
                  <a:lnTo>
                    <a:pt x="2273300" y="2679700"/>
                  </a:lnTo>
                  <a:lnTo>
                    <a:pt x="2171700" y="2540000"/>
                  </a:lnTo>
                  <a:lnTo>
                    <a:pt x="2120900" y="2603500"/>
                  </a:lnTo>
                  <a:lnTo>
                    <a:pt x="2120900" y="2705100"/>
                  </a:lnTo>
                  <a:lnTo>
                    <a:pt x="2044700" y="2768600"/>
                  </a:lnTo>
                  <a:lnTo>
                    <a:pt x="2044700" y="2946400"/>
                  </a:lnTo>
                  <a:cubicBezTo>
                    <a:pt x="2004060" y="3000587"/>
                    <a:pt x="2006600" y="2976033"/>
                    <a:pt x="2006600" y="3009900"/>
                  </a:cubicBezTo>
                  <a:lnTo>
                    <a:pt x="1866900" y="3327400"/>
                  </a:lnTo>
                  <a:lnTo>
                    <a:pt x="1968500" y="3606800"/>
                  </a:lnTo>
                  <a:lnTo>
                    <a:pt x="1981200" y="3721100"/>
                  </a:lnTo>
                  <a:lnTo>
                    <a:pt x="1143000" y="3771900"/>
                  </a:lnTo>
                  <a:lnTo>
                    <a:pt x="1041400" y="3759200"/>
                  </a:lnTo>
                  <a:lnTo>
                    <a:pt x="1054100" y="3670300"/>
                  </a:lnTo>
                  <a:cubicBezTo>
                    <a:pt x="1172268" y="3617781"/>
                    <a:pt x="1126707" y="3619500"/>
                    <a:pt x="1181100" y="3619500"/>
                  </a:cubicBezTo>
                  <a:lnTo>
                    <a:pt x="1333500" y="3556000"/>
                  </a:lnTo>
                  <a:lnTo>
                    <a:pt x="1447800" y="3390900"/>
                  </a:lnTo>
                  <a:lnTo>
                    <a:pt x="1498600" y="3251200"/>
                  </a:lnTo>
                  <a:lnTo>
                    <a:pt x="1536700" y="3022600"/>
                  </a:lnTo>
                  <a:lnTo>
                    <a:pt x="1498600" y="2933700"/>
                  </a:lnTo>
                  <a:cubicBezTo>
                    <a:pt x="1471625" y="2717898"/>
                    <a:pt x="1473200" y="2798760"/>
                    <a:pt x="1473200" y="2692400"/>
                  </a:cubicBezTo>
                  <a:cubicBezTo>
                    <a:pt x="1553674" y="2383915"/>
                    <a:pt x="1549400" y="2500925"/>
                    <a:pt x="1549400" y="2349500"/>
                  </a:cubicBezTo>
                  <a:lnTo>
                    <a:pt x="1663700" y="2095500"/>
                  </a:lnTo>
                  <a:lnTo>
                    <a:pt x="1816100" y="1879600"/>
                  </a:lnTo>
                  <a:lnTo>
                    <a:pt x="1917700" y="1828800"/>
                  </a:lnTo>
                  <a:lnTo>
                    <a:pt x="1739900" y="1765300"/>
                  </a:lnTo>
                  <a:cubicBezTo>
                    <a:pt x="1684867" y="1710267"/>
                    <a:pt x="1706033" y="1697567"/>
                    <a:pt x="1676400" y="1727200"/>
                  </a:cubicBezTo>
                  <a:lnTo>
                    <a:pt x="1485900" y="1663700"/>
                  </a:lnTo>
                  <a:lnTo>
                    <a:pt x="1422400" y="1612900"/>
                  </a:lnTo>
                  <a:lnTo>
                    <a:pt x="1409700" y="1435100"/>
                  </a:lnTo>
                  <a:lnTo>
                    <a:pt x="1282700" y="1511300"/>
                  </a:lnTo>
                  <a:lnTo>
                    <a:pt x="1168400" y="1536700"/>
                  </a:lnTo>
                  <a:cubicBezTo>
                    <a:pt x="1155101" y="1443609"/>
                    <a:pt x="1155700" y="1477734"/>
                    <a:pt x="1155700" y="1435100"/>
                  </a:cubicBezTo>
                  <a:lnTo>
                    <a:pt x="1079500" y="1270000"/>
                  </a:lnTo>
                  <a:lnTo>
                    <a:pt x="647700" y="1244600"/>
                  </a:lnTo>
                  <a:lnTo>
                    <a:pt x="635000" y="1193800"/>
                  </a:lnTo>
                  <a:lnTo>
                    <a:pt x="584200" y="1168400"/>
                  </a:lnTo>
                  <a:lnTo>
                    <a:pt x="215900" y="1155700"/>
                  </a:lnTo>
                  <a:lnTo>
                    <a:pt x="76200" y="1181100"/>
                  </a:lnTo>
                  <a:lnTo>
                    <a:pt x="25400" y="1168400"/>
                  </a:lnTo>
                  <a:lnTo>
                    <a:pt x="0" y="1168400"/>
                  </a:lnTo>
                  <a:lnTo>
                    <a:pt x="0" y="10922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24"/>
            <p:cNvSpPr/>
            <p:nvPr/>
          </p:nvSpPr>
          <p:spPr>
            <a:xfrm>
              <a:off x="2883240" y="5775120"/>
              <a:ext cx="26640" cy="17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0171" h="190500">
                  <a:moveTo>
                    <a:pt x="0" y="190500"/>
                  </a:moveTo>
                  <a:cubicBezTo>
                    <a:pt x="4233" y="152400"/>
                    <a:pt x="6398" y="114013"/>
                    <a:pt x="12700" y="76200"/>
                  </a:cubicBezTo>
                  <a:cubicBezTo>
                    <a:pt x="14901" y="62995"/>
                    <a:pt x="14507" y="45881"/>
                    <a:pt x="25400" y="38100"/>
                  </a:cubicBezTo>
                  <a:cubicBezTo>
                    <a:pt x="63786" y="10681"/>
                    <a:pt x="164511" y="4836"/>
                    <a:pt x="203200" y="0"/>
                  </a:cubicBezTo>
                  <a:cubicBezTo>
                    <a:pt x="215900" y="4233"/>
                    <a:pt x="233519" y="1807"/>
                    <a:pt x="241300" y="12700"/>
                  </a:cubicBezTo>
                  <a:cubicBezTo>
                    <a:pt x="320171" y="123119"/>
                    <a:pt x="224906" y="68003"/>
                    <a:pt x="292100" y="10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25"/>
            <p:cNvSpPr/>
            <p:nvPr/>
          </p:nvSpPr>
          <p:spPr>
            <a:xfrm>
              <a:off x="2673360" y="5623560"/>
              <a:ext cx="14400" cy="13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4566" h="142264">
                  <a:moveTo>
                    <a:pt x="72966" y="2564"/>
                  </a:moveTo>
                  <a:cubicBezTo>
                    <a:pt x="64499" y="2564"/>
                    <a:pt x="24730" y="0"/>
                    <a:pt x="9466" y="15264"/>
                  </a:cubicBezTo>
                  <a:cubicBezTo>
                    <a:pt x="0" y="24730"/>
                    <a:pt x="19541" y="40237"/>
                    <a:pt x="22166" y="53364"/>
                  </a:cubicBezTo>
                  <a:cubicBezTo>
                    <a:pt x="28037" y="82717"/>
                    <a:pt x="30633" y="112631"/>
                    <a:pt x="34866" y="142264"/>
                  </a:cubicBezTo>
                  <a:cubicBezTo>
                    <a:pt x="35646" y="142134"/>
                    <a:pt x="132711" y="130028"/>
                    <a:pt x="149166" y="116864"/>
                  </a:cubicBezTo>
                  <a:cubicBezTo>
                    <a:pt x="161085" y="107329"/>
                    <a:pt x="166099" y="91464"/>
                    <a:pt x="174566" y="78764"/>
                  </a:cubicBezTo>
                  <a:cubicBezTo>
                    <a:pt x="171247" y="77934"/>
                    <a:pt x="93948" y="59989"/>
                    <a:pt x="85666" y="53364"/>
                  </a:cubicBezTo>
                  <a:cubicBezTo>
                    <a:pt x="73747" y="43829"/>
                    <a:pt x="69424" y="27475"/>
                    <a:pt x="60266" y="15264"/>
                  </a:cubicBezTo>
                  <a:cubicBezTo>
                    <a:pt x="56674" y="10475"/>
                    <a:pt x="81433" y="2564"/>
                    <a:pt x="72966" y="256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26"/>
            <p:cNvSpPr/>
            <p:nvPr/>
          </p:nvSpPr>
          <p:spPr>
            <a:xfrm>
              <a:off x="2714760" y="562536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50227" h="252082">
                  <a:moveTo>
                    <a:pt x="23283" y="36182"/>
                  </a:moveTo>
                  <a:cubicBezTo>
                    <a:pt x="0" y="46765"/>
                    <a:pt x="52620" y="72947"/>
                    <a:pt x="61383" y="112382"/>
                  </a:cubicBezTo>
                  <a:cubicBezTo>
                    <a:pt x="61573" y="113237"/>
                    <a:pt x="73588" y="210188"/>
                    <a:pt x="86783" y="226682"/>
                  </a:cubicBezTo>
                  <a:cubicBezTo>
                    <a:pt x="96318" y="238601"/>
                    <a:pt x="112183" y="243615"/>
                    <a:pt x="124883" y="252082"/>
                  </a:cubicBezTo>
                  <a:cubicBezTo>
                    <a:pt x="150283" y="247849"/>
                    <a:pt x="178051" y="250898"/>
                    <a:pt x="201083" y="239382"/>
                  </a:cubicBezTo>
                  <a:cubicBezTo>
                    <a:pt x="250227" y="214810"/>
                    <a:pt x="217616" y="122678"/>
                    <a:pt x="213783" y="99682"/>
                  </a:cubicBezTo>
                  <a:cubicBezTo>
                    <a:pt x="210914" y="82465"/>
                    <a:pt x="210765" y="63405"/>
                    <a:pt x="201083" y="48882"/>
                  </a:cubicBezTo>
                  <a:cubicBezTo>
                    <a:pt x="168495" y="0"/>
                    <a:pt x="46566" y="25599"/>
                    <a:pt x="23283" y="36182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7"/>
            <p:cNvSpPr/>
            <p:nvPr/>
          </p:nvSpPr>
          <p:spPr>
            <a:xfrm>
              <a:off x="2763720" y="5535720"/>
              <a:ext cx="55440" cy="18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4200" h="168347">
                  <a:moveTo>
                    <a:pt x="0" y="168347"/>
                  </a:moveTo>
                  <a:cubicBezTo>
                    <a:pt x="8467" y="155647"/>
                    <a:pt x="13674" y="140018"/>
                    <a:pt x="25400" y="130247"/>
                  </a:cubicBezTo>
                  <a:cubicBezTo>
                    <a:pt x="39944" y="118127"/>
                    <a:pt x="58799" y="112305"/>
                    <a:pt x="76200" y="104847"/>
                  </a:cubicBezTo>
                  <a:cubicBezTo>
                    <a:pt x="127071" y="83045"/>
                    <a:pt x="123521" y="96192"/>
                    <a:pt x="190500" y="79447"/>
                  </a:cubicBezTo>
                  <a:lnTo>
                    <a:pt x="304800" y="41347"/>
                  </a:lnTo>
                  <a:cubicBezTo>
                    <a:pt x="317500" y="37114"/>
                    <a:pt x="329695" y="30848"/>
                    <a:pt x="342900" y="28647"/>
                  </a:cubicBezTo>
                  <a:cubicBezTo>
                    <a:pt x="368300" y="24414"/>
                    <a:pt x="393963" y="21533"/>
                    <a:pt x="419100" y="15947"/>
                  </a:cubicBezTo>
                  <a:cubicBezTo>
                    <a:pt x="432168" y="13043"/>
                    <a:pt x="443852" y="4274"/>
                    <a:pt x="457200" y="3247"/>
                  </a:cubicBezTo>
                  <a:cubicBezTo>
                    <a:pt x="499409" y="0"/>
                    <a:pt x="541867" y="3247"/>
                    <a:pt x="584200" y="324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000"/>
                            </p:stCondLst>
                            <p:childTnLst>
                              <p:par>
                                <p:cTn id="9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501"/>
                            </p:stCondLst>
                            <p:childTnLst>
                              <p:par>
                                <p:cTn id="989" dur="indefinite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0093 L 0.30972 -0.00093 E">
                                      <p:cBhvr>
                                        <p:cTn id="990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1501"/>
                            </p:stCondLst>
                            <p:childTnLst>
                              <p:par>
                                <p:cTn id="99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1502"/>
                            </p:stCondLst>
                            <p:childTnLst>
                              <p:par>
                                <p:cTn id="10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2002"/>
                            </p:stCondLst>
                            <p:childTnLst>
                              <p:par>
                                <p:cTn id="1007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38" descr=""/>
          <p:cNvPicPr/>
          <p:nvPr/>
        </p:nvPicPr>
        <p:blipFill>
          <a:blip r:embed="rId1"/>
          <a:stretch/>
        </p:blipFill>
        <p:spPr>
          <a:xfrm>
            <a:off x="5500800" y="3817800"/>
            <a:ext cx="1000080" cy="13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37" descr=""/>
          <p:cNvPicPr/>
          <p:nvPr/>
        </p:nvPicPr>
        <p:blipFill>
          <a:blip r:embed="rId2"/>
          <a:stretch/>
        </p:blipFill>
        <p:spPr>
          <a:xfrm>
            <a:off x="4429080" y="3571920"/>
            <a:ext cx="1177920" cy="162864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36" descr=""/>
          <p:cNvPicPr/>
          <p:nvPr/>
        </p:nvPicPr>
        <p:blipFill>
          <a:blip r:embed="rId3"/>
          <a:stretch/>
        </p:blipFill>
        <p:spPr>
          <a:xfrm>
            <a:off x="2714760" y="3100320"/>
            <a:ext cx="1643040" cy="227196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34" descr=""/>
          <p:cNvPicPr/>
          <p:nvPr/>
        </p:nvPicPr>
        <p:blipFill>
          <a:blip r:embed="rId4"/>
          <a:stretch/>
        </p:blipFill>
        <p:spPr>
          <a:xfrm>
            <a:off x="928800" y="2643120"/>
            <a:ext cx="1643040" cy="272916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790560" y="2174760"/>
            <a:ext cx="7702560" cy="3699000"/>
            <a:chOff x="790560" y="2174760"/>
            <a:chExt cx="7702560" cy="3699000"/>
          </a:xfrm>
        </p:grpSpPr>
        <p:sp>
          <p:nvSpPr>
            <p:cNvPr id="427" name="任意多边形 3"/>
            <p:cNvSpPr/>
            <p:nvPr/>
          </p:nvSpPr>
          <p:spPr>
            <a:xfrm>
              <a:off x="790560" y="2174760"/>
              <a:ext cx="7702560" cy="3699000"/>
            </a:xfrm>
            <a:custGeom>
              <a:avLst/>
              <a:gdLst>
                <a:gd name="textAreaLeft" fmla="*/ 0 w 7702560"/>
                <a:gd name="textAreaRight" fmla="*/ 7702920 w 7702560"/>
                <a:gd name="textAreaTop" fmla="*/ 0 h 3699000"/>
                <a:gd name="textAreaBottom" fmla="*/ 3699360 h 3699000"/>
              </a:gdLst>
              <a:ahLst/>
              <a:rect l="textAreaLeft" t="textAreaTop" r="textAreaRight" b="textAreaBottom"/>
              <a:pathLst>
                <a:path w="7703127" h="3699163">
                  <a:moveTo>
                    <a:pt x="0" y="3685309"/>
                  </a:moveTo>
                  <a:lnTo>
                    <a:pt x="290946" y="3685309"/>
                  </a:lnTo>
                  <a:lnTo>
                    <a:pt x="387927" y="3560618"/>
                  </a:lnTo>
                  <a:lnTo>
                    <a:pt x="498764" y="3200400"/>
                  </a:lnTo>
                  <a:lnTo>
                    <a:pt x="609600" y="2729345"/>
                  </a:lnTo>
                  <a:lnTo>
                    <a:pt x="623455" y="2535381"/>
                  </a:lnTo>
                  <a:lnTo>
                    <a:pt x="595746" y="2202872"/>
                  </a:lnTo>
                  <a:lnTo>
                    <a:pt x="595746" y="2161309"/>
                  </a:lnTo>
                  <a:lnTo>
                    <a:pt x="1330036" y="2161309"/>
                  </a:lnTo>
                  <a:lnTo>
                    <a:pt x="1288473" y="2521527"/>
                  </a:lnTo>
                  <a:lnTo>
                    <a:pt x="1440873" y="3338945"/>
                  </a:lnTo>
                  <a:lnTo>
                    <a:pt x="1537855" y="3546763"/>
                  </a:lnTo>
                  <a:lnTo>
                    <a:pt x="1537855" y="3616036"/>
                  </a:lnTo>
                  <a:lnTo>
                    <a:pt x="1524000" y="3588327"/>
                  </a:lnTo>
                  <a:lnTo>
                    <a:pt x="1967346" y="3574472"/>
                  </a:lnTo>
                  <a:lnTo>
                    <a:pt x="1981200" y="3186545"/>
                  </a:lnTo>
                  <a:lnTo>
                    <a:pt x="2175164" y="3172691"/>
                  </a:lnTo>
                  <a:lnTo>
                    <a:pt x="2189018" y="3103418"/>
                  </a:lnTo>
                  <a:lnTo>
                    <a:pt x="2341418" y="3103418"/>
                  </a:lnTo>
                  <a:lnTo>
                    <a:pt x="2396836" y="3075709"/>
                  </a:lnTo>
                  <a:lnTo>
                    <a:pt x="2438400" y="2757054"/>
                  </a:lnTo>
                  <a:lnTo>
                    <a:pt x="2424546" y="2590800"/>
                  </a:lnTo>
                  <a:lnTo>
                    <a:pt x="2382982" y="2299854"/>
                  </a:lnTo>
                  <a:lnTo>
                    <a:pt x="3075709" y="2286000"/>
                  </a:lnTo>
                  <a:lnTo>
                    <a:pt x="3020291" y="2493818"/>
                  </a:lnTo>
                  <a:lnTo>
                    <a:pt x="3020291" y="2590800"/>
                  </a:lnTo>
                  <a:lnTo>
                    <a:pt x="3685309" y="2604654"/>
                  </a:lnTo>
                  <a:lnTo>
                    <a:pt x="3671455" y="3089563"/>
                  </a:lnTo>
                  <a:lnTo>
                    <a:pt x="3699164" y="3089563"/>
                  </a:lnTo>
                  <a:lnTo>
                    <a:pt x="3713018" y="2673927"/>
                  </a:lnTo>
                  <a:lnTo>
                    <a:pt x="3906982" y="2646218"/>
                  </a:lnTo>
                  <a:lnTo>
                    <a:pt x="3934691" y="2590800"/>
                  </a:lnTo>
                  <a:lnTo>
                    <a:pt x="3893127" y="2410691"/>
                  </a:lnTo>
                  <a:lnTo>
                    <a:pt x="4100946" y="2410691"/>
                  </a:lnTo>
                  <a:lnTo>
                    <a:pt x="4488873" y="2410691"/>
                  </a:lnTo>
                  <a:lnTo>
                    <a:pt x="4447309" y="2549236"/>
                  </a:lnTo>
                  <a:lnTo>
                    <a:pt x="4461164" y="2618509"/>
                  </a:lnTo>
                  <a:lnTo>
                    <a:pt x="4447309" y="2660072"/>
                  </a:lnTo>
                  <a:lnTo>
                    <a:pt x="4710546" y="2687781"/>
                  </a:lnTo>
                  <a:lnTo>
                    <a:pt x="4752109" y="1787236"/>
                  </a:lnTo>
                  <a:lnTo>
                    <a:pt x="4752109" y="803563"/>
                  </a:lnTo>
                  <a:lnTo>
                    <a:pt x="4738255" y="207818"/>
                  </a:lnTo>
                  <a:lnTo>
                    <a:pt x="4738255" y="69272"/>
                  </a:lnTo>
                  <a:lnTo>
                    <a:pt x="4738255" y="0"/>
                  </a:lnTo>
                  <a:lnTo>
                    <a:pt x="4918364" y="13854"/>
                  </a:lnTo>
                  <a:lnTo>
                    <a:pt x="4904509" y="374072"/>
                  </a:lnTo>
                  <a:lnTo>
                    <a:pt x="5001491" y="2452254"/>
                  </a:lnTo>
                  <a:lnTo>
                    <a:pt x="5306291" y="2466109"/>
                  </a:lnTo>
                  <a:lnTo>
                    <a:pt x="5417127" y="2466109"/>
                  </a:lnTo>
                  <a:lnTo>
                    <a:pt x="5375564" y="2618509"/>
                  </a:lnTo>
                  <a:lnTo>
                    <a:pt x="5361709" y="2660072"/>
                  </a:lnTo>
                  <a:lnTo>
                    <a:pt x="5361709" y="2687781"/>
                  </a:lnTo>
                  <a:lnTo>
                    <a:pt x="5444836" y="2701636"/>
                  </a:lnTo>
                  <a:lnTo>
                    <a:pt x="5597236" y="2715491"/>
                  </a:lnTo>
                  <a:lnTo>
                    <a:pt x="5915891" y="2715491"/>
                  </a:lnTo>
                  <a:lnTo>
                    <a:pt x="6054436" y="2729345"/>
                  </a:lnTo>
                  <a:lnTo>
                    <a:pt x="6040582" y="3061854"/>
                  </a:lnTo>
                  <a:lnTo>
                    <a:pt x="6248400" y="3020291"/>
                  </a:lnTo>
                  <a:lnTo>
                    <a:pt x="6262255" y="1579418"/>
                  </a:lnTo>
                  <a:lnTo>
                    <a:pt x="6276109" y="637309"/>
                  </a:lnTo>
                  <a:lnTo>
                    <a:pt x="6262255" y="429491"/>
                  </a:lnTo>
                  <a:lnTo>
                    <a:pt x="6373091" y="415636"/>
                  </a:lnTo>
                  <a:lnTo>
                    <a:pt x="6497782" y="2992581"/>
                  </a:lnTo>
                  <a:lnTo>
                    <a:pt x="6802582" y="3006436"/>
                  </a:lnTo>
                  <a:lnTo>
                    <a:pt x="7121236" y="3006436"/>
                  </a:lnTo>
                  <a:lnTo>
                    <a:pt x="7121236" y="3103418"/>
                  </a:lnTo>
                  <a:lnTo>
                    <a:pt x="7107382" y="3560618"/>
                  </a:lnTo>
                  <a:lnTo>
                    <a:pt x="7107382" y="3657600"/>
                  </a:lnTo>
                  <a:lnTo>
                    <a:pt x="7107382" y="3699163"/>
                  </a:lnTo>
                  <a:lnTo>
                    <a:pt x="7703127" y="3685309"/>
                  </a:lnTo>
                  <a:lnTo>
                    <a:pt x="7703127" y="3685309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23"/>
            <p:cNvSpPr/>
            <p:nvPr/>
          </p:nvSpPr>
          <p:spPr>
            <a:xfrm>
              <a:off x="7043760" y="4689000"/>
              <a:ext cx="222120" cy="12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2422" h="12357">
                  <a:moveTo>
                    <a:pt x="0" y="12357"/>
                  </a:moveTo>
                  <a:lnTo>
                    <a:pt x="222422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24"/>
            <p:cNvSpPr/>
            <p:nvPr/>
          </p:nvSpPr>
          <p:spPr>
            <a:xfrm>
              <a:off x="7048800" y="374364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9">
                  <a:moveTo>
                    <a:pt x="0" y="6179"/>
                  </a:moveTo>
                  <a:lnTo>
                    <a:pt x="166816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26"/>
            <p:cNvSpPr/>
            <p:nvPr/>
          </p:nvSpPr>
          <p:spPr>
            <a:xfrm>
              <a:off x="7056360" y="3224520"/>
              <a:ext cx="141840" cy="1418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42103" h="142102">
                  <a:moveTo>
                    <a:pt x="0" y="142102"/>
                  </a:moveTo>
                  <a:lnTo>
                    <a:pt x="142103" y="135924"/>
                  </a:lnTo>
                  <a:lnTo>
                    <a:pt x="135924" y="0"/>
                  </a:lnTo>
                  <a:lnTo>
                    <a:pt x="18535" y="0"/>
                  </a:lnTo>
                  <a:lnTo>
                    <a:pt x="0" y="142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27"/>
            <p:cNvSpPr/>
            <p:nvPr/>
          </p:nvSpPr>
          <p:spPr>
            <a:xfrm>
              <a:off x="7056360" y="2909520"/>
              <a:ext cx="117360" cy="141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17389" h="142103">
                  <a:moveTo>
                    <a:pt x="6178" y="0"/>
                  </a:moveTo>
                  <a:lnTo>
                    <a:pt x="0" y="142103"/>
                  </a:lnTo>
                  <a:lnTo>
                    <a:pt x="117389" y="142103"/>
                  </a:lnTo>
                  <a:lnTo>
                    <a:pt x="117389" y="0"/>
                  </a:lnTo>
                  <a:lnTo>
                    <a:pt x="6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28"/>
            <p:cNvSpPr/>
            <p:nvPr/>
          </p:nvSpPr>
          <p:spPr>
            <a:xfrm>
              <a:off x="7056360" y="2699280"/>
              <a:ext cx="117360" cy="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7389" h="1">
                  <a:moveTo>
                    <a:pt x="0" y="0"/>
                  </a:moveTo>
                  <a:lnTo>
                    <a:pt x="117389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30"/>
            <p:cNvSpPr/>
            <p:nvPr/>
          </p:nvSpPr>
          <p:spPr>
            <a:xfrm>
              <a:off x="5542560" y="2884680"/>
              <a:ext cx="166680" cy="1728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66817" h="172994">
                  <a:moveTo>
                    <a:pt x="0" y="18535"/>
                  </a:moveTo>
                  <a:lnTo>
                    <a:pt x="0" y="172994"/>
                  </a:lnTo>
                  <a:lnTo>
                    <a:pt x="166817" y="166816"/>
                  </a:lnTo>
                  <a:lnTo>
                    <a:pt x="166817" y="18535"/>
                  </a:lnTo>
                  <a:lnTo>
                    <a:pt x="166817" y="0"/>
                  </a:lnTo>
                  <a:lnTo>
                    <a:pt x="98854" y="0"/>
                  </a:lnTo>
                  <a:lnTo>
                    <a:pt x="0" y="185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31"/>
            <p:cNvSpPr/>
            <p:nvPr/>
          </p:nvSpPr>
          <p:spPr>
            <a:xfrm>
              <a:off x="5530320" y="2538720"/>
              <a:ext cx="166680" cy="1789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66816" h="179172">
                  <a:moveTo>
                    <a:pt x="0" y="12356"/>
                  </a:moveTo>
                  <a:lnTo>
                    <a:pt x="6178" y="179172"/>
                  </a:lnTo>
                  <a:lnTo>
                    <a:pt x="80319" y="166816"/>
                  </a:lnTo>
                  <a:lnTo>
                    <a:pt x="142102" y="172994"/>
                  </a:lnTo>
                  <a:lnTo>
                    <a:pt x="166816" y="166816"/>
                  </a:lnTo>
                  <a:lnTo>
                    <a:pt x="166816" y="12356"/>
                  </a:lnTo>
                  <a:lnTo>
                    <a:pt x="105032" y="0"/>
                  </a:lnTo>
                  <a:lnTo>
                    <a:pt x="61783" y="0"/>
                  </a:lnTo>
                  <a:lnTo>
                    <a:pt x="0" y="123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32"/>
            <p:cNvSpPr/>
            <p:nvPr/>
          </p:nvSpPr>
          <p:spPr>
            <a:xfrm>
              <a:off x="5523840" y="231012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8">
                  <a:moveTo>
                    <a:pt x="0" y="6178"/>
                  </a:moveTo>
                  <a:lnTo>
                    <a:pt x="129746" y="0"/>
                  </a:lnTo>
                  <a:lnTo>
                    <a:pt x="166816" y="6178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直接连接符 1"/>
          <p:cNvSpPr/>
          <p:nvPr/>
        </p:nvSpPr>
        <p:spPr>
          <a:xfrm>
            <a:off x="-141120" y="5857920"/>
            <a:ext cx="98568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8"/>
          <p:cNvSpPr/>
          <p:nvPr/>
        </p:nvSpPr>
        <p:spPr>
          <a:xfrm>
            <a:off x="1071720" y="5715000"/>
            <a:ext cx="1304640" cy="1681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68120"/>
              <a:gd name="textAreaBottom" fmla="*/ 168120 h 168120"/>
            </a:gdLst>
            <a:ahLst/>
            <a:rect l="textAreaLeft" t="textAreaTop" r="textAreaRight" b="textAreaBottom"/>
            <a:pathLst>
              <a:path w="1304740" h="167963">
                <a:moveTo>
                  <a:pt x="0" y="135925"/>
                </a:moveTo>
                <a:lnTo>
                  <a:pt x="43248" y="55606"/>
                </a:lnTo>
                <a:lnTo>
                  <a:pt x="74140" y="148281"/>
                </a:lnTo>
                <a:lnTo>
                  <a:pt x="123567" y="67963"/>
                </a:lnTo>
                <a:lnTo>
                  <a:pt x="142102" y="142103"/>
                </a:lnTo>
                <a:lnTo>
                  <a:pt x="179173" y="67963"/>
                </a:lnTo>
                <a:lnTo>
                  <a:pt x="191529" y="142103"/>
                </a:lnTo>
                <a:lnTo>
                  <a:pt x="247135" y="55606"/>
                </a:lnTo>
                <a:lnTo>
                  <a:pt x="290383" y="142103"/>
                </a:lnTo>
                <a:lnTo>
                  <a:pt x="339811" y="55606"/>
                </a:lnTo>
                <a:lnTo>
                  <a:pt x="352167" y="148281"/>
                </a:lnTo>
                <a:lnTo>
                  <a:pt x="432486" y="55606"/>
                </a:lnTo>
                <a:lnTo>
                  <a:pt x="518983" y="160638"/>
                </a:lnTo>
                <a:lnTo>
                  <a:pt x="605481" y="67963"/>
                </a:lnTo>
                <a:lnTo>
                  <a:pt x="642551" y="117390"/>
                </a:lnTo>
                <a:lnTo>
                  <a:pt x="722870" y="86498"/>
                </a:lnTo>
                <a:cubicBezTo>
                  <a:pt x="748605" y="131534"/>
                  <a:pt x="747583" y="113142"/>
                  <a:pt x="747583" y="135925"/>
                </a:cubicBezTo>
                <a:lnTo>
                  <a:pt x="797011" y="61784"/>
                </a:lnTo>
                <a:lnTo>
                  <a:pt x="803189" y="135925"/>
                </a:lnTo>
                <a:lnTo>
                  <a:pt x="877329" y="92676"/>
                </a:lnTo>
                <a:lnTo>
                  <a:pt x="926756" y="123568"/>
                </a:lnTo>
                <a:lnTo>
                  <a:pt x="926756" y="61784"/>
                </a:lnTo>
                <a:cubicBezTo>
                  <a:pt x="971043" y="137704"/>
                  <a:pt x="941394" y="135925"/>
                  <a:pt x="976183" y="135925"/>
                </a:cubicBezTo>
                <a:lnTo>
                  <a:pt x="1013254" y="67963"/>
                </a:lnTo>
                <a:lnTo>
                  <a:pt x="1062681" y="129746"/>
                </a:lnTo>
                <a:lnTo>
                  <a:pt x="1075038" y="74141"/>
                </a:lnTo>
                <a:lnTo>
                  <a:pt x="1143000" y="123568"/>
                </a:lnTo>
                <a:lnTo>
                  <a:pt x="1143000" y="80319"/>
                </a:lnTo>
                <a:lnTo>
                  <a:pt x="1235675" y="154460"/>
                </a:lnTo>
                <a:lnTo>
                  <a:pt x="1229497" y="67963"/>
                </a:lnTo>
                <a:cubicBezTo>
                  <a:pt x="1304740" y="143206"/>
                  <a:pt x="1297459" y="167963"/>
                  <a:pt x="1297459" y="105033"/>
                </a:cubicBezTo>
                <a:lnTo>
                  <a:pt x="1266567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9"/>
          <p:cNvSpPr/>
          <p:nvPr/>
        </p:nvSpPr>
        <p:spPr>
          <a:xfrm>
            <a:off x="2762280" y="5672160"/>
            <a:ext cx="6480" cy="185760"/>
          </a:xfrm>
          <a:custGeom>
            <a:avLst/>
            <a:gdLst>
              <a:gd name="textAreaLeft" fmla="*/ 0 w 6480"/>
              <a:gd name="textAreaRight" fmla="*/ 6840 w 6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179" h="185351">
                <a:moveTo>
                  <a:pt x="0" y="0"/>
                </a:moveTo>
                <a:lnTo>
                  <a:pt x="6179" y="185351"/>
                </a:lnTo>
                <a:lnTo>
                  <a:pt x="0" y="185351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0"/>
          <p:cNvSpPr/>
          <p:nvPr/>
        </p:nvSpPr>
        <p:spPr>
          <a:xfrm>
            <a:off x="3168720" y="5264280"/>
            <a:ext cx="352440" cy="649080"/>
          </a:xfrm>
          <a:custGeom>
            <a:avLst/>
            <a:gdLst>
              <a:gd name="textAreaLeft" fmla="*/ 0 w 352440"/>
              <a:gd name="textAreaRight" fmla="*/ 352800 w 3524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352168" h="648730">
                <a:moveTo>
                  <a:pt x="0" y="0"/>
                </a:moveTo>
                <a:lnTo>
                  <a:pt x="142103" y="6179"/>
                </a:lnTo>
                <a:lnTo>
                  <a:pt x="345989" y="0"/>
                </a:lnTo>
                <a:lnTo>
                  <a:pt x="352168" y="123568"/>
                </a:lnTo>
                <a:lnTo>
                  <a:pt x="265670" y="117390"/>
                </a:lnTo>
                <a:lnTo>
                  <a:pt x="278027" y="64873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11"/>
          <p:cNvSpPr/>
          <p:nvPr/>
        </p:nvSpPr>
        <p:spPr>
          <a:xfrm>
            <a:off x="3540240" y="4757760"/>
            <a:ext cx="271440" cy="1123920"/>
          </a:xfrm>
          <a:custGeom>
            <a:avLst/>
            <a:gdLst>
              <a:gd name="textAreaLeft" fmla="*/ 0 w 271440"/>
              <a:gd name="textAreaRight" fmla="*/ 271800 w 2714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71848" h="1124465">
                <a:moveTo>
                  <a:pt x="271848" y="0"/>
                </a:moveTo>
                <a:lnTo>
                  <a:pt x="12357" y="12357"/>
                </a:lnTo>
                <a:lnTo>
                  <a:pt x="0" y="12357"/>
                </a:lnTo>
                <a:lnTo>
                  <a:pt x="12357" y="716692"/>
                </a:lnTo>
                <a:cubicBezTo>
                  <a:pt x="14416" y="852616"/>
                  <a:pt x="16476" y="988541"/>
                  <a:pt x="18535" y="1124465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2"/>
          <p:cNvSpPr/>
          <p:nvPr/>
        </p:nvSpPr>
        <p:spPr>
          <a:xfrm>
            <a:off x="4003560" y="5257800"/>
            <a:ext cx="493920" cy="649440"/>
          </a:xfrm>
          <a:custGeom>
            <a:avLst/>
            <a:gdLst>
              <a:gd name="textAreaLeft" fmla="*/ 0 w 493920"/>
              <a:gd name="textAreaRight" fmla="*/ 494280 w 4939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494270" h="648730">
                <a:moveTo>
                  <a:pt x="0" y="49427"/>
                </a:moveTo>
                <a:lnTo>
                  <a:pt x="105033" y="67962"/>
                </a:lnTo>
                <a:lnTo>
                  <a:pt x="488092" y="49427"/>
                </a:lnTo>
                <a:lnTo>
                  <a:pt x="481914" y="0"/>
                </a:lnTo>
                <a:lnTo>
                  <a:pt x="488092" y="18535"/>
                </a:lnTo>
                <a:lnTo>
                  <a:pt x="494270" y="49427"/>
                </a:lnTo>
                <a:lnTo>
                  <a:pt x="488092" y="197708"/>
                </a:lnTo>
                <a:lnTo>
                  <a:pt x="284206" y="216243"/>
                </a:lnTo>
                <a:lnTo>
                  <a:pt x="284206" y="642551"/>
                </a:lnTo>
                <a:lnTo>
                  <a:pt x="284206" y="64873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3"/>
          <p:cNvSpPr/>
          <p:nvPr/>
        </p:nvSpPr>
        <p:spPr>
          <a:xfrm>
            <a:off x="3997440" y="5319720"/>
            <a:ext cx="12600" cy="561960"/>
          </a:xfrm>
          <a:custGeom>
            <a:avLst/>
            <a:gdLst>
              <a:gd name="textAreaLeft" fmla="*/ 0 w 12600"/>
              <a:gd name="textAreaRight" fmla="*/ 12960 w 126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2357" h="562232">
                <a:moveTo>
                  <a:pt x="0" y="0"/>
                </a:moveTo>
                <a:lnTo>
                  <a:pt x="12357" y="562232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4"/>
          <p:cNvSpPr/>
          <p:nvPr/>
        </p:nvSpPr>
        <p:spPr>
          <a:xfrm>
            <a:off x="3997440" y="4768920"/>
            <a:ext cx="6120" cy="574560"/>
          </a:xfrm>
          <a:custGeom>
            <a:avLst/>
            <a:gdLst>
              <a:gd name="textAreaLeft" fmla="*/ 0 w 6120"/>
              <a:gd name="textAreaRight" fmla="*/ 6480 w 61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6178" h="574589">
                <a:moveTo>
                  <a:pt x="6178" y="0"/>
                </a:moveTo>
                <a:cubicBezTo>
                  <a:pt x="4119" y="191530"/>
                  <a:pt x="2059" y="383059"/>
                  <a:pt x="0" y="574589"/>
                </a:cubicBezTo>
                <a:lnTo>
                  <a:pt x="0" y="574589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5"/>
          <p:cNvSpPr/>
          <p:nvPr/>
        </p:nvSpPr>
        <p:spPr>
          <a:xfrm>
            <a:off x="4479840" y="5467320"/>
            <a:ext cx="357120" cy="407880"/>
          </a:xfrm>
          <a:custGeom>
            <a:avLst/>
            <a:gdLst>
              <a:gd name="textAreaLeft" fmla="*/ 0 w 357120"/>
              <a:gd name="textAreaRight" fmla="*/ 357480 w 3571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58346" h="407773">
                <a:moveTo>
                  <a:pt x="0" y="0"/>
                </a:moveTo>
                <a:lnTo>
                  <a:pt x="352168" y="0"/>
                </a:lnTo>
                <a:cubicBezTo>
                  <a:pt x="354227" y="135924"/>
                  <a:pt x="356287" y="271849"/>
                  <a:pt x="358346" y="407773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6"/>
          <p:cNvSpPr/>
          <p:nvPr/>
        </p:nvSpPr>
        <p:spPr>
          <a:xfrm>
            <a:off x="4676760" y="4813200"/>
            <a:ext cx="561960" cy="23760"/>
          </a:xfrm>
          <a:custGeom>
            <a:avLst/>
            <a:gdLst>
              <a:gd name="textAreaLeft" fmla="*/ 0 w 561960"/>
              <a:gd name="textAreaRight" fmla="*/ 562320 w 561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62233" h="24713">
                <a:moveTo>
                  <a:pt x="0" y="6178"/>
                </a:moveTo>
                <a:lnTo>
                  <a:pt x="172995" y="0"/>
                </a:lnTo>
                <a:lnTo>
                  <a:pt x="562233" y="24713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7"/>
          <p:cNvSpPr/>
          <p:nvPr/>
        </p:nvSpPr>
        <p:spPr>
          <a:xfrm>
            <a:off x="5794200" y="4603680"/>
            <a:ext cx="358920" cy="284400"/>
          </a:xfrm>
          <a:custGeom>
            <a:avLst/>
            <a:gdLst>
              <a:gd name="textAreaLeft" fmla="*/ 0 w 358920"/>
              <a:gd name="textAreaRight" fmla="*/ 359280 w 358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58346" h="284205">
                <a:moveTo>
                  <a:pt x="0" y="0"/>
                </a:moveTo>
                <a:lnTo>
                  <a:pt x="18535" y="265670"/>
                </a:lnTo>
                <a:lnTo>
                  <a:pt x="358346" y="284205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8"/>
          <p:cNvSpPr/>
          <p:nvPr/>
        </p:nvSpPr>
        <p:spPr>
          <a:xfrm>
            <a:off x="5072040" y="4856040"/>
            <a:ext cx="433440" cy="946440"/>
          </a:xfrm>
          <a:custGeom>
            <a:avLst/>
            <a:gdLst>
              <a:gd name="textAreaLeft" fmla="*/ 0 w 433440"/>
              <a:gd name="textAreaRight" fmla="*/ 433800 w 4334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32486" h="945292">
                <a:moveTo>
                  <a:pt x="0" y="945292"/>
                </a:moveTo>
                <a:cubicBezTo>
                  <a:pt x="2059" y="811427"/>
                  <a:pt x="4119" y="677563"/>
                  <a:pt x="6178" y="543698"/>
                </a:cubicBezTo>
                <a:lnTo>
                  <a:pt x="166816" y="549876"/>
                </a:lnTo>
                <a:lnTo>
                  <a:pt x="179173" y="871152"/>
                </a:lnTo>
                <a:lnTo>
                  <a:pt x="179173" y="939114"/>
                </a:lnTo>
                <a:lnTo>
                  <a:pt x="240956" y="932936"/>
                </a:lnTo>
                <a:lnTo>
                  <a:pt x="240956" y="574590"/>
                </a:lnTo>
                <a:lnTo>
                  <a:pt x="240956" y="549876"/>
                </a:lnTo>
                <a:lnTo>
                  <a:pt x="432486" y="537519"/>
                </a:lnTo>
                <a:lnTo>
                  <a:pt x="432486" y="0"/>
                </a:lnTo>
                <a:lnTo>
                  <a:pt x="432486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9"/>
          <p:cNvSpPr/>
          <p:nvPr/>
        </p:nvSpPr>
        <p:spPr>
          <a:xfrm>
            <a:off x="5486400" y="5388120"/>
            <a:ext cx="111240" cy="431640"/>
          </a:xfrm>
          <a:custGeom>
            <a:avLst/>
            <a:gdLst>
              <a:gd name="textAreaLeft" fmla="*/ 0 w 111240"/>
              <a:gd name="textAreaRight" fmla="*/ 111600 w 1112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1211" h="432486">
                <a:moveTo>
                  <a:pt x="0" y="0"/>
                </a:moveTo>
                <a:lnTo>
                  <a:pt x="105032" y="6178"/>
                </a:lnTo>
                <a:cubicBezTo>
                  <a:pt x="107092" y="148281"/>
                  <a:pt x="109151" y="290383"/>
                  <a:pt x="111211" y="43248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20"/>
          <p:cNvSpPr/>
          <p:nvPr/>
        </p:nvSpPr>
        <p:spPr>
          <a:xfrm>
            <a:off x="6832440" y="5226120"/>
            <a:ext cx="6480" cy="636480"/>
          </a:xfrm>
          <a:custGeom>
            <a:avLst/>
            <a:gdLst>
              <a:gd name="textAreaLeft" fmla="*/ 0 w 6480"/>
              <a:gd name="textAreaRight" fmla="*/ 6840 w 64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6179" h="636373">
                <a:moveTo>
                  <a:pt x="0" y="0"/>
                </a:moveTo>
                <a:cubicBezTo>
                  <a:pt x="2060" y="212124"/>
                  <a:pt x="4119" y="424249"/>
                  <a:pt x="6179" y="636373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21"/>
          <p:cNvSpPr/>
          <p:nvPr/>
        </p:nvSpPr>
        <p:spPr>
          <a:xfrm>
            <a:off x="7210440" y="5165640"/>
            <a:ext cx="85680" cy="679680"/>
          </a:xfrm>
          <a:custGeom>
            <a:avLst/>
            <a:gdLst>
              <a:gd name="textAreaLeft" fmla="*/ 0 w 85680"/>
              <a:gd name="textAreaRight" fmla="*/ 85680 w 856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86497" h="679622">
                <a:moveTo>
                  <a:pt x="86497" y="0"/>
                </a:moveTo>
                <a:lnTo>
                  <a:pt x="0" y="18535"/>
                </a:lnTo>
                <a:cubicBezTo>
                  <a:pt x="2059" y="238897"/>
                  <a:pt x="4119" y="459260"/>
                  <a:pt x="6178" y="679622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22"/>
          <p:cNvSpPr/>
          <p:nvPr/>
        </p:nvSpPr>
        <p:spPr>
          <a:xfrm>
            <a:off x="6832440" y="5202360"/>
            <a:ext cx="378000" cy="29880"/>
          </a:xfrm>
          <a:custGeom>
            <a:avLst/>
            <a:gdLst>
              <a:gd name="textAreaLeft" fmla="*/ 0 w 378000"/>
              <a:gd name="textAreaRight" fmla="*/ 378360 w 3780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76882" h="30891">
                <a:moveTo>
                  <a:pt x="0" y="30891"/>
                </a:moveTo>
                <a:lnTo>
                  <a:pt x="376882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39"/>
          <p:cNvSpPr/>
          <p:nvPr/>
        </p:nvSpPr>
        <p:spPr>
          <a:xfrm>
            <a:off x="6159600" y="4876920"/>
            <a:ext cx="360" cy="939600"/>
          </a:xfrm>
          <a:custGeom>
            <a:avLst/>
            <a:gdLst>
              <a:gd name="textAreaLeft" fmla="*/ 0 w 360"/>
              <a:gd name="textAreaRight" fmla="*/ 720 w 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1" h="939800">
                <a:moveTo>
                  <a:pt x="0" y="0"/>
                </a:moveTo>
                <a:lnTo>
                  <a:pt x="0" y="93980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圆角矩形 41"/>
          <p:cNvSpPr/>
          <p:nvPr/>
        </p:nvSpPr>
        <p:spPr>
          <a:xfrm>
            <a:off x="1357200" y="1571760"/>
            <a:ext cx="3786480" cy="571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空气变得不再清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8" dur="indefinite" nodeType="after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15"/>
          <p:cNvSpPr/>
          <p:nvPr/>
        </p:nvSpPr>
        <p:spPr>
          <a:xfrm>
            <a:off x="4071960" y="37861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110480" y="3642840"/>
            <a:ext cx="461520" cy="572040"/>
            <a:chOff x="4110480" y="3642840"/>
            <a:chExt cx="461520" cy="572040"/>
          </a:xfrm>
        </p:grpSpPr>
        <p:sp>
          <p:nvSpPr>
            <p:cNvPr id="456" name="任意多边形 37"/>
            <p:cNvSpPr/>
            <p:nvPr/>
          </p:nvSpPr>
          <p:spPr>
            <a:xfrm>
              <a:off x="4357800" y="3714120"/>
              <a:ext cx="214200" cy="196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110480" y="3642840"/>
              <a:ext cx="369000" cy="572040"/>
              <a:chOff x="4110480" y="3642840"/>
              <a:chExt cx="369000" cy="57204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110480" y="3642840"/>
                <a:ext cx="369000" cy="572040"/>
                <a:chOff x="4110480" y="3642840"/>
                <a:chExt cx="369000" cy="572040"/>
              </a:xfrm>
            </p:grpSpPr>
            <p:sp>
              <p:nvSpPr>
                <p:cNvPr id="459" name="任意多边形 41"/>
                <p:cNvSpPr/>
                <p:nvPr/>
              </p:nvSpPr>
              <p:spPr>
                <a:xfrm rot="1593000">
                  <a:off x="4133880" y="3705120"/>
                  <a:ext cx="321840" cy="18144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任意多边形 42"/>
                <p:cNvSpPr/>
                <p:nvPr/>
              </p:nvSpPr>
              <p:spPr>
                <a:xfrm>
                  <a:off x="4368960" y="3831120"/>
                  <a:ext cx="45720" cy="38376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任意多边形 40"/>
              <p:cNvSpPr/>
              <p:nvPr/>
            </p:nvSpPr>
            <p:spPr>
              <a:xfrm>
                <a:off x="4362840" y="378504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4071960" y="3568680"/>
            <a:ext cx="557280" cy="57456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3286080" y="3857760"/>
            <a:ext cx="2214720" cy="285480"/>
            <a:chOff x="3286080" y="3857760"/>
            <a:chExt cx="2214720" cy="285480"/>
          </a:xfrm>
        </p:grpSpPr>
        <p:sp>
          <p:nvSpPr>
            <p:cNvPr id="464" name="任意多边形 22"/>
            <p:cNvSpPr/>
            <p:nvPr/>
          </p:nvSpPr>
          <p:spPr>
            <a:xfrm>
              <a:off x="3286080" y="3857760"/>
              <a:ext cx="2214720" cy="28548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44700" h="266700">
                  <a:moveTo>
                    <a:pt x="596900" y="0"/>
                  </a:moveTo>
                  <a:lnTo>
                    <a:pt x="2044700" y="0"/>
                  </a:lnTo>
                  <a:lnTo>
                    <a:pt x="2044700" y="50800"/>
                  </a:lnTo>
                  <a:lnTo>
                    <a:pt x="1397000" y="38100"/>
                  </a:lnTo>
                  <a:lnTo>
                    <a:pt x="1397000" y="63500"/>
                  </a:lnTo>
                  <a:lnTo>
                    <a:pt x="1447800" y="63500"/>
                  </a:lnTo>
                  <a:lnTo>
                    <a:pt x="1435100" y="88900"/>
                  </a:lnTo>
                  <a:lnTo>
                    <a:pt x="1397000" y="101600"/>
                  </a:lnTo>
                  <a:lnTo>
                    <a:pt x="1257300" y="114300"/>
                  </a:lnTo>
                  <a:lnTo>
                    <a:pt x="1041400" y="114300"/>
                  </a:lnTo>
                  <a:lnTo>
                    <a:pt x="863600" y="101600"/>
                  </a:lnTo>
                  <a:lnTo>
                    <a:pt x="812800" y="88900"/>
                  </a:lnTo>
                  <a:lnTo>
                    <a:pt x="685800" y="101600"/>
                  </a:lnTo>
                  <a:lnTo>
                    <a:pt x="673100" y="139700"/>
                  </a:lnTo>
                  <a:lnTo>
                    <a:pt x="635000" y="152400"/>
                  </a:lnTo>
                  <a:lnTo>
                    <a:pt x="596900" y="152400"/>
                  </a:lnTo>
                  <a:lnTo>
                    <a:pt x="571500" y="127000"/>
                  </a:lnTo>
                  <a:lnTo>
                    <a:pt x="558800" y="101600"/>
                  </a:lnTo>
                  <a:lnTo>
                    <a:pt x="520700" y="101600"/>
                  </a:lnTo>
                  <a:lnTo>
                    <a:pt x="495300" y="114300"/>
                  </a:lnTo>
                  <a:lnTo>
                    <a:pt x="469900" y="152400"/>
                  </a:lnTo>
                  <a:lnTo>
                    <a:pt x="469900" y="152400"/>
                  </a:lnTo>
                  <a:lnTo>
                    <a:pt x="368300" y="190500"/>
                  </a:lnTo>
                  <a:lnTo>
                    <a:pt x="152400" y="266700"/>
                  </a:lnTo>
                  <a:lnTo>
                    <a:pt x="25400" y="266700"/>
                  </a:lnTo>
                  <a:lnTo>
                    <a:pt x="0" y="114300"/>
                  </a:lnTo>
                  <a:lnTo>
                    <a:pt x="50800" y="88900"/>
                  </a:lnTo>
                  <a:lnTo>
                    <a:pt x="431800" y="63500"/>
                  </a:lnTo>
                  <a:lnTo>
                    <a:pt x="59690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23"/>
            <p:cNvSpPr/>
            <p:nvPr/>
          </p:nvSpPr>
          <p:spPr>
            <a:xfrm>
              <a:off x="4335120" y="3931920"/>
              <a:ext cx="247320" cy="36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8600" h="33675">
                  <a:moveTo>
                    <a:pt x="0" y="33675"/>
                  </a:moveTo>
                  <a:cubicBezTo>
                    <a:pt x="12700" y="25208"/>
                    <a:pt x="22866" y="9227"/>
                    <a:pt x="38100" y="8275"/>
                  </a:cubicBezTo>
                  <a:cubicBezTo>
                    <a:pt x="169377" y="70"/>
                    <a:pt x="161251" y="0"/>
                    <a:pt x="228600" y="336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24"/>
            <p:cNvSpPr/>
            <p:nvPr/>
          </p:nvSpPr>
          <p:spPr>
            <a:xfrm>
              <a:off x="4266360" y="3886200"/>
              <a:ext cx="669600" cy="4284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18389" h="40026">
                  <a:moveTo>
                    <a:pt x="0" y="25530"/>
                  </a:moveTo>
                  <a:cubicBezTo>
                    <a:pt x="178710" y="0"/>
                    <a:pt x="95872" y="6315"/>
                    <a:pt x="393700" y="25530"/>
                  </a:cubicBezTo>
                  <a:cubicBezTo>
                    <a:pt x="618389" y="40026"/>
                    <a:pt x="400390" y="38230"/>
                    <a:pt x="520700" y="382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25"/>
            <p:cNvSpPr/>
            <p:nvPr/>
          </p:nvSpPr>
          <p:spPr>
            <a:xfrm>
              <a:off x="3908520" y="3954600"/>
              <a:ext cx="123480" cy="14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14300" h="14092">
                  <a:moveTo>
                    <a:pt x="0" y="12700"/>
                  </a:moveTo>
                  <a:cubicBezTo>
                    <a:pt x="12700" y="8467"/>
                    <a:pt x="24713" y="0"/>
                    <a:pt x="38100" y="0"/>
                  </a:cubicBezTo>
                  <a:cubicBezTo>
                    <a:pt x="55554" y="0"/>
                    <a:pt x="71683" y="9831"/>
                    <a:pt x="88900" y="12700"/>
                  </a:cubicBezTo>
                  <a:cubicBezTo>
                    <a:pt x="97251" y="14092"/>
                    <a:pt x="105833" y="12700"/>
                    <a:pt x="114300" y="127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26"/>
            <p:cNvSpPr/>
            <p:nvPr/>
          </p:nvSpPr>
          <p:spPr>
            <a:xfrm>
              <a:off x="3660840" y="3913560"/>
              <a:ext cx="206280" cy="149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500" h="139700">
                  <a:moveTo>
                    <a:pt x="0" y="139700"/>
                  </a:moveTo>
                  <a:cubicBezTo>
                    <a:pt x="12700" y="135467"/>
                    <a:pt x="28634" y="136466"/>
                    <a:pt x="38100" y="127000"/>
                  </a:cubicBezTo>
                  <a:cubicBezTo>
                    <a:pt x="59686" y="105414"/>
                    <a:pt x="59940" y="60453"/>
                    <a:pt x="88900" y="50800"/>
                  </a:cubicBezTo>
                  <a:cubicBezTo>
                    <a:pt x="176459" y="21614"/>
                    <a:pt x="146168" y="44332"/>
                    <a:pt x="190500" y="0"/>
                  </a:cubicBezTo>
                </a:path>
              </a:pathLst>
            </a:custGeom>
            <a:noFill/>
            <a:ln w="9360">
              <a:solidFill>
                <a:srgbClr val="000000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27"/>
            <p:cNvSpPr/>
            <p:nvPr/>
          </p:nvSpPr>
          <p:spPr>
            <a:xfrm>
              <a:off x="4266360" y="3913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28"/>
            <p:cNvSpPr/>
            <p:nvPr/>
          </p:nvSpPr>
          <p:spPr>
            <a:xfrm>
              <a:off x="4252320" y="3900240"/>
              <a:ext cx="68760" cy="543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3500" h="50800">
                  <a:moveTo>
                    <a:pt x="63500" y="0"/>
                  </a:moveTo>
                  <a:cubicBezTo>
                    <a:pt x="50800" y="4233"/>
                    <a:pt x="35853" y="4337"/>
                    <a:pt x="25400" y="12700"/>
                  </a:cubicBezTo>
                  <a:cubicBezTo>
                    <a:pt x="13481" y="22235"/>
                    <a:pt x="0" y="50800"/>
                    <a:pt x="0" y="508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29"/>
            <p:cNvSpPr/>
            <p:nvPr/>
          </p:nvSpPr>
          <p:spPr>
            <a:xfrm>
              <a:off x="3954600" y="3955680"/>
              <a:ext cx="10080" cy="37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558" h="34798">
                  <a:moveTo>
                    <a:pt x="683" y="2050"/>
                  </a:moveTo>
                  <a:cubicBezTo>
                    <a:pt x="0" y="0"/>
                    <a:pt x="3236" y="13033"/>
                    <a:pt x="4784" y="18452"/>
                  </a:cubicBezTo>
                  <a:cubicBezTo>
                    <a:pt x="5971" y="22608"/>
                    <a:pt x="8174" y="26490"/>
                    <a:pt x="8884" y="30753"/>
                  </a:cubicBezTo>
                  <a:cubicBezTo>
                    <a:pt x="9558" y="34798"/>
                    <a:pt x="1366" y="4100"/>
                    <a:pt x="683" y="205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30"/>
            <p:cNvSpPr/>
            <p:nvPr/>
          </p:nvSpPr>
          <p:spPr>
            <a:xfrm>
              <a:off x="3844440" y="3891960"/>
              <a:ext cx="17640" cy="70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6402" h="65608">
                  <a:moveTo>
                    <a:pt x="16402" y="0"/>
                  </a:moveTo>
                  <a:lnTo>
                    <a:pt x="4101" y="36904"/>
                  </a:lnTo>
                  <a:cubicBezTo>
                    <a:pt x="2734" y="41005"/>
                    <a:pt x="0" y="44883"/>
                    <a:pt x="0" y="49206"/>
                  </a:cubicBezTo>
                  <a:lnTo>
                    <a:pt x="0" y="656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Box 17"/>
          <p:cNvSpPr/>
          <p:nvPr/>
        </p:nvSpPr>
        <p:spPr>
          <a:xfrm>
            <a:off x="3500280" y="36399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time to do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8"/>
          <p:cNvSpPr/>
          <p:nvPr/>
        </p:nvSpPr>
        <p:spPr>
          <a:xfrm>
            <a:off x="4286160" y="33577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6"/>
          <p:cNvSpPr/>
          <p:nvPr/>
        </p:nvSpPr>
        <p:spPr>
          <a:xfrm>
            <a:off x="2928960" y="4357800"/>
            <a:ext cx="300024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4"/>
          <p:cNvSpPr/>
          <p:nvPr/>
        </p:nvSpPr>
        <p:spPr>
          <a:xfrm>
            <a:off x="2857680" y="2000160"/>
            <a:ext cx="3214440" cy="1571760"/>
          </a:xfrm>
          <a:prstGeom prst="roundRect">
            <a:avLst>
              <a:gd name="adj" fmla="val 192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"/>
          <p:cNvSpPr/>
          <p:nvPr/>
        </p:nvSpPr>
        <p:spPr>
          <a:xfrm>
            <a:off x="3214800" y="2286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Everything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Our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6"/>
          <p:cNvSpPr/>
          <p:nvPr/>
        </p:nvSpPr>
        <p:spPr>
          <a:xfrm>
            <a:off x="3143160" y="3571920"/>
            <a:ext cx="2643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11"/>
          <p:cNvSpPr/>
          <p:nvPr/>
        </p:nvSpPr>
        <p:spPr>
          <a:xfrm>
            <a:off x="3429000" y="4286160"/>
            <a:ext cx="20001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"/>
          <p:cNvSpPr/>
          <p:nvPr/>
        </p:nvSpPr>
        <p:spPr>
          <a:xfrm>
            <a:off x="-141120" y="5857920"/>
            <a:ext cx="98568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流程图: 汇总连接 32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流程图: 汇总连接 33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4"/>
          <p:cNvSpPr/>
          <p:nvPr/>
        </p:nvSpPr>
        <p:spPr>
          <a:xfrm>
            <a:off x="3429000" y="264312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LOG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5"/>
          <p:cNvSpPr/>
          <p:nvPr/>
        </p:nvSpPr>
        <p:spPr>
          <a:xfrm>
            <a:off x="3857760" y="2643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HUN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3"/>
          <p:cNvSpPr/>
          <p:nvPr/>
        </p:nvSpPr>
        <p:spPr>
          <a:xfrm>
            <a:off x="2500200" y="21366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 the worl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it a better plac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44"/>
          <p:cNvSpPr/>
          <p:nvPr/>
        </p:nvSpPr>
        <p:spPr>
          <a:xfrm>
            <a:off x="214308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谨以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献给每一位世界公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5"/>
          <p:cNvSpPr/>
          <p:nvPr/>
        </p:nvSpPr>
        <p:spPr>
          <a:xfrm>
            <a:off x="3357720" y="27860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让改变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0.00277 L -0.03924 -0.56412 E">
                                      <p:cBhvr>
                                        <p:cTn id="1111" dur="1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56412 L -0.03924 -0.33311 E">
                                      <p:cBhvr>
                                        <p:cTn id="1114" dur="1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dur="indefinite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dur="indefinite" nodeType="after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dur="indefinite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00625 0.20509 E">
                                      <p:cBhvr>
                                        <p:cTn id="1142" dur="5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dur="indefinite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1" dur="indefinite" autoRev="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1162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4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81" dur="indefinite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1.94444E-006 -0.06297 E">
                                      <p:cBhvr>
                                        <p:cTn id="1182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8501"/>
                            </p:stCondLst>
                            <p:childTnLst>
                              <p:par>
                                <p:cTn id="1184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9501"/>
                            </p:stCondLst>
                            <p:childTnLst>
                              <p:par>
                                <p:cTn id="1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9502"/>
                            </p:stCondLst>
                            <p:childTnLst>
                              <p:par>
                                <p:cTn id="1206" dur="indefinite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22222E-006 L -8.67362E-019 -0.05255 E">
                                      <p:cBhvr>
                                        <p:cTn id="1207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3502"/>
                            </p:stCondLst>
                            <p:childTnLst>
                              <p:par>
                                <p:cTn id="1209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4502"/>
                            </p:stCondLst>
                            <p:childTnLst>
                              <p:par>
                                <p:cTn id="12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502"/>
                            </p:stCondLst>
                            <p:childTnLst>
                              <p:par>
                                <p:cTn id="1226" dur="indefinite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11841E-006 L 5.55556E-006 -0.0629 E">
                                      <p:cBhvr>
                                        <p:cTn id="1227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29502"/>
                            </p:stCondLst>
                            <p:childTnLst>
                              <p:par>
                                <p:cTn id="1232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34502"/>
                            </p:stCondLst>
                            <p:childTnLst>
                              <p:par>
                                <p:cTn id="1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35502"/>
                            </p:stCondLst>
                            <p:childTnLst>
                              <p:par>
                                <p:cTn id="1240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23:14:02Z</dcterms:created>
  <dc:creator>Administrator</dc:creator>
  <dc:description/>
  <dc:language>en-US</dc:language>
  <cp:lastModifiedBy>微软用户</cp:lastModifiedBy>
  <dcterms:modified xsi:type="dcterms:W3CDTF">2015-07-01T01:03:29Z</dcterms:modified>
  <cp:revision>2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