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520-DB8F-4421-B3B9-8224F667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59D-43D1-41B2-BEC7-6614968F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6BE-7990-412A-B1AE-CDFBA52C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5E5-E306-435A-B778-800EE6D3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152-B2A9-4863-A72A-625F6E8D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49D-8DE0-442A-8B4A-BD0DBD8A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C77-5745-49BA-9B15-243E23AD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E01-1142-49A0-9AE6-C7AF1318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76E-268F-4ACA-8F02-DF68CACA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9C0-17F4-4C1C-B06E-F9FF3C91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899-C034-490F-A032-98B9948D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92A-94EB-4A3B-AB9B-695ACA37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B18A-C0E8-4ACF-80A9-442F8DB9F4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00280" y="278604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643200" y="342900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19T03:02:29Z</dcterms:modified>
  <cp:revision>77</cp:revision>
  <dc:subject/>
  <dc:title>幻灯片 1</dc:title>
</cp:coreProperties>
</file>