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147-2EA5-47FB-B246-A7DF5090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C25-C5B0-48D0-9B41-7AE2AB69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663-F298-49CA-A62E-4D23B637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552-7C27-4831-B532-BB6395EE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A16-14E7-4CA8-9991-47A76C57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BD8-56E4-4284-991C-4690ACD4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63A-C498-410E-9133-3262D630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056-BA58-4903-B593-47A4A0C0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227-26C3-4E74-86B3-50334454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641-21A2-471F-8539-E228059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DA7-89DC-4AD7-979D-4A94B1D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5E7-3B38-4200-A932-06ADEEC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3FE-6137-426E-9B94-04586360C0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00080" y="385776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4357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流程图: 显示 10"/>
          <p:cNvSpPr/>
          <p:nvPr/>
        </p:nvSpPr>
        <p:spPr>
          <a:xfrm>
            <a:off x="3071880" y="1714680"/>
            <a:ext cx="4500360" cy="3429000"/>
          </a:xfrm>
          <a:prstGeom prst="flowChartDisplay">
            <a:avLst/>
          </a:pr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显示 11"/>
          <p:cNvSpPr/>
          <p:nvPr/>
        </p:nvSpPr>
        <p:spPr>
          <a:xfrm flipH="1">
            <a:off x="2142360" y="1714680"/>
            <a:ext cx="3000600" cy="3429000"/>
          </a:xfrm>
          <a:prstGeom prst="flowChartDisplay">
            <a:avLst/>
          </a:pr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5640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3283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同心圆 9"/>
          <p:cNvSpPr/>
          <p:nvPr/>
        </p:nvSpPr>
        <p:spPr>
          <a:xfrm>
            <a:off x="5715000" y="2357280"/>
            <a:ext cx="1857240" cy="1857600"/>
          </a:xfrm>
          <a:custGeom>
            <a:avLst/>
            <a:gdLst>
              <a:gd name="textAreaLeft" fmla="*/ 271800 w 1857240"/>
              <a:gd name="textAreaRight" fmla="*/ 1585440 w 1857240"/>
              <a:gd name="textAreaTop" fmla="*/ 271800 h 1857600"/>
              <a:gd name="textAreaBottom" fmla="*/ 1585800 h 1857600"/>
            </a:gdLst>
            <a:ahLst/>
            <a:rect l="textAreaLeft" t="textAreaTop" r="textAreaRight" b="textAreaBottom"/>
            <a:pathLst>
              <a:path w="1857375" h="1857375">
                <a:moveTo>
                  <a:pt x="0" y="928688"/>
                </a:moveTo>
                <a:lnTo>
                  <a:pt x="0" y="928688"/>
                </a:lnTo>
                <a:arcTo wR="928688" hR="928688" stAng="-10799996" swAng="5400004"/>
                <a:lnTo>
                  <a:pt x="928690" y="1"/>
                </a:lnTo>
                <a:arcTo wR="928688" hR="928688" stAng="-5399996" swAng="5400004"/>
                <a:lnTo>
                  <a:pt x="1857377" y="928691"/>
                </a:lnTo>
                <a:arcTo wR="928688" hR="928688" stAng="0" swAng="5400004"/>
                <a:lnTo>
                  <a:pt x="928688" y="1857379"/>
                </a:lnTo>
                <a:arcTo wR="928688" hR="928688" stAng="5400004" swAng="5400000"/>
                <a:close/>
                <a:moveTo>
                  <a:pt x="464344" y="928688"/>
                </a:moveTo>
                <a:lnTo>
                  <a:pt x="464344" y="928688"/>
                </a:lnTo>
                <a:arcTo wR="464344" hR="464344" stAng="-10799993" swAng="-5400000"/>
                <a:lnTo>
                  <a:pt x="928687" y="1393033"/>
                </a:lnTo>
                <a:arcTo wR="464344" hR="464344" stAng="5400000" swAng="-5400000"/>
                <a:lnTo>
                  <a:pt x="1393031" y="928689"/>
                </a:lnTo>
                <a:arcTo wR="464344" hR="464344" stAng="0" swAng="-5400000"/>
                <a:lnTo>
                  <a:pt x="928687" y="464345"/>
                </a:lnTo>
                <a:arcTo wR="464344" hR="464344" stAng="-5399993" swAng="-5400000"/>
                <a:close/>
              </a:path>
            </a:pathLst>
          </a:cu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10"/>
          <p:cNvSpPr/>
          <p:nvPr/>
        </p:nvSpPr>
        <p:spPr>
          <a:xfrm>
            <a:off x="3786120" y="2357280"/>
            <a:ext cx="1857600" cy="1857600"/>
          </a:xfrm>
          <a:custGeom>
            <a:avLst/>
            <a:gdLst>
              <a:gd name="textAreaLeft" fmla="*/ 271800 w 1857600"/>
              <a:gd name="textAreaRight" fmla="*/ 1585800 w 1857600"/>
              <a:gd name="textAreaTop" fmla="*/ 271800 h 1857600"/>
              <a:gd name="textAreaBottom" fmla="*/ 1585800 h 1857600"/>
            </a:gdLst>
            <a:ahLst/>
            <a:rect l="textAreaLeft" t="textAreaTop" r="textAreaRight" b="textAreaBottom"/>
            <a:pathLst>
              <a:path w="1857375" h="1857375">
                <a:moveTo>
                  <a:pt x="0" y="928688"/>
                </a:moveTo>
                <a:lnTo>
                  <a:pt x="0" y="928688"/>
                </a:lnTo>
                <a:arcTo wR="928688" hR="928688" stAng="-10799996" swAng="5400004"/>
                <a:lnTo>
                  <a:pt x="928690" y="1"/>
                </a:lnTo>
                <a:arcTo wR="928688" hR="928688" stAng="-5399996" swAng="5400004"/>
                <a:lnTo>
                  <a:pt x="1857377" y="928691"/>
                </a:lnTo>
                <a:arcTo wR="928688" hR="928688" stAng="0" swAng="5400004"/>
                <a:lnTo>
                  <a:pt x="928688" y="1857379"/>
                </a:lnTo>
                <a:arcTo wR="928688" hR="928688" stAng="5400004" swAng="5400000"/>
                <a:close/>
                <a:moveTo>
                  <a:pt x="464344" y="928688"/>
                </a:moveTo>
                <a:lnTo>
                  <a:pt x="464344" y="928688"/>
                </a:lnTo>
                <a:arcTo wR="464344" hR="464344" stAng="-10799993" swAng="-5400000"/>
                <a:lnTo>
                  <a:pt x="928687" y="1393033"/>
                </a:lnTo>
                <a:arcTo wR="464344" hR="464344" stAng="5400000" swAng="-5400000"/>
                <a:lnTo>
                  <a:pt x="1393031" y="928689"/>
                </a:lnTo>
                <a:arcTo wR="464344" hR="464344" stAng="0" swAng="-5400000"/>
                <a:lnTo>
                  <a:pt x="928687" y="464345"/>
                </a:lnTo>
                <a:arcTo wR="464344" hR="464344" stAng="-5399993" swAng="-5400000"/>
                <a:close/>
              </a:path>
            </a:pathLst>
          </a:cu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心圆 11"/>
          <p:cNvSpPr/>
          <p:nvPr/>
        </p:nvSpPr>
        <p:spPr>
          <a:xfrm>
            <a:off x="1866960" y="2367000"/>
            <a:ext cx="1857240" cy="1857240"/>
          </a:xfrm>
          <a:custGeom>
            <a:avLst/>
            <a:gdLst>
              <a:gd name="textAreaLeft" fmla="*/ 271800 w 1857240"/>
              <a:gd name="textAreaRight" fmla="*/ 1585440 w 1857240"/>
              <a:gd name="textAreaTop" fmla="*/ 271800 h 1857240"/>
              <a:gd name="textAreaBottom" fmla="*/ 1585440 h 1857240"/>
            </a:gdLst>
            <a:ahLst/>
            <a:rect l="textAreaLeft" t="textAreaTop" r="textAreaRight" b="textAreaBottom"/>
            <a:pathLst>
              <a:path w="1857375" h="1857375">
                <a:moveTo>
                  <a:pt x="0" y="928688"/>
                </a:moveTo>
                <a:lnTo>
                  <a:pt x="0" y="928688"/>
                </a:lnTo>
                <a:arcTo wR="928688" hR="928688" stAng="-10799996" swAng="5400004"/>
                <a:lnTo>
                  <a:pt x="928690" y="1"/>
                </a:lnTo>
                <a:arcTo wR="928688" hR="928688" stAng="-5399996" swAng="5400004"/>
                <a:lnTo>
                  <a:pt x="1857377" y="928691"/>
                </a:lnTo>
                <a:arcTo wR="928688" hR="928688" stAng="0" swAng="5400004"/>
                <a:lnTo>
                  <a:pt x="928688" y="1857379"/>
                </a:lnTo>
                <a:arcTo wR="928688" hR="928688" stAng="5400004" swAng="5400000"/>
                <a:close/>
                <a:moveTo>
                  <a:pt x="464344" y="928688"/>
                </a:moveTo>
                <a:lnTo>
                  <a:pt x="464344" y="928688"/>
                </a:lnTo>
                <a:arcTo wR="464344" hR="464344" stAng="-10799993" swAng="-5400000"/>
                <a:lnTo>
                  <a:pt x="928687" y="1393033"/>
                </a:lnTo>
                <a:arcTo wR="464344" hR="464344" stAng="5400000" swAng="-5400000"/>
                <a:lnTo>
                  <a:pt x="1393031" y="928689"/>
                </a:lnTo>
                <a:arcTo wR="464344" hR="464344" stAng="0" swAng="-5400000"/>
                <a:lnTo>
                  <a:pt x="928687" y="464345"/>
                </a:lnTo>
                <a:arcTo wR="464344" hR="464344" stAng="-5399993" swAng="-5400000"/>
                <a:close/>
              </a:path>
            </a:pathLst>
          </a:cu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2284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213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平行四边形 10"/>
          <p:cNvSpPr/>
          <p:nvPr/>
        </p:nvSpPr>
        <p:spPr>
          <a:xfrm>
            <a:off x="3429000" y="1282680"/>
            <a:ext cx="3000240" cy="1074600"/>
          </a:xfrm>
          <a:prstGeom prst="parallelogram">
            <a:avLst>
              <a:gd name="adj" fmla="val 87378"/>
            </a:avLst>
          </a:pr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平行四边形 11"/>
          <p:cNvSpPr/>
          <p:nvPr/>
        </p:nvSpPr>
        <p:spPr>
          <a:xfrm flipV="1">
            <a:off x="3429000" y="2353320"/>
            <a:ext cx="3000240" cy="1074600"/>
          </a:xfrm>
          <a:prstGeom prst="parallelogram">
            <a:avLst>
              <a:gd name="adj" fmla="val 87378"/>
            </a:avLst>
          </a:pr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平行四边形 12"/>
          <p:cNvSpPr/>
          <p:nvPr/>
        </p:nvSpPr>
        <p:spPr>
          <a:xfrm>
            <a:off x="3429000" y="3425760"/>
            <a:ext cx="3000240" cy="1074960"/>
          </a:xfrm>
          <a:prstGeom prst="parallelogram">
            <a:avLst>
              <a:gd name="adj" fmla="val 87349"/>
            </a:avLst>
          </a:pr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平行四边形 13"/>
          <p:cNvSpPr/>
          <p:nvPr/>
        </p:nvSpPr>
        <p:spPr>
          <a:xfrm flipV="1">
            <a:off x="3429000" y="4496760"/>
            <a:ext cx="3000240" cy="1074600"/>
          </a:xfrm>
          <a:prstGeom prst="parallelogram">
            <a:avLst>
              <a:gd name="adj" fmla="val 87378"/>
            </a:avLst>
          </a:pr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4497840" y="2711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4426560" y="1639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497840" y="485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4354920" y="378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棱台 12"/>
          <p:cNvSpPr/>
          <p:nvPr/>
        </p:nvSpPr>
        <p:spPr>
          <a:xfrm>
            <a:off x="1643040" y="1857240"/>
            <a:ext cx="3071880" cy="3143520"/>
          </a:xfrm>
          <a:prstGeom prst="bevel">
            <a:avLst>
              <a:gd name="adj" fmla="val 50000"/>
            </a:avLst>
          </a:pr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棱台 13"/>
          <p:cNvSpPr/>
          <p:nvPr/>
        </p:nvSpPr>
        <p:spPr>
          <a:xfrm>
            <a:off x="4714920" y="1857240"/>
            <a:ext cx="3071880" cy="3143520"/>
          </a:xfrm>
          <a:prstGeom prst="bevel">
            <a:avLst>
              <a:gd name="adj" fmla="val 50000"/>
            </a:avLst>
          </a:pr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5569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27835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1283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7283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上下箭头 10"/>
          <p:cNvSpPr/>
          <p:nvPr/>
        </p:nvSpPr>
        <p:spPr>
          <a:xfrm>
            <a:off x="3987720" y="1071720"/>
            <a:ext cx="1803600" cy="4599000"/>
          </a:xfrm>
          <a:prstGeom prst="upDownArrow">
            <a:avLst>
              <a:gd name="adj1" fmla="val 50000"/>
              <a:gd name="adj2" fmla="val 3164"/>
            </a:avLst>
          </a:pr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上下箭头 11"/>
          <p:cNvSpPr/>
          <p:nvPr/>
        </p:nvSpPr>
        <p:spPr>
          <a:xfrm rot="16200000">
            <a:off x="4013640" y="935640"/>
            <a:ext cx="1803600" cy="4599000"/>
          </a:xfrm>
          <a:prstGeom prst="upDownArrow">
            <a:avLst>
              <a:gd name="adj1" fmla="val 50000"/>
              <a:gd name="adj2" fmla="val 3164"/>
            </a:avLst>
          </a:pr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4354920" y="480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5783760" y="302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2997720" y="302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4426560" y="1312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对角圆角矩形 10"/>
          <p:cNvSpPr/>
          <p:nvPr/>
        </p:nvSpPr>
        <p:spPr>
          <a:xfrm>
            <a:off x="2644920" y="1285920"/>
            <a:ext cx="2214360" cy="1928880"/>
          </a:xfrm>
          <a:custGeom>
            <a:avLst/>
            <a:gdLst>
              <a:gd name="textAreaLeft" fmla="*/ 256320 w 2214360"/>
              <a:gd name="textAreaRight" fmla="*/ 1958040 w 2214360"/>
              <a:gd name="textAreaTop" fmla="*/ 256320 h 1928880"/>
              <a:gd name="textAreaBottom" fmla="*/ 1672560 h 1928880"/>
            </a:gdLst>
            <a:ahLst/>
            <a:rect l="textAreaLeft" t="textAreaTop" r="textAreaRight" b="textAreaBottom"/>
            <a:pathLst>
              <a:path w="2214563" h="1928813">
                <a:moveTo>
                  <a:pt x="428216" y="0"/>
                </a:moveTo>
                <a:lnTo>
                  <a:pt x="1339306" y="0"/>
                </a:lnTo>
                <a:lnTo>
                  <a:pt x="1339306" y="0"/>
                </a:lnTo>
                <a:arcTo wR="875257" hR="875257" stAng="-5399996" swAng="5400004"/>
                <a:lnTo>
                  <a:pt x="2214563" y="1500597"/>
                </a:lnTo>
                <a:lnTo>
                  <a:pt x="2214563" y="1500597"/>
                </a:lnTo>
                <a:arcTo wR="428216" hR="428216" stAng="0" swAng="5400000"/>
                <a:lnTo>
                  <a:pt x="875257" y="1928813"/>
                </a:lnTo>
                <a:lnTo>
                  <a:pt x="875257" y="1928813"/>
                </a:lnTo>
                <a:arcTo wR="875257" hR="875257" stAng="5400004" swAng="5400000"/>
                <a:lnTo>
                  <a:pt x="0" y="428216"/>
                </a:lnTo>
                <a:lnTo>
                  <a:pt x="0" y="428216"/>
                </a:lnTo>
                <a:arcTo wR="428216" hR="428216" stAng="10800000" swAng="5400008"/>
                <a:close/>
              </a:path>
            </a:pathLst>
          </a:cu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对角圆角矩形 11"/>
          <p:cNvSpPr/>
          <p:nvPr/>
        </p:nvSpPr>
        <p:spPr>
          <a:xfrm>
            <a:off x="5002200" y="1285920"/>
            <a:ext cx="2214720" cy="1928880"/>
          </a:xfrm>
          <a:custGeom>
            <a:avLst/>
            <a:gdLst>
              <a:gd name="textAreaLeft" fmla="*/ 256320 w 2214720"/>
              <a:gd name="textAreaRight" fmla="*/ 1958400 w 2214720"/>
              <a:gd name="textAreaTop" fmla="*/ 256320 h 1928880"/>
              <a:gd name="textAreaBottom" fmla="*/ 1672560 h 1928880"/>
            </a:gdLst>
            <a:ahLst/>
            <a:rect l="textAreaLeft" t="textAreaTop" r="textAreaRight" b="textAreaBottom"/>
            <a:pathLst>
              <a:path w="2214562" h="1928813">
                <a:moveTo>
                  <a:pt x="428216" y="0"/>
                </a:moveTo>
                <a:lnTo>
                  <a:pt x="1339305" y="0"/>
                </a:lnTo>
                <a:lnTo>
                  <a:pt x="1339305" y="0"/>
                </a:lnTo>
                <a:arcTo wR="875257" hR="875257" stAng="-5399996" swAng="5400004"/>
                <a:lnTo>
                  <a:pt x="2214562" y="1500597"/>
                </a:lnTo>
                <a:lnTo>
                  <a:pt x="2214562" y="1500597"/>
                </a:lnTo>
                <a:arcTo wR="428216" hR="428216" stAng="0" swAng="5400000"/>
                <a:lnTo>
                  <a:pt x="875257" y="1928813"/>
                </a:lnTo>
                <a:lnTo>
                  <a:pt x="875257" y="1928813"/>
                </a:lnTo>
                <a:arcTo wR="875257" hR="875257" stAng="5400004" swAng="5400000"/>
                <a:lnTo>
                  <a:pt x="0" y="428216"/>
                </a:lnTo>
                <a:lnTo>
                  <a:pt x="0" y="428216"/>
                </a:lnTo>
                <a:arcTo wR="428216" hR="428216" stAng="10800000" swAng="5400008"/>
                <a:close/>
              </a:path>
            </a:pathLst>
          </a:cu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对角圆角矩形 12"/>
          <p:cNvSpPr/>
          <p:nvPr/>
        </p:nvSpPr>
        <p:spPr>
          <a:xfrm>
            <a:off x="2716200" y="3429000"/>
            <a:ext cx="2214720" cy="1928880"/>
          </a:xfrm>
          <a:custGeom>
            <a:avLst/>
            <a:gdLst>
              <a:gd name="textAreaLeft" fmla="*/ 256320 w 2214720"/>
              <a:gd name="textAreaRight" fmla="*/ 1958400 w 2214720"/>
              <a:gd name="textAreaTop" fmla="*/ 256320 h 1928880"/>
              <a:gd name="textAreaBottom" fmla="*/ 1672560 h 1928880"/>
            </a:gdLst>
            <a:ahLst/>
            <a:rect l="textAreaLeft" t="textAreaTop" r="textAreaRight" b="textAreaBottom"/>
            <a:pathLst>
              <a:path w="2214562" h="1928813">
                <a:moveTo>
                  <a:pt x="428216" y="0"/>
                </a:moveTo>
                <a:lnTo>
                  <a:pt x="1339305" y="0"/>
                </a:lnTo>
                <a:lnTo>
                  <a:pt x="1339305" y="0"/>
                </a:lnTo>
                <a:arcTo wR="875257" hR="875257" stAng="-5399996" swAng="5400004"/>
                <a:lnTo>
                  <a:pt x="2214562" y="1500597"/>
                </a:lnTo>
                <a:lnTo>
                  <a:pt x="2214562" y="1500597"/>
                </a:lnTo>
                <a:arcTo wR="428216" hR="428216" stAng="0" swAng="5400000"/>
                <a:lnTo>
                  <a:pt x="875257" y="1928813"/>
                </a:lnTo>
                <a:lnTo>
                  <a:pt x="875257" y="1928813"/>
                </a:lnTo>
                <a:arcTo wR="875257" hR="875257" stAng="5400004" swAng="5400000"/>
                <a:lnTo>
                  <a:pt x="0" y="428216"/>
                </a:lnTo>
                <a:lnTo>
                  <a:pt x="0" y="428216"/>
                </a:lnTo>
                <a:arcTo wR="428216" hR="428216" stAng="10800000" swAng="5400008"/>
                <a:close/>
              </a:path>
            </a:pathLst>
          </a:cu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对角圆角矩形 13"/>
          <p:cNvSpPr/>
          <p:nvPr/>
        </p:nvSpPr>
        <p:spPr>
          <a:xfrm>
            <a:off x="5145120" y="3500280"/>
            <a:ext cx="2214360" cy="1928880"/>
          </a:xfrm>
          <a:custGeom>
            <a:avLst/>
            <a:gdLst>
              <a:gd name="textAreaLeft" fmla="*/ 256320 w 2214360"/>
              <a:gd name="textAreaRight" fmla="*/ 1958040 w 2214360"/>
              <a:gd name="textAreaTop" fmla="*/ 256320 h 1928880"/>
              <a:gd name="textAreaBottom" fmla="*/ 1672560 h 1928880"/>
            </a:gdLst>
            <a:ahLst/>
            <a:rect l="textAreaLeft" t="textAreaTop" r="textAreaRight" b="textAreaBottom"/>
            <a:pathLst>
              <a:path w="2214562" h="1928812">
                <a:moveTo>
                  <a:pt x="428216" y="0"/>
                </a:moveTo>
                <a:lnTo>
                  <a:pt x="1339306" y="0"/>
                </a:lnTo>
                <a:lnTo>
                  <a:pt x="1339306" y="0"/>
                </a:lnTo>
                <a:arcTo wR="875256" hR="875256" stAng="-5399996" swAng="5400004"/>
                <a:lnTo>
                  <a:pt x="2214562" y="1500596"/>
                </a:lnTo>
                <a:lnTo>
                  <a:pt x="2214562" y="1500596"/>
                </a:lnTo>
                <a:arcTo wR="428216" hR="428216" stAng="0" swAng="5400000"/>
                <a:lnTo>
                  <a:pt x="875256" y="1928812"/>
                </a:lnTo>
                <a:lnTo>
                  <a:pt x="875256" y="1928812"/>
                </a:lnTo>
                <a:arcTo wR="875256" hR="875256" stAng="5400004" swAng="5400000"/>
                <a:lnTo>
                  <a:pt x="0" y="428216"/>
                </a:lnTo>
                <a:lnTo>
                  <a:pt x="0" y="428216"/>
                </a:lnTo>
                <a:arcTo wR="428216" hR="428216" stAng="10800000" swAng="5400008"/>
                <a:close/>
              </a:path>
            </a:pathLst>
          </a:cu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3211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57121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3354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5569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泪滴形 10"/>
          <p:cNvSpPr/>
          <p:nvPr/>
        </p:nvSpPr>
        <p:spPr>
          <a:xfrm>
            <a:off x="2214720" y="3571920"/>
            <a:ext cx="2786040" cy="2786040"/>
          </a:xfrm>
          <a:custGeom>
            <a:avLst/>
            <a:gdLst>
              <a:gd name="textAreaLeft" fmla="*/ 407880 w 2786040"/>
              <a:gd name="textAreaRight" fmla="*/ 2378160 w 2786040"/>
              <a:gd name="textAreaTop" fmla="*/ 407880 h 2786040"/>
              <a:gd name="textAreaBottom" fmla="*/ 2378160 h 2786040"/>
            </a:gdLst>
            <a:ahLst/>
            <a:rect l="textAreaLeft" t="textAreaTop" r="textAreaRight" b="textAreaBottom"/>
            <a:pathLst>
              <a:path w="2786062" h="2786063">
                <a:moveTo>
                  <a:pt x="0" y="1393032"/>
                </a:moveTo>
                <a:lnTo>
                  <a:pt x="0" y="1393032"/>
                </a:lnTo>
                <a:arcTo wR="1393031" hR="1393032" stAng="-10799995" swAng="5400000"/>
                <a:lnTo>
                  <a:pt x="1393030" y="0"/>
                </a:lnTo>
                <a:lnTo>
                  <a:pt x="1393031" y="1393032"/>
                </a:lnTo>
                <a:lnTo>
                  <a:pt x="2786062" y="1393032"/>
                </a:lnTo>
                <a:arcTo wR="0" hR="1" stAng="0" swAng="0"/>
                <a:lnTo>
                  <a:pt x="2582057" y="2582059"/>
                </a:lnTo>
                <a:arcTo wR="-696516" hR="696516" stAng="2700002" swAng="10799998"/>
                <a:close/>
              </a:path>
            </a:pathLst>
          </a:cu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泪滴形 11"/>
          <p:cNvSpPr/>
          <p:nvPr/>
        </p:nvSpPr>
        <p:spPr>
          <a:xfrm flipV="1">
            <a:off x="2214720" y="784800"/>
            <a:ext cx="2786040" cy="2786040"/>
          </a:xfrm>
          <a:custGeom>
            <a:avLst/>
            <a:gdLst>
              <a:gd name="textAreaLeft" fmla="*/ 407880 w 2786040"/>
              <a:gd name="textAreaRight" fmla="*/ 2378160 w 2786040"/>
              <a:gd name="textAreaTop" fmla="*/ 407880 h 2786040"/>
              <a:gd name="textAreaBottom" fmla="*/ 2378160 h 2786040"/>
            </a:gdLst>
            <a:ahLst/>
            <a:rect l="textAreaLeft" t="textAreaTop" r="textAreaRight" b="textAreaBottom"/>
            <a:pathLst>
              <a:path w="2786062" h="2786062">
                <a:moveTo>
                  <a:pt x="0" y="1393031"/>
                </a:moveTo>
                <a:lnTo>
                  <a:pt x="0" y="1393031"/>
                </a:lnTo>
                <a:arcTo wR="1393031" hR="1393031" stAng="-10799995" swAng="5400000"/>
                <a:lnTo>
                  <a:pt x="1393030" y="0"/>
                </a:lnTo>
                <a:lnTo>
                  <a:pt x="1393031" y="1393031"/>
                </a:lnTo>
                <a:lnTo>
                  <a:pt x="2786062" y="1393031"/>
                </a:lnTo>
                <a:arcTo wR="0" hR="1" stAng="0" swAng="0"/>
                <a:lnTo>
                  <a:pt x="2582057" y="2582058"/>
                </a:lnTo>
                <a:arcTo wR="-696516" hR="696516" stAng="2700000" swAng="10799998"/>
                <a:close/>
              </a:path>
            </a:pathLst>
          </a:cu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4"/>
          <p:cNvGrpSpPr/>
          <p:nvPr/>
        </p:nvGrpSpPr>
        <p:grpSpPr>
          <a:xfrm>
            <a:off x="5000400" y="785880"/>
            <a:ext cx="2786040" cy="5572440"/>
            <a:chOff x="5000400" y="785880"/>
            <a:chExt cx="2786040" cy="5572440"/>
          </a:xfrm>
        </p:grpSpPr>
        <p:sp>
          <p:nvSpPr>
            <p:cNvPr id="106" name="泪滴形 12"/>
            <p:cNvSpPr/>
            <p:nvPr/>
          </p:nvSpPr>
          <p:spPr>
            <a:xfrm flipH="1" flipV="1">
              <a:off x="5000040" y="785520"/>
              <a:ext cx="2786040" cy="2786040"/>
            </a:xfrm>
            <a:custGeom>
              <a:avLst/>
              <a:gdLst>
                <a:gd name="textAreaLeft" fmla="*/ 407880 w 2786040"/>
                <a:gd name="textAreaRight" fmla="*/ 2378160 w 2786040"/>
                <a:gd name="textAreaTop" fmla="*/ 407880 h 2786040"/>
                <a:gd name="textAreaBottom" fmla="*/ 2378160 h 2786040"/>
              </a:gdLst>
              <a:ahLst/>
              <a:rect l="textAreaLeft" t="textAreaTop" r="textAreaRight" b="textAreaBottom"/>
              <a:pathLst>
                <a:path w="2786082" h="2786081">
                  <a:moveTo>
                    <a:pt x="0" y="1393041"/>
                  </a:moveTo>
                  <a:lnTo>
                    <a:pt x="0" y="1393041"/>
                  </a:lnTo>
                  <a:arcTo wR="1393041" hR="1393041" stAng="-10799995" swAng="5400000"/>
                  <a:lnTo>
                    <a:pt x="1393040" y="0"/>
                  </a:lnTo>
                  <a:lnTo>
                    <a:pt x="1393041" y="1393041"/>
                  </a:lnTo>
                  <a:lnTo>
                    <a:pt x="2786082" y="1393041"/>
                  </a:lnTo>
                  <a:arcTo wR="0" hR="1" stAng="0" swAng="0"/>
                  <a:lnTo>
                    <a:pt x="2582075" y="2582076"/>
                  </a:lnTo>
                  <a:arcTo wR="-696521" hR="696521" stAng="2700000" swAng="10799998"/>
                  <a:close/>
                </a:path>
              </a:pathLst>
            </a:custGeom>
            <a:solidFill>
              <a:srgbClr val="527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泪滴形 13"/>
            <p:cNvSpPr/>
            <p:nvPr/>
          </p:nvSpPr>
          <p:spPr>
            <a:xfrm flipH="1">
              <a:off x="5000040" y="3572280"/>
              <a:ext cx="2786040" cy="2786040"/>
            </a:xfrm>
            <a:custGeom>
              <a:avLst/>
              <a:gdLst>
                <a:gd name="textAreaLeft" fmla="*/ 407880 w 2786040"/>
                <a:gd name="textAreaRight" fmla="*/ 2378160 w 2786040"/>
                <a:gd name="textAreaTop" fmla="*/ 407880 h 2786040"/>
                <a:gd name="textAreaBottom" fmla="*/ 2378160 h 2786040"/>
              </a:gdLst>
              <a:ahLst/>
              <a:rect l="textAreaLeft" t="textAreaTop" r="textAreaRight" b="textAreaBottom"/>
              <a:pathLst>
                <a:path w="2786082" h="2786083">
                  <a:moveTo>
                    <a:pt x="0" y="1393042"/>
                  </a:moveTo>
                  <a:lnTo>
                    <a:pt x="0" y="1393042"/>
                  </a:lnTo>
                  <a:arcTo wR="1393041" hR="1393042" stAng="-10799995" swAng="5400000"/>
                  <a:lnTo>
                    <a:pt x="1393040" y="0"/>
                  </a:lnTo>
                  <a:lnTo>
                    <a:pt x="1393041" y="1393042"/>
                  </a:lnTo>
                  <a:lnTo>
                    <a:pt x="2786082" y="1393042"/>
                  </a:lnTo>
                  <a:arcTo wR="0" hR="1" stAng="0" swAng="0"/>
                  <a:lnTo>
                    <a:pt x="2582075" y="2582078"/>
                  </a:lnTo>
                  <a:arcTo wR="-696521" hR="696521" stAng="2700002" swAng="10799998"/>
                  <a:close/>
                </a:path>
              </a:pathLst>
            </a:custGeom>
            <a:solidFill>
              <a:srgbClr val="eac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3069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60696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57837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29260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等于号 11"/>
          <p:cNvSpPr/>
          <p:nvPr/>
        </p:nvSpPr>
        <p:spPr>
          <a:xfrm>
            <a:off x="1500120" y="1857240"/>
            <a:ext cx="3786120" cy="2786040"/>
          </a:xfrm>
          <a:custGeom>
            <a:avLst/>
            <a:gdLst>
              <a:gd name="textAreaLeft" fmla="*/ 501840 w 3786120"/>
              <a:gd name="textAreaRight" fmla="*/ 3284280 w 3786120"/>
              <a:gd name="textAreaTop" fmla="*/ 647280 h 2786040"/>
              <a:gd name="textAreaBottom" fmla="*/ 2138760 h 2786040"/>
            </a:gdLst>
            <a:ahLst/>
            <a:rect l="textAreaLeft" t="textAreaTop" r="textAreaRight" b="textAreaBottom"/>
            <a:pathLst>
              <a:path w="3786187" h="2786063">
                <a:moveTo>
                  <a:pt x="501859" y="647216"/>
                </a:moveTo>
                <a:lnTo>
                  <a:pt x="3284328" y="647216"/>
                </a:lnTo>
                <a:lnTo>
                  <a:pt x="3284328" y="1302498"/>
                </a:lnTo>
                <a:lnTo>
                  <a:pt x="501859" y="1302498"/>
                </a:lnTo>
                <a:close/>
                <a:moveTo>
                  <a:pt x="501859" y="1483565"/>
                </a:moveTo>
                <a:lnTo>
                  <a:pt x="3284328" y="1483565"/>
                </a:lnTo>
                <a:lnTo>
                  <a:pt x="3284328" y="2138847"/>
                </a:lnTo>
                <a:lnTo>
                  <a:pt x="501859" y="2138847"/>
                </a:lnTo>
                <a:close/>
              </a:path>
            </a:pathLst>
          </a:cu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等于号 12"/>
          <p:cNvSpPr/>
          <p:nvPr/>
        </p:nvSpPr>
        <p:spPr>
          <a:xfrm>
            <a:off x="4429080" y="1857240"/>
            <a:ext cx="3786120" cy="2786040"/>
          </a:xfrm>
          <a:custGeom>
            <a:avLst/>
            <a:gdLst>
              <a:gd name="textAreaLeft" fmla="*/ 501840 w 3786120"/>
              <a:gd name="textAreaRight" fmla="*/ 3284280 w 3786120"/>
              <a:gd name="textAreaTop" fmla="*/ 647280 h 2786040"/>
              <a:gd name="textAreaBottom" fmla="*/ 2138760 h 2786040"/>
            </a:gdLst>
            <a:ahLst/>
            <a:rect l="textAreaLeft" t="textAreaTop" r="textAreaRight" b="textAreaBottom"/>
            <a:pathLst>
              <a:path w="3786188" h="2786063">
                <a:moveTo>
                  <a:pt x="501859" y="647216"/>
                </a:moveTo>
                <a:lnTo>
                  <a:pt x="3284329" y="647216"/>
                </a:lnTo>
                <a:lnTo>
                  <a:pt x="3284329" y="1302498"/>
                </a:lnTo>
                <a:lnTo>
                  <a:pt x="501859" y="1302498"/>
                </a:lnTo>
                <a:close/>
                <a:moveTo>
                  <a:pt x="501859" y="1483565"/>
                </a:moveTo>
                <a:lnTo>
                  <a:pt x="3284329" y="1483565"/>
                </a:lnTo>
                <a:lnTo>
                  <a:pt x="3284329" y="2138847"/>
                </a:lnTo>
                <a:lnTo>
                  <a:pt x="501859" y="2138847"/>
                </a:lnTo>
                <a:close/>
              </a:path>
            </a:pathLst>
          </a:cu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926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57837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78376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2997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标注 11"/>
          <p:cNvSpPr/>
          <p:nvPr/>
        </p:nvSpPr>
        <p:spPr>
          <a:xfrm>
            <a:off x="1928880" y="1571760"/>
            <a:ext cx="5786280" cy="1857240"/>
          </a:xfrm>
          <a:prstGeom prst="wedgeRectCallout">
            <a:avLst>
              <a:gd name="adj1" fmla="val -19907"/>
              <a:gd name="adj2" fmla="val 35250"/>
            </a:avLst>
          </a:prstGeom>
          <a:solidFill>
            <a:srgbClr val="527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标注 12"/>
          <p:cNvSpPr/>
          <p:nvPr/>
        </p:nvSpPr>
        <p:spPr>
          <a:xfrm flipV="1">
            <a:off x="1928880" y="3499920"/>
            <a:ext cx="5786280" cy="1857600"/>
          </a:xfrm>
          <a:prstGeom prst="wedgeRectCallout">
            <a:avLst>
              <a:gd name="adj1" fmla="val -19907"/>
              <a:gd name="adj2" fmla="val 35250"/>
            </a:avLst>
          </a:prstGeom>
          <a:solidFill>
            <a:srgbClr val="eac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4497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7:53:21Z</dcterms:modified>
  <cp:revision>289</cp:revision>
  <dc:subject/>
  <dc:title>幻灯片 1</dc:title>
</cp:coreProperties>
</file>