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F31-CC89-4D1A-BB21-0BE1CC33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CC8-A2F4-4567-AA83-A857D9BB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5B7-1267-4BDD-B9E4-6A943227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E8E-F6BD-4CC7-AD5E-D32E186E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2E2D-DCB9-4239-90D0-68D70B75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1C7B-B738-42F7-A7F1-709E7F02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E2AA-BF05-47F0-B57A-84E0DD86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F3AE-55B6-481F-A56F-07CC34A2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4716-8D76-4A90-8E27-38192F17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3E15-00B2-443A-9B43-17C7BD84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3E38-B7C8-4967-82F0-F6DA1D9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36B-19CF-45CE-8BBB-77A0727D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5132-B570-4C67-9940-BD67953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D857-7F2F-406F-8038-5C8E7D22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6FC8-52FF-428E-96A7-362CE85F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82B-E68C-4479-8A33-6333A13C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AF78-5A2C-49F2-A7BE-49244E8C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40F-AE7A-4713-BCA8-BFD1C420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50A-886A-4106-8BA2-905AB803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90A-9D5B-48E6-9D88-97BD662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069-BEBE-4488-8900-DAD0BD0F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2B2-5E7D-4520-9714-644C0E0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2E1-2A3B-4F03-9344-F7F46BE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01C-08CD-49B3-99EC-E384E0A6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8505-961C-4F71-93F1-F458442FC308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15EB-D7AB-4E56-B969-F880D2B3EBF1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YELLOW SPACE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7920" y="2666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5:54:50Z</dcterms:created>
  <dc:creator/>
  <dc:description/>
  <cp:keywords/>
  <dc:language>en-US</dc:language>
  <cp:lastModifiedBy>GZB</cp:lastModifiedBy>
  <dcterms:modified xsi:type="dcterms:W3CDTF">2011-09-13T11:32:55Z</dcterms:modified>
  <cp:revision>82</cp:revision>
  <dc:subject/>
  <dc:title>www.glzy8.com提供海量PPT模板免费下载！</dc:title>
</cp:coreProperties>
</file>