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318-03C4-429F-8F73-13E7B370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7EF-1F4F-4386-AFF9-FC5EE8AA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7FD-59A5-4217-A647-A6DA04D5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FB5-A3DB-4263-A070-ED5F6AD5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4BB-9FDC-4067-BE5A-CAD0F9A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1B9-755E-4F05-ABF7-2836AA0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5C6-3184-4658-A0E2-0ED6FC8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94E-47E1-4909-87C5-AF3B137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92C-D690-4BEC-AD9B-F04F3A6A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293-AA86-46DF-A8F0-CB40113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976-4462-449C-B430-2D3E8CB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7AD-537A-4A2E-9C23-FA159BA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300-78EA-4539-A00A-3DA440836E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37E-3965-46A5-B930-C3DC8C44E0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1214280" y="4429080"/>
            <a:ext cx="67899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占位符 11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5"/>
          <p:cNvSpPr/>
          <p:nvPr/>
        </p:nvSpPr>
        <p:spPr>
          <a:xfrm>
            <a:off x="13536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6"/>
          <p:cNvSpPr/>
          <p:nvPr/>
        </p:nvSpPr>
        <p:spPr>
          <a:xfrm>
            <a:off x="463572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2560" y="499680"/>
            <a:ext cx="4357800" cy="442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42920" y="499680"/>
            <a:ext cx="4357800" cy="44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61F-6D3E-4F6E-8A33-C05733AEC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占位符 16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6"/>
          <p:cNvSpPr/>
          <p:nvPr/>
        </p:nvSpPr>
        <p:spPr>
          <a:xfrm>
            <a:off x="142920" y="0"/>
            <a:ext cx="3000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Way to Show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V through DVD .PlayerShare PowerPoint in Popular Video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PowerPoint online in Flash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8640" y="214200"/>
            <a:ext cx="2714760" cy="250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14680" y="214200"/>
            <a:ext cx="2714760" cy="250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14680" y="278568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428640" y="2785680"/>
            <a:ext cx="2714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4"/>
          <p:cNvSpPr/>
          <p:nvPr/>
        </p:nvSpPr>
        <p:spPr>
          <a:xfrm>
            <a:off x="25776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9"/>
          <p:cNvSpPr/>
          <p:nvPr/>
        </p:nvSpPr>
        <p:spPr>
          <a:xfrm>
            <a:off x="375804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42840" y="357120"/>
            <a:ext cx="3429000" cy="585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2560" y="357120"/>
            <a:ext cx="3429000" cy="585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C01-C534-47AE-A3E0-F3C301B3F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0"/>
          <p:cNvSpPr/>
          <p:nvPr/>
        </p:nvSpPr>
        <p:spPr>
          <a:xfrm>
            <a:off x="500040" y="4214880"/>
            <a:ext cx="5643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lay Power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on TV through DVD .Player Share PowerPoint in Popular Video Form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pload PowerPoint online in Flash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2960" y="356760"/>
            <a:ext cx="392904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2920" y="356760"/>
            <a:ext cx="392940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42960" y="2214360"/>
            <a:ext cx="3929040" cy="178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42920" y="2214360"/>
            <a:ext cx="3929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3"/>
          <p:cNvSpPr/>
          <p:nvPr/>
        </p:nvSpPr>
        <p:spPr>
          <a:xfrm>
            <a:off x="1925280" y="4071960"/>
            <a:ext cx="526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2:54:00Z</dcterms:created>
  <dc:creator>YlmF</dc:creator>
  <dc:description/>
  <dc:language>en-US</dc:language>
  <cp:lastModifiedBy>Your User Name</cp:lastModifiedBy>
  <dcterms:modified xsi:type="dcterms:W3CDTF">2015-08-17T03:36:1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