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F95-344B-41F2-88BB-C3A13115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139-F6FC-4D9D-97AD-6409ACA9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AA1-2CA6-4B23-AD1A-95981ED2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BE4-6297-48CA-B7A6-3080D79B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7A4-3208-4837-8D94-B45182AB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D45-72C3-4550-8A28-CFC0B2E1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BF3-8B44-4E51-A7A9-6E1D040D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71D-3099-47BB-A0EF-27ED18D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573-9C3E-4FE8-9927-ED9DAD8E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C49-1D56-4EAC-BAAE-140C1E7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6E0-E877-4ACE-9AFD-E5B80EFF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28E-ADD6-4522-ABF8-F4ED8A0F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CC9D-0CCC-483E-86F8-F89674E767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7BCA-16E2-4994-BB03-25F18D40DF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9600" y="304920"/>
            <a:ext cx="26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要上学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03480" y="1197000"/>
            <a:ext cx="142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《小学生活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82200" y="2813040"/>
            <a:ext cx="18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陈绍彤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6280" y="342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堂个人呈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477720"/>
            <a:ext cx="82360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406440"/>
            <a:ext cx="77770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541440" y="404640"/>
            <a:ext cx="8189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262080"/>
            <a:ext cx="7993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611280" y="262080"/>
            <a:ext cx="806436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99488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80661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78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9930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卫的老师总是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以大叫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以推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以在走廊上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以迟到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-19080"/>
            <a:ext cx="734544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8984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447372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516720" y="3000240"/>
            <a:ext cx="2735280" cy="362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-30240" y="2781360"/>
            <a:ext cx="2803680" cy="3711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260280"/>
            <a:ext cx="226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画一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54440" y="1341360"/>
            <a:ext cx="120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《我去上小学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044720" y="192240"/>
            <a:ext cx="6769080" cy="6118200"/>
            <a:chOff x="1044720" y="192240"/>
            <a:chExt cx="6769080" cy="61182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044720" y="276120"/>
              <a:ext cx="6769080" cy="60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 rot="20580000">
              <a:off x="1298520" y="535680"/>
              <a:ext cx="2662920" cy="210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276120"/>
            <a:ext cx="857268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6720" y="333360"/>
            <a:ext cx="8280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378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190440"/>
            <a:ext cx="8353440" cy="6334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89280" y="1486080"/>
            <a:ext cx="19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+2=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54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263520"/>
            <a:ext cx="825804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user</dc:creator>
  <dc:description/>
  <dc:language>en-US</dc:language>
  <cp:lastModifiedBy>bianxiaoxiang</cp:lastModifiedBy>
  <dcterms:modified xsi:type="dcterms:W3CDTF">2013-08-05T06:02:5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