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BD5-A20B-4777-B735-0A700124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111-AAD6-47C5-A92D-CD2702C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2C940-206B-4775-86DE-BAC8DA5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0D8A-0911-420C-A626-25CC106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43AEC-CA40-46FA-A3C6-C5926EEA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ABB42-E131-4830-AFD6-C7F2D94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16873-98FD-413F-8EAA-D3B1154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FD7B2-974C-462D-A7CD-D19D16B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BE24C-26D1-486A-B2B4-3796BF6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449BF-B217-455D-A173-F011A8BD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FE774-E44B-4D86-A1AF-1D014C57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F9E88-507A-439D-88F7-D95720B1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CC6-1C7A-4D06-B042-BE16A926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D2501-7BCB-4633-9D95-3E89468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942E7-5F96-4785-8851-D4A64BD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42959-5775-4335-8399-7DCC9E99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A270E-5C31-4ACE-A7CE-C0DC439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6C4E4-8F1C-4E52-A877-A198F432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E32C0-590E-4B5D-981E-6C612F6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230A0-2DF0-47B4-B278-9F85293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B831B-DA1D-47DE-B81C-5E9BD0F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1099D-D5F4-49A3-BA03-9D46EC61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1113E-BF9B-4CDF-A115-3E9B19E8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7F0-3190-46DE-A9EC-53BEE6DE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795B5-7516-4DE9-98AF-371B838D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C3EE9-8139-4B75-9C4B-1DF886E1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EFE8C-CE1F-40EC-AC43-ABB366AE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C9917-2478-40E6-BB07-8E49782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EBF0A-2571-44C4-A854-5A74D8A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AAF6B-4C71-4C9F-AE35-421746A8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80411-6217-4DE2-9AA8-9E2D04DF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E38EF-8DFA-4B0C-9BEE-8338C9C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93FE4-7A91-4330-BD22-B08EA183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DB83D-EFB8-4C31-8559-D0814C6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4F1-DEEA-45B0-9F94-1B7DBAB8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FE3B-C25F-4F27-943A-7C9B394E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D221D-7714-403F-A191-C063E48C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9F7EB-68DE-4434-9FB2-86D2B560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722F9-389B-4FDB-B1DD-0C8C398F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EE9CE-634A-4A83-92FE-C196E160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A9DE2-01F0-4DE3-8D62-86B32C5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05CB9-4536-4675-8F6E-112224AA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2C531-AF00-4C6E-9FB2-798F4848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7429C-BEE0-4D20-B4B9-87B2B49D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E209C-41A9-4916-BD21-A183316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08F3-7C34-4B9A-AC50-18A8A67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DBDD4-2A7E-45BF-8850-00651A4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FA9E6-3D60-4001-9697-509D9DBE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1F16B-2451-46FE-AC6B-91B0E3B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33B0F-9BA8-49BE-8F48-419363CE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55C2F-AC23-45D3-B746-06D4CF17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F81B-7602-49F6-AB1D-D1DDD052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E089-2208-42D2-981B-127CB5B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2D9E-A700-40EA-8B30-6615565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DF3-DB26-4C78-BD97-C515731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6103-00DD-4142-B5F6-DCF8651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FC4-3A60-4023-8975-EF0A870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A7E-0104-45AB-9C61-3D32825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A434-74F3-43D0-97E5-04843B7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48B3-D685-491B-A202-15A78E97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749A-B9DD-4507-8440-E6EF843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38AA-E8B4-45E6-911F-AE32AFA2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E72D-35B2-431D-A385-E1760E28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B84E-EDFF-4A30-A971-273C46E4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18D9-7B9B-4879-949C-1E9E226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65CE-09F4-4499-AE4F-6C6E1C72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A892-499F-4E5B-ABBB-D97DE62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C78-2903-4D0A-82EA-83E17751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050F-073A-47D0-8D41-11383668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F84A-7890-4C4C-AE19-83768CA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6109-5A9E-4F9D-8ED5-38B45E1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6115-F819-4E11-9CE4-1B50C27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F9BF-C43A-41E8-9085-351F22F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2FA7-D40E-4D42-A454-0C64FB0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FF78-0724-44C0-84C4-6715BB48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0B60-45C9-4701-912C-2170CE69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7204-8719-4510-8DB4-937518D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64C7-B018-4EAB-B24D-48894E54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6FF-07D1-4204-8072-6703EC3E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C9D51-6D14-4177-8B27-D19D39B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57738-5275-44AC-BD17-E2C1D9F6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6C8B-5683-4EA3-9834-3CB22CBB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B659-B4CF-4D72-9198-A95EA06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29C3-B5C9-4D72-927F-408466F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E799-A159-41EE-9E6E-8A67B205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169D4-B54A-4068-A98D-A8723BD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FA28-5A19-4A6B-8CE8-CA4CE92A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B66C-E66B-45D9-B542-78E24730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0B8F3-4790-4E85-BF10-E8B2EEBB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764-4623-4633-974C-280BCFC3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101EE-7660-482C-B08E-CCC066C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ACC7E-EA4F-4528-8594-FE00C54C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2BE9-BC16-48FA-BD4E-0156942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5931-07F9-41C7-AAEB-B7FE4171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2504C-D479-431E-A668-85B1984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5FD4-E18F-4117-9006-F1A8E98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24BD-9B79-4959-A4E7-F88755C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2D15-072B-4D15-BE2A-BAD2CC5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0594-E3E3-4DB7-919E-B0A0B726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F08F8-27CD-429C-AD63-5DB249BF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26A-37F6-4D72-A322-EDC732BB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E22B-6856-4520-B136-A98F6FF9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C3D8-B234-42E6-B224-09A45CCA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8C42-5D6C-447F-BE1D-5846476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51A2-064E-4F95-B2F7-005ACBF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6611-FED8-42AE-A0D6-496F611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C3D0-93B7-4657-89D1-FF9FD635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9C9D-68D5-46A4-B9C1-8235F5E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DAEDC-5A4E-42CC-B910-CF8C280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2986-7A29-49D4-9422-A57AFCE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E17D-5DB8-420B-82F9-DD0859E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A17-AD34-4B3C-9E23-294D4A6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C49B-C1EC-461B-922E-898883F7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1A2E6-192D-4540-9AA7-5F1D87A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B5CEB-D9DB-4729-BCAB-95AC8455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EB9FF-7BC0-43E6-8DD9-DC84FFA5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DF2A-1784-4B76-9364-92AD01C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DA908-FF35-4D1A-A008-0E04A25D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6D228-057D-4978-9E15-B7018391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DCD5C-9E5E-463E-955B-15784F6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502B-68FC-4645-9362-758BAE92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5FFFD-C031-4C11-BC2F-0EAE3FE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B0F-520A-4760-A966-84A50094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0DCC-700E-4934-BC3F-8ADA76A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864C-D5A6-4761-919B-F275E30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8767-5F91-4DCD-9BB8-125F4EFB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D0E0-DC9D-4FA0-AFD0-22477513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A25CE-01DC-4306-9E35-4BAA2DA9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AF3ED-DF67-4272-9618-6496FF17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A06AC-CDC3-4FB3-B954-743AC80F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DA26-78A3-415A-B691-11AF15AE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1ECC-A811-4637-BBFE-B947429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830A-F8F2-442B-A92A-39827A23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088-D21F-41C7-BB92-F3272DAC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7EE6-0C32-4789-A652-3D512C4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91B5-D522-4992-93F3-299BEB5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A3A10-EC86-4AF7-9D33-F518F4A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7F48-9441-47BF-935D-34E09EC7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241BF-00CF-418B-934C-A85AFEC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45B70-5CFF-4B7E-9C7A-D697DEC8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0AC3-EB01-43C7-A348-BAEBE561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AD51-7B1C-4BAE-A963-91A50D47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43350-A601-432B-9FD4-44F0DA1C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0D71C-3A85-4E79-BBB6-A36F7047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B9CB-DDD3-4C2F-9226-81373074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560-7616-4B89-B814-26D608C537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C273-A9BB-494E-B1BD-4164726DDE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0AC9-0FB4-45B0-94BA-BB635C5D77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3B5-90A3-4AD9-BA5A-702E839683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7676-3781-4FEE-911F-457AD1FD05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E1EE-AD58-436B-AD2F-8EEF51DB82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8665-4793-49E9-98FA-C6C9FC60B9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380F-B1C4-4479-B5DA-D273EA6810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4004-D997-47D8-8C87-0ABB5E627E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6D8-5163-4974-82A0-8C7E8C94BC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92F6-4C91-4CF2-890D-9506029CA5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长大做个好爷爷001"/>
          <p:cNvPicPr/>
          <p:nvPr/>
        </p:nvPicPr>
        <p:blipFill>
          <a:blip r:embed="rId1"/>
          <a:srcRect l="1311" t="0" r="1090" b="2756"/>
          <a:stretch/>
        </p:blipFill>
        <p:spPr>
          <a:xfrm>
            <a:off x="1973160" y="38160"/>
            <a:ext cx="511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长大做个好爷爷018"/>
          <p:cNvPicPr/>
          <p:nvPr/>
        </p:nvPicPr>
        <p:blipFill>
          <a:blip r:embed="rId1"/>
          <a:srcRect l="1907" t="3561" r="2048" b="2961"/>
          <a:stretch/>
        </p:blipFill>
        <p:spPr>
          <a:xfrm>
            <a:off x="1908000" y="0"/>
            <a:ext cx="52326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5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2225520" y="529560"/>
            <a:ext cx="461016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可是有一个星期五，小小熊来看望爷爷时，爷爷说：“对不起，小小熊，今天我不能出去了。”爷爷坐在沙发里，抱着坐在沙发扶手上的小小熊，讲起他小时候的故事</a:t>
            </a:r>
            <a:r>
              <a:rPr b="1" lang="en-US" sz="19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那时候，爷爷也是一只小小熊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7"/>
          <p:cNvSpPr/>
          <p:nvPr/>
        </p:nvSpPr>
        <p:spPr>
          <a:xfrm>
            <a:off x="2700360" y="3284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长大做个好爷爷019"/>
          <p:cNvPicPr/>
          <p:nvPr/>
        </p:nvPicPr>
        <p:blipFill>
          <a:blip r:embed="rId16"/>
          <a:srcRect l="3209" t="4297" r="2363" b="7754"/>
          <a:stretch/>
        </p:blipFill>
        <p:spPr>
          <a:xfrm>
            <a:off x="1979640" y="0"/>
            <a:ext cx="54673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959120" y="6025320"/>
            <a:ext cx="54720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接下来的那个星期五，小熊没有去爷爷家，而是和妈妈一起去了医院。在医院里，小小熊看到爷爷躺在床上。小小熊说：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爷爷，你可真懒呀。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爷爷说：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是啊，我一整天都没起床啦。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rcRect l="1428" t="0" r="2246" b="3696"/>
          <a:stretch/>
        </p:blipFill>
        <p:spPr>
          <a:xfrm>
            <a:off x="324000" y="403200"/>
            <a:ext cx="8569080" cy="58341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4767120" y="1465200"/>
            <a:ext cx="412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去找医生谈事情，小小熊就爬到爷爷的床上，拉着爷爷的手，请爷爷给他讲故事。爷爷说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不起呀，小小熊，我太累了，要不，换你给我讲一个吧？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于是小熊就给爷爷讲故事，他讲有一个小小熊每个星期五都会去看望爷爷，讲他们一起爬上花园里的树屋上，讲他们在树屋上看到的一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rcRect l="1428" t="0" r="2246" b="2514"/>
          <a:stretch/>
        </p:blipFill>
        <p:spPr>
          <a:xfrm>
            <a:off x="250920" y="403200"/>
            <a:ext cx="8569080" cy="59054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344520" y="9435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故事讲完了，小小熊问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爷爷，你喜欢这个故事吗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是爷爷没有回答。妈妈进来了，她叫来护士，护士又叫来了医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长大做个好爷爷024"/>
          <p:cNvPicPr/>
          <p:nvPr/>
        </p:nvPicPr>
        <p:blipFill>
          <a:blip r:embed="rId1"/>
          <a:srcRect l="4797" t="2829" r="3951" b="4925"/>
          <a:stretch/>
        </p:blipFill>
        <p:spPr>
          <a:xfrm>
            <a:off x="1979640" y="0"/>
            <a:ext cx="503712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2154240" y="327240"/>
            <a:ext cx="46083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告诉小熊，爷爷睡着了，睡得很沉很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熊问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爷爷什么时候醒来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张开双臂，紧紧地搂着小熊，说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不会醒过来了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长大做个好爷爷025"/>
          <p:cNvPicPr/>
          <p:nvPr/>
        </p:nvPicPr>
        <p:blipFill>
          <a:blip r:embed="rId1"/>
          <a:srcRect l="3209" t="3118" r="3989" b="13015"/>
          <a:stretch/>
        </p:blipFill>
        <p:spPr>
          <a:xfrm>
            <a:off x="2062080" y="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6"/>
          <p:cNvSpPr/>
          <p:nvPr/>
        </p:nvSpPr>
        <p:spPr>
          <a:xfrm>
            <a:off x="4377960" y="6337800"/>
            <a:ext cx="8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小熊和妈妈一起回到爷爷住的房子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rcRect l="1219" t="11985" r="2044" b="2593"/>
          <a:stretch/>
        </p:blipFill>
        <p:spPr>
          <a:xfrm>
            <a:off x="185760" y="1414440"/>
            <a:ext cx="8810640" cy="518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652320" y="541080"/>
            <a:ext cx="792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他们顺着梯子，爬上那个摇摇晃晃的树屋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他们坐在一起互相拥抱着，看着远处那些熟悉的景物，静静地哭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643280" y="5911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"/>
          <p:cNvPicPr/>
          <p:nvPr/>
        </p:nvPicPr>
        <p:blipFill>
          <a:blip r:embed="rId1"/>
          <a:srcRect l="1219" t="1586" r="1219" b="2883"/>
          <a:stretch/>
        </p:blipFill>
        <p:spPr>
          <a:xfrm>
            <a:off x="250920" y="476280"/>
            <a:ext cx="8642160" cy="58323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324000" y="722520"/>
            <a:ext cx="3240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小熊抽泣着说：“等我当了爷爷，我一定要做个好爷爷，就像爷爷那么好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5518080" y="78732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会的，小小熊。”妈妈说，“你一定会的。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6" descr=""/>
          <p:cNvPicPr/>
          <p:nvPr/>
        </p:nvPicPr>
        <p:blipFill>
          <a:blip r:embed="rId1"/>
          <a:srcRect l="1008" t="0" r="1837" b="2514"/>
          <a:stretch/>
        </p:blipFill>
        <p:spPr>
          <a:xfrm>
            <a:off x="324000" y="403200"/>
            <a:ext cx="856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3"/>
          <p:cNvSpPr/>
          <p:nvPr/>
        </p:nvSpPr>
        <p:spPr>
          <a:xfrm>
            <a:off x="1116000" y="132084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、你和你的爷爷共同度过哪些快乐时光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116000" y="3284640"/>
            <a:ext cx="734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800" spc="-1" strike="noStrike">
                <a:solidFill>
                  <a:srgbClr val="ffffff"/>
                </a:solidFill>
                <a:latin typeface="Arial"/>
              </a:rPr>
              <a:t>、你长大准备怎样做个好爸爸或好妈妈，好叔叔或好阿姨，好爷爷或好奶奶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800" spc="-1" strike="noStrike">
                <a:solidFill>
                  <a:srgbClr val="ffffff"/>
                </a:solidFill>
                <a:latin typeface="Arial"/>
              </a:rPr>
              <a:t>呢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"/>
          <p:cNvPicPr/>
          <p:nvPr/>
        </p:nvPicPr>
        <p:blipFill>
          <a:blip r:embed="rId1"/>
          <a:srcRect l="1581" t="1437" r="2400" b="20418"/>
          <a:stretch/>
        </p:blipFill>
        <p:spPr>
          <a:xfrm>
            <a:off x="285840" y="16200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8"/>
          <p:cNvSpPr/>
          <p:nvPr/>
        </p:nvSpPr>
        <p:spPr>
          <a:xfrm>
            <a:off x="395280" y="554688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200" spc="-1" strike="noStrike">
                <a:solidFill>
                  <a:srgbClr val="ffffff"/>
                </a:solidFill>
                <a:latin typeface="宋体"/>
              </a:rPr>
              <a:t>每个星期五，小小熊都会去看爷爷。爷爷总是问：“我最可爱的小小熊，你好吗？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4643280" y="5383080"/>
            <a:ext cx="424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很好。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小小熊说。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那我最可爱的爷爷，你好吗？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4697280" y="5978520"/>
            <a:ext cx="4175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很好啊，就像一个好爷爷那么好。我老喽，这样子已经好得不能再好了。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爷爷回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"/>
          <p:cNvPicPr/>
          <p:nvPr/>
        </p:nvPicPr>
        <p:blipFill>
          <a:blip r:embed="rId1"/>
          <a:srcRect l="1581" t="0" r="2400" b="2514"/>
          <a:stretch/>
        </p:blipFill>
        <p:spPr>
          <a:xfrm>
            <a:off x="250920" y="40320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7"/>
          <p:cNvSpPr/>
          <p:nvPr/>
        </p:nvSpPr>
        <p:spPr>
          <a:xfrm>
            <a:off x="468360" y="487440"/>
            <a:ext cx="3887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每个星期五，他们都会一起喝茶，吃点心。小小熊喜欢透过窗户看爷爷的花园。花园里，有一棵很大很老的树，树上搭着一个摇摇晃晃的平台，爷爷管它叫“树屋”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4944960" y="501480"/>
            <a:ext cx="37926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爷爷在树干 旁架了一个梯子，这样，他和小小熊就能顺着梯子爬到树屋上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"/>
          <p:cNvPicPr/>
          <p:nvPr/>
        </p:nvPicPr>
        <p:blipFill>
          <a:blip r:embed="rId1"/>
          <a:srcRect l="1581" t="0" r="1581" b="2514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5075280" y="836640"/>
            <a:ext cx="388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395280" y="333360"/>
            <a:ext cx="396072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吃过茶点，爷爷和小小熊总会爬上树屋，并排坐下，看外面的世界。爷爷说：“小小熊，生命就像一件珍贵的礼物，千万不要浪费哟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小熊回答：“爷爷，我会努力的。我会尽力做到最好。”爷爷说：“对，我一定要努力做到最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2"/>
          <p:cNvSpPr/>
          <p:nvPr/>
        </p:nvSpPr>
        <p:spPr>
          <a:xfrm>
            <a:off x="2627280" y="3357720"/>
            <a:ext cx="1873440" cy="196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树屋上放眼望去，他们可以看到爷爷的花园，那里满眼都是绿色，树木长得很茂盛，爷爷管那儿叫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丛林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"/>
          <p:cNvPicPr/>
          <p:nvPr/>
        </p:nvPicPr>
        <p:blipFill>
          <a:blip r:embed="rId1"/>
          <a:srcRect l="1219" t="1206" r="410" b="2514"/>
          <a:stretch/>
        </p:blipFill>
        <p:spPr>
          <a:xfrm>
            <a:off x="255600" y="404640"/>
            <a:ext cx="8713800" cy="597708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4788000" y="1989000"/>
            <a:ext cx="388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5075280" y="836640"/>
            <a:ext cx="388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368280" y="867960"/>
            <a:ext cx="4032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们可以看到一座长满草的小山，山上有三块灰色的大石头。爷爷管它叫“三熊山”。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4788000" y="116892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们可以看到一条弯弯曲曲的小河，哗啦啦地流过山谷，河水还会随着天气的变化改变颜色。太阳落山时，河水看起来是金色的，爷爷管它叫“金发姑娘的河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长大做个好爷爷014"/>
          <p:cNvPicPr/>
          <p:nvPr/>
        </p:nvPicPr>
        <p:blipFill>
          <a:blip r:embed="rId1"/>
          <a:srcRect l="1626" t="3118" r="3951" b="4193"/>
          <a:stretch/>
        </p:blipFill>
        <p:spPr>
          <a:xfrm>
            <a:off x="1981080" y="0"/>
            <a:ext cx="518652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5075280" y="836640"/>
            <a:ext cx="388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2298600" y="5508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们还可以看到一座老工厂的烟囱。爷爷年轻时在那家工厂工作过，他管它叫“越来越老的工厂”。 但现在，那座工厂的烟囱已经不再冒烟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长大做个好爷爷015"/>
          <p:cNvPicPr/>
          <p:nvPr/>
        </p:nvPicPr>
        <p:blipFill>
          <a:blip r:embed="rId1"/>
          <a:srcRect l="6389" t="2382" r="5577" b="68414"/>
          <a:stretch/>
        </p:blipFill>
        <p:spPr>
          <a:xfrm>
            <a:off x="1692360" y="0"/>
            <a:ext cx="5759280" cy="2133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长大做个好爷爷015"/>
          <p:cNvPicPr/>
          <p:nvPr/>
        </p:nvPicPr>
        <p:blipFill>
          <a:blip r:embed="rId2"/>
          <a:srcRect l="6389" t="58187" r="5577" b="3746"/>
          <a:stretch/>
        </p:blipFill>
        <p:spPr>
          <a:xfrm>
            <a:off x="1692360" y="4149720"/>
            <a:ext cx="5759280" cy="2781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长大做个好爷爷015"/>
          <p:cNvPicPr/>
          <p:nvPr/>
        </p:nvPicPr>
        <p:blipFill>
          <a:blip r:embed="rId3"/>
          <a:srcRect l="6389" t="31568" r="5577" b="41817"/>
          <a:stretch/>
        </p:blipFill>
        <p:spPr>
          <a:xfrm>
            <a:off x="1692360" y="2143080"/>
            <a:ext cx="5759280" cy="20066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1835280" y="397080"/>
            <a:ext cx="230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爷爷和小小熊经常会爬到树屋上去，不管是阳光灿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4643280" y="292356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风儿呼呼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1812960" y="5201280"/>
            <a:ext cx="23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还是雨点滴答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当然，雨不能稀里哗啦下得太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长大做个好爷爷016"/>
          <p:cNvPicPr/>
          <p:nvPr/>
        </p:nvPicPr>
        <p:blipFill>
          <a:blip r:embed="rId1"/>
          <a:srcRect l="1588" t="1179" r="2401" b="2567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046400" y="18784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甚至白雪覆盖大地时，他们也会去树屋。带上硬纸板，铺在雪上，就可以坐了，当然不能坐得太久了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长大做个好爷爷017"/>
          <p:cNvPicPr/>
          <p:nvPr/>
        </p:nvPicPr>
        <p:blipFill>
          <a:blip r:embed="rId1"/>
          <a:srcRect l="1588" t="4297" r="3989" b="3014"/>
          <a:stretch/>
        </p:blipFill>
        <p:spPr>
          <a:xfrm>
            <a:off x="1835280" y="0"/>
            <a:ext cx="518616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4859280" y="620640"/>
            <a:ext cx="388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1835280" y="246960"/>
            <a:ext cx="518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每个星期五，当他们两个舒舒服服地坐在树屋上时，小小熊就会说：“爷爷，给我讲个故事吧。”爷爷就会讲起他年轻时的往事，小小熊静静地听着，觉得特别幸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3:49:24Z</dcterms:created>
  <dc:creator>新教育</dc:creator>
  <dc:description/>
  <dc:language>en-US</dc:language>
  <cp:lastModifiedBy>lenovo</cp:lastModifiedBy>
  <dcterms:modified xsi:type="dcterms:W3CDTF">2015-08-08T02:02:01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