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9AD0-4D40-48C3-94A9-6E983FDC97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9F7B-87EF-492F-94BE-D42EA0FFC9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F8C4-1E2A-426A-A37A-078716AD5E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DBF-0E63-463A-91AD-24AFEF17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5D1-FAF2-4D74-8410-30303238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635-EEF1-4CCD-8903-BB309626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13D-98AA-46B8-8C52-D1072F5C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986-349C-4128-B395-78123B99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53D-9670-453C-B2C6-6B6F2493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2E5-77DE-445F-B1FD-D6F466F0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ED2-FCB2-4D8E-A08A-D24830BE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B87-CE8F-4862-BD60-2A44B171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B64-BE63-4B3F-B295-BBD2F73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A80-1FC8-40B6-91BD-02B311F4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E29-FAB9-4B9C-B6B5-3986B76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BA07-9E6E-4726-AF48-5558594629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baike.baidu.com/view/6543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baike.baidu.com/view/58852.htm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baike.baidu.com/view/58537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baike.baidu.com/view/55846.ht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6280" y="2249640"/>
            <a:ext cx="69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、思考、表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绘本教学三要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88640"/>
            <a:ext cx="8229600" cy="59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修竹压檐桑四围，小斋幽敞明朱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　　昼长吟罢蝉鸣树，夜深烬落萤入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　　北窗高卧羲皇侣，只因素谂读书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　　读书之乐乐无穷，瑶琴一曲来薰风。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昨夜前庭叶有声，篱豆花开蟋蟀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　　不觉商意满林薄，萧然万籁涵虚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　　近床赖有短檠在，对此读书功更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　　读书之乐乐陶陶，起弄明月霜天高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落水尽千岩枯，迥然吾亦见真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坐对韦编灯动壁，高歌夜半雪压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地炉茶鼎烹活火，四壁图书中有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读书之乐何处寻？数点梅花天地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46480" y="841320"/>
            <a:ext cx="47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绘本？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绘本，英文为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ture book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」，在日本译为「绘本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译为图画书，顾名思义是一种以图画为主，文字为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甚至是完全没有文字，全是图画的书籍。这一类书籍特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强调视觉传达的效果，所以版面大而精美，不仅具有辅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传达的功能，更能增强主题内容的表现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08720" y="3975120"/>
            <a:ext cx="3635280" cy="288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914400"/>
            <a:ext cx="84009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绘本的特质</a:t>
            </a:r>
            <a:br>
              <a:rPr sz="24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本是一种视觉化效果的文字作品类型。可以用一个词语概括——赏心悦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悦目”是因为绘本表现形式使人眼前一亮，难以忘怀。“赏心”是指图文互为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充，互相交融，体现了一种既高深又轻浅的儿童哲学，衍生出精神上的享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此阅读时只有通过调动人最原始的感觉系统：眼看、耳闻、感同身受，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给人更为深刻的震撼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由于绘本是图画的艺术，也是文字的艺术；是视觉的艺术，也是听觉的艺术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讲究趣味性，也具有教育性；还具有思想的传递性。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空旷的猫"/>
          <p:cNvPicPr/>
          <p:nvPr/>
        </p:nvPicPr>
        <p:blipFill>
          <a:blip r:embed="rId1"/>
          <a:stretch/>
        </p:blipFill>
        <p:spPr>
          <a:xfrm>
            <a:off x="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143000" y="53352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066680"/>
            <a:ext cx="8991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绘本的特质决定其教学，不仅仅让儿童学会阅读，更让儿童学会观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像、推理；不仅仅体现语言的价值，更是美术的欣赏；不仅仅是对画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认知，更是引发儿童情感的共鸣、呼应，激发内心真实的情感体验，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儿童凭借各自对绘本的理解，对事物的认识以及生活体验和想像，做出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种猜想推测。在这里，孩子的推理也许与故事不谋而合，也许相差悬殊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但结果并不重要，重要的是要学会如何去发现，去思考，去表达。更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孩子在同一绘本中，根据自身的体验解读出不同的图意，使孩子充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受阅读的乐趣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如何指导孩子进行绘本阅读呢？本人根据绘本的特质可归纳成六个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现、思考、表达。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a0bdc23ba1c4453ac34ded1"/>
          <p:cNvPicPr/>
          <p:nvPr/>
        </p:nvPicPr>
        <p:blipFill>
          <a:blip r:embed="rId2"/>
          <a:stretch/>
        </p:blipFill>
        <p:spPr>
          <a:xfrm>
            <a:off x="304920" y="685800"/>
            <a:ext cx="8424720" cy="525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47840" y="2286000"/>
            <a:ext cx="869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85800" y="3048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14400" y="1752480"/>
            <a:ext cx="6983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现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由于绘本的特殊性，所以每一个绘本，从头到尾都隐藏着“神秘”。无论是扉页、封面还是环衬，都为我们的孩子献上了精美的“食品”。这就需要拥有一双会发现的眼睛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现封面（包括腰封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现环衬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现会讲故事的扉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现正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现并未结束的封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971774db2b0db771d1164e80"/>
          <p:cNvPicPr/>
          <p:nvPr/>
        </p:nvPicPr>
        <p:blipFill>
          <a:blip r:embed="rId2"/>
          <a:stretch/>
        </p:blipFill>
        <p:spPr>
          <a:xfrm>
            <a:off x="304920" y="533520"/>
            <a:ext cx="8424720" cy="5779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295280"/>
            <a:ext cx="3878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１）．对图画语言的思考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２）．对文字语言的思考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３）．对图文结合碰撞产生的新语言的思考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达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１）．语言表达。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讲故事，演故事，画故事，续编故事。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２）．文字表达。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改写故事结局或改编故事情节，在扉页处写前言，写信给书中人或作者，谈谈阅读的心得经验等。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３）．图画表达。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学画书中图画，布置学生完成绘画日记或伙伴合作制作绘本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时读书乐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4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6400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春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光拂槛水绕廊，舞雩归咏春风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好鸟枝头亦朋友，落花水面皆文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蹉跎莫遣韶光老，人生唯有读书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读书之乐乐何如？绿满窗前草不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4:16:59Z</dcterms:created>
  <dc:creator>dell</dc:creator>
  <dc:description/>
  <dc:language>en-US</dc:language>
  <cp:lastModifiedBy>dell</cp:lastModifiedBy>
  <dcterms:modified xsi:type="dcterms:W3CDTF">2011-10-31T07:09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