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C4E-0148-4167-B04D-9B595624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E96-19E6-4D20-A878-3EE9B711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C94-3F8B-411B-A570-01860F4C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832-A37B-4142-BEDE-6719E414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0E5-C23D-4FF1-B211-6196748D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4E8-70B2-47B0-8BA9-7472969C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A05-460E-41ED-A21C-CF70322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623-F445-4856-948A-3AFF69A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581-8A4F-4C70-AD1D-67643B01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3CE-523D-4B7B-9B8A-46A1FE1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1A7-80FE-4B31-8BA0-990A879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4B9-FDDE-4537-AC06-40270BA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E95-A3E9-4F8B-A249-95070B400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3933720"/>
            <a:ext cx="475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绘本情商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925360"/>
            <a:ext cx="410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色课程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6480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适宜人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过于焦虑，亲子关系紧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恐惧心理太重，怕黑怕妖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性格孤僻，不善于与同伴交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不够自信，人际交往中过于胆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过于自我为中心，不懂得关心他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一遇到困难容易放弃，缺乏一定意志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成长的每个阶段，总会遇到这样那样的问题，不是孩子有问题，而是成长必然会出现问题。面对这些成长问题，家长应该如何来面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绘本的情绪疗愈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情绪智力（情商）包括：情绪的评估与表达、情绪的调整与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幼的孩子也会经常遇到一些情绪困扰的问题，由于孩子的沟通能力和自我发泄能力还不完善，有时候即便是哭闹、发脾气依然无法释放负面的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本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ture boo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具有提供生活体验、社会化、缓解情绪等功能。许多研究和相关文献都表明，绘本具有情绪疗愈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的绘本，角色造型有趣，通常能够为孩子提供正面的处理方法和价值观，儿童在阅读过程中往往会认同主角而模仿其态度和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绘本情商课的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绘本情商课，就是以绘本为媒介，教师与孩子一起阅读绘本、让孩子重述故事情节，引导孩子分享自己的体验，邀请孩子对类似事件进行讨论，以引导孩子改变想法，让孩子明白同一事件有多元化的处理方式，通过情景再现、角色扮演、野外拓展等“体验式”教学方式，帮助孩子塑造健康的心态。将抽象的社会规则变成生动形象的生活场景，并学会以较成熟和乐观的观点思考和面对问题，进而养成良好的社会行为习惯，以及宽容处事，进取的健康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绘本情商课的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教育——热爱生命、学会感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发展——建立自信心、培养自主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绪管理——化解不良情绪、保持良好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挫训练——勇敢面对各种挫折，提高处理问题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社会交往——学会与人交往、人际沟通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绘本情商课的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用最安全、最温暖的方式探索自己的情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本故事的内容，常常是现实生活中的人、事、物，与孩子遭遇的情绪困扰问题有关，因而能够使孩子在阅读绘本时重新体验类似的事件，表现出或恐惧、或满足、或焦虑、或害怕、或担心、或羡慕、或生气、或委屈、或沮丧、或无助等各种情绪。由于优秀绘本的情节结构良好，容易激起孩子的情绪反应，使孩子轻松融入故事中与角色互动。在阅读过程中，孩子能够投射个人的情感，认同其中的角色，并藉由绘本中的角色和情绪，引起孩子的情感共鸣，从而有效释放孩子的不良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绘本情商课的操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讲读：教师讲读绘本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重述：请孩子用语言或者绘画的方式，重述故事内容的某一桥段、主角情绪困扰问题、主角的情绪感受、价值观或行为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认：请孩子提出故事内容中，与自己生活经验相似之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探索：请孩子探索自己生活经验中，曾经遭遇的事件与其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论：让孩子由此类推生活中的相关事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评估：请孩子评估，若类似事件再度发生，是否还有其他选择与解决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拟：通过情景再现，模拟类似的事件，让孩子通过角色扮演，释放负面情绪，解决相关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59:02Z</dcterms:created>
  <dc:creator>cuihf</dc:creator>
  <dc:description/>
  <dc:language>en-US</dc:language>
  <cp:lastModifiedBy/>
  <dcterms:modified xsi:type="dcterms:W3CDTF">2015-08-29T03:06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