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E542-8668-455C-8220-2B8E2F96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D8B7-3F53-47BD-BDA1-00CBD476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F0E3-72A6-489E-A384-A0A53BC4A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4AE4-AAC0-4086-B791-FC4AECB3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162D-F55D-4E90-B651-64D9CA82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EAF-D9BC-40D3-93B4-6C42321C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1053-95AB-42B5-8561-355C592B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5E84-745E-4C0B-916A-B5062DEB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FF0-31E0-4C45-A67F-2D9EE30D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E3DB-89E5-40C3-B1AC-5845A987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46CD-58D9-4773-80E6-23A378D1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63AB-53A3-4A74-B29E-00194D9F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b6b3"/>
            </a:gs>
            <a:gs pos="100000">
              <a:srgbClr val="52362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2594-7D78-40CB-B1D6-BA02485EE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b6b3"/>
            </a:gs>
            <a:gs pos="100000">
              <a:srgbClr val="52362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1927440" cy="200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3733920" y="2362320"/>
            <a:ext cx="5949720" cy="182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-1141560" y="3882960"/>
            <a:ext cx="5321520" cy="297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4"/>
          <a:stretch/>
        </p:blipFill>
        <p:spPr>
          <a:xfrm>
            <a:off x="3048120" y="4191120"/>
            <a:ext cx="6711840" cy="187776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304920" y="1447920"/>
            <a:ext cx="541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婚庆模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b6b3"/>
            </a:gs>
            <a:gs pos="100000">
              <a:srgbClr val="52362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700520" cy="4114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"/>
          <p:cNvPicPr/>
          <p:nvPr/>
        </p:nvPicPr>
        <p:blipFill>
          <a:blip r:embed="rId2"/>
          <a:stretch/>
        </p:blipFill>
        <p:spPr>
          <a:xfrm>
            <a:off x="6324480" y="2133720"/>
            <a:ext cx="2176560" cy="25779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8"/>
          <p:cNvSpPr/>
          <p:nvPr/>
        </p:nvSpPr>
        <p:spPr>
          <a:xfrm>
            <a:off x="533520" y="2057400"/>
            <a:ext cx="4572000" cy="4117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Papyrus"/>
              </a:rPr>
              <a:t>我的恋爱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838080" y="762120"/>
            <a:ext cx="3505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恋爱手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b6b3"/>
            </a:gs>
            <a:gs pos="100000">
              <a:srgbClr val="52362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-1293840" y="4648320"/>
            <a:ext cx="6862680" cy="19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3450960" cy="3998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838080" y="1371600"/>
            <a:ext cx="2859120" cy="33955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5029200" y="2362320"/>
            <a:ext cx="3809880" cy="3753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Papyrus"/>
              </a:rPr>
              <a:t>婚姻之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410080" y="685800"/>
            <a:ext cx="329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Pristina"/>
                <a:ea typeface="微软雅黑"/>
              </a:rPr>
              <a:t>婚姻手册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42:38Z</dcterms:created>
  <dc:creator>phtar</dc:creator>
  <dc:description/>
  <dc:language>en-US</dc:language>
  <cp:lastModifiedBy>echo</cp:lastModifiedBy>
  <dcterms:modified xsi:type="dcterms:W3CDTF">2015-08-24T02:39:07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