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8726-0B7A-4224-998A-B0BB58131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53C3-20B9-44C6-8CBF-B7A4AD607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9AAB9-18B3-4C92-9B90-76943FCB3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E68C-98DF-454C-A645-2566E6A5B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AE71-509B-46DE-97AC-62E7B7166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E02B-F655-412E-8442-600DF529B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953B-5F61-427D-82F4-B5C71754A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A550-C277-499D-96D7-0BF747053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3BCC-A1CA-4F06-ABFC-210890A60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2539-5387-410D-A5EF-161D30F6B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0E1A-9E7D-4153-B656-90720A706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56B8-BD67-41BA-85E8-2B03F7FB7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8B053-C6B6-4056-85C7-59ED09460B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99"/>
                </a:solidFill>
                <a:latin typeface="Arial"/>
              </a:rPr>
              <a:t>Bad Hair Day</a:t>
            </a: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title Goes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Arial"/>
              </a:rPr>
              <a:t>Topic Goes Here</a:t>
            </a:r>
            <a:endParaRPr b="0" lang="en-US" sz="4400" spc="-1" strike="noStrike">
              <a:solidFill>
                <a:srgbClr val="6633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topics go 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114800" y="838080"/>
            <a:ext cx="472428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99"/>
                </a:solidFill>
                <a:latin typeface="Arial"/>
              </a:rPr>
              <a:t>Transition P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4267080"/>
            <a:ext cx="601956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title Goes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5T19:56:38Z</dcterms:created>
  <dc:creator>WPS Office</dc:creator>
  <dc:description>WPS Office</dc:description>
  <cp:keywords>WPS Office</cp:keywords>
  <dc:language>en-US</dc:language>
  <cp:lastModifiedBy>Animation Factory</cp:lastModifiedBy>
  <dcterms:modified xsi:type="dcterms:W3CDTF">2015-08-31T07:05:20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