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80C-3331-46E8-9F36-A0725678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5DD-117D-434C-AE90-3444F8F1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0AB-DDBB-453A-9113-4B4630E2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A02-F545-4E65-BBAA-C4EC6F16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111-E94E-49EB-9361-25BC9FFB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800-BA97-4FCF-9686-865C7931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B01-A331-4450-9D04-6CE66B48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E12-2E8C-4AE9-BEA5-F90F012F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6D1-2C5C-487C-B473-599547C4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957-5B77-46CD-9B08-7048A6F0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A79-1530-464E-A142-82428900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490-A950-4CB7-BD20-0659D6B1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DF03-4BDD-4BA5-811E-6E0B15558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-189000" y="-141120"/>
            <a:ext cx="9523440" cy="714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2205000"/>
            <a:ext cx="86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火灾预防与逃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60930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行政服务中心安全保卫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 rot="5400000">
            <a:off x="4276440" y="329256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切勿乱堆放杂物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4879800" cy="5108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 rot="5400000">
            <a:off x="5932080" y="4227480"/>
            <a:ext cx="335268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一畅两会您知道吗？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 rot="5400000">
            <a:off x="4060080" y="336384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旦失火 不要惊慌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4190760" cy="5349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5636520" y="4236840"/>
            <a:ext cx="365760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会灭初期火灾，会逃生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 rot="5400000">
            <a:off x="4204800" y="3579480"/>
            <a:ext cx="49528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迅速报警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4343400" cy="5623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 rot="5400000">
            <a:off x="5776560" y="4384800"/>
            <a:ext cx="380988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</a:t>
            </a: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19</a:t>
            </a: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收费，灭火不收费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 rot="5400000">
            <a:off x="4263480" y="3376440"/>
            <a:ext cx="54100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平时要多学习火灾逃生方法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4286160" cy="5257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66120" y="716040"/>
            <a:ext cx="4586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6379920" y="4502160"/>
            <a:ext cx="335268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宋体"/>
              </a:rPr>
              <a:t>【多掌握几条逃生路线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宋体"/>
              <a:ea typeface="华文宋体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333760" cy="459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5400000">
            <a:off x="4996800" y="3363840"/>
            <a:ext cx="472464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千万不要贪恋财务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5400000">
            <a:off x="6975000" y="4843440"/>
            <a:ext cx="213372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生命诚可贵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4870800" cy="5562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 rot="5400000">
            <a:off x="4746240" y="3902040"/>
            <a:ext cx="46483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当机立断 快速撤离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 rot="5400000">
            <a:off x="6452640" y="5003640"/>
            <a:ext cx="274320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小火灭、大火撤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5328000" cy="5486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 rot="5400000">
            <a:off x="4661640" y="3554280"/>
            <a:ext cx="541044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千万不要乘坐电梯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5400000">
            <a:off x="7117920" y="5275080"/>
            <a:ext cx="213336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千万莫慌张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 rot="5400000">
            <a:off x="4382280" y="34750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湿毛巾捂住口鼻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4286160" cy="5229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5400000">
            <a:off x="6300360" y="4579920"/>
            <a:ext cx="304812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您桌面有防烟面罩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 rot="5400000">
            <a:off x="4679640" y="3537000"/>
            <a:ext cx="4797360" cy="69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采取低姿势或匍匐前进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35280" y="836640"/>
            <a:ext cx="4554360" cy="5638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5400000">
            <a:off x="6221160" y="4443480"/>
            <a:ext cx="335268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按消防疏散指示撤离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040280" cy="5638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5400000">
            <a:off x="4263120" y="3305160"/>
            <a:ext cx="53341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身上着火 不要奔跑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5203080" y="33004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可就地打滚或用衣物压灭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32846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828fa"/>
                </a:solidFill>
                <a:latin typeface="Arial"/>
              </a:rPr>
              <a:t>您关心您自己的安危了吗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4286160" cy="5829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5400000">
            <a:off x="4043160" y="3452760"/>
            <a:ext cx="5715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浸湿的被褥衣物堵住门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 rot="5400000">
            <a:off x="5843160" y="4460760"/>
            <a:ext cx="396216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水是火的克星，学会用水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942840"/>
            <a:ext cx="4286520" cy="5915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5400000">
            <a:off x="4238280" y="369108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在阳台上呼救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4785480" y="4295880"/>
            <a:ext cx="579132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用湿水毛巾和防烟面罩保护好您的口鼻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6781680" cy="480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 rot="5400000">
            <a:off x="5304600" y="3487680"/>
            <a:ext cx="53341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千万不要盲目跳楼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6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 rot="5400000">
            <a:off x="7694280" y="5130720"/>
            <a:ext cx="213372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自救要理性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2915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、火灾发生初起，要立足实际，机智灵活，充分利用建筑内的消防设施将火灾扑灭  （一畅两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7931160" cy="377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逃生通道千万不要堵塞。进入陌生地点观察逃生通道所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一旦发生火灾，首先要镇静，不要惊慌失措，要迅速找到着火的部位，若是初起火灾，要设法扑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要设法自救，以最快的速度离开火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选择好逃生的方向后，千万不要忘记准备一条湿毛巾</a:t>
            </a:r>
            <a:r>
              <a:rPr b="0" lang="zh-CN" sz="3200" spc="-1" strike="noStrike">
                <a:solidFill>
                  <a:srgbClr val="1828fa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、火灾猛烈阶段，要做好自身防护，寻找外援，积极开辟“生命通道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22960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如果通道堵死，无法上下，首先要迅速穿好衣裤，防止皮肤裸露，争取时间等待救援力量的到来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身上可以用水淋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、如果火焰已窜入你的房间，首先用湿毛巾捂住口鼻，迅速进入阳台，并向周围呼救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、火灾逃生中切实要注意的几个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逃生中千万不要顾及个人财产而耽误时间，以免以小失大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互相帮助，尤其是协助老人、小孩和伤残人员，千万不要盲目乱窜，应迅速将他们转入安全地方，再求助有能力的邻居帮助，一块离开火海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一般建筑内都有按规定配备的室内消火栓和固定灭火设施，在火势扩大时，应尽量打开消火栓等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28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8fa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828fa"/>
                </a:solidFill>
                <a:latin typeface="Arial"/>
              </a:rPr>
              <a:t>、跳楼是万不得已才采取的行动，而且只适用于九米以下低层处，其中也有技巧问题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1341360"/>
            <a:ext cx="867564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28fa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1828fa"/>
                </a:solidFill>
                <a:latin typeface="Arial"/>
              </a:rPr>
              <a:t>只要平时注意，消除隐患，可以大大减少火灾发生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8fa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1828fa"/>
                </a:solidFill>
                <a:latin typeface="Arial"/>
              </a:rPr>
              <a:t>适当的进行灭火训练和逃生演练，可以大大减少火灾伤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28fa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1828fa"/>
                </a:solidFill>
                <a:latin typeface="Arial"/>
              </a:rPr>
              <a:t>公司也是您每天呆的最多的地方，您关心您自己的安危了吗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4732200" cy="4915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5400000">
            <a:off x="5043240" y="310176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教育孩子不玩火和电器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7181640" y="4491000"/>
            <a:ext cx="243828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当然您也不能乱玩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5042880" y="3246480"/>
            <a:ext cx="472464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明火照明时不要离开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5006880" cy="507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6733800" y="4290840"/>
            <a:ext cx="304776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煲汤的时候也不要离人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4682520" y="3173400"/>
            <a:ext cx="472464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要乱接、拉电线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4926240" cy="536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5603040" y="3765600"/>
            <a:ext cx="487692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您桌面下面是不是乱拉的电线呢？？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5400000">
            <a:off x="4390560" y="33940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乱丢烟头，不卧床吸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5257800" cy="504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 rot="5400000">
            <a:off x="6388920" y="4562280"/>
            <a:ext cx="243864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办公场所禁止吸烟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 rot="5400000">
            <a:off x="4568400" y="3360600"/>
            <a:ext cx="464832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使用电器注意安全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4994280" cy="563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 rot="5400000">
            <a:off x="5466960" y="3902040"/>
            <a:ext cx="457200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办公室禁止使用大功率加热设备。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5400000">
            <a:off x="4496760" y="336060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乱倾倒液化气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5097600" cy="4686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6157440" y="4219560"/>
            <a:ext cx="304812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燃气火灾要会处理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 rot="5400000">
            <a:off x="4563720" y="3363840"/>
            <a:ext cx="495324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不能存放过多易燃易爆危险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5165640" cy="5235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50920" y="-169920"/>
            <a:ext cx="50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国移动广东公司中山分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安全生产宣教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5400000">
            <a:off x="6597000" y="4643280"/>
            <a:ext cx="2743200" cy="314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【勤检查、多留心】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6:58:55Z</dcterms:created>
  <dc:creator>jianghb</dc:creator>
  <dc:description/>
  <dc:language>en-US</dc:language>
  <cp:lastModifiedBy>pc</cp:lastModifiedBy>
  <cp:lastPrinted>1899-12-30T00:00:00Z</cp:lastPrinted>
  <dcterms:modified xsi:type="dcterms:W3CDTF">2012-06-07T14:52:41Z</dcterms:modified>
  <cp:revision>1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