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7EB2-A59A-4CDA-88FA-F4B49CC8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B003-8BD1-4126-BAF3-B667C00B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46E-5FDB-4BC8-8E7A-82BE9E56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203-3CC8-4C66-8F57-E6E2A687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0C8-8707-4E06-B6AC-49A3B7FF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6CAD-FDBC-4AE7-8837-882A2B41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0965-24A3-40D5-845A-2EAE2071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776-DE6B-4601-BCC3-E40414EB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DA5-6ED2-4701-AD80-CA58C8F4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1C5-53B6-4C4C-A844-01B3F3B7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DBEC-07A5-4A9E-B83D-AE35AFCA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191-6072-40EE-812A-BBD3EBD1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EE46-8AD5-4DDD-ADCF-27907C3658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5651.htm" TargetMode="External"/><Relationship Id="rId3" Type="http://schemas.openxmlformats.org/officeDocument/2006/relationships/hyperlink" Target="http://baike.baidu.com/view/22934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357880" y="69840"/>
            <a:ext cx="38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214800" y="4124160"/>
            <a:ext cx="33573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bfbfbf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适用于护士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286080" y="4624560"/>
            <a:ext cx="300060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1"/>
          <p:cNvSpPr/>
          <p:nvPr/>
        </p:nvSpPr>
        <p:spPr>
          <a:xfrm>
            <a:off x="3143160" y="1571760"/>
            <a:ext cx="3643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66cc"/>
                </a:solidFill>
                <a:latin typeface="方正粗倩简体"/>
                <a:ea typeface="方正粗倩简体"/>
              </a:rPr>
              <a:t>祝所有白衣天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143160" y="2071800"/>
            <a:ext cx="41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cc"/>
                </a:solidFill>
                <a:latin typeface="方正粗倩简体"/>
                <a:ea typeface="方正粗倩简体"/>
              </a:rPr>
              <a:t>节日快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3143160" y="2874960"/>
            <a:ext cx="3500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66cc"/>
                </a:solidFill>
                <a:latin typeface="方正粗倩简体"/>
                <a:ea typeface="方正粗倩简体"/>
              </a:rPr>
              <a:t>Happy nurse da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5072040" y="34290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方正粗倩简体"/>
                <a:ea typeface="方正粗倩简体"/>
              </a:rPr>
              <a:t>2015.5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071800" y="3286080"/>
            <a:ext cx="500040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12”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际护士节是全世界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护士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共同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节日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为了纪念近代护理的创始人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丁格尔奖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英国护士弗洛伦斯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丁格尔（又被称为“提灯女神”）而设立的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3071880" y="1822320"/>
            <a:ext cx="37148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致所有白衣天使们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护士表画了无数个圆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停在这一刻避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慢下脚步 享受护士节的拥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转身跟汗水和疲惫做个道别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邂逅一场浪漫的电影让自己温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心情抖落一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点点捡拾此刻的自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忙碌里总有你的身影，今天是你的节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卸下疲惫，享受这一刻的温馨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.5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2357280" y="2357280"/>
            <a:ext cx="63579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祝愿全国的衣务人员护士节快乐， 身体健康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白衣天使，不做刀斧手，您做得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祝天下的白衣天使们节日快乐。你们辛苦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祝自己和在一线的姐妹们节日快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健康平安，万事如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美丽之夏，让我把祝愿捎给你。一声问候，一个微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祝护士们你们节日快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白衣炫五月，天使佑中华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管天多高，海多深，钢多硬，风多大，尺多长，河多宽，酒多烈，冰多冷，火多热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只想告诉你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些都不关你的事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护士节请我吃饭大家一起快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8-29T03:00:48Z</dcterms:modified>
  <cp:revision>282</cp:revision>
  <dc:subject/>
  <dc:title>幻灯片 1</dc:title>
</cp:coreProperties>
</file>