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D28-FEB9-4F65-B6F0-B8CB621110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ECA-45FF-4A08-BA21-E8C492E452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CF0-A41F-4F6B-97EC-E17C0243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7C2-AFC9-4E09-AC3D-6B6AED58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BD8A2-1D9D-4529-ACBB-2F838A7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6EA7B-3FD9-4AF6-B71C-4F0B8E8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10EE2-1A01-4F8C-B5D8-F18A3E51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53818-8C23-44AF-ADF3-83FD710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985C1-4C83-4E38-9E6A-BCC99B0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93E6D-1F3A-4782-AF38-BD302CD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7F1BE-F950-4035-99EC-37D9793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5FAAC-31B6-40E1-8277-5543C84A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8C657-1EBA-4589-A6BD-00DDB270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5D32-4547-4F87-B0EA-147127EF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060-CC97-488B-8887-121FD7B2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1259-F6B8-4444-818B-711DFE21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1ED9F-311B-4351-9485-8B3B066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283D-3AB7-477E-962F-B2BE259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23759-E2B2-4050-8790-D2A99B9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D021-A8D8-496E-BD8C-E3409A8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4FAB-498E-4CB6-B2C4-3B9B7AC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A03C-BB1C-467A-8A08-E81E269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293EE-B73E-4E7E-B119-2CADA66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49456-7F7C-463B-A69D-F5CDA3B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AB09-166B-4A79-8A6E-69EEB966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2DD-877E-4564-B50E-8A8E38F6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47732-D613-48EF-AD24-5709324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48203-EC3D-4FBE-B184-CE3F7BC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41DD0-8FD7-48A8-AB71-6237A6A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D5D1-AD79-4270-8D1B-DD4B9D62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073E3-8958-46FB-9455-C4578B7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1283A-63F2-44A1-A8B4-6DB15B9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B01BC-DE74-40AB-94DF-DE4800E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62B62-B29A-4659-B5E4-A9D23F8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103B3-034F-4B39-89E9-EC00566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CAF9C-6424-4CE7-B4DB-01026D3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235-E88F-44F8-84EE-2D66C229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5A750-678C-45B0-9EBE-5C44E2B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B3289-1B7D-4E19-8EDD-2A697FA8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30CB-BD3F-43B0-905F-6BD59ACF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9FB26-6987-428C-AA54-F9C93486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F3770-67C9-4D5F-9FD9-41DFDAF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DE37B-C17B-4587-AA3E-3413AC6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408BD-661A-474E-9E5C-3DAEAF06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C5847-CE0E-4603-8C7D-B88E5611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67526-D17A-4381-9D65-509DBA78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E43C8-F45D-42AF-8D18-4183760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5905-0B27-4CD6-8C1F-BEA8A5FF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247B-7151-4160-A5C2-DB24D4A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4724-DBEE-4469-B0B3-C707EA2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691FD-6916-42AC-A8D6-7EAC937D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FE211-57E4-42B1-976D-85C00D50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52AF-BD4D-4BBB-9AC2-831CF04D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B1C7E-365A-4DB5-8734-FA56CF49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9C54C-B4FC-4A9D-AC9C-6172389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7AEF7-242A-4EAD-AD52-D47F793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C371E-696B-404A-B1CB-BB53FA1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8E3D0-AFE8-4DED-8961-9B5CBE1A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81F-21CB-4466-A68B-F020DCC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C2465-A5D1-4FD7-8E1F-F25037E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35535-79E3-4A04-9C39-65EEFF1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B6F11-8B2C-40B7-A2CC-66FB10B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36A6B-80A6-4BC3-99E4-896B3C55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2E9D3-8B51-41AF-81BB-A42B46A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9CAC2-16C6-4983-9526-80E633FA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137ED-D2F5-4FF2-AE31-2E68775F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CEDD-CFBE-4794-8951-CDABB77F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5E58-875C-4CCB-9C06-F571A15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DBAB-E3C6-4E66-A3B9-7F47785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F0D7-CE2A-4261-A665-DB291CB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EA2-DAAB-45BC-B15E-85A0B9D9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6DD7-EB68-40FA-B890-5AEDAB2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6F04-587A-4931-A99B-8825BE3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5D2-8D19-4E49-8AA0-AFA4C40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F57-532F-46B4-8835-A6F9E8AA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0D8-C8A3-4974-847E-294E431C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70D8-A897-4791-AB30-A6CB574D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6C7F-925E-458C-A8CD-C90D3F4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88D0-541D-44DD-B490-19C2D87B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BE36-00B0-4019-801B-F25734E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84AB-E1F4-4E22-B4AB-3FBB2F0F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5B9-37A3-42A5-AA38-B13AF6E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EA57-D0C4-4C6E-823E-AB22D4B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3842-7D15-41FD-BC8C-266B657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D32B-AE0E-4068-9DEB-13A07BB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2EFC-EDFD-476C-9436-D10D65C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0ADD-75B7-48FB-9C21-07CF2757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B7E2-B740-4590-A5FF-AFCABCBB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B0FD-B058-43BE-A791-7167F91B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C647-C2E2-4395-9555-C0BB99DC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BBFE-B2D8-4806-8225-B75CEA15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D0DD-AE57-451F-BA98-ED60B0EA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FFB-365E-441C-B7B9-609D229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26C6-1533-4023-81B1-EEAEB28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314E-309F-42BD-B61A-604A776F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098C-B7A1-4176-B177-752E090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6216-F12E-4B83-BE97-F353B7A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0C47-6877-42A3-BBD6-18D147A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EDDC-49C2-4B8A-9C1C-5E08020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1CEF-F9F9-4CC6-A7AC-667A1A6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8A4A-3A81-493F-96D4-CA733C12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06D2-A432-42B9-877B-1D4783A9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C5C1-0BC2-4038-8CF2-054ABEB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F61-4FDB-413D-8E25-5435DD9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31A5-0F34-4433-8464-ACF5D7E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0C36-7340-44B0-9DFB-09BCFFE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9A80-F8F2-4FAC-88C4-F6E1EACE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C709-D82F-4E11-8B4C-D27869B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8DA0-C128-48FE-AB6F-9AAB8186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4A83-2BDE-415C-8193-2D9FEEB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E111-C4A1-4975-9A72-B1F5CF9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630C-6BA1-4B75-908B-64EB3C5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A2C9-8D54-4526-BA9C-5E95FF01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8A4A-69FE-48CB-B882-08B0FEA0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202-5F7E-444E-86F1-57274EC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2C17-7DD7-4ED6-969E-670DF423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7E3C6-1E5F-4889-A34B-226B8A90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8850-3E26-47DD-833C-BFCEDCE1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80DB-247A-4E82-A617-B7B7703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F0C5-0A91-46F3-985D-2DD07B1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0D37-80D2-4E37-BDF8-AEB2408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7ABF-ADE3-4B52-BD11-BF6D321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E46F-B83E-4AB1-AE96-F185221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2F1C-89C1-48C8-BC78-4E422CBA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FE52-C2BE-4836-9A00-B8095F3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3DC-8919-4181-BAF1-F7AE7D0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C937-FAB1-439C-9015-8984144E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78B4-4160-462F-8315-413155EB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8CA2-BD79-406F-BD9A-68DD0D7A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BC5F6-600D-46E3-96CC-027B7A3F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03582-BFB9-40B2-98B3-AFD79525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59D8-F670-4397-995A-AEE5D32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F3B3-96DB-4DE8-B149-11D625C4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A6A6-16A1-44BE-8AAE-EBA443B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415C-5DA4-403A-9DC4-D90DB737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A9903-D353-4977-8943-91E221A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D5D-E57A-4DBE-B70D-56258AB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6EB6-4EC5-43EE-89D1-47C9782C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2B54-1C50-4F8D-BDD7-9B3BB19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CCAD-BD55-4B48-9495-3C1E42C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1592-ED61-41BB-8C47-9CDFBD28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4E43-EE08-4448-B07B-FA22CFE6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BF008-44F0-4C62-BA25-52DC5B50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1790D-0307-4267-A781-7DE4F093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AC7C-1985-4F13-9647-5FFA172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2F3E-5026-4A05-A8F4-498FED6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5BF4F-5CE8-4075-9BDD-4A204A5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999-390D-4AB5-9595-94B876A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AFDAA-29B1-49EC-A069-2CDB4760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F5F8-7DCD-45A2-8CC8-60EBBD0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7659-877F-45D5-945D-C5B4DAD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CBC4-215F-4C7D-BD02-860526E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4422-AC91-4C39-B201-EA4E0C60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4021-1829-4398-846A-D468E3DA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A336-314B-42BE-9720-7BF23FE1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EEAAF-A8AC-4E68-BF38-B197BEE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9979A-4CBC-4ED0-9548-224A17E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FC143-2916-4FF5-8B8A-69EE3F0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DD0-FEBD-43C9-9946-53686D457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F9CE-51B5-429A-A080-161D792FEB5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DC27-6535-438A-BA1E-5B43624BC1E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E31-CC1A-4F85-953E-E3EEFA3B6DD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2D6-BDB4-497A-898F-F5C94CFAAF7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93E-EC06-4162-B785-A5DBDB90F6B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DEE1-3EED-4108-AB0A-F729D7C6620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0C8-D20A-45AB-8189-38721E020A9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65B-76B8-4A7D-9598-A2BB496E9CE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667-C631-4D88-BE7F-2E08ABDAE5E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57CE-DB2F-4486-9DF3-4B99AF0C1B9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30C5-5945-45B5-940E-4A5F08F8318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32B-1BDA-4ED7-BA89-09E702AF456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ypppt.com/" TargetMode="External"/><Relationship Id="rId2" Type="http://schemas.openxmlformats.org/officeDocument/2006/relationships/hyperlink" Target="http://www.ypppt.com/moban/" TargetMode="External"/><Relationship Id="rId3" Type="http://schemas.openxmlformats.org/officeDocument/2006/relationships/hyperlink" Target="http://www.ypppt.com/jieri/" TargetMode="External"/><Relationship Id="rId4" Type="http://schemas.openxmlformats.org/officeDocument/2006/relationships/hyperlink" Target="http://www.ypppt.com/beijing/" TargetMode="External"/><Relationship Id="rId5" Type="http://schemas.openxmlformats.org/officeDocument/2006/relationships/hyperlink" Target="http://www.ypppt.com/tubiao/" TargetMode="External"/><Relationship Id="rId6" Type="http://schemas.openxmlformats.org/officeDocument/2006/relationships/hyperlink" Target="http://www.ypppt.com/sucai/" TargetMode="External"/><Relationship Id="rId7" Type="http://schemas.openxmlformats.org/officeDocument/2006/relationships/hyperlink" Target="http://www.ypppt.com/jiaocheng/" TargetMode="External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4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幼圆"/>
                <a:ea typeface="幼圆"/>
                <a:hlinkClick r:id="rId1"/>
              </a:rPr>
              <a:t> </a:t>
            </a:r>
            <a:r>
              <a:rPr b="0" lang="en-US" sz="21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2:09:06Z</dcterms:created>
  <dc:creator>Administrator</dc:creator>
  <dc:description/>
  <dc:language>en-US</dc:language>
  <cp:lastModifiedBy>Administrator</cp:lastModifiedBy>
  <dcterms:modified xsi:type="dcterms:W3CDTF">2015-05-20T05:51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