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3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504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53440" y="276840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853440" y="5753520"/>
            <a:ext cx="2460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746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9280" y="276840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746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4679280" y="5753520"/>
            <a:ext cx="16232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-88920" algn="ctr"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192960" indent="-74160" algn="ctr"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297000" indent="-59400" algn="ctr"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415800" indent="-59400" algn="ctr"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534600" indent="-59400" algn="ctr"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534600" indent="-59400" algn="ctr"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534600" indent="-59400" algn="ctr"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-263880" algn="ctr"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572040" indent="-219960" algn="ctr"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879840" indent="-175680" algn="ctr"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1231920" indent="-175680" algn="ctr"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1584000" indent="-175680" algn="ctr"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1584000" indent="-175680" algn="ctr"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1584000" indent="-175680" algn="ctr"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-263880" algn="ctr"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572040" indent="-219960" algn="ctr"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879840" indent="-175680" algn="ctr"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1231920" indent="-175680" algn="ctr"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1584000" indent="-175680" algn="ctr"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1584000" indent="-175680" algn="ctr"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1584000" indent="-175680" algn="ctr"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  <a:ea typeface="宋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  <a:ea typeface="宋体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1"/>
          <a:srcRect l="5562" t="0" r="5501" b="0"/>
          <a:stretch/>
        </p:blipFill>
        <p:spPr>
          <a:xfrm>
            <a:off x="3454560" y="2222640"/>
            <a:ext cx="6095880" cy="4572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1" descr=""/>
          <p:cNvPicPr/>
          <p:nvPr/>
        </p:nvPicPr>
        <p:blipFill>
          <a:blip r:embed="rId1"/>
          <a:srcRect l="5562" t="0" r="5501" b="0"/>
          <a:stretch/>
        </p:blipFill>
        <p:spPr>
          <a:xfrm>
            <a:off x="3454560" y="2222640"/>
            <a:ext cx="6095880" cy="4572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  <a:ea typeface="宋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gfang</dc:creator>
  <dc:description/>
  <dc:language>en-US</dc:language>
  <cp:lastModifiedBy>tongfang</cp:lastModifiedBy>
  <dcterms:modified xsi:type="dcterms:W3CDTF">2010-12-19T05:52:31Z</dcterms:modified>
  <cp:revision>3</cp:revision>
  <dc:subject/>
  <dc:title>互联网的作用</dc:title>
</cp:coreProperties>
</file>