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894CA-7AEC-4F2D-8756-14379FB31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380E-4B09-4F15-B1ED-4036ECEC7EA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50E86A-0D48-4964-9E10-89BC92E2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DA5FF5-AB68-4C83-BC13-01D009BF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BFC58B-C02B-4E0E-B05E-A0C7F52A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3477F8-E07A-4C4F-BB24-61FE3F75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B71FF3-364F-44D0-8264-7774ED9F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FA49B4-C3FA-400C-8F00-984B079E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B02109-5E0C-40C7-AF15-9FC4D786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F1142E-C866-4547-AF85-33E7CDEA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37D5EF-DF20-48A9-B339-FF71361F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3264A2-4B79-4513-87C7-3ED9F8D4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CD840-A618-4824-8970-BD4BCE775E1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376FA6-1C68-4E0A-8A61-1DD69AAD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04329C-6BBC-4D64-9A04-3EBB12EA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A15A0C-E309-453A-AAB8-17BD690C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699388-1753-4920-B783-41544D0A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E88FEB-9686-421E-9D61-C97F50B5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F49614-61F5-4798-9B9C-48741F9F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93FD7A-A01C-4E63-97C6-FDAA5A85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99C861-24A9-44C8-AF34-FF587805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162E5F-D4CA-4EEE-A05D-FA34F59F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F93C9A-C926-4D51-AB57-BEF707F8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30FC-713C-4221-AD67-0BED3CDA2E5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CB5C01-1D5E-4927-8957-98A6249E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15B524-7B77-4B64-9D48-9315B45C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FC6BB4-5523-4CA7-9B45-2F3AC10D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049D07-2DEB-46A7-88DB-27032D27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9FA3BE-17E1-4CCA-9BFB-ACEDE276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D08A2E-7C80-48FF-988F-C3AD6717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22F67E-BCB6-4491-B51A-3E87CEFB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D06003-797C-4472-A350-683CE0D3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F90C7F-DE8C-4C22-9B3B-38469A99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879911-6E30-4A37-AAAE-BF4050D1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701A2-FCBC-4AC7-82FA-002101DF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AF1F9D-D4C0-4A29-9251-9F815B3C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9C82A8-EF94-4AA9-BAB9-2B2B589B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B873A5-F0E0-406D-AF38-EF35C2A8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BC52D7-0751-4645-9D5A-A7696EBD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32E264-865F-492E-B9CA-DFDAAC4A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9CB691-19F4-404C-BE4E-8919A2D5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9FE37C-7429-4579-83C7-E17EB1D6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FBA53B-B041-4DE8-BB0C-1F57E80A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395CBE-D278-432C-A792-4F02DE10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17E34C-E836-4DDF-B255-77B5F8BF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29421-EC49-43E7-A685-813B9F27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8FFE55-8D86-40DC-829F-40E23F90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C7224A-653F-4D59-8AFB-A96D091E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B2AB18-4F9C-447C-82A2-3299ACFE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B11D8A-4D8A-4C69-B3DB-058B303E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09A395-A55A-4F8A-9162-22DB402C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D44D28-164C-425D-8BFF-59117975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9BD360-43C1-4E85-ADD0-3472BAC2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345EEB-4103-45AE-8EEB-DCB6DC28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A1C986-3447-40E8-BF40-BFBB7926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7EA636-7BD5-4567-B5A8-2F02916E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A35A6-DEBB-4284-90D0-46C81E47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F7957D-D80E-4741-8649-95483ECA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968E50-B7F7-43CC-A024-FA4B79CF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28342C-EBF1-4181-9A22-DA273422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C552A0-81C1-4FE7-AB46-1F44A70E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BF3CA7-21B3-4BFE-BEEB-443EA836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7E30DE-020E-439B-A2BA-ECF6C3CE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66987B-4C74-4D06-BF7E-10DB11F1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DF4DE2-D4FA-4DA3-AA4A-B5C57011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134601-A047-4D2E-BCB5-940A27D8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1B94C1-C695-421E-B8D0-65CDFF21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CB620-7D46-482E-862A-44266D0A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3C69A3-9273-4E43-A7EF-24C9BFE4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237925-B199-4AB6-9035-DC63AE59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877727-CBFD-462A-A40E-1EFDA982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96765E-F3D3-4A08-BA84-1DA8EF50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ECD4CD-4313-4C70-8EC0-0EEF136F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3E71D8-8D96-4DA1-BF90-C11E816E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6C8B97-2E21-4CA3-891B-E2F25BBA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45FB9B-791E-4232-8CA9-A4A803A6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1802A1-C21B-4429-B21E-D5F4A238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A9FDE-62D1-4D73-A268-3E97873E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E6B90-CA02-4218-AAFF-F102735E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27C5B-8D60-4B55-AE39-A34A19A8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DC0A-7F69-4C08-AE93-26E733FBD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86F18-C94B-421F-84A0-E758B4F9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DBDAD-0E6F-4F35-810D-F6D0BA66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A2433-AE6E-4BA2-AF45-46878564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74932-2A18-4807-BE58-4250FB2B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1E371-27CD-4F62-9AF9-94BDC372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69956-9DE5-4CBA-8F15-D433FE9394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5CF21-9705-446A-949B-E7294681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BF228-F883-46C0-BE8F-8CCDDC3C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F7254-E79E-44C2-B790-5B963705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E045-27AA-4642-B625-34F9DEA626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AA392-F4C5-4367-96E1-E577BC48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32407-E824-455E-B327-A50717E5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66827-1452-4BF4-B29E-3437FA13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35029-02C8-479D-AAAA-D8D8D568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2CAE1-5179-43FA-B6F7-EC94164F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B2BEC-625B-45F6-9716-0296C163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4F386-30CB-43A1-B16E-61C72FF0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D70DD-019F-4635-AD72-A07AB4D1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E6812-678F-4B77-A96F-441420B8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B913A0-9382-4DA5-B92D-5DFA347C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931F-AFF8-4FA9-A761-71B354CDE23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CE567-3A88-4CAF-AA72-A9DA7027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AD8996-48CC-4A01-AC3A-96B77136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503EB-102E-4C33-98A7-92FAEA49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2B739-4D94-47A2-BDFE-37C89CDF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E9697-C5EF-4DBE-80F6-37AB7DBF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9A3D95-79FD-4280-9558-44CF62BD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B55E7-F3AD-4992-855D-7F4FD249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EB253-FF25-471E-B904-0D1AD4EF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60355E-1A70-49D2-A35B-E868B4F5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2E24FC-9B9D-48A6-A894-4A38621C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84E4-813D-4816-97DB-3B7897A317F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A6497-2CE0-467B-81E2-68F11025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2D687-2990-4D59-B82B-68A924A8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63BA1-F690-4031-88CB-934F9B4D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5C171-1AA6-40A2-80C6-6EA69F90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E49F7-BD7F-40B5-B4EC-FA7E5511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5DB5C-B976-4F44-899F-A4B72425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CE286-107D-4836-8344-8AB59BD0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5B159-A010-4CA2-ACB1-58245DC8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1FEE9-58E2-4E20-A033-02BD083A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74F41-260D-4B91-AE84-BE366631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D6FB1-6181-4668-95C6-E3373AC37F2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2A4A0-AECB-4ABE-A720-584A4629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829B3-3244-46E0-A91C-35C27A2F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3FDD9-B2A7-4FF0-8FF3-10638905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937038-A367-4C0D-A89F-44AAA84C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7A84D4-AA1F-40E5-A8ED-DEB37CC0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0D66B-CF99-46B4-A48D-869E850F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58ABD-C8DF-4BED-BB5B-4BA55B56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8F2454-28E7-4F19-9511-D01A179C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9ADBA-AE47-473D-8123-E4EDFBBC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66969-B799-42E4-96D4-5363AEA3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C310-0031-40E4-A836-1F795F448A1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41392-105F-4C00-A9FD-62D565C7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C25EFD-E8F7-4E5F-94E8-98990861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11C04-C32E-411E-81C1-4D4D2EA2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988DE-4742-4660-932C-FF4B79A0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9AA117-4E97-43DF-8FE7-48989C2F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BC6833-3843-472E-9CF6-0075BD4B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78E4A2-4102-425D-A200-87F98005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F684E6-F9EF-4DF2-A69F-5D4094C3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9A160-F428-4334-95C0-A1CFB74A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71EA6-AAEF-4CEA-8E2C-88C8BBA3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821E-90EC-4872-ACD1-A6D429ABE20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497961-9A0F-4F71-B67A-5A6E0D6D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3C484A-32E8-413E-A052-088E5E13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5854CF-8448-4190-966E-5DE60891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78CB5-55F8-4DC3-8F11-2F59D740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DCFF7A-1E41-4E47-B86A-A7270A8F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4A3CDA-EC69-4D58-90CA-BB677CC1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F8A0CC-159B-464B-9EDE-124198B7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9805A8-811B-4305-BD51-B734D10C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A13B88-1719-417B-87B6-57DFC394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EFCC93-B156-4C98-9A7C-A095E1B8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-22320"/>
          <a:ext cx="9144000" cy="93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2320"/>
                    <a:ext cx="91440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5867280" y="6443280"/>
            <a:ext cx="28958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3428640" y="6446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A204-7503-4F3A-80C7-B082EF7943A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8FAD-3DA8-48A2-A8A5-0010CF6FB4B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114E-EC6E-4496-A8AB-2A365515EE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3F3D-F907-461D-9F5C-BB951DF23FF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D526-F22A-4F8B-8A16-EFC80008EB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A22A-3585-4791-A6C0-128081E16D0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7699-F6CB-442A-9354-710A840995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1532-0F08-47E1-AE51-A2E6B3A1E8B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89F6-93F0-471D-BF5F-C4D1B6F648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6A81-A9D8-438A-8265-94F3907609E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C94C-C7D4-45AF-B3F3-E369CEC2C3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2286-FFBA-470A-94F0-4FECFE63750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6A46-3DEC-4FCB-8CAF-6EC7C75897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178160" y="595800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4AA6-9D06-4306-8E82-8C1D6EBDF61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6A4F-38A3-4EE5-B121-9418FD7DBE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F502-7AE3-4A45-BA3D-507C99904AE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5F3A-FC3D-4879-84C6-42CED89897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A5EC-5235-4336-96F3-379B77B7349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10AC-6F4F-4D7D-97E3-70B77C0403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61C2-F1F0-4B0A-A18B-12E5231EB47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AFC7-7BD9-4D3E-BBE2-DC8E7A5C5B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8919-7825-40D1-BB11-945E58E0ED7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8DE5-7ADD-48F9-A320-46147153D4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3B76-7BBD-4C6B-AA8B-47E87AFDBE9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D15C-9A35-4EC7-9AC5-39B5A7486E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23520" y="2895120"/>
            <a:ext cx="586764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Verdana"/>
                <a:ea typeface="宋体"/>
              </a:rPr>
              <a:t>答辩人 ：  </a:t>
            </a:r>
            <a:r>
              <a:rPr b="1" lang="zh-CN" sz="2400" spc="-1" strike="noStrike">
                <a:solidFill>
                  <a:srgbClr val="1d528d"/>
                </a:solidFill>
                <a:latin typeface="Verdana"/>
                <a:ea typeface="宋体"/>
              </a:rPr>
              <a:t>888</a:t>
            </a:r>
            <a:br>
              <a:rPr sz="2400"/>
            </a:br>
            <a:r>
              <a:rPr b="1" lang="zh-CN" sz="2400" spc="-1" strike="noStrike">
                <a:solidFill>
                  <a:srgbClr val="1d528d"/>
                </a:solidFill>
                <a:latin typeface="Verdana"/>
                <a:ea typeface="宋体"/>
              </a:rPr>
              <a:t>指导老师：</a:t>
            </a:r>
            <a:r>
              <a:rPr b="1" lang="zh-CN" sz="2400" spc="-1" strike="noStrike">
                <a:solidFill>
                  <a:srgbClr val="1d528d"/>
                </a:solidFill>
                <a:latin typeface="Verdana"/>
                <a:ea typeface="宋体"/>
              </a:rPr>
              <a:t>999</a:t>
            </a:r>
            <a:r>
              <a:rPr b="1" lang="zh-CN" sz="6600" spc="-1" strike="noStrike">
                <a:solidFill>
                  <a:srgbClr val="1d528d"/>
                </a:solidFill>
                <a:latin typeface="Verdana"/>
                <a:ea typeface="宋体"/>
              </a:rPr>
              <a:t> </a:t>
            </a:r>
            <a:endParaRPr b="0" lang="en-US" sz="6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609480" y="8377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宋体"/>
              </a:rPr>
              <a:t>HCV-RNA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宋体"/>
              </a:rPr>
              <a:t>载量与抗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宋体"/>
              </a:rPr>
              <a:t>-HCV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宋体"/>
              </a:rPr>
              <a:t>阳性率及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宋体"/>
              </a:rPr>
              <a:t>ALT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宋体"/>
              </a:rPr>
              <a:t>异常率之间的相关性研究</a:t>
            </a:r>
            <a:r>
              <a:rPr b="1" lang="zh-CN" sz="1800" spc="-1" strike="noStrike">
                <a:solidFill>
                  <a:srgbClr val="ffff99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页脚占位符 3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d528d"/>
              </a:solidFill>
              <a:latin typeface="Verdana"/>
              <a:ea typeface="宋体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1d528d"/>
              </a:solidFill>
              <a:latin typeface="Verdana"/>
              <a:ea typeface="宋体"/>
            </a:endParaRPr>
          </a:p>
        </p:txBody>
      </p:sp>
      <p:pic>
        <p:nvPicPr>
          <p:cNvPr id="681" name="Picture 4" descr="2LE`5I)MS_9D~T7QDDKDFV1"/>
          <p:cNvPicPr/>
          <p:nvPr/>
        </p:nvPicPr>
        <p:blipFill>
          <a:blip r:embed="rId1"/>
          <a:stretch/>
        </p:blipFill>
        <p:spPr>
          <a:xfrm>
            <a:off x="1905120" y="914400"/>
            <a:ext cx="5753160" cy="340992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5"/>
          <p:cNvSpPr/>
          <p:nvPr/>
        </p:nvSpPr>
        <p:spPr>
          <a:xfrm>
            <a:off x="1143000" y="4495680"/>
            <a:ext cx="71629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HCV- RNA 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载量高于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1×10 3 copies/ml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血清标本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100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例， 其中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ALT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36 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例， 异常率为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36%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而低于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1×10 3 copies/ml 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血清标本中，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ALT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异常率为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14%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ALT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异常率与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HCV-RNA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载量的对数值进行直线相关性检验，两者呈正相关（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r=0.929,P&lt;0.05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页脚占位符 3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讨论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丙型肝炎病毒形态特点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686" name="Picture 4" descr="u=3301029637,4072720196&amp;fm=15&amp;gp=0"/>
          <p:cNvPicPr/>
          <p:nvPr/>
        </p:nvPicPr>
        <p:blipFill>
          <a:blip r:embed="rId1"/>
          <a:stretch/>
        </p:blipFill>
        <p:spPr>
          <a:xfrm>
            <a:off x="5257800" y="1219320"/>
            <a:ext cx="3186000" cy="350496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" descr="u=2251966547,4107726037&amp;fm=21&amp;gp=0"/>
          <p:cNvPicPr/>
          <p:nvPr/>
        </p:nvPicPr>
        <p:blipFill>
          <a:blip r:embed="rId2"/>
          <a:stretch/>
        </p:blipFill>
        <p:spPr>
          <a:xfrm>
            <a:off x="2514600" y="3933720"/>
            <a:ext cx="3048120" cy="2411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" descr="u=184456264,3405578470&amp;fm=23&amp;gp=0"/>
          <p:cNvPicPr/>
          <p:nvPr/>
        </p:nvPicPr>
        <p:blipFill>
          <a:blip r:embed="rId3"/>
          <a:stretch/>
        </p:blipFill>
        <p:spPr>
          <a:xfrm>
            <a:off x="228600" y="1447920"/>
            <a:ext cx="4419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页脚占位符 3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d528d"/>
              </a:solidFill>
              <a:latin typeface="Verdana"/>
              <a:ea typeface="宋体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562720" y="5943600"/>
            <a:ext cx="3124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1d528d"/>
              </a:solidFill>
              <a:latin typeface="Verdana"/>
              <a:ea typeface="宋体"/>
            </a:endParaRPr>
          </a:p>
        </p:txBody>
      </p:sp>
      <p:pic>
        <p:nvPicPr>
          <p:cNvPr id="692" name="Picture 4" descr="u=119647755,1939152112&amp;fm=23&amp;gp=0"/>
          <p:cNvPicPr/>
          <p:nvPr/>
        </p:nvPicPr>
        <p:blipFill>
          <a:blip r:embed="rId1"/>
          <a:stretch/>
        </p:blipFill>
        <p:spPr>
          <a:xfrm>
            <a:off x="533520" y="914400"/>
            <a:ext cx="5667120" cy="489888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5"/>
          <p:cNvSpPr/>
          <p:nvPr/>
        </p:nvSpPr>
        <p:spPr>
          <a:xfrm>
            <a:off x="6400800" y="1371600"/>
            <a:ext cx="2209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复制过程中存在错配倾向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缺少修补机制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出现不均一性、差异性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页脚占位符 3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d528d"/>
              </a:solidFill>
              <a:latin typeface="Verdana"/>
              <a:ea typeface="宋体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352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例</a:t>
            </a: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HCV-RNA</a:t>
            </a: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阳性而抗</a:t>
            </a: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-HCV</a:t>
            </a: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阴性（窗口期）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例抗</a:t>
            </a: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-HCV</a:t>
            </a: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阳性而</a:t>
            </a: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HCV-RNA</a:t>
            </a: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阴性（经过抗病毒治疗）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697" name="Picture 4" descr="u=1471510331,1299974192&amp;fm=15&amp;gp=0"/>
          <p:cNvPicPr/>
          <p:nvPr/>
        </p:nvPicPr>
        <p:blipFill>
          <a:blip r:embed="rId1"/>
          <a:stretch/>
        </p:blipFill>
        <p:spPr>
          <a:xfrm>
            <a:off x="152280" y="914400"/>
            <a:ext cx="8610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页脚占位符 3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d528d"/>
              </a:solidFill>
              <a:latin typeface="Verdana"/>
              <a:ea typeface="宋体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ALT</a:t>
            </a: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异常率随</a:t>
            </a: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HCV-RNA</a:t>
            </a: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水平增高而增高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ALT</a:t>
            </a: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水平与</a:t>
            </a: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HCV-RNA</a:t>
            </a: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含量对数值无明显相关性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01" name="未知"/>
          <p:cNvSpPr/>
          <p:nvPr/>
        </p:nvSpPr>
        <p:spPr>
          <a:xfrm flipH="1">
            <a:off x="1904400" y="28195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aee6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2895480" y="380988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HCV-RNA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水平与肝损伤程度有关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但不能反映肝脏的程度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页脚占位符 3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结论 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706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17b7f1">
                    <a:alpha val="32156"/>
                  </a:srgbClr>
                </a:gs>
                <a:gs pos="100000">
                  <a:srgbClr val="00b0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5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1db3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6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d5350"/>
                </a:gs>
                <a:gs pos="50000">
                  <a:srgbClr val="1db3ac"/>
                </a:gs>
                <a:gs pos="100000">
                  <a:srgbClr val="0d53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9" name="AutoShape 7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8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AutoShape 9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10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516f"/>
                </a:gs>
                <a:gs pos="50000">
                  <a:srgbClr val="00b0f0"/>
                </a:gs>
                <a:gs pos="100000">
                  <a:srgbClr val="0051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11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AutoShape 12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c2c2c2">
                    <a:alpha val="3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14"/>
            <p:cNvSpPr/>
            <p:nvPr/>
          </p:nvSpPr>
          <p:spPr>
            <a:xfrm>
              <a:off x="4175280" y="248580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Second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821640" y="19904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ird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8" name="Group 16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719" name="AutoShape 17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18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AutoShape 19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2" name="AutoShape 20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3" name="Text Box 21"/>
              <p:cNvSpPr/>
              <p:nvPr/>
            </p:nvSpPr>
            <p:spPr>
              <a:xfrm>
                <a:off x="1765080" y="2914560"/>
                <a:ext cx="57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First </a:t>
                </a:r>
                <a:endParaRPr b="1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4" name="Text Box 22"/>
              <p:cNvSpPr/>
              <p:nvPr/>
            </p:nvSpPr>
            <p:spPr>
              <a:xfrm>
                <a:off x="990720" y="3342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1</a:t>
                </a:r>
                <a:r>
                  <a:rPr b="0" lang="zh-CN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、抗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-HCV</a:t>
                </a:r>
                <a:r>
                  <a:rPr b="0" lang="zh-CN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：阳性率高、操作简单、成本低；但易造成漏检。</a:t>
                </a: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25" name="Text Box 23"/>
            <p:cNvSpPr/>
            <p:nvPr/>
          </p:nvSpPr>
          <p:spPr>
            <a:xfrm>
              <a:off x="3505320" y="2885760"/>
              <a:ext cx="213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、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HCV-RNA</a:t>
              </a:r>
              <a:r>
                <a:rPr b="0" lang="zh-CN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检测对丙肝患者诊断和疗效有重要价值，但不能确切反映患者肝脏的病理变化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Text Box 24"/>
            <p:cNvSpPr/>
            <p:nvPr/>
          </p:nvSpPr>
          <p:spPr>
            <a:xfrm>
              <a:off x="6019920" y="23526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LT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一定程度可反映肝脏的病理情况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页脚占位符 3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可行性分析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729" name="Group 3"/>
          <p:cNvGrpSpPr/>
          <p:nvPr/>
        </p:nvGrpSpPr>
        <p:grpSpPr>
          <a:xfrm>
            <a:off x="228600" y="1371600"/>
            <a:ext cx="7772400" cy="4419720"/>
            <a:chOff x="228600" y="1371600"/>
            <a:chExt cx="7772400" cy="4419720"/>
          </a:xfrm>
        </p:grpSpPr>
        <p:sp>
          <p:nvSpPr>
            <p:cNvPr id="730" name="未知"/>
            <p:cNvSpPr/>
            <p:nvPr/>
          </p:nvSpPr>
          <p:spPr>
            <a:xfrm>
              <a:off x="228600" y="17524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1b9ad9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Text Box 5"/>
            <p:cNvSpPr/>
            <p:nvPr/>
          </p:nvSpPr>
          <p:spPr>
            <a:xfrm>
              <a:off x="5181480" y="3443400"/>
              <a:ext cx="2819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2" name="Group 6"/>
            <p:cNvGrpSpPr/>
            <p:nvPr/>
          </p:nvGrpSpPr>
          <p:grpSpPr>
            <a:xfrm>
              <a:off x="2257560" y="3581280"/>
              <a:ext cx="1704960" cy="2028960"/>
              <a:chOff x="2257560" y="3581280"/>
              <a:chExt cx="1704960" cy="2028960"/>
            </a:xfrm>
          </p:grpSpPr>
          <p:sp>
            <p:nvSpPr>
              <p:cNvPr id="733" name="Oval 7"/>
              <p:cNvSpPr/>
              <p:nvPr/>
            </p:nvSpPr>
            <p:spPr>
              <a:xfrm rot="20876400">
                <a:off x="2325960" y="480060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4" name="Oval 8"/>
              <p:cNvSpPr/>
              <p:nvPr/>
            </p:nvSpPr>
            <p:spPr>
              <a:xfrm>
                <a:off x="2257560" y="358128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5" name="Oval 9"/>
              <p:cNvSpPr/>
              <p:nvPr/>
            </p:nvSpPr>
            <p:spPr>
              <a:xfrm>
                <a:off x="2278080" y="359064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6" name="Oval 10"/>
              <p:cNvSpPr/>
              <p:nvPr/>
            </p:nvSpPr>
            <p:spPr>
              <a:xfrm>
                <a:off x="2295720" y="360684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7" name="Oval 11"/>
              <p:cNvSpPr/>
              <p:nvPr/>
            </p:nvSpPr>
            <p:spPr>
              <a:xfrm>
                <a:off x="2387880" y="365112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8" name="Text Box 12"/>
              <p:cNvSpPr/>
              <p:nvPr/>
            </p:nvSpPr>
            <p:spPr>
              <a:xfrm>
                <a:off x="2798640" y="433224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ALT</a:t>
                </a: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13"/>
            <p:cNvGrpSpPr/>
            <p:nvPr/>
          </p:nvGrpSpPr>
          <p:grpSpPr>
            <a:xfrm>
              <a:off x="406440" y="3200400"/>
              <a:ext cx="1371240" cy="1718640"/>
              <a:chOff x="406440" y="3200400"/>
              <a:chExt cx="1371240" cy="1718640"/>
            </a:xfrm>
          </p:grpSpPr>
          <p:sp>
            <p:nvSpPr>
              <p:cNvPr id="740" name="Oval 14"/>
              <p:cNvSpPr/>
              <p:nvPr/>
            </p:nvSpPr>
            <p:spPr>
              <a:xfrm rot="20826600">
                <a:off x="482760" y="419076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741" name="Group 15"/>
              <p:cNvGrpSpPr/>
              <p:nvPr/>
            </p:nvGrpSpPr>
            <p:grpSpPr>
              <a:xfrm>
                <a:off x="406440" y="3200400"/>
                <a:ext cx="1371240" cy="1441080"/>
                <a:chOff x="406440" y="3200400"/>
                <a:chExt cx="1371240" cy="1441080"/>
              </a:xfrm>
            </p:grpSpPr>
            <p:sp>
              <p:nvSpPr>
                <p:cNvPr id="742" name="Oval 16"/>
                <p:cNvSpPr/>
                <p:nvPr/>
              </p:nvSpPr>
              <p:spPr>
                <a:xfrm>
                  <a:off x="406440" y="320040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3" name="Oval 17"/>
                <p:cNvSpPr/>
                <p:nvPr/>
              </p:nvSpPr>
              <p:spPr>
                <a:xfrm>
                  <a:off x="424440" y="320868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Oval 18"/>
                <p:cNvSpPr/>
                <p:nvPr/>
              </p:nvSpPr>
              <p:spPr>
                <a:xfrm>
                  <a:off x="437400" y="322200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Oval 19"/>
                <p:cNvSpPr/>
                <p:nvPr/>
              </p:nvSpPr>
              <p:spPr>
                <a:xfrm>
                  <a:off x="509400" y="3258720"/>
                  <a:ext cx="113148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20"/>
                <p:cNvSpPr/>
                <p:nvPr/>
              </p:nvSpPr>
              <p:spPr>
                <a:xfrm>
                  <a:off x="414360" y="3780360"/>
                  <a:ext cx="1314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1d528d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1800" spc="-1" strike="noStrike">
                      <a:solidFill>
                        <a:srgbClr val="1d528d"/>
                      </a:solidFill>
                      <a:latin typeface="Arial"/>
                      <a:ea typeface="宋体"/>
                    </a:rPr>
                    <a:t>-HCV      </a:t>
                  </a: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7" name="Group 21"/>
            <p:cNvGrpSpPr/>
            <p:nvPr/>
          </p:nvGrpSpPr>
          <p:grpSpPr>
            <a:xfrm>
              <a:off x="286920" y="1828800"/>
              <a:ext cx="1232280" cy="1139760"/>
              <a:chOff x="286920" y="1828800"/>
              <a:chExt cx="1232280" cy="1139760"/>
            </a:xfrm>
          </p:grpSpPr>
          <p:sp>
            <p:nvSpPr>
              <p:cNvPr id="748" name="Oval 22"/>
              <p:cNvSpPr/>
              <p:nvPr/>
            </p:nvSpPr>
            <p:spPr>
              <a:xfrm>
                <a:off x="304560" y="243540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9" name="Oval 23"/>
              <p:cNvSpPr/>
              <p:nvPr/>
            </p:nvSpPr>
            <p:spPr>
              <a:xfrm>
                <a:off x="380880" y="182880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50" name="Oval 24"/>
              <p:cNvSpPr/>
              <p:nvPr/>
            </p:nvSpPr>
            <p:spPr>
              <a:xfrm>
                <a:off x="393480" y="183348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51" name="Oval 25"/>
              <p:cNvSpPr/>
              <p:nvPr/>
            </p:nvSpPr>
            <p:spPr>
              <a:xfrm>
                <a:off x="404640" y="1844640"/>
                <a:ext cx="95112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52" name="Oval 26"/>
              <p:cNvSpPr/>
              <p:nvPr/>
            </p:nvSpPr>
            <p:spPr>
              <a:xfrm>
                <a:off x="458640" y="187020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53" name="Text Box 27"/>
              <p:cNvSpPr/>
              <p:nvPr/>
            </p:nvSpPr>
            <p:spPr>
              <a:xfrm>
                <a:off x="286920" y="2178000"/>
                <a:ext cx="123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HCV-RNA</a:t>
                </a: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28"/>
            <p:cNvGrpSpPr/>
            <p:nvPr/>
          </p:nvGrpSpPr>
          <p:grpSpPr>
            <a:xfrm>
              <a:off x="1571760" y="1371600"/>
              <a:ext cx="804240" cy="762120"/>
              <a:chOff x="1571760" y="1371600"/>
              <a:chExt cx="804240" cy="762120"/>
            </a:xfrm>
          </p:grpSpPr>
          <p:sp>
            <p:nvSpPr>
              <p:cNvPr id="755" name="Oval 29"/>
              <p:cNvSpPr/>
              <p:nvPr/>
            </p:nvSpPr>
            <p:spPr>
              <a:xfrm>
                <a:off x="1571760" y="1905120"/>
                <a:ext cx="68544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56" name="Oval 30"/>
              <p:cNvSpPr/>
              <p:nvPr/>
            </p:nvSpPr>
            <p:spPr>
              <a:xfrm>
                <a:off x="1693800" y="1371600"/>
                <a:ext cx="68220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57" name="Oval 31"/>
              <p:cNvSpPr/>
              <p:nvPr/>
            </p:nvSpPr>
            <p:spPr>
              <a:xfrm>
                <a:off x="1703160" y="137484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58" name="Oval 32"/>
              <p:cNvSpPr/>
              <p:nvPr/>
            </p:nvSpPr>
            <p:spPr>
              <a:xfrm>
                <a:off x="1709640" y="1380960"/>
                <a:ext cx="63288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59" name="Oval 33"/>
              <p:cNvSpPr/>
              <p:nvPr/>
            </p:nvSpPr>
            <p:spPr>
              <a:xfrm>
                <a:off x="1746000" y="140004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60" name="Text Box 34"/>
              <p:cNvSpPr/>
              <p:nvPr/>
            </p:nvSpPr>
            <p:spPr>
              <a:xfrm>
                <a:off x="1882800" y="1595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1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61" name="Text Box 35"/>
          <p:cNvSpPr/>
          <p:nvPr/>
        </p:nvSpPr>
        <p:spPr>
          <a:xfrm>
            <a:off x="6172200" y="320040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在早期准确诊断及检测疗效中具有重要意义和价值。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页脚占位符 2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d528d"/>
              </a:solidFill>
              <a:latin typeface="Verdana"/>
              <a:ea typeface="宋体"/>
            </a:endParaRPr>
          </a:p>
        </p:txBody>
      </p:sp>
      <p:sp>
        <p:nvSpPr>
          <p:cNvPr id="764" name="WordArt 3"/>
          <p:cNvSpPr txBox="1"/>
          <p:nvPr/>
        </p:nvSpPr>
        <p:spPr>
          <a:xfrm>
            <a:off x="2438280" y="1066680"/>
            <a:ext cx="4648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528d"/>
                    </a:gs>
                    <a:gs pos="100000">
                      <a:srgbClr val="00b0f0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+mn-ea"/>
              </a:rPr>
              <a:t>鸣谢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528d"/>
                  </a:gs>
                  <a:gs pos="100000">
                    <a:srgbClr val="00b0f0"/>
                  </a:gs>
                </a:gsLst>
                <a:lin ang="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+mn-ea"/>
              <a:ea typeface="+mn-ea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1066680" y="32767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在此论文撰写过程中，要特别感谢我的导师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999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的指导与督促，同时感谢他的谅解与包容。没有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999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的帮助也就没有今天的这篇论文。在本论文的写作过程中，我的指导老师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999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老师倾注了大量的心血，从选题到开题报告，从写作提纲，到一遍又一遍地指出每稿中的具体问题，严格把关，循循善诱，在此我表示衷心感谢。同时我还要感谢在我实习期间给我极大关心和支持的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000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老师以及关心我的同学。本文参考了大量的文献资料，在此，向各学术界的前辈们致敬！写作毕业论文是一次再系统学习的过程，毕业论文的完成，同样也意味着新的学习生活的开始。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WordArt 2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528d"/>
                    </a:gs>
                    <a:gs pos="100000">
                      <a:srgbClr val="00b0f0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528d"/>
                  </a:gs>
                  <a:gs pos="100000">
                    <a:srgbClr val="00b0f0"/>
                  </a:gs>
                </a:gsLst>
                <a:lin ang="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9"/>
          <p:cNvSpPr/>
          <p:nvPr/>
        </p:nvSpPr>
        <p:spPr>
          <a:xfrm>
            <a:off x="-4680" y="5127480"/>
            <a:ext cx="9144000" cy="1727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8" name="Rectangle 2"/>
          <p:cNvSpPr/>
          <p:nvPr/>
        </p:nvSpPr>
        <p:spPr>
          <a:xfrm>
            <a:off x="0" y="0"/>
            <a:ext cx="9139320" cy="1191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9" name="Rectangle 3"/>
          <p:cNvSpPr/>
          <p:nvPr/>
        </p:nvSpPr>
        <p:spPr>
          <a:xfrm>
            <a:off x="8153280" y="119160"/>
            <a:ext cx="986040" cy="858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7381800" y="981000"/>
            <a:ext cx="771480" cy="71280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1" name="Rectangle 5"/>
          <p:cNvSpPr/>
          <p:nvPr/>
        </p:nvSpPr>
        <p:spPr>
          <a:xfrm>
            <a:off x="7000920" y="647640"/>
            <a:ext cx="380880" cy="333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2" name="Rectangle 6"/>
          <p:cNvSpPr/>
          <p:nvPr/>
        </p:nvSpPr>
        <p:spPr>
          <a:xfrm>
            <a:off x="1160640" y="5127480"/>
            <a:ext cx="1801800" cy="16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3" name="Text Box 7"/>
          <p:cNvSpPr/>
          <p:nvPr/>
        </p:nvSpPr>
        <p:spPr>
          <a:xfrm>
            <a:off x="1796760" y="54021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f0"/>
                </a:solidFill>
                <a:latin typeface="Arial"/>
                <a:ea typeface="黑体"/>
              </a:rPr>
              <a:t>演绎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黑体"/>
              </a:rPr>
              <a:t>精灵</a:t>
            </a:r>
            <a:endParaRPr b="1" lang="en-US" sz="7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4" name="Rectangle 8"/>
          <p:cNvSpPr/>
          <p:nvPr/>
        </p:nvSpPr>
        <p:spPr>
          <a:xfrm>
            <a:off x="825480" y="1368360"/>
            <a:ext cx="380880" cy="333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5" name="Line 10"/>
          <p:cNvSpPr/>
          <p:nvPr/>
        </p:nvSpPr>
        <p:spPr>
          <a:xfrm>
            <a:off x="4897440" y="6103800"/>
            <a:ext cx="3355920" cy="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6" name="Text Box 11"/>
          <p:cNvSpPr/>
          <p:nvPr/>
        </p:nvSpPr>
        <p:spPr>
          <a:xfrm>
            <a:off x="4929120" y="6118200"/>
            <a:ext cx="30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精品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站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7" name="Text Box 12"/>
          <p:cNvSpPr/>
          <p:nvPr/>
        </p:nvSpPr>
        <p:spPr>
          <a:xfrm>
            <a:off x="4915080" y="5508720"/>
            <a:ext cx="34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Arial Black"/>
                <a:ea typeface="Arial Unicode MS"/>
              </a:rPr>
              <a:t>http://www.pptelf.com</a:t>
            </a:r>
            <a:endParaRPr b="1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Arial Black"/>
                <a:ea typeface="Arial Unicode MS"/>
              </a:rPr>
              <a:t>http://www.yanyijingling.com</a:t>
            </a:r>
            <a:r>
              <a:rPr b="0" lang="zh-CN" sz="16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 </a:t>
            </a:r>
            <a:endParaRPr b="1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8" name="Text Box 13"/>
          <p:cNvSpPr/>
          <p:nvPr/>
        </p:nvSpPr>
        <p:spPr>
          <a:xfrm>
            <a:off x="1308960" y="1494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9" name="Line 14"/>
          <p:cNvSpPr/>
          <p:nvPr/>
        </p:nvSpPr>
        <p:spPr>
          <a:xfrm>
            <a:off x="1022400" y="127080"/>
            <a:ext cx="1440" cy="1388880"/>
          </a:xfrm>
          <a:prstGeom prst="line">
            <a:avLst/>
          </a:prstGeom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0" name="Text Box 15"/>
          <p:cNvSpPr/>
          <p:nvPr/>
        </p:nvSpPr>
        <p:spPr>
          <a:xfrm>
            <a:off x="1311120" y="1392120"/>
            <a:ext cx="35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每一份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都在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8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页以上，要做就做精品！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81" name="Picture 16" descr="QQ截图20141114154318"/>
          <p:cNvPicPr/>
          <p:nvPr/>
        </p:nvPicPr>
        <p:blipFill>
          <a:blip r:embed="rId1"/>
          <a:stretch/>
        </p:blipFill>
        <p:spPr>
          <a:xfrm>
            <a:off x="5765760" y="2006640"/>
            <a:ext cx="1905120" cy="191304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7" descr="u=540109111,3851301067&amp;fm=23&amp;gp=0"/>
          <p:cNvPicPr/>
          <p:nvPr/>
        </p:nvPicPr>
        <p:blipFill>
          <a:blip r:embed="rId2"/>
          <a:stretch/>
        </p:blipFill>
        <p:spPr>
          <a:xfrm>
            <a:off x="5013360" y="1996920"/>
            <a:ext cx="725400" cy="6429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8" descr="20111013231321476"/>
          <p:cNvPicPr/>
          <p:nvPr/>
        </p:nvPicPr>
        <p:blipFill>
          <a:blip r:embed="rId3"/>
          <a:stretch/>
        </p:blipFill>
        <p:spPr>
          <a:xfrm>
            <a:off x="-871560" y="98632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20" descr="20111013231321476"/>
          <p:cNvPicPr/>
          <p:nvPr/>
        </p:nvPicPr>
        <p:blipFill>
          <a:blip r:embed="rId4"/>
          <a:stretch/>
        </p:blipFill>
        <p:spPr>
          <a:xfrm>
            <a:off x="1301760" y="2063880"/>
            <a:ext cx="511200" cy="51264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22" descr="IMG_4287"/>
          <p:cNvPicPr/>
          <p:nvPr/>
        </p:nvPicPr>
        <p:blipFill>
          <a:blip r:embed="rId5"/>
          <a:stretch/>
        </p:blipFill>
        <p:spPr>
          <a:xfrm>
            <a:off x="1908000" y="2063880"/>
            <a:ext cx="1857600" cy="1847880"/>
          </a:xfrm>
          <a:prstGeom prst="rect">
            <a:avLst/>
          </a:prstGeom>
          <a:ln w="0">
            <a:noFill/>
          </a:ln>
        </p:spPr>
      </p:pic>
      <p:sp>
        <p:nvSpPr>
          <p:cNvPr id="786" name="Text Box 23"/>
          <p:cNvSpPr/>
          <p:nvPr/>
        </p:nvSpPr>
        <p:spPr>
          <a:xfrm>
            <a:off x="1730520" y="4343400"/>
            <a:ext cx="31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享交流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202145845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享交流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422208004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7" name="Text Box 24"/>
          <p:cNvSpPr/>
          <p:nvPr/>
        </p:nvSpPr>
        <p:spPr>
          <a:xfrm>
            <a:off x="5999400" y="4340160"/>
            <a:ext cx="21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微信公众号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演绎精灵（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elf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）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88" name="组合 1"/>
          <p:cNvGrpSpPr/>
          <p:nvPr/>
        </p:nvGrpSpPr>
        <p:grpSpPr>
          <a:xfrm>
            <a:off x="1908000" y="3902040"/>
            <a:ext cx="1841760" cy="246240"/>
            <a:chOff x="1908000" y="3902040"/>
            <a:chExt cx="1841760" cy="246240"/>
          </a:xfrm>
        </p:grpSpPr>
        <p:sp>
          <p:nvSpPr>
            <p:cNvPr id="789" name="Text Box 25"/>
            <p:cNvSpPr/>
            <p:nvPr/>
          </p:nvSpPr>
          <p:spPr>
            <a:xfrm>
              <a:off x="2118960" y="3902040"/>
              <a:ext cx="1538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选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免费分享</a:t>
              </a:r>
              <a:endParaRPr b="1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Rectangle 26"/>
            <p:cNvSpPr/>
            <p:nvPr/>
          </p:nvSpPr>
          <p:spPr>
            <a:xfrm>
              <a:off x="1908000" y="3902040"/>
              <a:ext cx="1841760" cy="2448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91" name="Text Box 29"/>
          <p:cNvSpPr/>
          <p:nvPr/>
        </p:nvSpPr>
        <p:spPr>
          <a:xfrm>
            <a:off x="751680" y="2319480"/>
            <a:ext cx="45468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扫一扫：关注我们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92" name="组合 34"/>
          <p:cNvGrpSpPr/>
          <p:nvPr/>
        </p:nvGrpSpPr>
        <p:grpSpPr>
          <a:xfrm>
            <a:off x="5789520" y="3887640"/>
            <a:ext cx="1841760" cy="246240"/>
            <a:chOff x="5789520" y="3887640"/>
            <a:chExt cx="1841760" cy="246240"/>
          </a:xfrm>
        </p:grpSpPr>
        <p:sp>
          <p:nvSpPr>
            <p:cNvPr id="793" name="Text Box 25"/>
            <p:cNvSpPr/>
            <p:nvPr/>
          </p:nvSpPr>
          <p:spPr>
            <a:xfrm>
              <a:off x="5922720" y="3887640"/>
              <a:ext cx="16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定期赠送精品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</a:t>
              </a:r>
              <a:endParaRPr b="1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4" name="Rectangle 26"/>
            <p:cNvSpPr/>
            <p:nvPr/>
          </p:nvSpPr>
          <p:spPr>
            <a:xfrm>
              <a:off x="5789520" y="3887640"/>
              <a:ext cx="1841760" cy="2448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页脚占位符 3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78" name="Group 4"/>
          <p:cNvGrpSpPr/>
          <p:nvPr/>
        </p:nvGrpSpPr>
        <p:grpSpPr>
          <a:xfrm>
            <a:off x="-2390400" y="1447560"/>
            <a:ext cx="9247680" cy="4824360"/>
            <a:chOff x="-2390400" y="1447560"/>
            <a:chExt cx="9247680" cy="4824360"/>
          </a:xfrm>
        </p:grpSpPr>
        <p:sp>
          <p:nvSpPr>
            <p:cNvPr id="579" name="AutoShape 5"/>
            <p:cNvSpPr/>
            <p:nvPr/>
          </p:nvSpPr>
          <p:spPr>
            <a:xfrm rot="5400000">
              <a:off x="-2418480" y="1475640"/>
              <a:ext cx="4824360" cy="4767840"/>
            </a:xfrm>
            <a:custGeom>
              <a:avLst/>
              <a:gdLst>
                <a:gd name="textAreaLeft" fmla="*/ 88560 w 4824360"/>
                <a:gd name="textAreaRight" fmla="*/ 4735800 w 4824360"/>
                <a:gd name="textAreaTop" fmla="*/ 0 h 4767840"/>
                <a:gd name="textAreaBottom" fmla="*/ 3008160 h 476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2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0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e2e2e2"/>
                </a:gs>
                <a:gs pos="50000">
                  <a:srgbClr val="c0c0c0"/>
                </a:gs>
                <a:gs pos="100000">
                  <a:srgbClr val="e2e2e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6"/>
            <p:cNvSpPr/>
            <p:nvPr/>
          </p:nvSpPr>
          <p:spPr>
            <a:xfrm flipH="1" rot="5400000">
              <a:off x="-2017440" y="1906920"/>
              <a:ext cx="4032360" cy="3926880"/>
            </a:xfrm>
            <a:custGeom>
              <a:avLst/>
              <a:gdLst>
                <a:gd name="textAreaLeft" fmla="*/ 360 w 4032360"/>
                <a:gd name="textAreaRight" fmla="*/ 4033080 w 4032360"/>
                <a:gd name="textAreaTop" fmla="*/ 0 h 3926880"/>
                <a:gd name="textAreaBottom" fmla="*/ 1402560 h 392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44" y="10800"/>
                  </a:moveTo>
                  <a:cubicBezTo>
                    <a:pt x="10744" y="10769"/>
                    <a:pt x="10769" y="10744"/>
                    <a:pt x="10800" y="10744"/>
                  </a:cubicBezTo>
                  <a:cubicBezTo>
                    <a:pt x="10830" y="10744"/>
                    <a:pt x="10856" y="10769"/>
                    <a:pt x="10856" y="10800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7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9ad9">
                    <a:alpha val="36078"/>
                  </a:srgbClr>
                </a:gs>
                <a:gs pos="100000">
                  <a:srgbClr val="b2dd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1" name="Group 7"/>
            <p:cNvGrpSpPr/>
            <p:nvPr/>
          </p:nvGrpSpPr>
          <p:grpSpPr>
            <a:xfrm>
              <a:off x="1450440" y="1820880"/>
              <a:ext cx="4734360" cy="507960"/>
              <a:chOff x="1450440" y="1820880"/>
              <a:chExt cx="4734360" cy="507960"/>
            </a:xfrm>
          </p:grpSpPr>
          <p:sp>
            <p:nvSpPr>
              <p:cNvPr id="582" name="AutoShape 8"/>
              <p:cNvSpPr/>
              <p:nvPr/>
            </p:nvSpPr>
            <p:spPr>
              <a:xfrm>
                <a:off x="1767600" y="1820880"/>
                <a:ext cx="441720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前言 </a:t>
                </a: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3" name="Group 9"/>
              <p:cNvGrpSpPr/>
              <p:nvPr/>
            </p:nvGrpSpPr>
            <p:grpSpPr>
              <a:xfrm>
                <a:off x="1450440" y="1909800"/>
                <a:ext cx="380520" cy="380880"/>
                <a:chOff x="1450440" y="1909800"/>
                <a:chExt cx="380520" cy="380880"/>
              </a:xfrm>
            </p:grpSpPr>
            <p:sp>
              <p:nvSpPr>
                <p:cNvPr id="584" name="Oval 10"/>
                <p:cNvSpPr/>
                <p:nvPr/>
              </p:nvSpPr>
              <p:spPr>
                <a:xfrm>
                  <a:off x="1450440" y="1909800"/>
                  <a:ext cx="38052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5" name="Oval 11"/>
                <p:cNvSpPr/>
                <p:nvPr/>
              </p:nvSpPr>
              <p:spPr>
                <a:xfrm>
                  <a:off x="1472040" y="1931040"/>
                  <a:ext cx="33696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a2a2"/>
                    </a:gs>
                    <a:gs pos="50000">
                      <a:srgbClr val="ffffff"/>
                    </a:gs>
                    <a:gs pos="100000">
                      <a:srgbClr val="a2a2a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Oval 12"/>
                <p:cNvSpPr/>
                <p:nvPr/>
              </p:nvSpPr>
              <p:spPr>
                <a:xfrm>
                  <a:off x="1491840" y="1951200"/>
                  <a:ext cx="2973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b0f0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7" name="Oval 13"/>
                <p:cNvSpPr/>
                <p:nvPr/>
              </p:nvSpPr>
              <p:spPr>
                <a:xfrm>
                  <a:off x="1491840" y="1951200"/>
                  <a:ext cx="2973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cc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8" name="Oval 14"/>
                <p:cNvSpPr/>
                <p:nvPr/>
              </p:nvSpPr>
              <p:spPr>
                <a:xfrm>
                  <a:off x="1511280" y="1970640"/>
                  <a:ext cx="25812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f82"/>
                    </a:gs>
                    <a:gs pos="50000">
                      <a:srgbClr val="00b0f0"/>
                    </a:gs>
                    <a:gs pos="100000">
                      <a:srgbClr val="005f82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9" name="Oval 15"/>
                <p:cNvSpPr/>
                <p:nvPr/>
              </p:nvSpPr>
              <p:spPr>
                <a:xfrm>
                  <a:off x="1511280" y="1970640"/>
                  <a:ext cx="25812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c63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0" name="Group 16"/>
            <p:cNvGrpSpPr/>
            <p:nvPr/>
          </p:nvGrpSpPr>
          <p:grpSpPr>
            <a:xfrm>
              <a:off x="1983600" y="2590920"/>
              <a:ext cx="4721400" cy="507960"/>
              <a:chOff x="1983600" y="2590920"/>
              <a:chExt cx="4721400" cy="507960"/>
            </a:xfrm>
          </p:grpSpPr>
          <p:sp>
            <p:nvSpPr>
              <p:cNvPr id="591" name="AutoShape 17"/>
              <p:cNvSpPr/>
              <p:nvPr/>
            </p:nvSpPr>
            <p:spPr>
              <a:xfrm>
                <a:off x="2288160" y="2590920"/>
                <a:ext cx="441684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材料与方法 </a:t>
                </a: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2" name="Group 18"/>
              <p:cNvGrpSpPr/>
              <p:nvPr/>
            </p:nvGrpSpPr>
            <p:grpSpPr>
              <a:xfrm>
                <a:off x="1983600" y="2697120"/>
                <a:ext cx="380520" cy="381240"/>
                <a:chOff x="1983600" y="2697120"/>
                <a:chExt cx="380520" cy="381240"/>
              </a:xfrm>
            </p:grpSpPr>
            <p:sp>
              <p:nvSpPr>
                <p:cNvPr id="593" name="Oval 19"/>
                <p:cNvSpPr/>
                <p:nvPr/>
              </p:nvSpPr>
              <p:spPr>
                <a:xfrm>
                  <a:off x="1983600" y="2697120"/>
                  <a:ext cx="38052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4" name="Oval 20"/>
                <p:cNvSpPr/>
                <p:nvPr/>
              </p:nvSpPr>
              <p:spPr>
                <a:xfrm>
                  <a:off x="2005200" y="2718360"/>
                  <a:ext cx="336960" cy="33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a2a2"/>
                    </a:gs>
                    <a:gs pos="50000">
                      <a:srgbClr val="ffffff"/>
                    </a:gs>
                    <a:gs pos="100000">
                      <a:srgbClr val="a2a2a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5" name="Oval 21"/>
                <p:cNvSpPr/>
                <p:nvPr/>
              </p:nvSpPr>
              <p:spPr>
                <a:xfrm>
                  <a:off x="2025000" y="273852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b0f0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6" name="Oval 22"/>
                <p:cNvSpPr/>
                <p:nvPr/>
              </p:nvSpPr>
              <p:spPr>
                <a:xfrm>
                  <a:off x="2025000" y="273852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48be6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7" name="Oval 23"/>
                <p:cNvSpPr/>
                <p:nvPr/>
              </p:nvSpPr>
              <p:spPr>
                <a:xfrm>
                  <a:off x="2044440" y="275796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f82"/>
                    </a:gs>
                    <a:gs pos="50000">
                      <a:srgbClr val="00b0f0"/>
                    </a:gs>
                    <a:gs pos="100000">
                      <a:srgbClr val="005f82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Oval 24"/>
                <p:cNvSpPr/>
                <p:nvPr/>
              </p:nvSpPr>
              <p:spPr>
                <a:xfrm>
                  <a:off x="2044440" y="275796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8be67"/>
                    </a:gs>
                    <a:gs pos="100000">
                      <a:srgbClr val="235c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9" name="Group 25"/>
            <p:cNvGrpSpPr/>
            <p:nvPr/>
          </p:nvGrpSpPr>
          <p:grpSpPr>
            <a:xfrm>
              <a:off x="2135880" y="3459240"/>
              <a:ext cx="4721400" cy="507960"/>
              <a:chOff x="2135880" y="3459240"/>
              <a:chExt cx="4721400" cy="507960"/>
            </a:xfrm>
          </p:grpSpPr>
          <p:sp>
            <p:nvSpPr>
              <p:cNvPr id="600" name="AutoShape 26"/>
              <p:cNvSpPr/>
              <p:nvPr/>
            </p:nvSpPr>
            <p:spPr>
              <a:xfrm>
                <a:off x="2440440" y="3459240"/>
                <a:ext cx="441684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结果 </a:t>
                </a: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01" name="Group 27"/>
              <p:cNvGrpSpPr/>
              <p:nvPr/>
            </p:nvGrpSpPr>
            <p:grpSpPr>
              <a:xfrm>
                <a:off x="2135880" y="3535560"/>
                <a:ext cx="380520" cy="380880"/>
                <a:chOff x="2135880" y="3535560"/>
                <a:chExt cx="380520" cy="380880"/>
              </a:xfrm>
            </p:grpSpPr>
            <p:sp>
              <p:nvSpPr>
                <p:cNvPr id="602" name="Oval 28"/>
                <p:cNvSpPr/>
                <p:nvPr/>
              </p:nvSpPr>
              <p:spPr>
                <a:xfrm>
                  <a:off x="2135880" y="3535560"/>
                  <a:ext cx="38052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3" name="Oval 29"/>
                <p:cNvSpPr/>
                <p:nvPr/>
              </p:nvSpPr>
              <p:spPr>
                <a:xfrm>
                  <a:off x="2157480" y="3556800"/>
                  <a:ext cx="33696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a2a2"/>
                    </a:gs>
                    <a:gs pos="50000">
                      <a:srgbClr val="ffffff"/>
                    </a:gs>
                    <a:gs pos="100000">
                      <a:srgbClr val="a2a2a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4" name="Oval 30"/>
                <p:cNvSpPr/>
                <p:nvPr/>
              </p:nvSpPr>
              <p:spPr>
                <a:xfrm>
                  <a:off x="2177280" y="3576960"/>
                  <a:ext cx="2973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b0f0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5" name="Oval 31"/>
                <p:cNvSpPr/>
                <p:nvPr/>
              </p:nvSpPr>
              <p:spPr>
                <a:xfrm>
                  <a:off x="2177280" y="3576960"/>
                  <a:ext cx="2973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1b3e1"/>
                    </a:gs>
                    <a:gs pos="100000">
                      <a:srgbClr val="0f53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6" name="Oval 32"/>
                <p:cNvSpPr/>
                <p:nvPr/>
              </p:nvSpPr>
              <p:spPr>
                <a:xfrm>
                  <a:off x="2196720" y="3596400"/>
                  <a:ext cx="25812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f82"/>
                    </a:gs>
                    <a:gs pos="50000">
                      <a:srgbClr val="00b0f0"/>
                    </a:gs>
                    <a:gs pos="100000">
                      <a:srgbClr val="005f82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7" name="Oval 33"/>
                <p:cNvSpPr/>
                <p:nvPr/>
              </p:nvSpPr>
              <p:spPr>
                <a:xfrm>
                  <a:off x="2196720" y="3596400"/>
                  <a:ext cx="25812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1b3e1"/>
                    </a:gs>
                    <a:gs pos="100000">
                      <a:srgbClr val="10576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" name="Group 34"/>
            <p:cNvGrpSpPr/>
            <p:nvPr/>
          </p:nvGrpSpPr>
          <p:grpSpPr>
            <a:xfrm>
              <a:off x="1983600" y="4272120"/>
              <a:ext cx="4753080" cy="507960"/>
              <a:chOff x="1983600" y="4272120"/>
              <a:chExt cx="4753080" cy="507960"/>
            </a:xfrm>
          </p:grpSpPr>
          <p:sp>
            <p:nvSpPr>
              <p:cNvPr id="609" name="AutoShape 35"/>
              <p:cNvSpPr/>
              <p:nvPr/>
            </p:nvSpPr>
            <p:spPr>
              <a:xfrm>
                <a:off x="2319840" y="4272120"/>
                <a:ext cx="441684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讨论与结论</a:t>
                </a: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10" name="Group 36"/>
              <p:cNvGrpSpPr/>
              <p:nvPr/>
            </p:nvGrpSpPr>
            <p:grpSpPr>
              <a:xfrm>
                <a:off x="1983600" y="4373640"/>
                <a:ext cx="380520" cy="381240"/>
                <a:chOff x="1983600" y="4373640"/>
                <a:chExt cx="380520" cy="381240"/>
              </a:xfrm>
            </p:grpSpPr>
            <p:sp>
              <p:nvSpPr>
                <p:cNvPr id="611" name="Oval 37"/>
                <p:cNvSpPr/>
                <p:nvPr/>
              </p:nvSpPr>
              <p:spPr>
                <a:xfrm>
                  <a:off x="1983600" y="4373640"/>
                  <a:ext cx="38052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12" name="Oval 38"/>
                <p:cNvSpPr/>
                <p:nvPr/>
              </p:nvSpPr>
              <p:spPr>
                <a:xfrm>
                  <a:off x="2005200" y="4394880"/>
                  <a:ext cx="336960" cy="33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a2a2"/>
                    </a:gs>
                    <a:gs pos="50000">
                      <a:srgbClr val="ffffff"/>
                    </a:gs>
                    <a:gs pos="100000">
                      <a:srgbClr val="a2a2a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13" name="Oval 39"/>
                <p:cNvSpPr/>
                <p:nvPr/>
              </p:nvSpPr>
              <p:spPr>
                <a:xfrm>
                  <a:off x="2025000" y="441504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b0f0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14" name="Oval 40"/>
                <p:cNvSpPr/>
                <p:nvPr/>
              </p:nvSpPr>
              <p:spPr>
                <a:xfrm>
                  <a:off x="2025000" y="441504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8d67e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15" name="Oval 41"/>
                <p:cNvSpPr/>
                <p:nvPr/>
              </p:nvSpPr>
              <p:spPr>
                <a:xfrm>
                  <a:off x="2044440" y="443448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f82"/>
                    </a:gs>
                    <a:gs pos="50000">
                      <a:srgbClr val="00b0f0"/>
                    </a:gs>
                    <a:gs pos="100000">
                      <a:srgbClr val="005f82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16" name="Oval 42"/>
                <p:cNvSpPr/>
                <p:nvPr/>
              </p:nvSpPr>
              <p:spPr>
                <a:xfrm>
                  <a:off x="2044440" y="443448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67e1"/>
                    </a:gs>
                    <a:gs pos="100000">
                      <a:srgbClr val="45326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7" name="Group 43"/>
            <p:cNvGrpSpPr/>
            <p:nvPr/>
          </p:nvGrpSpPr>
          <p:grpSpPr>
            <a:xfrm>
              <a:off x="1526760" y="5099040"/>
              <a:ext cx="4714920" cy="507960"/>
              <a:chOff x="1526760" y="5099040"/>
              <a:chExt cx="4714920" cy="507960"/>
            </a:xfrm>
          </p:grpSpPr>
          <p:sp>
            <p:nvSpPr>
              <p:cNvPr id="618" name="AutoShape 44"/>
              <p:cNvSpPr/>
              <p:nvPr/>
            </p:nvSpPr>
            <p:spPr>
              <a:xfrm>
                <a:off x="1824840" y="5099040"/>
                <a:ext cx="441684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鸣谢 </a:t>
                </a: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19" name="Group 45"/>
              <p:cNvGrpSpPr/>
              <p:nvPr/>
            </p:nvGrpSpPr>
            <p:grpSpPr>
              <a:xfrm>
                <a:off x="1526760" y="5148360"/>
                <a:ext cx="355320" cy="380880"/>
                <a:chOff x="1526760" y="5148360"/>
                <a:chExt cx="355320" cy="380880"/>
              </a:xfrm>
            </p:grpSpPr>
            <p:sp>
              <p:nvSpPr>
                <p:cNvPr id="620" name="Oval 46"/>
                <p:cNvSpPr/>
                <p:nvPr/>
              </p:nvSpPr>
              <p:spPr>
                <a:xfrm>
                  <a:off x="1526760" y="5148360"/>
                  <a:ext cx="35532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21" name="Oval 47"/>
                <p:cNvSpPr/>
                <p:nvPr/>
              </p:nvSpPr>
              <p:spPr>
                <a:xfrm>
                  <a:off x="1546920" y="5169600"/>
                  <a:ext cx="31464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a2a2"/>
                    </a:gs>
                    <a:gs pos="50000">
                      <a:srgbClr val="ffffff"/>
                    </a:gs>
                    <a:gs pos="100000">
                      <a:srgbClr val="a2a2a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22" name="Oval 48"/>
                <p:cNvSpPr/>
                <p:nvPr/>
              </p:nvSpPr>
              <p:spPr>
                <a:xfrm>
                  <a:off x="1565280" y="5189760"/>
                  <a:ext cx="2775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b0f0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23" name="Oval 49"/>
                <p:cNvSpPr/>
                <p:nvPr/>
              </p:nvSpPr>
              <p:spPr>
                <a:xfrm>
                  <a:off x="1565280" y="5189760"/>
                  <a:ext cx="2775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e35e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24" name="Oval 50"/>
                <p:cNvSpPr/>
                <p:nvPr/>
              </p:nvSpPr>
              <p:spPr>
                <a:xfrm>
                  <a:off x="1583640" y="5209200"/>
                  <a:ext cx="24120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f82"/>
                    </a:gs>
                    <a:gs pos="50000">
                      <a:srgbClr val="00b0f0"/>
                    </a:gs>
                    <a:gs pos="100000">
                      <a:srgbClr val="005f82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25" name="Oval 51"/>
                <p:cNvSpPr/>
                <p:nvPr/>
              </p:nvSpPr>
              <p:spPr>
                <a:xfrm>
                  <a:off x="1583640" y="5209200"/>
                  <a:ext cx="24120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5e23"/>
                    </a:gs>
                    <a:gs pos="100000">
                      <a:srgbClr val="6e2e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6" name="Text Box 52"/>
          <p:cNvSpPr/>
          <p:nvPr/>
        </p:nvSpPr>
        <p:spPr>
          <a:xfrm>
            <a:off x="16765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目录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页脚占位符 3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429000" y="228240"/>
            <a:ext cx="137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前言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82460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1d528d"/>
                </a:solidFill>
                <a:latin typeface="Verdana"/>
                <a:ea typeface="宋体"/>
              </a:rPr>
              <a:t>丙型肝炎的危害</a:t>
            </a:r>
            <a:endParaRPr b="0" lang="en-US" sz="29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1d528d"/>
                </a:solidFill>
                <a:latin typeface="Verdana"/>
                <a:ea typeface="宋体"/>
              </a:rPr>
              <a:t>主要经血液传播</a:t>
            </a:r>
            <a:endParaRPr b="0" lang="en-US" sz="29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1d528d"/>
                </a:solidFill>
                <a:latin typeface="Verdana"/>
                <a:ea typeface="宋体"/>
              </a:rPr>
              <a:t>全球</a:t>
            </a:r>
            <a:r>
              <a:rPr b="0" lang="zh-CN" sz="2900" spc="-1" strike="noStrike">
                <a:solidFill>
                  <a:srgbClr val="1d528d"/>
                </a:solidFill>
                <a:latin typeface="Verdana"/>
                <a:ea typeface="宋体"/>
              </a:rPr>
              <a:t>1.7</a:t>
            </a:r>
            <a:r>
              <a:rPr b="0" lang="zh-CN" sz="2900" spc="-1" strike="noStrike">
                <a:solidFill>
                  <a:srgbClr val="1d528d"/>
                </a:solidFill>
                <a:latin typeface="Verdana"/>
                <a:ea typeface="宋体"/>
              </a:rPr>
              <a:t>亿人感染，我国占</a:t>
            </a:r>
            <a:r>
              <a:rPr b="0" lang="zh-CN" sz="2900" spc="-1" strike="noStrike">
                <a:solidFill>
                  <a:srgbClr val="1d528d"/>
                </a:solidFill>
                <a:latin typeface="Verdana"/>
                <a:ea typeface="宋体"/>
              </a:rPr>
              <a:t>5000</a:t>
            </a:r>
            <a:r>
              <a:rPr b="0" lang="zh-CN" sz="2900" spc="-1" strike="noStrike">
                <a:solidFill>
                  <a:srgbClr val="1d528d"/>
                </a:solidFill>
                <a:latin typeface="Verdana"/>
                <a:ea typeface="宋体"/>
              </a:rPr>
              <a:t>万</a:t>
            </a:r>
            <a:endParaRPr b="0" lang="en-US" sz="29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0" name="Picture 4" descr="01300000931713135156801532803"/>
          <p:cNvPicPr/>
          <p:nvPr/>
        </p:nvPicPr>
        <p:blipFill>
          <a:blip r:embed="rId1"/>
          <a:stretch/>
        </p:blipFill>
        <p:spPr>
          <a:xfrm>
            <a:off x="6934320" y="990720"/>
            <a:ext cx="2057400" cy="12729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" descr="u=4086777229,541572124&amp;fm=23&amp;gp=0"/>
          <p:cNvPicPr/>
          <p:nvPr/>
        </p:nvPicPr>
        <p:blipFill>
          <a:blip r:embed="rId2"/>
          <a:stretch/>
        </p:blipFill>
        <p:spPr>
          <a:xfrm>
            <a:off x="533520" y="2590920"/>
            <a:ext cx="4647960" cy="35668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6" descr="u=1847542592,910004815&amp;fm=23&amp;gp=0"/>
          <p:cNvPicPr/>
          <p:nvPr/>
        </p:nvPicPr>
        <p:blipFill>
          <a:blip r:embed="rId3"/>
          <a:stretch/>
        </p:blipFill>
        <p:spPr>
          <a:xfrm>
            <a:off x="5181480" y="3809880"/>
            <a:ext cx="38102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页脚占位符 3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1d528d"/>
              </a:solidFill>
              <a:latin typeface="Verdana"/>
              <a:ea typeface="宋体"/>
            </a:endParaRPr>
          </a:p>
        </p:txBody>
      </p:sp>
      <p:grpSp>
        <p:nvGrpSpPr>
          <p:cNvPr id="635" name="Group 3"/>
          <p:cNvGrpSpPr/>
          <p:nvPr/>
        </p:nvGrpSpPr>
        <p:grpSpPr>
          <a:xfrm>
            <a:off x="1219320" y="2971800"/>
            <a:ext cx="2286000" cy="2666880"/>
            <a:chOff x="1219320" y="2971800"/>
            <a:chExt cx="2286000" cy="2666880"/>
          </a:xfrm>
        </p:grpSpPr>
        <p:sp>
          <p:nvSpPr>
            <p:cNvPr id="636" name="AutoShape 4"/>
            <p:cNvSpPr/>
            <p:nvPr/>
          </p:nvSpPr>
          <p:spPr>
            <a:xfrm>
              <a:off x="121932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Text Box 5"/>
            <p:cNvSpPr/>
            <p:nvPr/>
          </p:nvSpPr>
          <p:spPr>
            <a:xfrm>
              <a:off x="1314720" y="317196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探讨相互之间的关系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38" name="未知"/>
          <p:cNvSpPr/>
          <p:nvPr/>
        </p:nvSpPr>
        <p:spPr>
          <a:xfrm>
            <a:off x="3581280" y="23623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db3ac"/>
              </a:gs>
              <a:gs pos="100000">
                <a:srgbClr val="6fcfc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9" name="AutoShape 7"/>
          <p:cNvSpPr/>
          <p:nvPr/>
        </p:nvSpPr>
        <p:spPr>
          <a:xfrm flipH="1">
            <a:off x="4799880" y="327672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40" name="Group 8"/>
          <p:cNvGrpSpPr/>
          <p:nvPr/>
        </p:nvGrpSpPr>
        <p:grpSpPr>
          <a:xfrm>
            <a:off x="3124080" y="685800"/>
            <a:ext cx="2998440" cy="1695960"/>
            <a:chOff x="3124080" y="685800"/>
            <a:chExt cx="2998440" cy="1695960"/>
          </a:xfrm>
        </p:grpSpPr>
        <p:grpSp>
          <p:nvGrpSpPr>
            <p:cNvPr id="641" name="Group 9"/>
            <p:cNvGrpSpPr/>
            <p:nvPr/>
          </p:nvGrpSpPr>
          <p:grpSpPr>
            <a:xfrm>
              <a:off x="3124080" y="685800"/>
              <a:ext cx="2998440" cy="1695960"/>
              <a:chOff x="3124080" y="685800"/>
              <a:chExt cx="2998440" cy="1695960"/>
            </a:xfrm>
          </p:grpSpPr>
          <p:grpSp>
            <p:nvGrpSpPr>
              <p:cNvPr id="642" name="Group 10"/>
              <p:cNvGrpSpPr/>
              <p:nvPr/>
            </p:nvGrpSpPr>
            <p:grpSpPr>
              <a:xfrm>
                <a:off x="3124080" y="837000"/>
                <a:ext cx="2998440" cy="1544760"/>
                <a:chOff x="3124080" y="837000"/>
                <a:chExt cx="2998440" cy="1544760"/>
              </a:xfrm>
            </p:grpSpPr>
            <p:sp>
              <p:nvSpPr>
                <p:cNvPr id="643" name="Oval 11"/>
                <p:cNvSpPr/>
                <p:nvPr/>
              </p:nvSpPr>
              <p:spPr>
                <a:xfrm>
                  <a:off x="3156840" y="886320"/>
                  <a:ext cx="2965680" cy="149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0f0"/>
                    </a:gs>
                    <a:gs pos="100000">
                      <a:srgbClr val="005675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4" name="Oval 12"/>
                <p:cNvSpPr/>
                <p:nvPr/>
              </p:nvSpPr>
              <p:spPr>
                <a:xfrm>
                  <a:off x="3124080" y="837000"/>
                  <a:ext cx="2966040" cy="149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edcf8"/>
                    </a:gs>
                    <a:gs pos="100000">
                      <a:srgbClr val="00b0f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Oval 13"/>
              <p:cNvSpPr/>
              <p:nvPr/>
            </p:nvSpPr>
            <p:spPr>
              <a:xfrm>
                <a:off x="3265200" y="685800"/>
                <a:ext cx="2684520" cy="1420920"/>
              </a:xfrm>
              <a:prstGeom prst="ellipse">
                <a:avLst/>
              </a:prstGeom>
              <a:gradFill rotWithShape="0">
                <a:gsLst>
                  <a:gs pos="0">
                    <a:srgbClr val="0d4764"/>
                  </a:gs>
                  <a:gs pos="100000">
                    <a:srgbClr val="1b9ad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6" name="Oval 14"/>
              <p:cNvSpPr/>
              <p:nvPr/>
            </p:nvSpPr>
            <p:spPr>
              <a:xfrm>
                <a:off x="3300120" y="694080"/>
                <a:ext cx="2619720" cy="1385640"/>
              </a:xfrm>
              <a:prstGeom prst="ellipse">
                <a:avLst/>
              </a:prstGeom>
              <a:gradFill rotWithShape="0">
                <a:gsLst>
                  <a:gs pos="0">
                    <a:srgbClr val="1b9ad9">
                      <a:alpha val="0"/>
                    </a:srgbClr>
                  </a:gs>
                  <a:gs pos="100000">
                    <a:srgbClr val="afdc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Oval 15"/>
              <p:cNvSpPr/>
              <p:nvPr/>
            </p:nvSpPr>
            <p:spPr>
              <a:xfrm>
                <a:off x="3327120" y="707400"/>
                <a:ext cx="2492640" cy="1294920"/>
              </a:xfrm>
              <a:prstGeom prst="ellipse">
                <a:avLst/>
              </a:prstGeom>
              <a:gradFill rotWithShape="0">
                <a:gsLst>
                  <a:gs pos="0">
                    <a:srgbClr val="157aac"/>
                  </a:gs>
                  <a:gs pos="100000">
                    <a:srgbClr val="1b9ad9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8" name="Oval 16"/>
              <p:cNvSpPr/>
              <p:nvPr/>
            </p:nvSpPr>
            <p:spPr>
              <a:xfrm>
                <a:off x="3458880" y="735840"/>
                <a:ext cx="2194200" cy="1049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9ad9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9" name="Text Box 17"/>
            <p:cNvSpPr/>
            <p:nvPr/>
          </p:nvSpPr>
          <p:spPr>
            <a:xfrm>
              <a:off x="3909960" y="1017000"/>
              <a:ext cx="133812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HCV-RNA</a:t>
              </a:r>
              <a:r>
                <a:rPr b="1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检测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d528d"/>
                  </a:solidFill>
                  <a:latin typeface="宋体"/>
                  <a:ea typeface="宋体"/>
                </a:rPr>
                <a:t>抗</a:t>
              </a:r>
              <a:r>
                <a:rPr b="1" lang="en-US" sz="1800" spc="-1" strike="noStrike">
                  <a:solidFill>
                    <a:srgbClr val="1d528d"/>
                  </a:solidFill>
                  <a:latin typeface="宋体"/>
                  <a:ea typeface="宋体"/>
                </a:rPr>
                <a:t>-HCV</a:t>
              </a:r>
              <a:r>
                <a:rPr b="1" lang="zh-CN" sz="1800" spc="-1" strike="noStrike">
                  <a:solidFill>
                    <a:srgbClr val="1d528d"/>
                  </a:solidFill>
                  <a:latin typeface="宋体"/>
                  <a:ea typeface="宋体"/>
                </a:rPr>
                <a:t>检测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宋体"/>
                  <a:ea typeface="宋体"/>
                </a:rPr>
                <a:t>ALT</a:t>
              </a:r>
              <a:r>
                <a:rPr b="1" lang="zh-CN" sz="1800" spc="-1" strike="noStrike">
                  <a:solidFill>
                    <a:srgbClr val="1d528d"/>
                  </a:solidFill>
                  <a:latin typeface="宋体"/>
                  <a:ea typeface="宋体"/>
                </a:rPr>
                <a:t>检测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50" name="Group 18"/>
          <p:cNvGrpSpPr/>
          <p:nvPr/>
        </p:nvGrpSpPr>
        <p:grpSpPr>
          <a:xfrm>
            <a:off x="5181480" y="3809880"/>
            <a:ext cx="2286000" cy="2666880"/>
            <a:chOff x="5181480" y="3809880"/>
            <a:chExt cx="2286000" cy="2666880"/>
          </a:xfrm>
        </p:grpSpPr>
        <p:sp>
          <p:nvSpPr>
            <p:cNvPr id="651" name="AutoShape 19"/>
            <p:cNvSpPr/>
            <p:nvPr/>
          </p:nvSpPr>
          <p:spPr>
            <a:xfrm>
              <a:off x="5181480" y="38098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Text Box 20"/>
            <p:cNvSpPr/>
            <p:nvPr/>
          </p:nvSpPr>
          <p:spPr>
            <a:xfrm>
              <a:off x="5352840" y="403848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以便更好地用于诊断病情、疗效评价及预后的研究</a:t>
              </a:r>
              <a:r>
                <a:rPr b="1" lang="zh-CN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53" name="未知"/>
          <p:cNvSpPr/>
          <p:nvPr/>
        </p:nvSpPr>
        <p:spPr>
          <a:xfrm flipH="1">
            <a:off x="3961800" y="45720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aee6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页脚占位符 2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8120" y="152280"/>
            <a:ext cx="2743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材料与方法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228600" y="2284560"/>
            <a:ext cx="817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、数据的来源（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2011.10~2013.3</a:t>
            </a: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医院 男：女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108:92</a:t>
            </a: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1.17:1</a:t>
            </a: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），年龄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18~95  </a:t>
            </a: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平均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51</a:t>
            </a: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、仪器试剂及检测方法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2.1 HCV-RNA </a:t>
            </a: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FQ-PCR</a:t>
            </a: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2.2 </a:t>
            </a: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抗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-HCV </a:t>
            </a: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（化学发光免疫）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2.3 ALT</a:t>
            </a: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AU-640</a:t>
            </a: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SPSS    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x</a:t>
            </a:r>
            <a:r>
              <a:rPr b="0" lang="en-US" sz="2000" spc="-1" strike="noStrike" baseline="30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线性相关分析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7" name="Picture 4" descr="01300000931713135156801532803"/>
          <p:cNvPicPr/>
          <p:nvPr/>
        </p:nvPicPr>
        <p:blipFill>
          <a:blip r:embed="rId1"/>
          <a:stretch/>
        </p:blipFill>
        <p:spPr>
          <a:xfrm>
            <a:off x="5257800" y="3733920"/>
            <a:ext cx="262908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页脚占位符 3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结果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661" name="Picture 4" descr="M1~VXX)81E8DRS`V3H%8}P1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292896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5"/>
          <p:cNvSpPr/>
          <p:nvPr/>
        </p:nvSpPr>
        <p:spPr>
          <a:xfrm>
            <a:off x="1981080" y="3505320"/>
            <a:ext cx="5257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200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例数据中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PCR-RNA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阳性率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50.0%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抗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-HCV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阳性率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98%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在抗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- HCV 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检测阴性的标本中，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HCV-RNA 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的检出率为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100%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两种方法检测结果的符合率为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48%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96/200 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）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经配对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χ2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检验 ，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FQ- PCR 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检测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HCV-RNA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阳性检测率存在统计学差异（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χ2=88.62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P&lt;0.005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）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页脚占位符 3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结果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1d528d"/>
              </a:solidFill>
              <a:latin typeface="Verdana"/>
              <a:ea typeface="宋体"/>
            </a:endParaRPr>
          </a:p>
        </p:txBody>
      </p:sp>
      <p:pic>
        <p:nvPicPr>
          <p:cNvPr id="666" name="Picture 4" descr="}{FIA$~@K)590K[DA~AQC0O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28306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5"/>
          <p:cNvSpPr/>
          <p:nvPr/>
        </p:nvSpPr>
        <p:spPr>
          <a:xfrm>
            <a:off x="1752480" y="3657600"/>
            <a:ext cx="58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200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例数据中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ALT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检测的异常率为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25%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在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HCV-RNA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的检测阴性标本中，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ALT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的异常率为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14%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两种方法检测结果的符合率为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61%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。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页脚占位符 3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d528d"/>
              </a:solidFill>
              <a:latin typeface="Verdana"/>
              <a:ea typeface="宋体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1d528d"/>
              </a:solidFill>
              <a:latin typeface="Verdana"/>
              <a:ea typeface="宋体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1676520" y="426708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在抗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-HCV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检测阴性的标本中，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ALT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的异常率为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25%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两种方法检测结果的符合率为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26%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72" name="Picture 5" descr="YE5KEUZSVOZ}7Y9L)5PL~K4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页脚占位符 3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d528d"/>
              </a:solidFill>
              <a:latin typeface="Verdana"/>
              <a:ea typeface="宋体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1d528d"/>
              </a:solidFill>
              <a:latin typeface="Verdana"/>
              <a:ea typeface="宋体"/>
            </a:endParaRPr>
          </a:p>
        </p:txBody>
      </p:sp>
      <p:pic>
        <p:nvPicPr>
          <p:cNvPr id="676" name="Picture 4" descr="0~QFSI%VJ433$T@I[}]{0(F"/>
          <p:cNvPicPr/>
          <p:nvPr/>
        </p:nvPicPr>
        <p:blipFill>
          <a:blip r:embed="rId1"/>
          <a:stretch/>
        </p:blipFill>
        <p:spPr>
          <a:xfrm>
            <a:off x="1600200" y="914400"/>
            <a:ext cx="6257880" cy="400068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5"/>
          <p:cNvSpPr/>
          <p:nvPr/>
        </p:nvSpPr>
        <p:spPr>
          <a:xfrm>
            <a:off x="1143000" y="4572000"/>
            <a:ext cx="72388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HCV-RNA 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载量高于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1×10 3 copies/ml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血清标本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100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例， 其中抗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-HCV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阳性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96 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例， 阳性率为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96%(96/100)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抗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-HCV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阳性率与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HCV-RNA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载量的对数值进行直线相关性检验，两者呈正相关（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r=0.961,P&lt;0.005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且在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HCV-RNA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载量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&gt;10</a:t>
            </a:r>
            <a:r>
              <a:rPr b="1" lang="en-US" sz="1800" spc="-1" strike="noStrike" baseline="30000">
                <a:solidFill>
                  <a:srgbClr val="1d528d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时，抗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-HCV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的阳性率为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100%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。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/>
  <dc:description/>
  <cp:keywords/>
  <dc:language>en-US</dc:language>
  <cp:lastModifiedBy>Bella </cp:lastModifiedBy>
  <dcterms:modified xsi:type="dcterms:W3CDTF">2015-01-19T01:18:32Z</dcterms:modified>
  <cp:revision>9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