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D93-1A15-4E2D-B854-F3832573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EE5-D297-4B48-8316-694D51BB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DA1B5-8E7E-4108-8C1F-406488C8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46032-4CE5-4668-A143-0176EC00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9A538-3459-482C-9CFE-B8C092F7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022FD-2A6D-4EA5-A9D2-FB3B7CB8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9A8DA-8733-4FB3-A40F-7335161D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5E77D-761B-4710-9835-0025F1C0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52036-AEEF-4416-BD69-5F54D4A5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9AE65-B8AD-449C-BEBC-F93BBE14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1D163-8FE3-4662-8B22-B71C0ACA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1726D-C258-43CE-8207-D557B187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9DA-DCD6-4993-8C3C-47172B92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E8125-3384-4DC6-BFB2-6D6EE616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2030D-5A0E-410C-9F34-2CD36682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9CB71-3EC9-4031-AB92-38813696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0415D-8C64-4CB4-B446-EA43E98D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E0C82-62EE-47C9-AFBD-0239EA16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091D4-5E8D-4857-9AA5-21ED283E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4FAA2-F0FB-4313-814E-5906C7B4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B3305-69CD-42C6-821F-813950E9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04EC7-EECC-4A02-B38E-CC9835BE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D4C38-4393-438B-877B-39AEACDA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E2A-57E7-4CBD-9C65-5482DC16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A9059-247A-4116-8762-1B0A5616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746DF-44BA-4CE7-808C-8AA28303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49282-01B2-4E88-80AF-5A8BC0E3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2DCEF-0AD5-46B8-BA3E-340700BC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48832-1F3F-418B-B45B-FDC25B60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1666E-7BB3-4935-B847-F1CA22CE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14985-D8AC-434E-9B65-CDC24CAF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47CA3-2DD7-4296-BDE7-044CFCEA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5C95D-64BF-4FFA-BD8C-50E83A11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88375-D9C3-43B0-B0EA-9D6C0504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5C14-7A19-4F84-9824-92939321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AE25C-A6AD-433B-A4F9-A8C395AC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39340-D809-48EF-AB5D-6AD568CA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7117C-0666-4760-93F8-EF22B8CD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EC8FF-DFC0-473A-99DD-516307D7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C5509-356F-4C81-87E1-E27B50D5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E1001-38CA-4633-97CB-37997CD1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CB781-0690-48AF-A36B-7CC9415E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B1533-5276-446C-9EEA-B81043DF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90E30-442E-46AC-B941-F8D3E557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50F2F-6536-4CF2-BF46-29898464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1A32-1B93-4294-987B-2633CC42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02B66-136D-4AF9-8EA0-8DA1193E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D8955-C875-4104-8FDE-B9B78599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D4AD8-D451-4D70-BE61-61FE488E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A126F-DE65-40DE-B479-9AE11BCB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C766F-8898-4691-80F2-7C759DF4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AE41-E07D-4B58-859B-AE2E6648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C8AD-B714-4469-80A0-128AC4D7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1889-38DF-49AC-A71E-047DA782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1842-C87C-4E73-AC78-8DA98F38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AA20-8901-4F15-AA92-6DC79305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546-D09E-4E4C-BE7F-2F7F7044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4A9C-9186-44DB-87AD-1F7DD48D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7482-F464-4E58-9814-2608B3B5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D3EC-AA73-48B1-BF80-728EA0D8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8FD1-9CF9-401D-9F3B-B4BD4DF1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415F-B07C-4C33-AC4C-6019B870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55EA-CF4F-4B85-9089-2D03D74E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9318-C378-4177-8DAE-81689AF2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2102D-8ACF-4B9F-8F4D-2B8AEE28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DEDC-5D76-4ACC-AD67-16265788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B504-BE89-497C-A65A-A3DDCD5D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E4D-FB48-44FA-A984-CB46C0AF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1176-F499-4E99-BC96-13BC7AEA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53E6-F558-4CD7-BF79-408F91FB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57652-DE32-4DD1-9E31-80C725FC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60EC-D726-403A-A2F6-6E977081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85D8-1F27-4099-84DD-5E7D0067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3BAC-EDBC-4ADC-A175-D11B3EFF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3E8B-9046-407D-BC98-220D6B84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50B26-AA9C-40B9-B486-63024D20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66E16-2F65-4F21-9053-7AF50838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9A7ED-EFE7-428D-8396-118923E6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3D3-0DDE-4C55-983B-25BACD19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CA333-FEC6-4A75-B8A0-F8871B14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ADAFE-E398-4CF6-BF6E-032FF5E1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B7109-8646-476B-BA0D-E4EE18A3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765F6-EB31-4BE4-BD35-2117F179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87D5A-EF8C-48E0-9FFC-AE2A65E0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29AB-0AAB-447C-A0C6-AC005553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9655-E68F-4FB7-8D2F-466DFFE4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52D5-AB7F-43B8-BF9E-C24F002F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C599E-E501-416F-BFDC-70DF894F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D4CCA-A4B6-487B-BCA5-07B1CFC4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B83-A275-45E8-8C75-7EB9F7FF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51B7D-36FD-4105-B951-1A8F2DC9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D827B-7E86-48DC-B2D3-C009D151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4F44-7C80-4D2D-9053-10D9406B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0CB97-78AB-4F18-933F-F29C74FE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B655C-40B6-4545-A46E-430D2E72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B374E-EDC8-44D6-8C0C-40FD490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7B4CB-48BB-4905-8324-1C664E68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889BB-0F3D-4BB9-8361-E633EA88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1DC7F-194A-40F5-A18F-9BA0D924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D2CE7-B3EE-4CC4-9714-E1D4EAE4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B0E-F7FB-4098-927B-6CF11751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77777-8DB5-4C98-B030-D0B2DA58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921AA-F1A6-4183-834F-BEA77FAC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58D4F-AC73-4921-8431-20F675B4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2B73C-4CAE-420E-82DD-5BBD8134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DFB26-7FB5-4A95-B3DE-EC2E56C4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1E5DA-EFF0-46B4-AAE5-8DD211F2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31512-B586-4CB5-9048-9D6ADA38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03771-2259-4F5A-B004-07B8959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73312-55BE-49D4-8F0C-39542BA3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394C5-EF76-47C6-B697-D34D665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0EB-8957-4F1A-8ABA-DF7A726C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6FCC5-147D-42D3-8515-FD3B4DEB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60455-0630-449E-8719-13964CA2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C64DF-33DC-477A-95C3-9490D043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19ED5-B6DF-42D7-AC38-03F3FD0C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50758-3C92-4567-8729-FE482C17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1A494-3098-4F90-94FF-034AE445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D5CD3-C4D5-4A40-8368-171CFCE4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B0ABA-6099-4224-BF6A-C103EC15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E68BB-6624-4AAA-8F4A-D63F3F7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97589-3843-44C1-BBE8-B4E7980A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EA1-916D-4420-A497-814D3C8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88BB0-5A3C-4EE4-969C-F15ABEF3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4CD2B-EFE4-4FCE-92B5-17145EF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B2247-E2AD-4EF4-A4BF-49E6E27D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68766-99BA-480B-8172-1B1A6756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221A5-F10A-43A9-B456-0BF4478C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33E95-0637-4E56-AE00-BDAF2EA4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A8890-EC45-42A2-8C6C-46F722F9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F4C30-BB60-4F13-9B34-E9FF4DB2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0ED73-4509-46BF-BF11-1AD188F7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85923-D087-4DA9-A895-CC7D86EF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FDD-EE8C-4212-A5D7-3CBEA95D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C344B-9506-464B-8132-F2609396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B44F2-0CF0-4FF5-95AE-8BC67A6F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CD829-BF70-429B-B0BE-F55BCCB1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C33AD-8EBA-4862-89FB-A54D249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A2740-9BAB-46FB-B4C6-99A4D45A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7AA7E-552B-4281-BC8E-8DD462E0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91D44-9C4A-4724-8D38-8F540CD9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C7CB4-99E9-4976-9F09-6C9FFD3E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D4E51-F8D9-493E-A52C-A4D983D1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CE184-BBB8-4905-AC8F-67174B32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8254-BB7E-4F79-AFA5-AC87635F3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903D-913B-41C6-9FAD-39976F820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156D-FCDF-4C29-84A8-6E2F4C8B8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dt" idx="3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ftr" idx="3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Num" idx="3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F79D-8A36-4D91-BDC3-D7BF20C5C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7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5141160" y="1036080"/>
              <a:ext cx="109620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6385680" y="2482920"/>
              <a:ext cx="78912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7986960" y="2661840"/>
              <a:ext cx="9356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1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7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5848-A3D4-408C-A929-49AEF5373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BCB9-E406-4102-97FF-EB9E78941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E828-444A-4C78-833D-7F703199A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171C-7B20-49C6-B0E3-A559A28D2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DAA2-62C0-4544-A985-1B30B4DCE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DD45-8C51-46E6-A575-92628227E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B879-1E95-494A-992D-031D330BC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dt" idx="2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ftr" idx="2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2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1480-5935-4244-8688-87F88022B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内容占位符 3" descr="清乾隆粉彩开光人物茶壶.jpg"/>
          <p:cNvPicPr/>
          <p:nvPr/>
        </p:nvPicPr>
        <p:blipFill>
          <a:blip r:embed="rId1"/>
          <a:stretch/>
        </p:blipFill>
        <p:spPr>
          <a:xfrm>
            <a:off x="1763640" y="1809720"/>
            <a:ext cx="5435640" cy="4318200"/>
          </a:xfrm>
          <a:prstGeom prst="rect">
            <a:avLst/>
          </a:prstGeom>
          <a:ln w="0">
            <a:noFill/>
          </a:ln>
        </p:spPr>
      </p:pic>
      <p:sp>
        <p:nvSpPr>
          <p:cNvPr id="892" name="WordArt 4"/>
          <p:cNvSpPr txBox="1"/>
          <p:nvPr/>
        </p:nvSpPr>
        <p:spPr>
          <a:xfrm>
            <a:off x="1692360" y="87948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景德镇的瓷器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5" descr="xin_3720305291506890451520"/>
          <p:cNvPicPr/>
          <p:nvPr/>
        </p:nvPicPr>
        <p:blipFill>
          <a:blip r:embed="rId1"/>
          <a:stretch/>
        </p:blipFill>
        <p:spPr>
          <a:xfrm>
            <a:off x="3143160" y="1519200"/>
            <a:ext cx="2857680" cy="3819600"/>
          </a:xfrm>
          <a:prstGeom prst="rect">
            <a:avLst/>
          </a:prstGeom>
          <a:ln w="0">
            <a:noFill/>
          </a:ln>
        </p:spPr>
      </p:pic>
      <p:sp>
        <p:nvSpPr>
          <p:cNvPr id="915" name="Text Box 6"/>
          <p:cNvSpPr/>
          <p:nvPr/>
        </p:nvSpPr>
        <p:spPr>
          <a:xfrm>
            <a:off x="3995640" y="5805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粉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4" descr=""/>
          <p:cNvPicPr/>
          <p:nvPr/>
        </p:nvPicPr>
        <p:blipFill>
          <a:blip r:embed="rId1"/>
          <a:stretch/>
        </p:blipFill>
        <p:spPr>
          <a:xfrm>
            <a:off x="2743200" y="836640"/>
            <a:ext cx="4105440" cy="450540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5"/>
          <p:cNvSpPr/>
          <p:nvPr/>
        </p:nvSpPr>
        <p:spPr>
          <a:xfrm>
            <a:off x="4427640" y="5516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Text Box 5"/>
          <p:cNvSpPr/>
          <p:nvPr/>
        </p:nvSpPr>
        <p:spPr>
          <a:xfrm>
            <a:off x="3780000" y="54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彩红色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184720" cy="4195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5"/>
          <p:cNvSpPr/>
          <p:nvPr/>
        </p:nvSpPr>
        <p:spPr>
          <a:xfrm>
            <a:off x="4069800" y="531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祭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图片 1" descr=""/>
          <p:cNvPicPr/>
          <p:nvPr/>
        </p:nvPicPr>
        <p:blipFill>
          <a:blip r:embed="rId1"/>
          <a:stretch/>
        </p:blipFill>
        <p:spPr>
          <a:xfrm>
            <a:off x="2494080" y="1268280"/>
            <a:ext cx="4098960" cy="3981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5"/>
          <p:cNvSpPr/>
          <p:nvPr/>
        </p:nvSpPr>
        <p:spPr>
          <a:xfrm>
            <a:off x="3564000" y="5589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豇豆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图片 1" descr=""/>
          <p:cNvPicPr/>
          <p:nvPr/>
        </p:nvPicPr>
        <p:blipFill>
          <a:blip r:embed="rId1"/>
          <a:stretch/>
        </p:blipFill>
        <p:spPr>
          <a:xfrm>
            <a:off x="1643040" y="981000"/>
            <a:ext cx="585792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5"/>
          <p:cNvSpPr/>
          <p:nvPr/>
        </p:nvSpPr>
        <p:spPr>
          <a:xfrm>
            <a:off x="4140360" y="566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紫玫瑰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2041560" y="1052640"/>
            <a:ext cx="5010120" cy="4486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5" descr="78628c46_2D00_e3d4_2D00_4944_2D00_989f_2D00_2a5a16f89bc7_5F00_picture"/>
          <p:cNvPicPr/>
          <p:nvPr/>
        </p:nvPicPr>
        <p:blipFill>
          <a:blip r:embed="rId1"/>
          <a:stretch/>
        </p:blipFill>
        <p:spPr>
          <a:xfrm>
            <a:off x="2843280" y="765000"/>
            <a:ext cx="3652920" cy="4507200"/>
          </a:xfrm>
          <a:prstGeom prst="rect">
            <a:avLst/>
          </a:prstGeom>
          <a:ln w="0">
            <a:noFill/>
          </a:ln>
        </p:spPr>
      </p:pic>
      <p:sp>
        <p:nvSpPr>
          <p:cNvPr id="927" name="Rectangle 6"/>
          <p:cNvSpPr/>
          <p:nvPr/>
        </p:nvSpPr>
        <p:spPr>
          <a:xfrm>
            <a:off x="3709440" y="5734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茶叶末色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6" descr=""/>
          <p:cNvPicPr/>
          <p:nvPr/>
        </p:nvPicPr>
        <p:blipFill>
          <a:blip r:embed="rId2"/>
          <a:stretch/>
        </p:blipFill>
        <p:spPr>
          <a:xfrm>
            <a:off x="8388360" y="5516640"/>
            <a:ext cx="628560" cy="12016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5" descr="20090317103034732"/>
          <p:cNvPicPr/>
          <p:nvPr/>
        </p:nvPicPr>
        <p:blipFill>
          <a:blip r:embed="rId1"/>
          <a:stretch/>
        </p:blipFill>
        <p:spPr>
          <a:xfrm>
            <a:off x="3000240" y="1125360"/>
            <a:ext cx="3803760" cy="4070520"/>
          </a:xfrm>
          <a:prstGeom prst="rect">
            <a:avLst/>
          </a:prstGeom>
          <a:ln w="0">
            <a:noFill/>
          </a:ln>
        </p:spPr>
      </p:pic>
      <p:sp>
        <p:nvSpPr>
          <p:cNvPr id="930" name="Rectangle 6"/>
          <p:cNvSpPr/>
          <p:nvPr/>
        </p:nvSpPr>
        <p:spPr>
          <a:xfrm>
            <a:off x="3851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阳开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4"/>
          <p:cNvSpPr/>
          <p:nvPr/>
        </p:nvSpPr>
        <p:spPr>
          <a:xfrm>
            <a:off x="826920" y="155736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乌黑闪亮的釉面上呈现出三处扁圆形的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釉，红釉四周呈现出黄、青、绿各色光泽，恰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颗太阳喷薄而出，美丽极了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5"/>
          <p:cNvSpPr/>
          <p:nvPr/>
        </p:nvSpPr>
        <p:spPr>
          <a:xfrm>
            <a:off x="755640" y="386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话细致地描写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阳开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色彩。一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喷薄而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阳开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彩静态的美写得活了起来，从中可以体会语言的精妙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Picture 6" descr="感受领悟"/>
          <p:cNvPicPr/>
          <p:nvPr/>
        </p:nvPicPr>
        <p:blipFill>
          <a:blip r:embed="rId1"/>
          <a:stretch/>
        </p:blipFill>
        <p:spPr>
          <a:xfrm>
            <a:off x="468360" y="836640"/>
            <a:ext cx="189072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17" descr="图片22"/>
          <p:cNvPicPr/>
          <p:nvPr/>
        </p:nvPicPr>
        <p:blipFill>
          <a:blip r:embed="rId1"/>
          <a:stretch/>
        </p:blipFill>
        <p:spPr>
          <a:xfrm>
            <a:off x="324000" y="260280"/>
            <a:ext cx="1114200" cy="1916280"/>
          </a:xfrm>
          <a:prstGeom prst="rect">
            <a:avLst/>
          </a:prstGeom>
          <a:ln w="0">
            <a:noFill/>
          </a:ln>
        </p:spPr>
      </p:pic>
      <p:sp>
        <p:nvSpPr>
          <p:cNvPr id="935" name="Text Box 22"/>
          <p:cNvSpPr/>
          <p:nvPr/>
        </p:nvSpPr>
        <p:spPr>
          <a:xfrm>
            <a:off x="2021040" y="1052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合作探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4"/>
          <p:cNvSpPr/>
          <p:nvPr/>
        </p:nvSpPr>
        <p:spPr>
          <a:xfrm>
            <a:off x="1881000" y="2325600"/>
            <a:ext cx="572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—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那段，体会品种的繁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合作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文中介绍景德镇瓷器的哪些种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重点介绍了哪两类瓷器，这两类瓷器中具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介绍了哪些瓷器，各有什么特点？（旁批谈体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小组内讨论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13" descr="创设情境"/>
          <p:cNvPicPr/>
          <p:nvPr/>
        </p:nvPicPr>
        <p:blipFill>
          <a:blip r:embed="rId1"/>
          <a:stretch/>
        </p:blipFill>
        <p:spPr>
          <a:xfrm>
            <a:off x="324000" y="333360"/>
            <a:ext cx="2074680" cy="56988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1" descr=""/>
          <p:cNvPicPr/>
          <p:nvPr/>
        </p:nvPicPr>
        <p:blipFill>
          <a:blip r:embed="rId2"/>
          <a:stretch/>
        </p:blipFill>
        <p:spPr>
          <a:xfrm>
            <a:off x="2195640" y="1143000"/>
            <a:ext cx="475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5"/>
          <p:cNvSpPr/>
          <p:nvPr/>
        </p:nvSpPr>
        <p:spPr>
          <a:xfrm>
            <a:off x="3492360" y="5661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黑体"/>
              </a:rPr>
              <a:t>青花梧桐餐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Picture 6" descr="1222050405"/>
          <p:cNvPicPr/>
          <p:nvPr/>
        </p:nvPicPr>
        <p:blipFill>
          <a:blip r:embed="rId1"/>
          <a:stretch/>
        </p:blipFill>
        <p:spPr>
          <a:xfrm>
            <a:off x="8178840" y="5445000"/>
            <a:ext cx="627120" cy="119700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1" descr=""/>
          <p:cNvPicPr/>
          <p:nvPr/>
        </p:nvPicPr>
        <p:blipFill>
          <a:blip r:embed="rId2"/>
          <a:stretch/>
        </p:blipFill>
        <p:spPr>
          <a:xfrm>
            <a:off x="1604880" y="1089000"/>
            <a:ext cx="591516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4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238720" cy="388620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5"/>
          <p:cNvSpPr/>
          <p:nvPr/>
        </p:nvSpPr>
        <p:spPr>
          <a:xfrm>
            <a:off x="3565080" y="54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黑体"/>
              </a:rPr>
              <a:t>青花玲珑餐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6" descr="1222050405"/>
          <p:cNvPicPr/>
          <p:nvPr/>
        </p:nvPicPr>
        <p:blipFill>
          <a:blip r:embed="rId2"/>
          <a:stretch/>
        </p:blipFill>
        <p:spPr>
          <a:xfrm>
            <a:off x="8178840" y="5445000"/>
            <a:ext cx="627120" cy="1197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5" descr="20081112818561"/>
          <p:cNvPicPr/>
          <p:nvPr/>
        </p:nvPicPr>
        <p:blipFill>
          <a:blip r:embed="rId1"/>
          <a:stretch/>
        </p:blipFill>
        <p:spPr>
          <a:xfrm>
            <a:off x="2268360" y="692280"/>
            <a:ext cx="4408560" cy="4408200"/>
          </a:xfrm>
          <a:prstGeom prst="rect">
            <a:avLst/>
          </a:prstGeom>
          <a:ln w="0">
            <a:noFill/>
          </a:ln>
        </p:spPr>
      </p:pic>
      <p:sp>
        <p:nvSpPr>
          <p:cNvPr id="944" name="Rectangle 6"/>
          <p:cNvSpPr/>
          <p:nvPr/>
        </p:nvSpPr>
        <p:spPr>
          <a:xfrm>
            <a:off x="3758400" y="537372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黑体"/>
              </a:rPr>
              <a:t>五子罗汉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7" descr="1222050405"/>
          <p:cNvPicPr/>
          <p:nvPr/>
        </p:nvPicPr>
        <p:blipFill>
          <a:blip r:embed="rId2"/>
          <a:stretch/>
        </p:blipFill>
        <p:spPr>
          <a:xfrm>
            <a:off x="8178840" y="5445000"/>
            <a:ext cx="627120" cy="1197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内容占位符 3" descr="粉彩钟馗醉酒像.jpg"/>
          <p:cNvPicPr/>
          <p:nvPr/>
        </p:nvPicPr>
        <p:blipFill>
          <a:blip r:embed="rId1"/>
          <a:stretch/>
        </p:blipFill>
        <p:spPr>
          <a:xfrm>
            <a:off x="1258920" y="1547640"/>
            <a:ext cx="5904000" cy="47530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图片22"/>
          <p:cNvPicPr/>
          <p:nvPr/>
        </p:nvPicPr>
        <p:blipFill>
          <a:blip r:embed="rId2"/>
          <a:stretch/>
        </p:blipFill>
        <p:spPr>
          <a:xfrm>
            <a:off x="0" y="0"/>
            <a:ext cx="1114560" cy="191628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6"/>
          <p:cNvSpPr/>
          <p:nvPr/>
        </p:nvSpPr>
        <p:spPr>
          <a:xfrm>
            <a:off x="8113680" y="2133720"/>
            <a:ext cx="459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7196400" y="2133720"/>
            <a:ext cx="127764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粉彩钟馗醉酒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9"/>
          <p:cNvSpPr/>
          <p:nvPr/>
        </p:nvSpPr>
        <p:spPr>
          <a:xfrm>
            <a:off x="1605240" y="5493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练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"/>
          <p:cNvSpPr/>
          <p:nvPr/>
        </p:nvSpPr>
        <p:spPr>
          <a:xfrm>
            <a:off x="4428720" y="8701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提示：抓住神态和动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4"/>
          <p:cNvSpPr/>
          <p:nvPr/>
        </p:nvSpPr>
        <p:spPr>
          <a:xfrm>
            <a:off x="0" y="1844640"/>
            <a:ext cx="90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粉彩钟馗醉酒像，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厘米，刻画了钟馗醉酒的艺术形象，钟馗醉酒依山石而坐，身穿红彩描金海水云龙纹长袍，腰间系一根黄丝带，足穿皂靴，右手持杯，左手垂落，双目紧闭，一副酩酊大醉的神态，人物形象细腻生动，惟妙惟肖。身后为松石绿釉山石，仿官釉酒坛置于石上，山石一侧刻“康熙年制”款。人物比例协调，衣纹潇洒自如，是康熙时期瓷雕艺术的珍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592200" y="3333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5"/>
          <p:cNvSpPr/>
          <p:nvPr/>
        </p:nvSpPr>
        <p:spPr>
          <a:xfrm>
            <a:off x="4141800" y="573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黑体"/>
              </a:rPr>
              <a:t>薄胎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图片 1" descr=""/>
          <p:cNvPicPr/>
          <p:nvPr/>
        </p:nvPicPr>
        <p:blipFill>
          <a:blip r:embed="rId1"/>
          <a:stretch/>
        </p:blipFill>
        <p:spPr>
          <a:xfrm>
            <a:off x="1593720" y="981000"/>
            <a:ext cx="5915160" cy="4419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2"/>
          <p:cNvSpPr/>
          <p:nvPr/>
        </p:nvSpPr>
        <p:spPr>
          <a:xfrm>
            <a:off x="1936080" y="1844640"/>
            <a:ext cx="4832280" cy="2104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景德镇的瓷器曾经</a:t>
            </a:r>
            <a:r>
              <a:rPr b="1" lang="zh-CN" sz="4400" spc="-1" strike="noStrike" u="sng">
                <a:solidFill>
                  <a:srgbClr val="e40000"/>
                </a:solidFill>
                <a:uFillTx/>
                <a:latin typeface="Arial"/>
              </a:rPr>
              <a:t>多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夺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际博览会金奖，为中国赢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4400" spc="-1" strike="noStrike" u="sng">
                <a:solidFill>
                  <a:srgbClr val="e40000"/>
                </a:solidFill>
                <a:uFillTx/>
                <a:latin typeface="Arial"/>
              </a:rPr>
              <a:t>不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荣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WordArt 3"/>
          <p:cNvSpPr txBox="1"/>
          <p:nvPr/>
        </p:nvSpPr>
        <p:spPr>
          <a:xfrm>
            <a:off x="900000" y="260280"/>
            <a:ext cx="36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品读感悟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8" name="Text Box 4"/>
          <p:cNvSpPr/>
          <p:nvPr/>
        </p:nvSpPr>
        <p:spPr>
          <a:xfrm>
            <a:off x="3164400" y="398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（对于画线词语谈感受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395280" y="443700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景德镇瓷器美，它为中国争得了荣誉，它蕴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我们中华民族源远流长的文化，凝结着劳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民的智慧，我们为它感到骄傲、自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6" descr="图片22"/>
          <p:cNvPicPr/>
          <p:nvPr/>
        </p:nvPicPr>
        <p:blipFill>
          <a:blip r:embed="rId3"/>
          <a:stretch/>
        </p:blipFill>
        <p:spPr>
          <a:xfrm>
            <a:off x="0" y="0"/>
            <a:ext cx="11145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5"/>
          <p:cNvSpPr/>
          <p:nvPr/>
        </p:nvSpPr>
        <p:spPr>
          <a:xfrm>
            <a:off x="395280" y="2421000"/>
            <a:ext cx="932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景德镇历史悠久，千百年来窑火不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景德镇人民用他们无穷的智慧和勤劳的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手创造了中国陶瓷史上最辉煌灿烂的一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历史。愿色彩艳丽、品种齐全的景德镇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器永远名扬四海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6"/>
          <p:cNvSpPr/>
          <p:nvPr/>
        </p:nvSpPr>
        <p:spPr>
          <a:xfrm>
            <a:off x="1692360" y="98100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7" descr="图片22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2016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6" descr="创设情境"/>
          <p:cNvPicPr/>
          <p:nvPr/>
        </p:nvPicPr>
        <p:blipFill>
          <a:blip r:embed="rId1"/>
          <a:stretch/>
        </p:blipFill>
        <p:spPr>
          <a:xfrm>
            <a:off x="324000" y="333360"/>
            <a:ext cx="2074680" cy="56988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1676520" y="1476360"/>
            <a:ext cx="57909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5" descr="日用瓷1"/>
          <p:cNvPicPr/>
          <p:nvPr/>
        </p:nvPicPr>
        <p:blipFill>
          <a:blip r:embed="rId1"/>
          <a:stretch/>
        </p:blipFill>
        <p:spPr>
          <a:xfrm>
            <a:off x="611280" y="1125360"/>
            <a:ext cx="8137440" cy="50403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3" descr="创设情境"/>
          <p:cNvPicPr/>
          <p:nvPr/>
        </p:nvPicPr>
        <p:blipFill>
          <a:blip r:embed="rId2"/>
          <a:stretch/>
        </p:blipFill>
        <p:spPr>
          <a:xfrm>
            <a:off x="324000" y="333360"/>
            <a:ext cx="20746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内容占位符 3" descr="古彩瓷 花卉.jpg"/>
          <p:cNvPicPr/>
          <p:nvPr/>
        </p:nvPicPr>
        <p:blipFill>
          <a:blip r:embed="rId1"/>
          <a:stretch/>
        </p:blipFill>
        <p:spPr>
          <a:xfrm>
            <a:off x="900000" y="1268280"/>
            <a:ext cx="7417080" cy="464364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13" descr="创设情境"/>
          <p:cNvPicPr/>
          <p:nvPr/>
        </p:nvPicPr>
        <p:blipFill>
          <a:blip r:embed="rId2"/>
          <a:stretch/>
        </p:blipFill>
        <p:spPr>
          <a:xfrm>
            <a:off x="324000" y="333360"/>
            <a:ext cx="20746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5"/>
          <p:cNvSpPr/>
          <p:nvPr/>
        </p:nvSpPr>
        <p:spPr>
          <a:xfrm>
            <a:off x="2527200" y="191556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景德镇的瓷器有什么特点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3187800" y="2781720"/>
            <a:ext cx="1034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薄如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如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如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如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7"/>
          <p:cNvSpPr/>
          <p:nvPr/>
        </p:nvSpPr>
        <p:spPr>
          <a:xfrm>
            <a:off x="1270080" y="3141720"/>
            <a:ext cx="10335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景德镇瓷器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8"/>
          <p:cNvSpPr/>
          <p:nvPr/>
        </p:nvSpPr>
        <p:spPr>
          <a:xfrm>
            <a:off x="2484360" y="2852640"/>
            <a:ext cx="358920" cy="2881440"/>
          </a:xfrm>
          <a:custGeom>
            <a:avLst/>
            <a:gdLst>
              <a:gd name="textAreaLeft" fmla="*/ 229320 w 358920"/>
              <a:gd name="textAreaRight" fmla="*/ 359280 w 35892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3" descr="1212046783"/>
          <p:cNvPicPr/>
          <p:nvPr/>
        </p:nvPicPr>
        <p:blipFill>
          <a:blip r:embed="rId1"/>
          <a:stretch/>
        </p:blipFill>
        <p:spPr>
          <a:xfrm>
            <a:off x="5435640" y="2852640"/>
            <a:ext cx="2728800" cy="292428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4" descr="感受领悟"/>
          <p:cNvPicPr/>
          <p:nvPr/>
        </p:nvPicPr>
        <p:blipFill>
          <a:blip r:embed="rId2"/>
          <a:stretch/>
        </p:blipFill>
        <p:spPr>
          <a:xfrm>
            <a:off x="468360" y="836640"/>
            <a:ext cx="189072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图片22"/>
          <p:cNvPicPr/>
          <p:nvPr/>
        </p:nvPicPr>
        <p:blipFill>
          <a:blip r:embed="rId1"/>
          <a:stretch/>
        </p:blipFill>
        <p:spPr>
          <a:xfrm>
            <a:off x="324000" y="260280"/>
            <a:ext cx="1114200" cy="191628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2021040" y="1052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主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2770920" y="2513160"/>
            <a:ext cx="429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第二自然段，感受色彩的艳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自由朗读第二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边读边勾画出景德镇的瓷器都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些丰富的色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把勾画出来的词语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6" descr="感受领悟"/>
          <p:cNvPicPr/>
          <p:nvPr/>
        </p:nvPicPr>
        <p:blipFill>
          <a:blip r:embed="rId1"/>
          <a:stretch/>
        </p:blipFill>
        <p:spPr>
          <a:xfrm>
            <a:off x="468360" y="836640"/>
            <a:ext cx="1890720" cy="512640"/>
          </a:xfrm>
          <a:prstGeom prst="rect">
            <a:avLst/>
          </a:prstGeom>
          <a:ln w="0">
            <a:noFill/>
          </a:ln>
        </p:spPr>
      </p:pic>
      <p:sp>
        <p:nvSpPr>
          <p:cNvPr id="911" name="Text Box 7"/>
          <p:cNvSpPr/>
          <p:nvPr/>
        </p:nvSpPr>
        <p:spPr>
          <a:xfrm>
            <a:off x="826920" y="2133720"/>
            <a:ext cx="691200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德镇的瓷器有典雅素净的青花，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彩艳丽的粉彩，万紫千红的古彩，五彩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纷的彩红色釉和似鸡血初凝的祭红、豇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、凤衣彩、紫玫瑰色、茶叶末色，以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称之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中之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阳开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6" descr="xinsrc_23203052212287652708226"/>
          <p:cNvPicPr/>
          <p:nvPr/>
        </p:nvPicPr>
        <p:blipFill>
          <a:blip r:embed="rId1"/>
          <a:stretch/>
        </p:blipFill>
        <p:spPr>
          <a:xfrm>
            <a:off x="3203640" y="692280"/>
            <a:ext cx="2857320" cy="4752720"/>
          </a:xfrm>
          <a:prstGeom prst="rect">
            <a:avLst/>
          </a:prstGeom>
          <a:ln w="0">
            <a:noFill/>
          </a:ln>
        </p:spPr>
      </p:pic>
      <p:sp>
        <p:nvSpPr>
          <p:cNvPr id="913" name="Text Box 7"/>
          <p:cNvSpPr/>
          <p:nvPr/>
        </p:nvSpPr>
        <p:spPr>
          <a:xfrm>
            <a:off x="3995640" y="57340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8:49:29Z</dcterms:created>
  <dc:creator>第一PPT模板网-WWW.1PPT.COM</dc:creator>
  <dc:description>第一PPT模板网-WWW.1PPT.COM
</dc:description>
  <cp:keywords>第一PPT模板网-WWW.1PPT.COM</cp:keywords>
  <dc:language>en-US</dc:language>
  <cp:lastModifiedBy>Sky123.Org</cp:lastModifiedBy>
  <dcterms:modified xsi:type="dcterms:W3CDTF">2015-08-03T08:11:21Z</dcterms:modified>
  <cp:revision>19</cp:revision>
  <dc:subject>第一PPT模板网-WWW.1PPT.COM</dc:subject>
  <dc:title>第一PPT模板网-WWW.1PPT.COM</dc:title>
</cp:coreProperties>
</file>