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314-DF2A-47C5-89AA-818EBCD3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E15D-9172-4D49-BF62-8FE29F09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CF77-0383-433C-9F37-EA0433DA5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A0F8-84E2-4F22-9691-FD526EBA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ED2F-2BC6-4B47-9D80-6C0AC440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B988-375E-4466-980A-DAF42F50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9F05-CEB6-4AD3-BF48-10E849C1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3B77-E231-4848-97E5-3DF9076F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74CB-012F-40BA-A6CE-1CC71EC9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2DDD-D072-4A28-B2DD-B7933A7A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FF96-FB1D-4290-B006-FC1F01B6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76B1-AAE2-4149-AE58-7B55F428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307A-9F7B-4E60-91DC-27209C1A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1E63-C002-4429-9EFF-C3FB5314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B893-4497-4F91-9644-F3F47D87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BBC2-E287-4A0E-8E73-082E7863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D982-88FB-4BB6-A5C9-CEC13F4A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D393-FE82-403B-AA16-8A2464F1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CC2E-B57E-447B-A359-29D365B0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6FB5-674E-4D92-8761-88CAABEA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A1C-B7E1-42E0-9980-4E7766DC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CE92-F42C-4D14-8653-79BB4846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BE8A-DBB5-497B-A306-BDC428BD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B294-F189-4A63-96BC-C8C9C15B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93a18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3a18"/>
                </a:solidFill>
                <a:latin typeface="Times New Roman"/>
              </a:rPr>
              <a:t>Click to edit the outline text format</a:t>
            </a: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393a1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3a18"/>
                </a:solidFill>
                <a:latin typeface="Times New Roman"/>
              </a:rPr>
              <a:t>Second Outline Level</a:t>
            </a: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393a1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3a18"/>
                </a:solidFill>
                <a:latin typeface="Times New Roman"/>
              </a:rPr>
              <a:t>Third Outline Level</a:t>
            </a: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393a1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3a18"/>
                </a:solidFill>
                <a:latin typeface="Times New Roman"/>
              </a:rPr>
              <a:t>Fourth Outline Level</a:t>
            </a: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393a18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3a18"/>
                </a:solidFill>
                <a:latin typeface="Times New Roman"/>
              </a:rPr>
              <a:t>Fifth Outline Level</a:t>
            </a: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3a18"/>
                </a:solidFill>
                <a:latin typeface="Times New Roman"/>
              </a:rPr>
              <a:t>Sixth Outline Level</a:t>
            </a: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3a18"/>
                </a:solidFill>
                <a:latin typeface="Times New Roman"/>
              </a:rPr>
              <a:t>Seventh Outline Level</a:t>
            </a: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A429-B8D4-4D83-88AB-C11686D552D5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93a18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6540-6893-4D61-BE98-579A2C7380AA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235538700&amp;tn=baiduimagedetail&amp;word=&#36158;&#23453;&#29577;&amp;in=4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56000" y="1341360"/>
            <a:ext cx="446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634"/>
                </a:solidFill>
                <a:latin typeface="Times New Roman"/>
                <a:ea typeface="楷体_GB2312"/>
              </a:rPr>
              <a:t>贾宝玉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1484280"/>
            <a:ext cx="7632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故寻愁觅恨，有时似傻如狂。纵然生得好皮囊，腹内原来草莽。潦倒不通世务，愚顽怕读文章。行为偏僻性乖张，那管世人诽谤！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富贵不知乐业，贫穷难耐凄凉。可怜辜负好韶光，于国于家无望。天下无能第一，古今不肖无双。寄言纨绔与膏梁：莫效此儿形状！　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24000" y="47628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634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3634"/>
                </a:solidFill>
                <a:latin typeface="Times New Roman"/>
                <a:ea typeface="楷体_GB2312"/>
              </a:rPr>
              <a:t>、西江月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628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两首词模拟封建正统派人物的口吻，运用了</a:t>
            </a:r>
            <a:r>
              <a:rPr b="1" lang="zh-CN" sz="3200" spc="-1" strike="noStrike">
                <a:solidFill>
                  <a:srgbClr val="ff3634"/>
                </a:solidFill>
                <a:latin typeface="Times New Roman"/>
                <a:ea typeface="楷体_GB2312"/>
              </a:rPr>
              <a:t>明贬暗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写法，表面上看好像是嘲讽、批判，实际上是在歌颂，既揭示了贾宝玉的叛逆性格，也表达了作者曹雪芹愤世嫉俗的思想感情。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一）行为偏僻性乖张</a:t>
            </a: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那世上所有之物摆了无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他抓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谁知他一概不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伸手只把些脂粉钗环抓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政老爹便大怒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来酒色之徒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!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此便大不喜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独那史老太君还是命根一样。</a:t>
            </a:r>
            <a:r>
              <a:rPr b="1" lang="zh-CN" sz="3200" spc="-1" strike="noStrike">
                <a:solidFill>
                  <a:srgbClr val="393a18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486900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634"/>
                </a:solidFill>
                <a:latin typeface="Times New Roman"/>
                <a:ea typeface="楷体_GB2312"/>
              </a:rPr>
              <a:t>女儿是水作的骨肉</a:t>
            </a:r>
            <a:r>
              <a:rPr b="1" lang="zh-CN" sz="3200" spc="-1" strike="noStrike">
                <a:solidFill>
                  <a:srgbClr val="ff3634"/>
                </a:solidFill>
                <a:latin typeface="Times New Roman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3634"/>
                </a:solidFill>
                <a:latin typeface="Times New Roman"/>
                <a:ea typeface="楷体_GB2312"/>
              </a:rPr>
              <a:t>男人是泥做的骨肉。我见了女儿，便觉清爽；见了男子，便觉浊臭逼人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二）古今不肖无双</a:t>
            </a: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背离主流文化</a:t>
            </a:r>
            <a:endParaRPr b="1" lang="en-US" sz="40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无法无天</a:t>
            </a:r>
            <a:endParaRPr b="1" lang="en-US" sz="4000" spc="-1" strike="noStrike">
              <a:solidFill>
                <a:srgbClr val="393a18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背离主流文化</a:t>
            </a: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嘲弄那些醉心于功名利禄的人是“禄蠹”。</a:t>
            </a: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人前背后乱说那些混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凡读书上进的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你就起个名字叫作“禄蠹”。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回）</a:t>
            </a: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袭人劝宝玉莫离经叛道</a:t>
            </a: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2692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林姑娘从来说过这些混账话不曾？若他也说过这些混账话，我早和他生分了。——”把社会上虽然功利性但是正统价值观的说教贬为“混账话”。</a:t>
            </a:r>
            <a:endParaRPr b="1" lang="en-US" sz="32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回贾宝玉猛烈攻击所谓“国贼禄鬼”，说“文死谏，武死战”是沽名钓誉。这种思想即使在今天来说也是另类的。</a:t>
            </a:r>
            <a:endParaRPr b="1" lang="en-US" sz="32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3a18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喜读“四书五经”，不愿与一般士大夫诸男人交往，不热衷举业文章并厌弃八股文，不习惯峨冠博带吊贺往还甚至晨昏定省等繁文缛节，不关心家族盛衰，不准备尽所谓辅国安民的责任。</a:t>
            </a:r>
            <a:endParaRPr b="1" lang="en-US" sz="32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句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流文化期待于男人的许多天经地义的事情，都被他等闲视之了。——没有沿袭着主流文化指示的路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追逐主流文化所赞赏的功名。正是这一核心性的背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宝玉被视为“不肖”。</a:t>
            </a:r>
            <a:endParaRPr b="1" lang="en-US" sz="32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93a18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无法无天</a:t>
            </a: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忠顺王府的长史官上门来说：“我们府里有一个做小旦的琪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3634"/>
                </a:solidFill>
                <a:latin typeface="Times New Roman"/>
              </a:rPr>
              <a:t>一向好好在府里</a:t>
            </a:r>
            <a:r>
              <a:rPr b="1" lang="zh-CN" sz="3200" spc="-1" strike="noStrike">
                <a:solidFill>
                  <a:srgbClr val="ff3634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ff3634"/>
                </a:solidFill>
                <a:latin typeface="Times New Roman"/>
              </a:rPr>
              <a:t>如今竟三五日不见回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处去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3634"/>
                </a:solidFill>
                <a:latin typeface="Times New Roman"/>
              </a:rPr>
              <a:t>他近日和衔玉的那位令郎相与甚厚</a:t>
            </a:r>
            <a:r>
              <a:rPr b="1" lang="zh-CN" sz="3200" spc="-1" strike="noStrike">
                <a:solidFill>
                  <a:srgbClr val="ff3634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若是别的戏子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百个也罢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是这琪官随机应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谨慎老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甚合我老人家的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竟断断少不得此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故此求老大人转谕令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将琪官放回。</a:t>
            </a:r>
            <a:endParaRPr b="1" lang="en-US" sz="32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93a18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538200"/>
            <a:ext cx="806436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634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长史官冷笑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"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既云不知此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红汗巾子怎么到了公子腰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"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宝玉听了这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觉轰去魂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目瞪口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心下自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"</a:t>
            </a:r>
            <a:r>
              <a:rPr b="1" lang="zh-CN" sz="2800" spc="-1" strike="noStrike">
                <a:solidFill>
                  <a:srgbClr val="ff3634"/>
                </a:solidFill>
                <a:latin typeface="Times New Roman"/>
                <a:ea typeface="楷体_GB2312"/>
              </a:rPr>
              <a:t>这话他如何得知</a:t>
            </a:r>
            <a:r>
              <a:rPr b="1" lang="zh-CN" sz="2800" spc="-1" strike="noStrike">
                <a:solidFill>
                  <a:srgbClr val="ff3634"/>
                </a:solidFill>
                <a:latin typeface="Times New Roman"/>
                <a:ea typeface="楷体_GB2312"/>
              </a:rPr>
              <a:t>!</a:t>
            </a:r>
            <a:r>
              <a:rPr b="1" lang="zh-CN" sz="2800" spc="-1" strike="noStrike">
                <a:solidFill>
                  <a:srgbClr val="ff3634"/>
                </a:solidFill>
                <a:latin typeface="Times New Roman"/>
                <a:ea typeface="楷体_GB2312"/>
              </a:rPr>
              <a:t>他既连这样机密事都知道了</a:t>
            </a:r>
            <a:r>
              <a:rPr b="1" lang="zh-CN" sz="2800" spc="-1" strike="noStrike">
                <a:solidFill>
                  <a:srgbClr val="ff3634"/>
                </a:solidFill>
                <a:latin typeface="Times New Roman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ff3634"/>
                </a:solidFill>
                <a:latin typeface="Times New Roman"/>
                <a:ea typeface="楷体_GB2312"/>
              </a:rPr>
              <a:t>大约别的瞒他不过</a:t>
            </a:r>
            <a:r>
              <a:rPr b="1" lang="zh-CN" sz="2800" spc="-1" strike="noStrike">
                <a:solidFill>
                  <a:srgbClr val="ff3634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3634"/>
                </a:solidFill>
                <a:latin typeface="Times New Roman"/>
                <a:ea typeface="楷体_GB2312"/>
              </a:rPr>
              <a:t>不如打发他去了</a:t>
            </a:r>
            <a:r>
              <a:rPr b="1" lang="zh-CN" sz="2800" spc="-1" strike="noStrike">
                <a:solidFill>
                  <a:srgbClr val="ff3634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3634"/>
                </a:solidFill>
                <a:latin typeface="Times New Roman"/>
                <a:ea typeface="楷体_GB2312"/>
              </a:rPr>
              <a:t>免的再说出别的事来</a:t>
            </a:r>
            <a:r>
              <a:rPr b="1" lang="zh-CN" sz="2800" spc="-1" strike="noStrike">
                <a:solidFill>
                  <a:srgbClr val="ff3634"/>
                </a:solidFill>
                <a:latin typeface="Times New Roman"/>
                <a:ea typeface="楷体_GB2312"/>
              </a:rPr>
              <a:t>."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说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"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人既知他的底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何连他置买房舍这样大事倒不晓得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ff3634"/>
                </a:solidFill>
                <a:latin typeface="Times New Roman"/>
                <a:ea typeface="楷体_GB2312"/>
              </a:rPr>
              <a:t>听得说他如今在东郊离城二十里有个什么紫檀堡</a:t>
            </a:r>
            <a:r>
              <a:rPr b="1" lang="zh-CN" sz="2800" spc="-1" strike="noStrike">
                <a:solidFill>
                  <a:srgbClr val="ff3634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在那里置了几亩田地几间房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是在那里也未可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贾政便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该死的奴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在家不读书也罢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怎么又做出这些</a:t>
            </a:r>
            <a:r>
              <a:rPr b="1" lang="zh-CN" sz="2800" spc="-1" strike="noStrike">
                <a:solidFill>
                  <a:srgbClr val="ff3634"/>
                </a:solidFill>
                <a:latin typeface="Times New Roman"/>
                <a:ea typeface="楷体_GB2312"/>
              </a:rPr>
              <a:t>无法无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事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!”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政冷笑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倒休提这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养了这不肖的孽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不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教训他一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有众人护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如趁今日一发勒死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3634"/>
                </a:solidFill>
                <a:latin typeface="Times New Roman"/>
              </a:rPr>
              <a:t>以绝将来之患</a:t>
            </a:r>
            <a:r>
              <a:rPr b="1" lang="zh-CN" sz="3200" spc="-1" strike="noStrike">
                <a:solidFill>
                  <a:srgbClr val="ff3634"/>
                </a:solidFill>
                <a:latin typeface="Times New Roman"/>
              </a:rPr>
              <a:t>!”</a:t>
            </a:r>
            <a:endParaRPr b="1" lang="en-US" sz="32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-343080" algn="just">
              <a:spcBef>
                <a:spcPts val="134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忠顺王府——北静王府——抄家。</a:t>
            </a:r>
            <a:endParaRPr b="1" lang="en-US" sz="54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93a18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 、宝玉的前世今生</a:t>
            </a: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93a18"/>
                </a:solidFill>
                <a:latin typeface="Times New Roman"/>
              </a:rPr>
              <a:t>神瑛侍者</a:t>
            </a: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只单单剩了一块未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便弃在此山青埂峰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谁知此石自经煅炼之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灵性已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因见众石俱得补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独自己无材不堪入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遂自怨自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夜悲号惭愧。</a:t>
            </a: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9640" y="754200"/>
            <a:ext cx="82803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一首词着重在概括贾宝玉的性格特点。“不通世务”“怕读文章”是贾宝玉的最主要，也是最可贵的性格，贾宝玉对封建礼教的反抗精神也集中体现在这里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通世务”是说他在结交仕人、应酬官府、遵守礼教等方面一概不通，不符合封建正统派人物的要求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怕读文章”是说他对封建统治阶级奉为经典的儒家著作，对猎取功名利禄的敲门砖——八股文章毫无兴趣。这样一个“愚顽”的“蠢物 ”，自然被封建统治阶级视为大逆不道的人，说他“行为偏僻性乖张”，然而，这正是贾宝玉的可贵之处。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538200"/>
            <a:ext cx="79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二首词着重在从批评告诫的角度，正文反作，进一步歌颂贾宝玉的叛逆性格。贾宝玉既不听从封建统治者对他的要求，去“通世务”“读文章”，也不安于封建统治者规定的本份，既“偏僻”，又“乖张”，所以，在那些人眼中，贾宝玉既“无能”，又“不肖”，而且天下第一。其实，这正反映了贾宝玉对封建正统思想的不满和反抗精神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9640" y="6825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摔玉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206064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它谓通灵而不能择人之高低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自己独有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3789360"/>
            <a:ext cx="6767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率真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天命的反抗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世俗的鄙弃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礼教的蔑视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666880"/>
            <a:ext cx="1828800" cy="1447920"/>
          </a:xfrm>
          <a:prstGeom prst="rect">
            <a:avLst/>
          </a:prstGeom>
          <a:gradFill rotWithShape="0">
            <a:gsLst>
              <a:gs pos="0">
                <a:srgbClr val="463634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66544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a947e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aa947e"/>
                </a:solidFill>
                <a:latin typeface="Tahoma"/>
                <a:ea typeface="华文行楷"/>
              </a:rPr>
              <a:t>表现主要人物性格的方法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2708280"/>
            <a:ext cx="333360" cy="1401840"/>
          </a:xfrm>
          <a:custGeom>
            <a:avLst/>
            <a:gdLst>
              <a:gd name="textAreaLeft" fmla="*/ 213120 w 333360"/>
              <a:gd name="textAreaRight" fmla="*/ 333720 w 333360"/>
              <a:gd name="textAreaTop" fmla="*/ 36360 h 1401840"/>
              <a:gd name="textAreaBottom" fmla="*/ 1365480 h 140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2200" y="241776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ahoma"/>
                <a:ea typeface="华文新魏"/>
              </a:rPr>
              <a:t>传统技法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2071800"/>
            <a:ext cx="2743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楷体_GB2312"/>
              </a:rPr>
              <a:t>言行外貌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楷体_GB2312"/>
              </a:rPr>
              <a:t>细节描写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22096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71640" y="37893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ahoma"/>
                <a:ea typeface="华文新魏"/>
              </a:rPr>
              <a:t>人物出场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366696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3492360"/>
            <a:ext cx="358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楷体_GB2312"/>
              </a:rPr>
              <a:t>侧面描写、充分铺垫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楷体_GB2312"/>
              </a:rPr>
              <a:t>未见其人、先闻其声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93a18"/>
                </a:solidFill>
                <a:latin typeface="Times New Roman"/>
                <a:ea typeface="楷体_GB2312"/>
              </a:rPr>
              <a:t>评价：</a:t>
            </a:r>
            <a:endParaRPr b="1" lang="en-US" sz="28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93a18"/>
                </a:solidFill>
                <a:latin typeface="Times New Roman"/>
              </a:rPr>
              <a:t>王蒙《红楼启示录》：贾宝玉对于生命的孤独有一种</a:t>
            </a:r>
            <a:r>
              <a:rPr b="1" lang="zh-CN" sz="3200" spc="-1" strike="noStrike">
                <a:solidFill>
                  <a:srgbClr val="ff3634"/>
                </a:solidFill>
                <a:latin typeface="Times New Roman"/>
              </a:rPr>
              <a:t>先验性的经验</a:t>
            </a:r>
            <a:r>
              <a:rPr b="1" lang="zh-CN" sz="3200" spc="-1" strike="noStrike">
                <a:solidFill>
                  <a:srgbClr val="393a18"/>
                </a:solidFill>
                <a:latin typeface="Times New Roman"/>
              </a:rPr>
              <a:t>，他对着红粉思骷髅，对着猢狲思树倒，即使身处花柳繁华地，温柔富贵乡，他已经预知了生命的必然消逝，那种曲终人散的悲凉。</a:t>
            </a:r>
            <a:br>
              <a:rPr sz="3200"/>
            </a:br>
            <a:r>
              <a:rPr b="1" lang="zh-CN" sz="3200" spc="-1" strike="noStrike">
                <a:solidFill>
                  <a:srgbClr val="393a18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93a18"/>
                </a:solidFill>
                <a:latin typeface="Times New Roman"/>
              </a:rPr>
              <a:t>惟因如此，他更要在消散之前紧紧抓住，他拼了命去爱，去感受，</a:t>
            </a:r>
            <a:r>
              <a:rPr b="1" lang="zh-CN" sz="3200" spc="-1" strike="noStrike">
                <a:solidFill>
                  <a:srgbClr val="ff3634"/>
                </a:solidFill>
                <a:latin typeface="Times New Roman"/>
              </a:rPr>
              <a:t>他那无事忙的热情其实是以绝望打底的。</a:t>
            </a:r>
            <a:endParaRPr b="1" lang="en-US" sz="32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93a18"/>
                </a:solidFill>
                <a:latin typeface="Times New Roman"/>
              </a:rPr>
              <a:t>鲁迅说，华林之内，遍被悲凉之雾，呼吸感知于其间者，惟有宝玉一人。</a:t>
            </a:r>
            <a:endParaRPr b="1" lang="en-US" sz="32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93a1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落胎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嘴里便衔下一块五彩晶莹的玉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上面还有许多字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就取名叫作宝玉。</a:t>
            </a: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荣国公后裔；是贾府太上皇贾母的最爱；是显赫的国舅爷；是两府公认的接班人。面前已铺就了金光坦途。</a:t>
            </a: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47628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二、出场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侧面描写：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514656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黛玉：惫懒人物，懵懂顽童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1989000"/>
            <a:ext cx="8353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王夫人：    孽根祸胎    混世魔王    他嘴里一时甜言蜜语，一时有天无日，一时又疯疯傻傻，只休信他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楷体_GB2312"/>
              </a:rPr>
              <a:t>贾敏：顽劣异常，极恶读书，最喜在内帏厮混，外祖母又极溺爱，无人敢管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1714680"/>
            <a:ext cx="770580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463634"/>
                </a:solidFill>
                <a:latin typeface="Arial"/>
              </a:rPr>
              <a:t>宝玉因去庙里还愿，回来已晚，急急到贾母这里复命请安，便无一仆从跟随左右。作者只用贾母的一个丫鬟慌忙通报写出他的风尘仆仆，行色匆匆，突出了他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卓然独立</a:t>
            </a:r>
            <a:r>
              <a:rPr b="1" lang="zh-CN" sz="2800" spc="-1" strike="noStrike">
                <a:solidFill>
                  <a:srgbClr val="463634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潇潇洒洒</a:t>
            </a:r>
            <a:r>
              <a:rPr b="1" lang="zh-CN" sz="2800" spc="-1" strike="noStrike">
                <a:solidFill>
                  <a:srgbClr val="463634"/>
                </a:solidFill>
                <a:latin typeface="Arial"/>
              </a:rPr>
              <a:t>。丫鬟的“笑道”和一声“宝玉来了”的禀报尤其显得不寻常。因为宝玉是贾府中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最具民主思想</a:t>
            </a:r>
            <a:r>
              <a:rPr b="1" lang="zh-CN" sz="2800" spc="-1" strike="noStrike">
                <a:solidFill>
                  <a:srgbClr val="463634"/>
                </a:solidFill>
                <a:latin typeface="Arial"/>
              </a:rPr>
              <a:t>的人，他的心目中，似乎少有主仆、尊卑的区别。对丫鬟的这些看似毫不经意的叙写交代，暗示出宝玉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平易随和而又超拔不俗</a:t>
            </a:r>
            <a:r>
              <a:rPr b="1" lang="zh-CN" sz="2800" spc="-1" strike="noStrike">
                <a:solidFill>
                  <a:srgbClr val="463634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430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贾宝玉的出场：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560" y="113976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“一语未了，只听外面一阵脚步响……莫效此儿形状。”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149360"/>
            <a:ext cx="435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面描写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形貌</a:t>
            </a:r>
            <a:endParaRPr b="1" lang="en-US" sz="28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7280" y="404640"/>
            <a:ext cx="467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头上戴着束发嵌宝紫金冠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齐眉勒着二龙抢珠金抹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穿一件二色金百蝶穿花大红箭袖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束着五彩丝攒花结长穗宫绦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外罩石青起花八团倭锻排穗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登着青缎粉底小朝靴。</a:t>
            </a:r>
            <a:endParaRPr b="1" lang="en-US" sz="32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穿着打扮前所未有的讲究。</a:t>
            </a:r>
            <a:endParaRPr b="1" lang="en-US" sz="3200" spc="-1" strike="noStrike">
              <a:solidFill>
                <a:srgbClr val="393a18"/>
              </a:solidFill>
              <a:latin typeface="Times New Roman"/>
            </a:endParaRPr>
          </a:p>
        </p:txBody>
      </p:sp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032360" cy="33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面若中秋之月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色如春晓之花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鬓若刀裁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眉如墨画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面如桃瓣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目若秋波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虽怒时而若笑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即嗔时而有情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项上金螭璎珞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又有一根五色丝绦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系着一块美玉。</a:t>
            </a:r>
            <a:endParaRPr b="1" lang="en-US" sz="36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4797360"/>
            <a:ext cx="7559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634"/>
                </a:solidFill>
                <a:latin typeface="Times New Roman"/>
                <a:ea typeface="楷体_GB2312"/>
              </a:rPr>
              <a:t>比喻  排比  对偶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634"/>
                </a:solidFill>
                <a:latin typeface="Times New Roman"/>
                <a:ea typeface="楷体_GB2312"/>
              </a:rPr>
              <a:t>眉清目秀   英俊多情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0920" y="69228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宝玉即转身去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时回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再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已换了冠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头上周围一转的短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都结成小辫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红丝结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共攒至顶中胎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总编一根大辫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黑亮如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从顶至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一串四颗大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用金八宝坠角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身上穿着银红撒花半旧大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仍旧带着项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宝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寄名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护身符等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下面半露松花撒花绫裤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锦边弹墨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厚底大红鞋。</a:t>
            </a:r>
            <a:endParaRPr b="1" lang="en-US" sz="32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越显得</a:t>
            </a:r>
            <a:r>
              <a:rPr b="1" lang="zh-CN" sz="3200" spc="-1" strike="noStrike">
                <a:solidFill>
                  <a:srgbClr val="ff3634"/>
                </a:solidFill>
                <a:latin typeface="楷体_GB2312"/>
              </a:rPr>
              <a:t>面如敷粉</a:t>
            </a:r>
            <a:r>
              <a:rPr b="1" lang="zh-CN" sz="3200" spc="-1" strike="noStrike">
                <a:solidFill>
                  <a:srgbClr val="ff3634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ff3634"/>
                </a:solidFill>
                <a:latin typeface="楷体_GB2312"/>
              </a:rPr>
              <a:t>唇若施脂</a:t>
            </a:r>
            <a:r>
              <a:rPr b="1" lang="zh-CN" sz="3200" spc="-1" strike="noStrike">
                <a:solidFill>
                  <a:srgbClr val="ff3634"/>
                </a:solidFill>
                <a:latin typeface="楷体_GB2312"/>
              </a:rPr>
              <a:t>, </a:t>
            </a:r>
            <a:r>
              <a:rPr b="1" lang="zh-CN" sz="3200" spc="-1" strike="noStrike">
                <a:solidFill>
                  <a:srgbClr val="ff3634"/>
                </a:solidFill>
                <a:latin typeface="楷体_GB2312"/>
              </a:rPr>
              <a:t>转盼多情</a:t>
            </a:r>
            <a:r>
              <a:rPr b="1" lang="zh-CN" sz="3200" spc="-1" strike="noStrike">
                <a:solidFill>
                  <a:srgbClr val="ff3634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ff3634"/>
                </a:solidFill>
                <a:latin typeface="楷体_GB2312"/>
              </a:rPr>
              <a:t>语言常笑</a:t>
            </a:r>
            <a:r>
              <a:rPr b="1" lang="zh-CN" sz="3200" spc="-1" strike="noStrike">
                <a:solidFill>
                  <a:srgbClr val="ff3634"/>
                </a:solidFill>
                <a:latin typeface="楷体_GB2312"/>
              </a:rPr>
              <a:t>.</a:t>
            </a:r>
            <a:r>
              <a:rPr b="1" lang="zh-CN" sz="3200" spc="-1" strike="noStrike">
                <a:solidFill>
                  <a:srgbClr val="ff3634"/>
                </a:solidFill>
                <a:latin typeface="楷体_GB2312"/>
              </a:rPr>
              <a:t>天然一段风骚</a:t>
            </a:r>
            <a:r>
              <a:rPr b="1" lang="zh-CN" sz="3200" spc="-1" strike="noStrike">
                <a:solidFill>
                  <a:srgbClr val="ff3634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ff3634"/>
                </a:solidFill>
                <a:latin typeface="楷体_GB2312"/>
              </a:rPr>
              <a:t>全在眉梢</a:t>
            </a:r>
            <a:r>
              <a:rPr b="1" lang="zh-CN" sz="3200" spc="-1" strike="noStrike">
                <a:solidFill>
                  <a:srgbClr val="ff3634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ff3634"/>
                </a:solidFill>
                <a:latin typeface="楷体_GB2312"/>
              </a:rPr>
              <a:t>平生万种情思</a:t>
            </a:r>
            <a:r>
              <a:rPr b="1" lang="zh-CN" sz="3200" spc="-1" strike="noStrike">
                <a:solidFill>
                  <a:srgbClr val="ff3634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ff3634"/>
                </a:solidFill>
                <a:latin typeface="楷体_GB2312"/>
              </a:rPr>
              <a:t>悉堆眼角</a:t>
            </a:r>
            <a:r>
              <a:rPr b="1" lang="zh-CN" sz="3200" spc="-1" strike="noStrike">
                <a:solidFill>
                  <a:srgbClr val="ff3634"/>
                </a:solidFill>
                <a:latin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看其外貌最是极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却难知其底细。</a:t>
            </a:r>
            <a:endParaRPr b="1" lang="en-US" sz="3200" spc="-1" strike="noStrike">
              <a:solidFill>
                <a:srgbClr val="393a18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93a18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03280" y="586728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634"/>
                </a:solidFill>
                <a:latin typeface="Times New Roman"/>
                <a:ea typeface="楷体_GB2312"/>
              </a:rPr>
              <a:t>温柔  敦厚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682560"/>
            <a:ext cx="8207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692280"/>
            <a:ext cx="7920000" cy="56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上掉下个林妹妹   越剧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上掉下个林妹妹      似一朵轻云刚出岫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道他腹内草莽人轻浮                                  却原来骨格清奇非俗流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娴静犹如花照水          行动好比风扶柳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眉梢眼角藏秀气          声音笑貌露温柔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眼前分明外来客           心底却似旧时友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0T12:00:16Z</dcterms:created>
  <dc:creator>wolf</dc:creator>
  <dc:description/>
  <dc:language>en-US</dc:language>
  <cp:lastModifiedBy>USER</cp:lastModifiedBy>
  <dcterms:modified xsi:type="dcterms:W3CDTF">2012-03-30T13:30:11Z</dcterms:modified>
  <cp:revision>319</cp:revision>
  <dc:subject/>
  <dc:title>一 新闻写作规律 </dc:title>
</cp:coreProperties>
</file>