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81BD-BCFB-4829-82ED-F266853F0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2440-D076-456E-8D11-F4D561078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EF72-DED3-4942-B49A-D26C060B0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8A7E-7EA2-4F08-A30D-7DFDDA89D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27051-807D-4D41-BD81-3D1A47234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92924-5AC1-420F-A898-E4A9A3B93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6BEBF-7594-43A3-A2A7-5D8004539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25FC9-28E7-4428-8E87-60535FDA2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B4ABF-8CA9-4EE9-8963-C7E0831B9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EC4C0-37F7-4458-915C-AF1A261C6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22844-1A98-45FA-9682-86A087A84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5140-A085-419F-8FFB-C1C09359E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F86D7-CB95-40DF-BC72-B0D98118A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74064-6E69-43EC-BD52-0AA1F3FF1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3BB0C-BDBF-4DB3-B0B0-40B1944E1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F88BD-EF6B-4876-A473-318A41851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54CAD-DDE7-4A13-AF64-C737C1DFD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C167-7410-4F6D-99D9-3EE3B8F45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E925-A33A-4628-9E40-05F9CBF8E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B3CC-2CDB-4F64-AC01-7E02E4738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16E1-7DA2-4001-A7E1-5A923D71F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7BA9-36C5-490A-9331-A915DE28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8328-0D60-4E5E-85EE-C3C8CA7AE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C68F-ABDE-48D6-802D-7727D03C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71699-82A2-4215-AFA3-86201AA05A57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700CA-561F-4B41-8911-D8202E6E9FE7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file:///&#38463;&#37324;&#24052;&#24052;&#20043;&#36947;.doc" TargetMode="External"/><Relationship Id="rId3" Type="http://schemas.openxmlformats.org/officeDocument/2006/relationships/hyperlink" Target="file:///&#38463;&#37324;&#24052;&#24052;&#20043;&#36947;.doc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&#39532;&#20113;&#23653;&#21382;.doc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file:///&#39532;&#20113;&#21019;&#19994;&#35821;&#24405;.doc" TargetMode="External"/><Relationship Id="rId3" Type="http://schemas.openxmlformats.org/officeDocument/2006/relationships/hyperlink" Target="file:///&#39532;&#20113;&#21019;&#19994;&#35821;&#24405;.doc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012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800240" y="660240"/>
            <a:ext cx="47242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Arial"/>
                <a:ea typeface="楷体_GB2312"/>
              </a:rPr>
              <a:t>传奇马云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790960" y="3048120"/>
            <a:ext cx="33526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28600" y="533520"/>
            <a:ext cx="4343400" cy="54864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897120" y="897480"/>
            <a:ext cx="76539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阿里巴巴之道</a:t>
            </a:r>
            <a:r>
              <a:rPr b="1" lang="zh-CN" sz="48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 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新东方创始人俞敏洪在北京大学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2008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年开学典礼上说了这样一段话：“人的一生是奋斗的一生，但是有的人一生过得很伟大，有的人一生过得很琐碎。如果我们有一个伟大的理想，有一颗善良的心，我们一定能把很多琐碎的日子堆砌起来，变成一个伟大的生命。但是如果你每天庸庸碌碌，没有理想，从此停止进步，那未来你一辈子的日子堆积起来将永远是一堆琐碎。”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   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447560" y="2209680"/>
            <a:ext cx="75438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lang="en-US" sz="6600" spc="-1" strike="noStrike">
                <a:solidFill>
                  <a:srgbClr val="003366"/>
                </a:solidFill>
                <a:latin typeface="Monotype Corsiva"/>
              </a:rPr>
              <a:t>Thank you </a:t>
            </a:r>
            <a:endParaRPr b="0" lang="en-US" sz="6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3366"/>
                </a:solidFill>
                <a:latin typeface="Monotype Corsiva"/>
              </a:rPr>
              <a:t>               </a:t>
            </a:r>
            <a:r>
              <a:rPr b="1" lang="en-US" sz="6600" spc="-1" strike="noStrike">
                <a:solidFill>
                  <a:srgbClr val="003366"/>
                </a:solidFill>
                <a:latin typeface="Monotype Corsiva"/>
              </a:rPr>
              <a:t>for   </a:t>
            </a:r>
            <a:endParaRPr b="0" lang="en-US" sz="6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3366"/>
                </a:solidFill>
                <a:latin typeface="Monotype Corsiva"/>
              </a:rPr>
              <a:t>       </a:t>
            </a:r>
            <a:r>
              <a:rPr b="1" lang="en-US" sz="6600" spc="-1" strike="noStrike">
                <a:solidFill>
                  <a:srgbClr val="003366"/>
                </a:solidFill>
                <a:latin typeface="Monotype Corsiva"/>
              </a:rPr>
              <a:t>your listening</a:t>
            </a:r>
            <a:r>
              <a:rPr b="1" lang="en-US" sz="6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        </a:t>
            </a:r>
            <a:r>
              <a:rPr b="1" lang="en-US" sz="60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Content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6858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马云简介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创业经历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经营之道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457200"/>
            <a:ext cx="792468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        </a:t>
            </a:r>
            <a:r>
              <a:rPr b="1" lang="en-US" sz="60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Content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1676520"/>
            <a:ext cx="6858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马云简介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创业经历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经营之道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90720" y="1676520"/>
            <a:ext cx="6858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马云简介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创业经历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经营之道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457200"/>
            <a:ext cx="792468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        </a:t>
            </a:r>
            <a:r>
              <a:rPr b="1" lang="en-US" sz="60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Content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1676520"/>
            <a:ext cx="6858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马云简介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创业经历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经营之道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马云简介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769284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姓名：马云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英文姓名：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Jack ma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出生年月：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1964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年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9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月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11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日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籍贯：浙江省杭州市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学历：本科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毕业院校：杭州师范学院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591160" y="1600200"/>
            <a:ext cx="3552840" cy="52578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9246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66"/>
                </a:solidFill>
                <a:latin typeface="Arial"/>
              </a:rPr>
              <a:t>职务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阿里巴巴集团主要创始人之一、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阿里巴巴集团主席和首席执行官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阿里巴巴公司主席和非执行董事、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软银集团董事、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中国雅虎董事局主席、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亚太经济合作组织（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APEC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）下工商咨询委员会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(ABAC)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会员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-532440"/>
            <a:ext cx="79246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zh-CN" sz="60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马云履历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作为一个创业者，首先要给自己一个梦想。我的梦想是建立自己的电子商务公司。人没有梦想，没有一点浪漫主义精神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是不会成功的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像阿甘一样简单</a:t>
            </a: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de</a:t>
            </a: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人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3366"/>
                </a:solidFill>
                <a:latin typeface="Arial"/>
              </a:rPr>
              <a:t>不懂电脑，不懂管理学，他不懂广告，不许公司做广告，他不仅不会高薪聘人，对进来的人还减工资，他说：“网络公司没好日子了，中国新经济就有希望了，现在热闹的是造工具的人。”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837720"/>
            <a:ext cx="76932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马云是中国大陆第一位登上美国权威财经杂志《福布斯》封面的企业家， 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2000 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年 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10 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月被 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" 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世界经济论坛 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" 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评为 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2001 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度全球 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100 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位 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" 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未来领袖 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" 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之一。 马云在 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1995 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年 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4 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月创办了 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" 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中国黄页 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" 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网站，这是国内第一家网上中文商业信息站点，同时也在国内最早形成主页发布的互联网商业模式，成功地发布了浙江省 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" 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金鸽工程 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" 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、无锡小天鹅、北京国安足球俱乐部等中国第一批互联网主页。他付出极大的时间、热情、胆识、智慧，在中国宣传互联网知识和应用，为互联网商务应用播下最初的火种。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zh-CN" sz="4400" spc="-1" strike="noStrike">
                <a:solidFill>
                  <a:srgbClr val="003366"/>
                </a:solidFill>
                <a:latin typeface="Arial"/>
              </a:rPr>
              <a:t>创业，做企业，其实很简单。一个强烈的欲望就可以。也就是说我想做什么事情，我想改变什么事情。你想清楚之后，你永远坚持这一点并坚定的走下去。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90920" y="2056320"/>
            <a:ext cx="472428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马云创业语录</a:t>
            </a:r>
            <a:r>
              <a:rPr b="0" lang="zh-CN" sz="36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03-12T01:17:23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