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D4077-3902-41DC-B3FA-F325D0A0C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CAFC-00C4-45FF-9BAB-74B9F7609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53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53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C0E3-1B52-42B0-B388-5C35F54C7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08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06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08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06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6693-10AB-4EA8-8082-F6EED2018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53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2F27-72E7-4A73-9092-F0850D1D7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53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53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53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408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06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408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06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F54E-0F71-4599-8CC5-9263EA51E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C388-4232-49BE-A4FD-65350BC88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7ACE-2E5C-4D9C-9A99-D422BCA1A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C52E-4F0F-46AA-9AAA-45820B5C7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53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A28F-E22F-4D43-8E12-05C960822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53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53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7D37-FB2E-491B-A31F-6531E024D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53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CEB8-4AE3-4334-B003-5CCB5BE1E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5121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1119240" y="1841400"/>
          <a:ext cx="8024760" cy="501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841400"/>
                    <a:ext cx="802476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4"/>
          <p:cNvSpPr/>
          <p:nvPr/>
        </p:nvSpPr>
        <p:spPr>
          <a:xfrm>
            <a:off x="7524720" y="0"/>
            <a:ext cx="1619280" cy="795240"/>
          </a:xfrm>
          <a:prstGeom prst="rect">
            <a:avLst/>
          </a:prstGeom>
          <a:solidFill>
            <a:srgbClr val="43a1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76500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a1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754344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276720" y="6565680"/>
            <a:ext cx="2133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E1C2-0304-4FAB-ACB1-716CC0CD7FC0}" type="slidenum"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Line 10"/>
          <p:cNvSpPr/>
          <p:nvPr/>
        </p:nvSpPr>
        <p:spPr>
          <a:xfrm>
            <a:off x="468360" y="6526080"/>
            <a:ext cx="83516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484680" y="603396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ddd"/>
                </a:solidFill>
                <a:latin typeface="Lucida Sans Unicode"/>
                <a:ea typeface="宋体"/>
              </a:rPr>
              <a:t>Company</a:t>
            </a:r>
            <a:r>
              <a:rPr b="1" lang="en-US" sz="1800" spc="-1" strike="noStrike">
                <a:solidFill>
                  <a:srgbClr val="666699"/>
                </a:solidFill>
                <a:latin typeface="Lucida Sans Unicode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Lucida Sans Unicode"/>
                <a:ea typeface="宋体"/>
              </a:rPr>
              <a:t>LOGO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a1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a16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a16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1752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 u="sng">
              <a:solidFill>
                <a:srgbClr val="ffffff"/>
              </a:solidFill>
              <a:uFillTx/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6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8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9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3a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0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b0f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b0f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3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5f82"/>
                </a:gs>
                <a:gs pos="50000">
                  <a:srgbClr val="00b0f0"/>
                </a:gs>
                <a:gs pos="100000">
                  <a:srgbClr val="005f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4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7098"/>
                </a:gs>
                <a:gs pos="100000">
                  <a:srgbClr val="00b0f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6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78fa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7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878fa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8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94d59"/>
                </a:gs>
                <a:gs pos="50000">
                  <a:srgbClr val="878fa5"/>
                </a:gs>
                <a:gs pos="100000">
                  <a:srgbClr val="494d5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9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65b69"/>
                </a:gs>
                <a:gs pos="100000">
                  <a:srgbClr val="878fa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0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271" name="Group 19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2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73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74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75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276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3a16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7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3a167">
                    <a:alpha val="32156"/>
                  </a:srgbClr>
                </a:gs>
                <a:gs pos="100000">
                  <a:srgbClr val="1f4b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8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45738"/>
                </a:gs>
                <a:gs pos="50000">
                  <a:srgbClr val="43a167"/>
                </a:gs>
                <a:gs pos="100000">
                  <a:srgbClr val="24573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9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b6641"/>
                </a:gs>
                <a:gs pos="100000">
                  <a:srgbClr val="43a16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80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281" name="Group 29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2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83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84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85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4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7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88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89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90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291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92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93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2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1376280" y="1143000"/>
            <a:ext cx="5769000" cy="4574880"/>
            <a:chOff x="1376280" y="1143000"/>
            <a:chExt cx="5769000" cy="4574880"/>
          </a:xfrm>
        </p:grpSpPr>
        <p:sp>
          <p:nvSpPr>
            <p:cNvPr id="297" name="Rectangle 4"/>
            <p:cNvSpPr/>
            <p:nvPr/>
          </p:nvSpPr>
          <p:spPr>
            <a:xfrm rot="13770000">
              <a:off x="4836600" y="3579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98" name="Rectangle 5"/>
            <p:cNvSpPr/>
            <p:nvPr/>
          </p:nvSpPr>
          <p:spPr>
            <a:xfrm rot="20856000">
              <a:off x="2852280" y="313200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299" name="Group 6"/>
            <p:cNvGrpSpPr/>
            <p:nvPr/>
          </p:nvGrpSpPr>
          <p:grpSpPr>
            <a:xfrm>
              <a:off x="3790800" y="1825200"/>
              <a:ext cx="1701360" cy="1836720"/>
              <a:chOff x="3790800" y="1825200"/>
              <a:chExt cx="1701360" cy="1836720"/>
            </a:xfrm>
          </p:grpSpPr>
          <p:sp>
            <p:nvSpPr>
              <p:cNvPr id="300" name="Rectangle 7"/>
              <p:cNvSpPr/>
              <p:nvPr/>
            </p:nvSpPr>
            <p:spPr>
              <a:xfrm rot="18394200">
                <a:off x="4964040" y="2037600"/>
                <a:ext cx="5950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grpSp>
            <p:nvGrpSpPr>
              <p:cNvPr id="301" name="Group 8"/>
              <p:cNvGrpSpPr/>
              <p:nvPr/>
            </p:nvGrpSpPr>
            <p:grpSpPr>
              <a:xfrm>
                <a:off x="3790800" y="2075400"/>
                <a:ext cx="1609560" cy="1586520"/>
                <a:chOff x="3790800" y="2075400"/>
                <a:chExt cx="1609560" cy="1586520"/>
              </a:xfrm>
            </p:grpSpPr>
            <p:sp>
              <p:nvSpPr>
                <p:cNvPr id="302" name="Oval 9"/>
                <p:cNvSpPr/>
                <p:nvPr/>
              </p:nvSpPr>
              <p:spPr>
                <a:xfrm>
                  <a:off x="3790800" y="2075400"/>
                  <a:ext cx="1609560" cy="158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123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10"/>
                <p:cNvSpPr/>
                <p:nvPr/>
              </p:nvSpPr>
              <p:spPr>
                <a:xfrm>
                  <a:off x="3974760" y="2101680"/>
                  <a:ext cx="1241640" cy="59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Text Box 11"/>
              <p:cNvSpPr/>
              <p:nvPr/>
            </p:nvSpPr>
            <p:spPr>
              <a:xfrm>
                <a:off x="3877560" y="27658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2"/>
            <p:cNvGrpSpPr/>
            <p:nvPr/>
          </p:nvGrpSpPr>
          <p:grpSpPr>
            <a:xfrm>
              <a:off x="5200560" y="1143000"/>
              <a:ext cx="891720" cy="861840"/>
              <a:chOff x="5200560" y="1143000"/>
              <a:chExt cx="891720" cy="861840"/>
            </a:xfrm>
          </p:grpSpPr>
          <p:grpSp>
            <p:nvGrpSpPr>
              <p:cNvPr id="306" name="Group 13"/>
              <p:cNvGrpSpPr/>
              <p:nvPr/>
            </p:nvGrpSpPr>
            <p:grpSpPr>
              <a:xfrm>
                <a:off x="5200560" y="1143000"/>
                <a:ext cx="871560" cy="861840"/>
                <a:chOff x="5200560" y="1143000"/>
                <a:chExt cx="871560" cy="861840"/>
              </a:xfrm>
            </p:grpSpPr>
            <p:sp>
              <p:nvSpPr>
                <p:cNvPr id="307" name="Oval 14"/>
                <p:cNvSpPr/>
                <p:nvPr/>
              </p:nvSpPr>
              <p:spPr>
                <a:xfrm>
                  <a:off x="5200560" y="114300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a167"/>
                    </a:gs>
                    <a:gs pos="100000">
                      <a:srgbClr val="1e49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15"/>
                <p:cNvSpPr/>
                <p:nvPr/>
              </p:nvSpPr>
              <p:spPr>
                <a:xfrm>
                  <a:off x="5299920" y="115704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3a16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Text Box 16"/>
              <p:cNvSpPr/>
              <p:nvPr/>
            </p:nvSpPr>
            <p:spPr>
              <a:xfrm>
                <a:off x="5221080" y="147492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7"/>
            <p:cNvGrpSpPr/>
            <p:nvPr/>
          </p:nvGrpSpPr>
          <p:grpSpPr>
            <a:xfrm>
              <a:off x="1376280" y="2468520"/>
              <a:ext cx="1744560" cy="1790640"/>
              <a:chOff x="1376280" y="2468520"/>
              <a:chExt cx="1744560" cy="1790640"/>
            </a:xfrm>
          </p:grpSpPr>
          <p:grpSp>
            <p:nvGrpSpPr>
              <p:cNvPr id="311" name="Group 18"/>
              <p:cNvGrpSpPr/>
              <p:nvPr/>
            </p:nvGrpSpPr>
            <p:grpSpPr>
              <a:xfrm>
                <a:off x="1376280" y="2468520"/>
                <a:ext cx="1744560" cy="1790640"/>
                <a:chOff x="1376280" y="2468520"/>
                <a:chExt cx="1744560" cy="1790640"/>
              </a:xfrm>
            </p:grpSpPr>
            <p:sp>
              <p:nvSpPr>
                <p:cNvPr id="312" name="Oval 19"/>
                <p:cNvSpPr/>
                <p:nvPr/>
              </p:nvSpPr>
              <p:spPr>
                <a:xfrm>
                  <a:off x="1376280" y="246852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6c1d"/>
                    </a:gs>
                    <a:gs pos="100000">
                      <a:srgbClr val="a24e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0"/>
                <p:cNvSpPr/>
                <p:nvPr/>
              </p:nvSpPr>
              <p:spPr>
                <a:xfrm>
                  <a:off x="1575720" y="249804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f6c1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21"/>
              <p:cNvSpPr/>
              <p:nvPr/>
            </p:nvSpPr>
            <p:spPr>
              <a:xfrm>
                <a:off x="1470600" y="32637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22"/>
            <p:cNvGrpSpPr/>
            <p:nvPr/>
          </p:nvGrpSpPr>
          <p:grpSpPr>
            <a:xfrm>
              <a:off x="5132160" y="3728880"/>
              <a:ext cx="2013120" cy="1989000"/>
              <a:chOff x="5132160" y="3728880"/>
              <a:chExt cx="2013120" cy="1989000"/>
            </a:xfrm>
          </p:grpSpPr>
          <p:grpSp>
            <p:nvGrpSpPr>
              <p:cNvPr id="316" name="Group 23"/>
              <p:cNvGrpSpPr/>
              <p:nvPr/>
            </p:nvGrpSpPr>
            <p:grpSpPr>
              <a:xfrm>
                <a:off x="5132160" y="3728880"/>
                <a:ext cx="2013120" cy="1989000"/>
                <a:chOff x="5132160" y="3728880"/>
                <a:chExt cx="2013120" cy="1989000"/>
              </a:xfrm>
            </p:grpSpPr>
            <p:sp>
              <p:nvSpPr>
                <p:cNvPr id="317" name="Oval 24"/>
                <p:cNvSpPr/>
                <p:nvPr/>
              </p:nvSpPr>
              <p:spPr>
                <a:xfrm>
                  <a:off x="5132160" y="372888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60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25"/>
                <p:cNvSpPr/>
                <p:nvPr/>
              </p:nvSpPr>
              <p:spPr>
                <a:xfrm>
                  <a:off x="5362200" y="376164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b0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Text Box 26"/>
              <p:cNvSpPr/>
              <p:nvPr/>
            </p:nvSpPr>
            <p:spPr>
              <a:xfrm>
                <a:off x="5420520" y="45907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52760" y="1828800"/>
            <a:ext cx="7282440" cy="3745080"/>
            <a:chOff x="752760" y="1828800"/>
            <a:chExt cx="7282440" cy="3745080"/>
          </a:xfrm>
        </p:grpSpPr>
        <p:sp>
          <p:nvSpPr>
            <p:cNvPr id="323" name="AutoShape 4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a16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24" name="AutoShape 5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a16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25" name="AutoShape 6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3a16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a16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27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3a16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28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3a16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29" name="Oval 10"/>
            <p:cNvSpPr/>
            <p:nvPr/>
          </p:nvSpPr>
          <p:spPr>
            <a:xfrm>
              <a:off x="2514600" y="1828800"/>
              <a:ext cx="3743280" cy="374508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0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1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4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5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fb891"/>
                </a:gs>
                <a:gs pos="100000">
                  <a:srgbClr val="df6c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7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fb891"/>
                </a:gs>
                <a:gs pos="100000">
                  <a:srgbClr val="df6c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8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fb891"/>
                </a:gs>
                <a:gs pos="100000">
                  <a:srgbClr val="df6c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9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fb891"/>
                </a:gs>
                <a:gs pos="100000">
                  <a:srgbClr val="df6c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40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fb891"/>
                </a:gs>
                <a:gs pos="100000">
                  <a:srgbClr val="df6c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fb891"/>
                </a:gs>
                <a:gs pos="100000">
                  <a:srgbClr val="df6c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42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b0f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43" name="Oval 24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b0f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44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5f82"/>
                </a:gs>
                <a:gs pos="50000">
                  <a:srgbClr val="00b0f0"/>
                </a:gs>
                <a:gs pos="100000">
                  <a:srgbClr val="005f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45" name="Oval 26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007098"/>
                </a:gs>
                <a:gs pos="100000">
                  <a:srgbClr val="00b0f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46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347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8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49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50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51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52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360" name="Group 8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361" name="Oval 9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63" name="Oval 11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66" name="Text Box 14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7" name="Text Box 15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368" name="Group 16"/>
          <p:cNvGrpSpPr/>
          <p:nvPr/>
        </p:nvGrpSpPr>
        <p:grpSpPr>
          <a:xfrm>
            <a:off x="5943600" y="1832040"/>
            <a:ext cx="2163600" cy="3159000"/>
            <a:chOff x="5943600" y="1832040"/>
            <a:chExt cx="2163600" cy="3159000"/>
          </a:xfrm>
        </p:grpSpPr>
        <p:sp>
          <p:nvSpPr>
            <p:cNvPr id="369" name="AutoShape 17"/>
            <p:cNvSpPr/>
            <p:nvPr/>
          </p:nvSpPr>
          <p:spPr>
            <a:xfrm>
              <a:off x="5943600" y="213372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0" name="AutoShape 18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1" name="AutoShape 19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373" name="Group 21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374" name="Oval 22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75" name="Oval 23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77" name="Oval 25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78" name="Oval 26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79" name="Text Box 27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381" name="Group 29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382" name="AutoShape 30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4" name="AutoShape 32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5" name="AutoShape 33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6" name="Oval 34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7" name="Oval 35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8" name="Oval 36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9" name="Oval 37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0" name="Oval 38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1" name="Text Box 39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2" name="Text Box 40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396" name="Group 4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397" name="Rectangle 5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8" name="Rectangle 6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7"/>
            <p:cNvGrpSpPr/>
            <p:nvPr/>
          </p:nvGrpSpPr>
          <p:grpSpPr>
            <a:xfrm>
              <a:off x="761760" y="2685960"/>
              <a:ext cx="1932120" cy="3264840"/>
              <a:chOff x="761760" y="2685960"/>
              <a:chExt cx="1932120" cy="3264840"/>
            </a:xfrm>
          </p:grpSpPr>
          <p:grpSp>
            <p:nvGrpSpPr>
              <p:cNvPr id="400" name="Group 8"/>
              <p:cNvGrpSpPr/>
              <p:nvPr/>
            </p:nvGrpSpPr>
            <p:grpSpPr>
              <a:xfrm>
                <a:off x="1167120" y="3525120"/>
                <a:ext cx="1526760" cy="2425680"/>
                <a:chOff x="1167120" y="3525120"/>
                <a:chExt cx="1526760" cy="2425680"/>
              </a:xfrm>
            </p:grpSpPr>
            <p:grpSp>
              <p:nvGrpSpPr>
                <p:cNvPr id="401" name="Group 9"/>
                <p:cNvGrpSpPr/>
                <p:nvPr/>
              </p:nvGrpSpPr>
              <p:grpSpPr>
                <a:xfrm>
                  <a:off x="1167120" y="3683160"/>
                  <a:ext cx="1420920" cy="2267640"/>
                  <a:chOff x="1167120" y="3683160"/>
                  <a:chExt cx="1420920" cy="2267640"/>
                </a:xfrm>
              </p:grpSpPr>
              <p:sp>
                <p:nvSpPr>
                  <p:cNvPr id="402" name="Freeform 10"/>
                  <p:cNvSpPr/>
                  <p:nvPr/>
                </p:nvSpPr>
                <p:spPr>
                  <a:xfrm rot="3876600">
                    <a:off x="73944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11"/>
                  <p:cNvSpPr/>
                  <p:nvPr/>
                </p:nvSpPr>
                <p:spPr>
                  <a:xfrm rot="3876600">
                    <a:off x="210708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12"/>
                <p:cNvGrpSpPr/>
                <p:nvPr/>
              </p:nvGrpSpPr>
              <p:grpSpPr>
                <a:xfrm>
                  <a:off x="1603440" y="3525120"/>
                  <a:ext cx="1090440" cy="1740240"/>
                  <a:chOff x="1603440" y="3525120"/>
                  <a:chExt cx="1090440" cy="1740240"/>
                </a:xfrm>
              </p:grpSpPr>
              <p:sp>
                <p:nvSpPr>
                  <p:cNvPr id="405" name="Freeform 13"/>
                  <p:cNvSpPr/>
                  <p:nvPr/>
                </p:nvSpPr>
                <p:spPr>
                  <a:xfrm flipV="1" rot="3876600">
                    <a:off x="127512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Freeform 14"/>
                  <p:cNvSpPr/>
                  <p:nvPr/>
                </p:nvSpPr>
                <p:spPr>
                  <a:xfrm flipV="1" rot="3876600">
                    <a:off x="230868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Group 15"/>
              <p:cNvGrpSpPr/>
              <p:nvPr/>
            </p:nvGrpSpPr>
            <p:grpSpPr>
              <a:xfrm>
                <a:off x="761760" y="2685960"/>
                <a:ext cx="1271520" cy="1310040"/>
                <a:chOff x="761760" y="2685960"/>
                <a:chExt cx="1271520" cy="1310040"/>
              </a:xfrm>
            </p:grpSpPr>
            <p:sp>
              <p:nvSpPr>
                <p:cNvPr id="408" name="Oval 16"/>
                <p:cNvSpPr/>
                <p:nvPr/>
              </p:nvSpPr>
              <p:spPr>
                <a:xfrm>
                  <a:off x="76176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7"/>
                <p:cNvSpPr/>
                <p:nvPr/>
              </p:nvSpPr>
              <p:spPr>
                <a:xfrm>
                  <a:off x="76176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10" name="Oval 18"/>
                <p:cNvSpPr/>
                <p:nvPr/>
              </p:nvSpPr>
              <p:spPr>
                <a:xfrm>
                  <a:off x="84600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11" name="Oval 19"/>
                <p:cNvSpPr/>
                <p:nvPr/>
              </p:nvSpPr>
              <p:spPr>
                <a:xfrm>
                  <a:off x="84600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0"/>
                <p:cNvSpPr/>
                <p:nvPr/>
              </p:nvSpPr>
              <p:spPr>
                <a:xfrm>
                  <a:off x="90036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Group 21"/>
                <p:cNvGrpSpPr/>
                <p:nvPr/>
              </p:nvGrpSpPr>
              <p:grpSpPr>
                <a:xfrm>
                  <a:off x="915840" y="2844720"/>
                  <a:ext cx="963000" cy="993600"/>
                  <a:chOff x="915840" y="2844720"/>
                  <a:chExt cx="963000" cy="993600"/>
                </a:xfrm>
              </p:grpSpPr>
              <p:sp>
                <p:nvSpPr>
                  <p:cNvPr id="414" name="Oval 22"/>
                  <p:cNvSpPr/>
                  <p:nvPr/>
                </p:nvSpPr>
                <p:spPr>
                  <a:xfrm>
                    <a:off x="91584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Oval 23"/>
                  <p:cNvSpPr/>
                  <p:nvPr/>
                </p:nvSpPr>
                <p:spPr>
                  <a:xfrm>
                    <a:off x="92808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Oval 24"/>
                  <p:cNvSpPr/>
                  <p:nvPr/>
                </p:nvSpPr>
                <p:spPr>
                  <a:xfrm>
                    <a:off x="93816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Oval 25"/>
                  <p:cNvSpPr/>
                  <p:nvPr/>
                </p:nvSpPr>
                <p:spPr>
                  <a:xfrm>
                    <a:off x="99036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8" name="Text Box 26"/>
              <p:cNvSpPr/>
              <p:nvPr/>
            </p:nvSpPr>
            <p:spPr>
              <a:xfrm rot="3925800">
                <a:off x="11293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19" name="Text Box 27"/>
              <p:cNvSpPr/>
              <p:nvPr/>
            </p:nvSpPr>
            <p:spPr>
              <a:xfrm rot="3925800">
                <a:off x="158940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28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421" name="Group 29"/>
              <p:cNvGrpSpPr/>
              <p:nvPr/>
            </p:nvGrpSpPr>
            <p:grpSpPr>
              <a:xfrm>
                <a:off x="2913480" y="3525120"/>
                <a:ext cx="1526760" cy="2425680"/>
                <a:chOff x="2913480" y="3525120"/>
                <a:chExt cx="1526760" cy="2425680"/>
              </a:xfrm>
            </p:grpSpPr>
            <p:grpSp>
              <p:nvGrpSpPr>
                <p:cNvPr id="422" name="Group 30"/>
                <p:cNvGrpSpPr/>
                <p:nvPr/>
              </p:nvGrpSpPr>
              <p:grpSpPr>
                <a:xfrm>
                  <a:off x="2913480" y="3683160"/>
                  <a:ext cx="1420920" cy="2267640"/>
                  <a:chOff x="2913480" y="3683160"/>
                  <a:chExt cx="1420920" cy="2267640"/>
                </a:xfrm>
              </p:grpSpPr>
              <p:sp>
                <p:nvSpPr>
                  <p:cNvPr id="423" name="Freeform 31"/>
                  <p:cNvSpPr/>
                  <p:nvPr/>
                </p:nvSpPr>
                <p:spPr>
                  <a:xfrm rot="3876600">
                    <a:off x="248580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Freeform 32"/>
                  <p:cNvSpPr/>
                  <p:nvPr/>
                </p:nvSpPr>
                <p:spPr>
                  <a:xfrm rot="3876600">
                    <a:off x="385344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Group 33"/>
                <p:cNvGrpSpPr/>
                <p:nvPr/>
              </p:nvGrpSpPr>
              <p:grpSpPr>
                <a:xfrm>
                  <a:off x="3349800" y="3525120"/>
                  <a:ext cx="1090440" cy="1740240"/>
                  <a:chOff x="3349800" y="3525120"/>
                  <a:chExt cx="1090440" cy="1740240"/>
                </a:xfrm>
              </p:grpSpPr>
              <p:sp>
                <p:nvSpPr>
                  <p:cNvPr id="426" name="Freeform 34"/>
                  <p:cNvSpPr/>
                  <p:nvPr/>
                </p:nvSpPr>
                <p:spPr>
                  <a:xfrm flipV="1" rot="3876600">
                    <a:off x="302148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Freeform 35"/>
                  <p:cNvSpPr/>
                  <p:nvPr/>
                </p:nvSpPr>
                <p:spPr>
                  <a:xfrm flipV="1" rot="3876600">
                    <a:off x="405504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8" name="Group 36"/>
              <p:cNvGrpSpPr/>
              <p:nvPr/>
            </p:nvGrpSpPr>
            <p:grpSpPr>
              <a:xfrm>
                <a:off x="2509560" y="2685960"/>
                <a:ext cx="1271880" cy="1310040"/>
                <a:chOff x="2509560" y="2685960"/>
                <a:chExt cx="1271880" cy="1310040"/>
              </a:xfrm>
            </p:grpSpPr>
            <p:sp>
              <p:nvSpPr>
                <p:cNvPr id="429" name="Oval 37"/>
                <p:cNvSpPr/>
                <p:nvPr/>
              </p:nvSpPr>
              <p:spPr>
                <a:xfrm>
                  <a:off x="2509560" y="2685960"/>
                  <a:ext cx="127188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30" name="Oval 38"/>
                <p:cNvSpPr/>
                <p:nvPr/>
              </p:nvSpPr>
              <p:spPr>
                <a:xfrm>
                  <a:off x="2509560" y="2685960"/>
                  <a:ext cx="127188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31" name="Oval 39"/>
                <p:cNvSpPr/>
                <p:nvPr/>
              </p:nvSpPr>
              <p:spPr>
                <a:xfrm>
                  <a:off x="259380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32" name="Oval 40"/>
                <p:cNvSpPr/>
                <p:nvPr/>
              </p:nvSpPr>
              <p:spPr>
                <a:xfrm>
                  <a:off x="259380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33" name="Oval 41"/>
                <p:cNvSpPr/>
                <p:nvPr/>
              </p:nvSpPr>
              <p:spPr>
                <a:xfrm>
                  <a:off x="2648160" y="2828880"/>
                  <a:ext cx="99396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grpSp>
              <p:nvGrpSpPr>
                <p:cNvPr id="434" name="Group 42"/>
                <p:cNvGrpSpPr/>
                <p:nvPr/>
              </p:nvGrpSpPr>
              <p:grpSpPr>
                <a:xfrm>
                  <a:off x="2663640" y="2844720"/>
                  <a:ext cx="963360" cy="993600"/>
                  <a:chOff x="2663640" y="2844720"/>
                  <a:chExt cx="963360" cy="993600"/>
                </a:xfrm>
              </p:grpSpPr>
              <p:sp>
                <p:nvSpPr>
                  <p:cNvPr id="435" name="Oval 43"/>
                  <p:cNvSpPr/>
                  <p:nvPr/>
                </p:nvSpPr>
                <p:spPr>
                  <a:xfrm>
                    <a:off x="2663640" y="2844720"/>
                    <a:ext cx="96336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44"/>
                  <p:cNvSpPr/>
                  <p:nvPr/>
                </p:nvSpPr>
                <p:spPr>
                  <a:xfrm>
                    <a:off x="2675880" y="2850120"/>
                    <a:ext cx="94032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45"/>
                  <p:cNvSpPr/>
                  <p:nvPr/>
                </p:nvSpPr>
                <p:spPr>
                  <a:xfrm>
                    <a:off x="2685960" y="2859840"/>
                    <a:ext cx="89424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46"/>
                  <p:cNvSpPr/>
                  <p:nvPr/>
                </p:nvSpPr>
                <p:spPr>
                  <a:xfrm>
                    <a:off x="2738160" y="2885040"/>
                    <a:ext cx="79488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9" name="Text Box 47"/>
              <p:cNvSpPr/>
              <p:nvPr/>
            </p:nvSpPr>
            <p:spPr>
              <a:xfrm rot="3925800">
                <a:off x="28713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40" name="Text Box 48"/>
              <p:cNvSpPr/>
              <p:nvPr/>
            </p:nvSpPr>
            <p:spPr>
              <a:xfrm rot="3925800">
                <a:off x="333144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9"/>
            <p:cNvGrpSpPr/>
            <p:nvPr/>
          </p:nvGrpSpPr>
          <p:grpSpPr>
            <a:xfrm>
              <a:off x="4313160" y="2685960"/>
              <a:ext cx="1932120" cy="3264840"/>
              <a:chOff x="4313160" y="2685960"/>
              <a:chExt cx="1932120" cy="3264840"/>
            </a:xfrm>
          </p:grpSpPr>
          <p:grpSp>
            <p:nvGrpSpPr>
              <p:cNvPr id="442" name="Group 50"/>
              <p:cNvGrpSpPr/>
              <p:nvPr/>
            </p:nvGrpSpPr>
            <p:grpSpPr>
              <a:xfrm>
                <a:off x="4718520" y="3525120"/>
                <a:ext cx="1526760" cy="2425680"/>
                <a:chOff x="4718520" y="3525120"/>
                <a:chExt cx="1526760" cy="2425680"/>
              </a:xfrm>
            </p:grpSpPr>
            <p:grpSp>
              <p:nvGrpSpPr>
                <p:cNvPr id="443" name="Group 51"/>
                <p:cNvGrpSpPr/>
                <p:nvPr/>
              </p:nvGrpSpPr>
              <p:grpSpPr>
                <a:xfrm>
                  <a:off x="4718520" y="3683160"/>
                  <a:ext cx="1420920" cy="2267640"/>
                  <a:chOff x="4718520" y="3683160"/>
                  <a:chExt cx="1420920" cy="2267640"/>
                </a:xfrm>
              </p:grpSpPr>
              <p:sp>
                <p:nvSpPr>
                  <p:cNvPr id="444" name="Freeform 52"/>
                  <p:cNvSpPr/>
                  <p:nvPr/>
                </p:nvSpPr>
                <p:spPr>
                  <a:xfrm rot="3876600">
                    <a:off x="429084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Freeform 53"/>
                  <p:cNvSpPr/>
                  <p:nvPr/>
                </p:nvSpPr>
                <p:spPr>
                  <a:xfrm rot="3876600">
                    <a:off x="565848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Group 54"/>
                <p:cNvGrpSpPr/>
                <p:nvPr/>
              </p:nvGrpSpPr>
              <p:grpSpPr>
                <a:xfrm>
                  <a:off x="5154840" y="3525120"/>
                  <a:ext cx="1090440" cy="1740240"/>
                  <a:chOff x="5154840" y="3525120"/>
                  <a:chExt cx="1090440" cy="1740240"/>
                </a:xfrm>
              </p:grpSpPr>
              <p:sp>
                <p:nvSpPr>
                  <p:cNvPr id="447" name="Freeform 55"/>
                  <p:cNvSpPr/>
                  <p:nvPr/>
                </p:nvSpPr>
                <p:spPr>
                  <a:xfrm flipV="1" rot="3876600">
                    <a:off x="482652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Freeform 56"/>
                  <p:cNvSpPr/>
                  <p:nvPr/>
                </p:nvSpPr>
                <p:spPr>
                  <a:xfrm flipV="1" rot="3876600">
                    <a:off x="586008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" name="Group 57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50" name="Oval 58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51" name="Oval 59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52" name="Oval 60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53" name="Oval 61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54" name="Oval 62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Group 63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56" name="Oval 64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65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66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67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0" name="Text Box 68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61" name="Text Box 69"/>
              <p:cNvSpPr/>
              <p:nvPr/>
            </p:nvSpPr>
            <p:spPr>
              <a:xfrm rot="3925800">
                <a:off x="514404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70"/>
            <p:cNvGrpSpPr/>
            <p:nvPr/>
          </p:nvGrpSpPr>
          <p:grpSpPr>
            <a:xfrm>
              <a:off x="6089400" y="2541600"/>
              <a:ext cx="2122920" cy="3476160"/>
              <a:chOff x="6089400" y="2541600"/>
              <a:chExt cx="2122920" cy="3476160"/>
            </a:xfrm>
          </p:grpSpPr>
          <p:grpSp>
            <p:nvGrpSpPr>
              <p:cNvPr id="463" name="Group 71"/>
              <p:cNvGrpSpPr/>
              <p:nvPr/>
            </p:nvGrpSpPr>
            <p:grpSpPr>
              <a:xfrm>
                <a:off x="6685560" y="3592080"/>
                <a:ext cx="1526760" cy="2425680"/>
                <a:chOff x="6685560" y="3592080"/>
                <a:chExt cx="1526760" cy="2425680"/>
              </a:xfrm>
            </p:grpSpPr>
            <p:grpSp>
              <p:nvGrpSpPr>
                <p:cNvPr id="464" name="Group 72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65" name="Freeform 73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Freeform 74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Group 75"/>
                <p:cNvGrpSpPr/>
                <p:nvPr/>
              </p:nvGrpSpPr>
              <p:grpSpPr>
                <a:xfrm>
                  <a:off x="7121880" y="3592080"/>
                  <a:ext cx="1090440" cy="1740240"/>
                  <a:chOff x="7121880" y="3592080"/>
                  <a:chExt cx="1090440" cy="1740240"/>
                </a:xfrm>
              </p:grpSpPr>
              <p:sp>
                <p:nvSpPr>
                  <p:cNvPr id="468" name="Freeform 76"/>
                  <p:cNvSpPr/>
                  <p:nvPr/>
                </p:nvSpPr>
                <p:spPr>
                  <a:xfrm flipV="1" rot="3876600">
                    <a:off x="6793560" y="42728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Freeform 77"/>
                  <p:cNvSpPr/>
                  <p:nvPr/>
                </p:nvSpPr>
                <p:spPr>
                  <a:xfrm flipV="1" rot="3876600">
                    <a:off x="7827120" y="49546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669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0" name="Oval 78"/>
              <p:cNvSpPr/>
              <p:nvPr/>
            </p:nvSpPr>
            <p:spPr>
              <a:xfrm>
                <a:off x="6089400" y="2541600"/>
                <a:ext cx="1527840" cy="157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71" name="Oval 79"/>
              <p:cNvSpPr/>
              <p:nvPr/>
            </p:nvSpPr>
            <p:spPr>
              <a:xfrm>
                <a:off x="6089400" y="2541600"/>
                <a:ext cx="1527840" cy="15706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72" name="Oval 80"/>
              <p:cNvSpPr/>
              <p:nvPr/>
            </p:nvSpPr>
            <p:spPr>
              <a:xfrm>
                <a:off x="619092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73" name="Oval 81"/>
              <p:cNvSpPr/>
              <p:nvPr/>
            </p:nvSpPr>
            <p:spPr>
              <a:xfrm>
                <a:off x="619272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74" name="Oval 82"/>
              <p:cNvSpPr/>
              <p:nvPr/>
            </p:nvSpPr>
            <p:spPr>
              <a:xfrm>
                <a:off x="625644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grpSp>
            <p:nvGrpSpPr>
              <p:cNvPr id="475" name="Group 83"/>
              <p:cNvGrpSpPr/>
              <p:nvPr/>
            </p:nvGrpSpPr>
            <p:grpSpPr>
              <a:xfrm>
                <a:off x="6275520" y="2732040"/>
                <a:ext cx="1158480" cy="1190520"/>
                <a:chOff x="6275520" y="2732040"/>
                <a:chExt cx="1158480" cy="1190520"/>
              </a:xfrm>
            </p:grpSpPr>
            <p:sp>
              <p:nvSpPr>
                <p:cNvPr id="476" name="Oval 84"/>
                <p:cNvSpPr/>
                <p:nvPr/>
              </p:nvSpPr>
              <p:spPr>
                <a:xfrm>
                  <a:off x="6275520" y="2732040"/>
                  <a:ext cx="115848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77" name="Oval 85"/>
                <p:cNvSpPr/>
                <p:nvPr/>
              </p:nvSpPr>
              <p:spPr>
                <a:xfrm>
                  <a:off x="6290280" y="2738520"/>
                  <a:ext cx="113040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78" name="Oval 86"/>
                <p:cNvSpPr/>
                <p:nvPr/>
              </p:nvSpPr>
              <p:spPr>
                <a:xfrm>
                  <a:off x="630216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479" name="Oval 87"/>
                <p:cNvSpPr/>
                <p:nvPr/>
              </p:nvSpPr>
              <p:spPr>
                <a:xfrm>
                  <a:off x="6365160" y="2780280"/>
                  <a:ext cx="95580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88"/>
              <p:cNvSpPr/>
              <p:nvPr/>
            </p:nvSpPr>
            <p:spPr>
              <a:xfrm rot="3925800">
                <a:off x="663660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81" name="Text Box 89"/>
              <p:cNvSpPr/>
              <p:nvPr/>
            </p:nvSpPr>
            <p:spPr>
              <a:xfrm rot="3925800">
                <a:off x="709560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90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483" name="Text Box 91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84" name="Text Box 92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85" name="Text Box 93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86" name="Text Box 94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cxnSp>
            <p:nvCxnSpPr>
              <p:cNvPr id="487" name="AutoShape 95"/>
              <p:cNvCxnSpPr>
                <a:stCxn id="483" idx="3"/>
                <a:endCxn id="484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8" name="AutoShape 96"/>
              <p:cNvCxnSpPr>
                <a:stCxn id="484" idx="3"/>
                <a:endCxn id="485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9" name="AutoShape 97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2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3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494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5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3a167"/>
                  </a:gs>
                  <a:gs pos="100000">
                    <a:srgbClr val="2f704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96" name="Freeform 7"/>
              <p:cNvSpPr/>
              <p:nvPr/>
            </p:nvSpPr>
            <p:spPr>
              <a:xfrm>
                <a:off x="1876680" y="171072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ac"/>
                  </a:gs>
                  <a:gs pos="50000">
                    <a:srgbClr val="43a167">
                      <a:alpha val="0"/>
                    </a:srgbClr>
                  </a:gs>
                  <a:gs pos="100000">
                    <a:srgbClr val="99cc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97" name="Text Box 8"/>
              <p:cNvSpPr/>
              <p:nvPr/>
            </p:nvSpPr>
            <p:spPr>
              <a:xfrm>
                <a:off x="1930680" y="19317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498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499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0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501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2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6c6f4"/>
                  </a:gs>
                  <a:gs pos="100000">
                    <a:srgbClr val="00b0f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3" name="Freeform 14"/>
              <p:cNvSpPr/>
              <p:nvPr/>
            </p:nvSpPr>
            <p:spPr>
              <a:xfrm>
                <a:off x="1876680" y="324108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def9"/>
                  </a:gs>
                  <a:gs pos="100000">
                    <a:srgbClr val="00b0f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4" name="Text Box 15"/>
              <p:cNvSpPr/>
              <p:nvPr/>
            </p:nvSpPr>
            <p:spPr>
              <a:xfrm>
                <a:off x="1930680" y="3463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05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666699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06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7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508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9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3b8c6"/>
                  </a:gs>
                  <a:gs pos="100000">
                    <a:srgbClr val="878fa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1876680" y="478116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9d3"/>
                  </a:gs>
                  <a:gs pos="100000">
                    <a:srgbClr val="878fa5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11" name="Text Box 22"/>
              <p:cNvSpPr/>
              <p:nvPr/>
            </p:nvSpPr>
            <p:spPr>
              <a:xfrm>
                <a:off x="1930680" y="5004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2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页脚占位符 2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16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02292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096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3a1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68756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7606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59432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16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6830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3a1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5200" y="2095560"/>
          <a:ext cx="7397640" cy="3222720"/>
        </p:xfrm>
        <a:graphic>
          <a:graphicData uri="http://schemas.openxmlformats.org/drawingml/2006/table">
            <a:tbl>
              <a:tblPr/>
              <a:tblGrid>
                <a:gridCol w="1668240"/>
                <a:gridCol w="1163520"/>
                <a:gridCol w="1141560"/>
                <a:gridCol w="1138320"/>
                <a:gridCol w="1147680"/>
                <a:gridCol w="113832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43a1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43a16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43a1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43a16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43a167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页脚占位符 2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552" name="Oval 3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349520" y="21337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55caf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3a167"/>
                </a:gs>
                <a:gs pos="100000">
                  <a:srgbClr val="29623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874600" y="22161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df6c1d"/>
                </a:gs>
                <a:gs pos="100000">
                  <a:srgbClr val="7a3b1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60" name="Text Box 11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61" name="Text Box 12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62" name="Text Box 13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563" name="Group 14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564" name="Freeform 15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25764"/>
                  </a:gs>
                  <a:gs pos="100000">
                    <a:srgbClr val="878fa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65" name="Arc 16"/>
              <p:cNvSpPr/>
              <p:nvPr/>
            </p:nvSpPr>
            <p:spPr>
              <a:xfrm rot="20539200">
                <a:off x="4732200" y="30657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8fa5"/>
                  </a:gs>
                  <a:gs pos="100000">
                    <a:srgbClr val="3e424c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66" name="Freeform 17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8fa5"/>
                  </a:gs>
                  <a:gs pos="100000">
                    <a:srgbClr val="3e424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67" name="Text Box 18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68" name="Text Box 19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69" name="Freeform 20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b0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70" name="Oval 21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页脚占位符 2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4" name="Group 3"/>
          <p:cNvGrpSpPr/>
          <p:nvPr/>
        </p:nvGrpSpPr>
        <p:grpSpPr>
          <a:xfrm>
            <a:off x="914400" y="1752480"/>
            <a:ext cx="7391520" cy="4156200"/>
            <a:chOff x="914400" y="1752480"/>
            <a:chExt cx="7391520" cy="4156200"/>
          </a:xfrm>
        </p:grpSpPr>
        <p:sp>
          <p:nvSpPr>
            <p:cNvPr id="575" name="AutoShape 4"/>
            <p:cNvSpPr/>
            <p:nvPr/>
          </p:nvSpPr>
          <p:spPr>
            <a:xfrm>
              <a:off x="1905120" y="251460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43a16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76" name="AutoShape 5"/>
            <p:cNvSpPr/>
            <p:nvPr/>
          </p:nvSpPr>
          <p:spPr>
            <a:xfrm>
              <a:off x="1676520" y="1752480"/>
              <a:ext cx="57909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b0f0"/>
                </a:gs>
                <a:gs pos="50000">
                  <a:srgbClr val="5bccf5"/>
                </a:gs>
                <a:gs pos="100000">
                  <a:srgbClr val="00b0f0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77" name="Text Box 6"/>
            <p:cNvSpPr/>
            <p:nvPr/>
          </p:nvSpPr>
          <p:spPr>
            <a:xfrm>
              <a:off x="3658320" y="312408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578" name="Group 7"/>
            <p:cNvGrpSpPr/>
            <p:nvPr/>
          </p:nvGrpSpPr>
          <p:grpSpPr>
            <a:xfrm>
              <a:off x="914400" y="4387680"/>
              <a:ext cx="1486080" cy="1514520"/>
              <a:chOff x="914400" y="4387680"/>
              <a:chExt cx="1486080" cy="1514520"/>
            </a:xfrm>
          </p:grpSpPr>
          <p:grpSp>
            <p:nvGrpSpPr>
              <p:cNvPr id="579" name="Group 8"/>
              <p:cNvGrpSpPr/>
              <p:nvPr/>
            </p:nvGrpSpPr>
            <p:grpSpPr>
              <a:xfrm>
                <a:off x="914400" y="4387680"/>
                <a:ext cx="1486080" cy="1514520"/>
                <a:chOff x="914400" y="4387680"/>
                <a:chExt cx="1486080" cy="1514520"/>
              </a:xfrm>
            </p:grpSpPr>
            <p:sp>
              <p:nvSpPr>
                <p:cNvPr id="580" name="Oval 9"/>
                <p:cNvSpPr/>
                <p:nvPr/>
              </p:nvSpPr>
              <p:spPr>
                <a:xfrm>
                  <a:off x="914400" y="43876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6c1d"/>
                    </a:gs>
                    <a:gs pos="100000">
                      <a:srgbClr val="8e45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10"/>
                <p:cNvSpPr/>
                <p:nvPr/>
              </p:nvSpPr>
              <p:spPr>
                <a:xfrm>
                  <a:off x="1084320" y="44125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f6c1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Text Box 11"/>
              <p:cNvSpPr/>
              <p:nvPr/>
            </p:nvSpPr>
            <p:spPr>
              <a:xfrm>
                <a:off x="1072800" y="51588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12"/>
            <p:cNvGrpSpPr/>
            <p:nvPr/>
          </p:nvGrpSpPr>
          <p:grpSpPr>
            <a:xfrm>
              <a:off x="6781680" y="4343400"/>
              <a:ext cx="1524240" cy="1531800"/>
              <a:chOff x="6781680" y="4343400"/>
              <a:chExt cx="1524240" cy="1531800"/>
            </a:xfrm>
          </p:grpSpPr>
          <p:grpSp>
            <p:nvGrpSpPr>
              <p:cNvPr id="584" name="Group 13"/>
              <p:cNvGrpSpPr/>
              <p:nvPr/>
            </p:nvGrpSpPr>
            <p:grpSpPr>
              <a:xfrm>
                <a:off x="6781680" y="4343400"/>
                <a:ext cx="1524240" cy="1531800"/>
                <a:chOff x="6781680" y="4343400"/>
                <a:chExt cx="1524240" cy="1531800"/>
              </a:xfrm>
            </p:grpSpPr>
            <p:sp>
              <p:nvSpPr>
                <p:cNvPr id="585" name="Oval 14"/>
                <p:cNvSpPr/>
                <p:nvPr/>
              </p:nvSpPr>
              <p:spPr>
                <a:xfrm>
                  <a:off x="6781680" y="43434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123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5"/>
                <p:cNvSpPr/>
                <p:nvPr/>
              </p:nvSpPr>
              <p:spPr>
                <a:xfrm>
                  <a:off x="6955920" y="43686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Text Box 16"/>
              <p:cNvSpPr/>
              <p:nvPr/>
            </p:nvSpPr>
            <p:spPr>
              <a:xfrm>
                <a:off x="6924600" y="50572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17"/>
            <p:cNvGrpSpPr/>
            <p:nvPr/>
          </p:nvGrpSpPr>
          <p:grpSpPr>
            <a:xfrm>
              <a:off x="2819520" y="4387680"/>
              <a:ext cx="1523880" cy="1521000"/>
              <a:chOff x="2819520" y="4387680"/>
              <a:chExt cx="1523880" cy="1521000"/>
            </a:xfrm>
          </p:grpSpPr>
          <p:grpSp>
            <p:nvGrpSpPr>
              <p:cNvPr id="589" name="Group 18"/>
              <p:cNvGrpSpPr/>
              <p:nvPr/>
            </p:nvGrpSpPr>
            <p:grpSpPr>
              <a:xfrm>
                <a:off x="2819520" y="4387680"/>
                <a:ext cx="1523880" cy="1521000"/>
                <a:chOff x="2819520" y="4387680"/>
                <a:chExt cx="1523880" cy="1521000"/>
              </a:xfrm>
            </p:grpSpPr>
            <p:sp>
              <p:nvSpPr>
                <p:cNvPr id="590" name="Oval 19"/>
                <p:cNvSpPr/>
                <p:nvPr/>
              </p:nvSpPr>
              <p:spPr>
                <a:xfrm>
                  <a:off x="2819520" y="43876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5a7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20"/>
                <p:cNvSpPr/>
                <p:nvPr/>
              </p:nvSpPr>
              <p:spPr>
                <a:xfrm>
                  <a:off x="2994480" y="4412880"/>
                  <a:ext cx="1174680" cy="573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b0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Text Box 21"/>
              <p:cNvSpPr/>
              <p:nvPr/>
            </p:nvSpPr>
            <p:spPr>
              <a:xfrm>
                <a:off x="2895840" y="51177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22"/>
            <p:cNvGrpSpPr/>
            <p:nvPr/>
          </p:nvGrpSpPr>
          <p:grpSpPr>
            <a:xfrm>
              <a:off x="4876920" y="4343400"/>
              <a:ext cx="1523880" cy="1520640"/>
              <a:chOff x="4876920" y="4343400"/>
              <a:chExt cx="1523880" cy="1520640"/>
            </a:xfrm>
          </p:grpSpPr>
          <p:grpSp>
            <p:nvGrpSpPr>
              <p:cNvPr id="594" name="Group 23"/>
              <p:cNvGrpSpPr/>
              <p:nvPr/>
            </p:nvGrpSpPr>
            <p:grpSpPr>
              <a:xfrm>
                <a:off x="4876920" y="4343400"/>
                <a:ext cx="1523880" cy="1520640"/>
                <a:chOff x="4876920" y="4343400"/>
                <a:chExt cx="1523880" cy="1520640"/>
              </a:xfrm>
            </p:grpSpPr>
            <p:sp>
              <p:nvSpPr>
                <p:cNvPr id="595" name="Oval 24"/>
                <p:cNvSpPr/>
                <p:nvPr/>
              </p:nvSpPr>
              <p:spPr>
                <a:xfrm>
                  <a:off x="4876920" y="434340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a167"/>
                    </a:gs>
                    <a:gs pos="100000">
                      <a:srgbClr val="2253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25"/>
                <p:cNvSpPr/>
                <p:nvPr/>
              </p:nvSpPr>
              <p:spPr>
                <a:xfrm>
                  <a:off x="5051880" y="4368600"/>
                  <a:ext cx="1174680" cy="573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3a16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Text Box 26"/>
              <p:cNvSpPr/>
              <p:nvPr/>
            </p:nvSpPr>
            <p:spPr>
              <a:xfrm>
                <a:off x="4953240" y="50731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2320" y="152280"/>
            <a:ext cx="4700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0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6c1d"/>
                </a:gs>
                <a:gs pos="50000">
                  <a:srgbClr val="f8e0cf"/>
                </a:gs>
                <a:gs pos="100000">
                  <a:srgbClr val="df6c1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1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f6c1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94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5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a167"/>
                </a:gs>
                <a:gs pos="50000">
                  <a:srgbClr val="d7ebdf"/>
                </a:gs>
                <a:gs pos="100000">
                  <a:srgbClr val="43a167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6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3a16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99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0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50000">
                  <a:srgbClr val="c9eefc"/>
                </a:gs>
                <a:gs pos="100000">
                  <a:srgbClr val="00b0f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1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04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5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78fa5"/>
                </a:gs>
                <a:gs pos="50000">
                  <a:srgbClr val="e6e7ec"/>
                </a:gs>
                <a:gs pos="100000">
                  <a:srgbClr val="878fa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6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78fa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2"/>
          <p:cNvSpPr txBox="1"/>
          <p:nvPr/>
        </p:nvSpPr>
        <p:spPr>
          <a:xfrm>
            <a:off x="1981080" y="1928880"/>
            <a:ext cx="601056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43a167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666699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43a167"/>
                  </a:gs>
                </a:gsLst>
                <a:lin ang="0"/>
              </a:gradFill>
              <a:effectLst>
                <a:outerShdw dist="53966" dir="2700000" blurRad="0" rotWithShape="0">
                  <a:srgbClr val="66669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447560" y="2886120"/>
            <a:ext cx="7391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ddddd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8520" y="1066680"/>
            <a:ext cx="7775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666699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43a167"/>
              </a:solidFill>
              <a:latin typeface="Verdan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3a167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43a1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43a167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43a167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43a167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43a167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5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17" name="Freeform 6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6c1d"/>
              </a:gs>
              <a:gs pos="100000">
                <a:srgbClr val="eba2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0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1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2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5675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123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dcf8"/>
                    </a:gs>
                    <a:gs pos="100000">
                      <a:srgbClr val="00b0f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f4b30"/>
                  </a:gs>
                  <a:gs pos="100000">
                    <a:srgbClr val="43a1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25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43a167">
                      <a:alpha val="0"/>
                    </a:srgbClr>
                  </a:gs>
                  <a:gs pos="100000">
                    <a:srgbClr val="bddec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26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58052"/>
                  </a:gs>
                  <a:gs pos="100000">
                    <a:srgbClr val="43a167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27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a167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28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0" name="AutoShape 19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1" name="Text Box 20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32" name="Freeform 21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aee6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3d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3a167"/>
                </a:gs>
                <a:gs pos="100000">
                  <a:srgbClr val="1533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f6c1d"/>
                </a:gs>
                <a:gs pos="100000">
                  <a:srgbClr val="5027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f31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6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6699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8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49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150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4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2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5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6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f4b30"/>
                </a:gs>
                <a:gs pos="50000">
                  <a:srgbClr val="43a167"/>
                </a:gs>
                <a:gs pos="100000">
                  <a:srgbClr val="1f4b3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7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9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516f"/>
                </a:gs>
                <a:gs pos="50000">
                  <a:srgbClr val="00b0f0"/>
                </a:gs>
                <a:gs pos="100000">
                  <a:srgbClr val="00516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70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71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5" name="Group 4"/>
            <p:cNvGrpSpPr/>
            <p:nvPr/>
          </p:nvGrpSpPr>
          <p:grpSpPr>
            <a:xfrm>
              <a:off x="3009240" y="2209680"/>
              <a:ext cx="2899800" cy="2706120"/>
              <a:chOff x="3009240" y="2209680"/>
              <a:chExt cx="2899800" cy="2706120"/>
            </a:xfrm>
          </p:grpSpPr>
          <p:sp>
            <p:nvSpPr>
              <p:cNvPr id="176" name="AutoShape 5"/>
              <p:cNvSpPr/>
              <p:nvPr/>
            </p:nvSpPr>
            <p:spPr>
              <a:xfrm flipH="1" rot="16200000">
                <a:off x="2928240" y="3255120"/>
                <a:ext cx="45936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77" name="AutoShape 6"/>
              <p:cNvSpPr/>
              <p:nvPr/>
            </p:nvSpPr>
            <p:spPr>
              <a:xfrm flipH="1" rot="5400000">
                <a:off x="5530320" y="320472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78" name="AutoShape 7"/>
              <p:cNvSpPr/>
              <p:nvPr/>
            </p:nvSpPr>
            <p:spPr>
              <a:xfrm flipH="1" rot="10800000">
                <a:off x="423720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79" name="Oval 8"/>
              <p:cNvSpPr/>
              <p:nvPr/>
            </p:nvSpPr>
            <p:spPr>
              <a:xfrm>
                <a:off x="3304800" y="2209680"/>
                <a:ext cx="23302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80" name="Oval 9"/>
              <p:cNvSpPr/>
              <p:nvPr/>
            </p:nvSpPr>
            <p:spPr>
              <a:xfrm>
                <a:off x="3437640" y="2344680"/>
                <a:ext cx="20631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81" name="Oval 10"/>
              <p:cNvSpPr/>
              <p:nvPr/>
            </p:nvSpPr>
            <p:spPr>
              <a:xfrm>
                <a:off x="3560400" y="2471040"/>
                <a:ext cx="181944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b0f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82" name="Oval 11"/>
              <p:cNvSpPr/>
              <p:nvPr/>
            </p:nvSpPr>
            <p:spPr>
              <a:xfrm>
                <a:off x="355896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83" name="Oval 12"/>
              <p:cNvSpPr/>
              <p:nvPr/>
            </p:nvSpPr>
            <p:spPr>
              <a:xfrm>
                <a:off x="3678840" y="2595960"/>
                <a:ext cx="1581480" cy="1631520"/>
              </a:xfrm>
              <a:prstGeom prst="ellipse">
                <a:avLst/>
              </a:prstGeom>
              <a:gradFill rotWithShape="0">
                <a:gsLst>
                  <a:gs pos="0">
                    <a:srgbClr val="005f82"/>
                  </a:gs>
                  <a:gs pos="50000">
                    <a:srgbClr val="00b0f0"/>
                  </a:gs>
                  <a:gs pos="100000">
                    <a:srgbClr val="005f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84" name="Oval 13"/>
              <p:cNvSpPr/>
              <p:nvPr/>
            </p:nvSpPr>
            <p:spPr>
              <a:xfrm>
                <a:off x="367884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8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1143000" y="3208320"/>
              <a:ext cx="16588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b30"/>
                </a:gs>
                <a:gs pos="50000">
                  <a:srgbClr val="43a167"/>
                </a:gs>
                <a:gs pos="100000">
                  <a:srgbClr val="1f4b3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9" name="AutoShape 18"/>
            <p:cNvSpPr/>
            <p:nvPr/>
          </p:nvSpPr>
          <p:spPr>
            <a:xfrm>
              <a:off x="6120360" y="3208320"/>
              <a:ext cx="172836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b30"/>
                </a:gs>
                <a:gs pos="50000">
                  <a:srgbClr val="43a167"/>
                </a:gs>
                <a:gs pos="100000">
                  <a:srgbClr val="1f4b3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b30"/>
                </a:gs>
                <a:gs pos="50000">
                  <a:srgbClr val="43a167"/>
                </a:gs>
                <a:gs pos="100000">
                  <a:srgbClr val="1f4b3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3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8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2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6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9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1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2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3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4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215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6" name="Freeform 18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7320d"/>
                  </a:gs>
                  <a:gs pos="50000">
                    <a:srgbClr val="df6c1d"/>
                  </a:gs>
                  <a:gs pos="100000">
                    <a:srgbClr val="67320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17" name="Freeform 19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df6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18" name="Freeform 20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16f"/>
                  </a:gs>
                  <a:gs pos="50000">
                    <a:srgbClr val="00b0f0"/>
                  </a:gs>
                  <a:gs pos="100000">
                    <a:srgbClr val="00516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19" name="Freeform 21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20" name="Freeform 22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424c"/>
                  </a:gs>
                  <a:gs pos="50000">
                    <a:srgbClr val="878fa5"/>
                  </a:gs>
                  <a:gs pos="100000">
                    <a:srgbClr val="3e424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21" name="Freeform 23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b30"/>
                  </a:gs>
                  <a:gs pos="50000">
                    <a:srgbClr val="43a167"/>
                  </a:gs>
                  <a:gs pos="100000">
                    <a:srgbClr val="1f4b3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22" name="Freeform 24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3a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23" name="Freeform 25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24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a24e15"/>
                  </a:gs>
                  <a:gs pos="50000">
                    <a:srgbClr val="df6c1d"/>
                  </a:gs>
                  <a:gs pos="100000">
                    <a:srgbClr val="a24e1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25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80ae"/>
                  </a:gs>
                  <a:gs pos="50000">
                    <a:srgbClr val="00b0f0"/>
                  </a:gs>
                  <a:gs pos="100000">
                    <a:srgbClr val="0080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26" name="Freeform 28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78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27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26878"/>
                  </a:gs>
                  <a:gs pos="50000">
                    <a:srgbClr val="878fa5"/>
                  </a:gs>
                  <a:gs pos="100000">
                    <a:srgbClr val="62687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28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1754b"/>
                  </a:gs>
                  <a:gs pos="50000">
                    <a:srgbClr val="43a167"/>
                  </a:gs>
                  <a:gs pos="100000">
                    <a:srgbClr val="31754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3"/>
          <p:cNvSpPr/>
          <p:nvPr/>
        </p:nvSpPr>
        <p:spPr>
          <a:xfrm>
            <a:off x="7543800" y="152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2" name="Freeform 4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17b7f1">
                    <a:alpha val="32156"/>
                  </a:srgbClr>
                </a:gs>
                <a:gs pos="100000">
                  <a:srgbClr val="00b0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3" name="AutoShape 5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f6c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4" name="AutoShape 6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7320d"/>
                </a:gs>
                <a:gs pos="50000">
                  <a:srgbClr val="df6c1d"/>
                </a:gs>
                <a:gs pos="100000">
                  <a:srgbClr val="673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5" name="AutoShape 7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7" name="AutoShape 9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8" name="AutoShape 10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516f"/>
                </a:gs>
                <a:gs pos="50000">
                  <a:srgbClr val="00b0f0"/>
                </a:gs>
                <a:gs pos="100000">
                  <a:srgbClr val="005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9" name="AutoShape 11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0" name="AutoShape 12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1" name="Freeform 13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abecb">
                    <a:alpha val="32156"/>
                  </a:srgbClr>
                </a:gs>
                <a:gs pos="100000">
                  <a:srgbClr val="878f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3" name="Text Box 15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244" name="Group 16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5" name="AutoShape 17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78f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46" name="AutoShape 18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43840"/>
                  </a:gs>
                  <a:gs pos="50000">
                    <a:srgbClr val="878fa5"/>
                  </a:gs>
                  <a:gs pos="100000">
                    <a:srgbClr val="3438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47" name="AutoShape 19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48" name="AutoShape 20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49" name="Text Box 2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50" name="Text Box 22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251" name="Text Box 23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52" name="Text Box 2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3:35:51Z</dcterms:created>
  <dc:creator>微软用户</dc:creator>
  <dc:description/>
  <cp:keywords/>
  <dc:language>en-US</dc:language>
  <cp:lastModifiedBy>Sky123.Org</cp:lastModifiedBy>
  <dcterms:modified xsi:type="dcterms:W3CDTF">2015-07-22T08:31:04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