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5854-DBBB-4FCB-A296-3443D984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5B13-C3BD-4DC5-9320-A649E919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57E-666B-4EEA-83F9-231100C2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B747-B9A9-4222-A604-0472D8FD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EFA8-963A-4796-BB58-82FCAFC3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0900-A019-4F51-AA46-007B3D08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37CA-CADD-42DE-B2E3-3F2F52AC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FBE4-848A-4DB1-9B2C-904CDC8C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E7F8-CBC1-47F4-927E-434FBFDB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F204-2E19-4561-B8C8-7FFDBAE8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7483-CC09-483A-A800-EDBD43C0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7BC4-BD02-4A5B-B2C9-B532BCA7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8280-F82C-4292-B37C-71ED24D7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AEC1-7001-4BAD-90B5-1D40CF35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19AA-D0B5-4712-815B-C37908B6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4570-DD3B-4C80-AAA7-AE99FC23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22C5-39A6-4531-9009-523C56E7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F6BFD-812E-4360-B392-993796C0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9C33B-78C6-40EC-9B4E-20408D5C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34BBD-3035-4AEA-B34E-C540A4B9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29A2D-67BB-4146-B674-8A714280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2E62A-7153-46EF-86C6-60AD0F65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24B0-837D-40F6-A36B-85338E43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6D300-CE03-4BD1-9E7E-AE3F0C73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59578-A2FB-4FD8-95FF-88294FA4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79234-7536-4C17-B2BD-D9F6B64F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DB35B-9860-41F7-BF39-93BAAF11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36452-6C8F-4798-8C40-827E9D30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B7144-A2E9-424C-AB1A-4DDCAB62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29DD7-311D-430B-B6C3-F0385B69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9CAC-9880-4952-B25F-35020A6C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1C89-0760-4844-BAFC-DC072B79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34BB-7AF1-445F-9251-2EF60613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D8B1-4339-4712-B2B2-66F22B21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2DB6-F4F7-416E-B213-B47BC9DD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563D-6BEB-4AC3-AD0B-D209605A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0638-B2E0-412E-8922-146B28CAB62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五边形 6"/>
          <p:cNvSpPr/>
          <p:nvPr/>
        </p:nvSpPr>
        <p:spPr>
          <a:xfrm>
            <a:off x="0" y="0"/>
            <a:ext cx="8153280" cy="6858000"/>
          </a:xfrm>
          <a:custGeom>
            <a:avLst/>
            <a:gdLst>
              <a:gd name="textAreaLeft" fmla="*/ 0 w 8153280"/>
              <a:gd name="textAreaRight" fmla="*/ 8153640 w 81532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58" y="0"/>
                </a:lnTo>
                <a:lnTo>
                  <a:pt x="21600" y="10800"/>
                </a:lnTo>
                <a:lnTo>
                  <a:pt x="138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030a0"/>
          </a:solidFill>
          <a:ln w="12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任意多边形 7"/>
          <p:cNvSpPr/>
          <p:nvPr/>
        </p:nvSpPr>
        <p:spPr>
          <a:xfrm>
            <a:off x="5078520" y="-14400"/>
            <a:ext cx="7132680" cy="6865920"/>
          </a:xfrm>
          <a:prstGeom prst="pie">
            <a:avLst/>
          </a:prstGeom>
          <a:solidFill>
            <a:srgbClr val="7f7f7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4038480" y="633240"/>
            <a:ext cx="3670560" cy="5542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ffff"/>
                </a:solidFill>
                <a:latin typeface="Franklin Gothic Book"/>
              </a:rPr>
              <a:t>简历</a:t>
            </a:r>
            <a:endParaRPr b="0" lang="en-US" sz="11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4038480" y="633240"/>
            <a:ext cx="3670560" cy="123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Franklin Gothic Book"/>
              </a:rPr>
              <a:t>我的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10"/>
          <p:cNvSpPr/>
          <p:nvPr/>
        </p:nvSpPr>
        <p:spPr>
          <a:xfrm>
            <a:off x="4038480" y="4950000"/>
            <a:ext cx="3670560" cy="123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46" name="组合 14"/>
          <p:cNvGrpSpPr/>
          <p:nvPr/>
        </p:nvGrpSpPr>
        <p:grpSpPr>
          <a:xfrm>
            <a:off x="5952240" y="5443200"/>
            <a:ext cx="1594800" cy="337680"/>
            <a:chOff x="5952240" y="5443200"/>
            <a:chExt cx="1594800" cy="337680"/>
          </a:xfrm>
        </p:grpSpPr>
        <p:sp>
          <p:nvSpPr>
            <p:cNvPr id="47" name="椭圆 12"/>
            <p:cNvSpPr/>
            <p:nvPr/>
          </p:nvSpPr>
          <p:spPr>
            <a:xfrm rot="4414800">
              <a:off x="5984280" y="5475240"/>
              <a:ext cx="266760" cy="266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8" name="椭圆 13"/>
            <p:cNvSpPr/>
            <p:nvPr/>
          </p:nvSpPr>
          <p:spPr>
            <a:xfrm rot="4414800">
              <a:off x="6405480" y="5475240"/>
              <a:ext cx="266760" cy="2667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9" name="椭圆 14"/>
            <p:cNvSpPr/>
            <p:nvPr/>
          </p:nvSpPr>
          <p:spPr>
            <a:xfrm rot="4414800">
              <a:off x="7247880" y="5481720"/>
              <a:ext cx="266760" cy="2667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" name="椭圆 15"/>
            <p:cNvSpPr/>
            <p:nvPr/>
          </p:nvSpPr>
          <p:spPr>
            <a:xfrm rot="4414800">
              <a:off x="6826680" y="5481720"/>
              <a:ext cx="266760" cy="266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1" name="文本框 19"/>
          <p:cNvSpPr/>
          <p:nvPr/>
        </p:nvSpPr>
        <p:spPr>
          <a:xfrm>
            <a:off x="4195800" y="5008680"/>
            <a:ext cx="234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Book"/>
              </a:rPr>
              <a:t>start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CDC8-4B72-4424-BF40-3D67788A2B8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4D9A-EFEC-4DAD-A4E8-195750FB887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5"/>
          <p:cNvSpPr/>
          <p:nvPr/>
        </p:nvSpPr>
        <p:spPr>
          <a:xfrm>
            <a:off x="669960" y="2805120"/>
            <a:ext cx="2585880" cy="1312920"/>
          </a:xfrm>
          <a:prstGeom prst="rect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Franklin Gothic Book"/>
              </a:rPr>
              <a:t>身份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文本框 7"/>
          <p:cNvSpPr/>
          <p:nvPr/>
        </p:nvSpPr>
        <p:spPr>
          <a:xfrm>
            <a:off x="3571920" y="3014640"/>
            <a:ext cx="80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Franklin Gothic Book"/>
              </a:rPr>
              <a:t>我是一名大学生，距离毕业还有</a:t>
            </a: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Franklin Gothic Book"/>
              </a:rPr>
              <a:t>年</a:t>
            </a:r>
            <a:r>
              <a:rPr b="1" lang="zh-CN" sz="4000" spc="-1" strike="noStrike">
                <a:solidFill>
                  <a:srgbClr val="7030a0"/>
                </a:solidFill>
                <a:latin typeface="Franklin Gothic Book"/>
              </a:rPr>
              <a:t>多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任意多边形 8"/>
          <p:cNvSpPr/>
          <p:nvPr/>
        </p:nvSpPr>
        <p:spPr>
          <a:xfrm>
            <a:off x="3728880" y="4129200"/>
            <a:ext cx="7743960" cy="360"/>
          </a:xfrm>
          <a:prstGeom prst="pie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38" name="组合 14"/>
          <p:cNvGrpSpPr/>
          <p:nvPr/>
        </p:nvGrpSpPr>
        <p:grpSpPr>
          <a:xfrm>
            <a:off x="769320" y="4447080"/>
            <a:ext cx="2389320" cy="506520"/>
            <a:chOff x="769320" y="4447080"/>
            <a:chExt cx="2389320" cy="506520"/>
          </a:xfrm>
        </p:grpSpPr>
        <p:sp>
          <p:nvSpPr>
            <p:cNvPr id="139" name="椭圆 10"/>
            <p:cNvSpPr/>
            <p:nvPr/>
          </p:nvSpPr>
          <p:spPr>
            <a:xfrm rot="15214800">
              <a:off x="2709720" y="4505040"/>
              <a:ext cx="400320" cy="39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40" name="椭圆 11"/>
            <p:cNvSpPr/>
            <p:nvPr/>
          </p:nvSpPr>
          <p:spPr>
            <a:xfrm rot="15214800">
              <a:off x="2079000" y="4505040"/>
              <a:ext cx="400320" cy="3999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41" name="椭圆 12"/>
            <p:cNvSpPr/>
            <p:nvPr/>
          </p:nvSpPr>
          <p:spPr>
            <a:xfrm rot="15214800">
              <a:off x="817200" y="4495680"/>
              <a:ext cx="400320" cy="3999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42" name="椭圆 13"/>
            <p:cNvSpPr/>
            <p:nvPr/>
          </p:nvSpPr>
          <p:spPr>
            <a:xfrm rot="15214800">
              <a:off x="1447920" y="4495680"/>
              <a:ext cx="400320" cy="399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文本框 2"/>
          <p:cNvSpPr/>
          <p:nvPr/>
        </p:nvSpPr>
        <p:spPr>
          <a:xfrm>
            <a:off x="768240" y="2793960"/>
            <a:ext cx="2586240" cy="1312920"/>
          </a:xfrm>
          <a:prstGeom prst="rect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Franklin Gothic Book"/>
              </a:rPr>
              <a:t>爱好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文本框 4"/>
          <p:cNvSpPr/>
          <p:nvPr/>
        </p:nvSpPr>
        <p:spPr>
          <a:xfrm>
            <a:off x="3643200" y="260820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Franklin Gothic Book"/>
              </a:rPr>
              <a:t>大爱</a:t>
            </a: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Franklin Gothic Book"/>
              </a:rPr>
              <a:t>（毕业就想和她在一起）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Franklin Gothic Book"/>
              </a:rPr>
              <a:t>喜欢摄影摄像，是一名设计屌丝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任意多边形 5"/>
          <p:cNvSpPr/>
          <p:nvPr/>
        </p:nvSpPr>
        <p:spPr>
          <a:xfrm>
            <a:off x="3728880" y="4129200"/>
            <a:ext cx="6586560" cy="56880"/>
          </a:xfrm>
          <a:prstGeom prst="pie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46" name="组合 11"/>
          <p:cNvGrpSpPr/>
          <p:nvPr/>
        </p:nvGrpSpPr>
        <p:grpSpPr>
          <a:xfrm>
            <a:off x="769320" y="4447080"/>
            <a:ext cx="2389320" cy="506520"/>
            <a:chOff x="769320" y="4447080"/>
            <a:chExt cx="2389320" cy="506520"/>
          </a:xfrm>
        </p:grpSpPr>
        <p:sp>
          <p:nvSpPr>
            <p:cNvPr id="147" name="椭圆 12"/>
            <p:cNvSpPr/>
            <p:nvPr/>
          </p:nvSpPr>
          <p:spPr>
            <a:xfrm rot="15214800">
              <a:off x="2709720" y="4505040"/>
              <a:ext cx="400320" cy="39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48" name="椭圆 13"/>
            <p:cNvSpPr/>
            <p:nvPr/>
          </p:nvSpPr>
          <p:spPr>
            <a:xfrm rot="15214800">
              <a:off x="2079000" y="4505040"/>
              <a:ext cx="400320" cy="3999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49" name="椭圆 14"/>
            <p:cNvSpPr/>
            <p:nvPr/>
          </p:nvSpPr>
          <p:spPr>
            <a:xfrm rot="15214800">
              <a:off x="817200" y="4495680"/>
              <a:ext cx="400320" cy="3999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50" name="椭圆 15"/>
            <p:cNvSpPr/>
            <p:nvPr/>
          </p:nvSpPr>
          <p:spPr>
            <a:xfrm rot="15214800">
              <a:off x="1447920" y="4495680"/>
              <a:ext cx="400320" cy="399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文本框 4"/>
          <p:cNvSpPr/>
          <p:nvPr/>
        </p:nvSpPr>
        <p:spPr>
          <a:xfrm>
            <a:off x="1828800" y="3492360"/>
            <a:ext cx="9001080" cy="642600"/>
          </a:xfrm>
          <a:prstGeom prst="rect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Franklin Gothic Book"/>
              </a:rPr>
              <a:t>我只能说</a:t>
            </a: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………………………………………………</a:t>
            </a: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文本框 1"/>
          <p:cNvSpPr/>
          <p:nvPr/>
        </p:nvSpPr>
        <p:spPr>
          <a:xfrm>
            <a:off x="1828800" y="838080"/>
            <a:ext cx="8715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Franklin Gothic Book"/>
              </a:rPr>
              <a:t>是不是好学生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文本框 5"/>
          <p:cNvSpPr/>
          <p:nvPr/>
        </p:nvSpPr>
        <p:spPr>
          <a:xfrm rot="1070400">
            <a:off x="9234000" y="532080"/>
            <a:ext cx="11142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7030a0"/>
                </a:solidFill>
                <a:latin typeface="Franklin Gothic Book"/>
              </a:rPr>
              <a:t>？</a:t>
            </a:r>
            <a:endParaRPr b="0" lang="en-US" sz="13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54" name="组合 7"/>
          <p:cNvGrpSpPr/>
          <p:nvPr/>
        </p:nvGrpSpPr>
        <p:grpSpPr>
          <a:xfrm>
            <a:off x="4755240" y="2405880"/>
            <a:ext cx="2389320" cy="507960"/>
            <a:chOff x="4755240" y="2405880"/>
            <a:chExt cx="2389320" cy="507960"/>
          </a:xfrm>
        </p:grpSpPr>
        <p:sp>
          <p:nvSpPr>
            <p:cNvPr id="155" name="椭圆 8"/>
            <p:cNvSpPr/>
            <p:nvPr/>
          </p:nvSpPr>
          <p:spPr>
            <a:xfrm rot="15214800">
              <a:off x="6694920" y="2464560"/>
              <a:ext cx="401760" cy="399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56" name="椭圆 9"/>
            <p:cNvSpPr/>
            <p:nvPr/>
          </p:nvSpPr>
          <p:spPr>
            <a:xfrm rot="15214800">
              <a:off x="6063840" y="2464560"/>
              <a:ext cx="401760" cy="39960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57" name="椭圆 10"/>
            <p:cNvSpPr/>
            <p:nvPr/>
          </p:nvSpPr>
          <p:spPr>
            <a:xfrm rot="15214800">
              <a:off x="4802400" y="2454840"/>
              <a:ext cx="401760" cy="39960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58" name="椭圆 11"/>
            <p:cNvSpPr/>
            <p:nvPr/>
          </p:nvSpPr>
          <p:spPr>
            <a:xfrm rot="15214800">
              <a:off x="5433120" y="2454840"/>
              <a:ext cx="401760" cy="399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文本框 4"/>
          <p:cNvSpPr/>
          <p:nvPr/>
        </p:nvSpPr>
        <p:spPr>
          <a:xfrm>
            <a:off x="1828800" y="3492360"/>
            <a:ext cx="9001080" cy="1191240"/>
          </a:xfrm>
          <a:prstGeom prst="rect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……………………………………………………………………</a:t>
            </a: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文本框 1"/>
          <p:cNvSpPr/>
          <p:nvPr/>
        </p:nvSpPr>
        <p:spPr>
          <a:xfrm>
            <a:off x="1658880" y="838080"/>
            <a:ext cx="871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Franklin Gothic Book"/>
              </a:rPr>
              <a:t>只有这些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文本框 5"/>
          <p:cNvSpPr/>
          <p:nvPr/>
        </p:nvSpPr>
        <p:spPr>
          <a:xfrm rot="1070400">
            <a:off x="9234000" y="532080"/>
            <a:ext cx="11142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7030a0"/>
                </a:solidFill>
                <a:latin typeface="Franklin Gothic Book"/>
              </a:rPr>
              <a:t>？</a:t>
            </a:r>
            <a:endParaRPr b="0" lang="en-US" sz="13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62" name="组合 7"/>
          <p:cNvGrpSpPr/>
          <p:nvPr/>
        </p:nvGrpSpPr>
        <p:grpSpPr>
          <a:xfrm>
            <a:off x="4755240" y="2405880"/>
            <a:ext cx="2389320" cy="507960"/>
            <a:chOff x="4755240" y="2405880"/>
            <a:chExt cx="2389320" cy="507960"/>
          </a:xfrm>
        </p:grpSpPr>
        <p:sp>
          <p:nvSpPr>
            <p:cNvPr id="163" name="椭圆 8"/>
            <p:cNvSpPr/>
            <p:nvPr/>
          </p:nvSpPr>
          <p:spPr>
            <a:xfrm rot="15214800">
              <a:off x="6694920" y="2464560"/>
              <a:ext cx="401760" cy="399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4" name="椭圆 9"/>
            <p:cNvSpPr/>
            <p:nvPr/>
          </p:nvSpPr>
          <p:spPr>
            <a:xfrm rot="15214800">
              <a:off x="6063840" y="2464560"/>
              <a:ext cx="401760" cy="39960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5" name="椭圆 10"/>
            <p:cNvSpPr/>
            <p:nvPr/>
          </p:nvSpPr>
          <p:spPr>
            <a:xfrm rot="15214800">
              <a:off x="4802400" y="2454840"/>
              <a:ext cx="401760" cy="39960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6" name="椭圆 11"/>
            <p:cNvSpPr/>
            <p:nvPr/>
          </p:nvSpPr>
          <p:spPr>
            <a:xfrm rot="15214800">
              <a:off x="5433120" y="2454840"/>
              <a:ext cx="401760" cy="399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2"/>
          <p:cNvSpPr/>
          <p:nvPr/>
        </p:nvSpPr>
        <p:spPr>
          <a:xfrm>
            <a:off x="2479680" y="514440"/>
            <a:ext cx="7429320" cy="1312920"/>
          </a:xfrm>
          <a:prstGeom prst="rect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1" lang="zh-CN" sz="8000" spc="-1" strike="noStrike">
                <a:solidFill>
                  <a:srgbClr val="ffffff"/>
                </a:solidFill>
                <a:latin typeface="Franklin Gothic Book"/>
              </a:rPr>
              <a:t>我的</a:t>
            </a:r>
            <a:r>
              <a:rPr b="1" lang="en-US" sz="8000" spc="-1" strike="noStrike">
                <a:solidFill>
                  <a:srgbClr val="7030a0"/>
                </a:solidFill>
                <a:latin typeface="Franklin Gothic Book"/>
              </a:rPr>
              <a:t>P</a:t>
            </a:r>
            <a:r>
              <a:rPr b="1" lang="zh-CN" sz="8000" spc="-1" strike="noStrike">
                <a:solidFill>
                  <a:srgbClr val="ffffff"/>
                </a:solidFill>
                <a:latin typeface="Franklin Gothic Book"/>
              </a:rPr>
              <a:t>经历？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68" name="组合 5"/>
          <p:cNvGrpSpPr/>
          <p:nvPr/>
        </p:nvGrpSpPr>
        <p:grpSpPr>
          <a:xfrm>
            <a:off x="4998600" y="2012040"/>
            <a:ext cx="2390760" cy="506520"/>
            <a:chOff x="4998600" y="2012040"/>
            <a:chExt cx="2390760" cy="506520"/>
          </a:xfrm>
        </p:grpSpPr>
        <p:sp>
          <p:nvSpPr>
            <p:cNvPr id="169" name="椭圆 6"/>
            <p:cNvSpPr/>
            <p:nvPr/>
          </p:nvSpPr>
          <p:spPr>
            <a:xfrm rot="15214800">
              <a:off x="6940440" y="2070000"/>
              <a:ext cx="400320" cy="39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70" name="椭圆 7"/>
            <p:cNvSpPr/>
            <p:nvPr/>
          </p:nvSpPr>
          <p:spPr>
            <a:xfrm rot="15214800">
              <a:off x="6309000" y="2070000"/>
              <a:ext cx="400320" cy="3999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71" name="椭圆 8"/>
            <p:cNvSpPr/>
            <p:nvPr/>
          </p:nvSpPr>
          <p:spPr>
            <a:xfrm rot="15214800">
              <a:off x="5046480" y="2060640"/>
              <a:ext cx="400320" cy="3999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72" name="椭圆 9"/>
            <p:cNvSpPr/>
            <p:nvPr/>
          </p:nvSpPr>
          <p:spPr>
            <a:xfrm rot="15214800">
              <a:off x="5677560" y="2060640"/>
              <a:ext cx="400320" cy="399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31T08:45:00Z</dcterms:created>
  <dc:creator>www.pptbz.com</dc:creator>
  <dc:description/>
  <dc:language>en-US</dc:language>
  <cp:lastModifiedBy>Windows 用户</cp:lastModifiedBy>
  <dcterms:modified xsi:type="dcterms:W3CDTF">2015-08-20T09:25:03Z</dcterms:modified>
  <cp:revision>14</cp:revision>
  <dc:subject/>
  <dc:title>PowerPoint 演示文稿</dc:title>
</cp:coreProperties>
</file>