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551-1B90-4BC6-8C61-FE3D4759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C72-8A94-4F6A-A91A-87C7CD7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DA689-5FF6-49E6-9EF3-6248AF2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5C35D-7291-43E7-A903-FF185D2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2C232-DD5B-47C7-B3FE-56013D7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1C5A6-15FC-437A-94B0-8264E67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E0C64-E8BF-4EAB-A564-CF03C7B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EF7B9-7CE4-4D8C-A37B-ECA5B49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44DD-7EEA-469D-A5D8-A9A075D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69918-8405-4A78-ACF4-A6C3007F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76AE3-BFC4-4ED9-9A4B-0FE58D82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B0591-355B-4B90-85AE-0520BD58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073-05BB-4896-90A8-6E83373E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5AE85-BDD1-4C40-B22A-A836ED3F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B0065-40E2-4AB7-A7EB-0F7C03F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D5D13-1A60-48C0-9076-6F5577A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C8EE0-F4BD-4830-9B57-070253C2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16DE5-3565-4D09-BAAD-70AB13F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59E31-DCD9-4689-95EE-891AC99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A365-C322-4441-B32B-7F07676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D5870-26E4-4218-8909-E225C137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DFCB9-13B4-4199-8F8E-BBA8799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8101C-2DE8-4F0F-A5D0-FF7A7279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050-CE87-4202-BD2A-5ED4F8A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B85F4-D406-4848-AE06-54EFA021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22D23-8DED-4237-8297-D2EE831E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8721D-00F4-4F19-A05B-E146E52B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BFE61-F915-4976-BE71-C6CF7EC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7A0D2-665C-474E-927C-B1D82661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085CC-3F71-4CFF-AF16-C8D79CB7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2554A-BC8E-4948-B5DE-869A865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EE14-7AD2-40C4-B54E-4F23E64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30EF-58CD-4F7C-B549-0797F567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7B28-AC2D-4EBA-BE35-BFE1D24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329-6172-4FEA-BAE9-D5A2AB12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30202-1393-4DE9-9283-2B5DFC06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FE88-3E0A-4A05-85E4-D75971B4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4D235-586F-4D79-A6B0-54F4F1AC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7E3C5-6A36-4768-87F9-34DC0E8E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BD06E-5DF6-4D92-910A-0EFBCD2E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DA553-F4B8-43AC-814B-1089EEB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B697-B33C-4B91-B39E-1E09CDE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21E6A-0739-44D0-8687-79F1BB2B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0CE5B-E6FE-4DAB-9203-1B1871D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873CD-B03B-420B-A807-2378709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480E-2E51-42D4-B319-F02FC89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52717-44CB-4918-9E31-EBF2FBDD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56ED8-6780-4F99-990F-5FFEFD8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2BD2-0FD6-4C6E-94BE-F316D023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4C18A-3D75-4DF7-A550-0ECA4E25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037BE-30F8-4D26-8AA4-52700453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0EAC5-107D-4712-8F2C-3DB72325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EE883-CCA4-47FE-AA4E-0F09221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BEABA-EAC1-441C-BC52-85B1C6E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8417A-127C-4E12-A14B-F81C692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ECE80-7936-4FE9-BF8B-ADBA50D3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20A7-78BB-4575-AE8E-46A3D287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C4A72-C861-4739-9AE7-38F58720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0988A-B00A-4B10-AEFF-190EE76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24A4B-2222-4904-879E-BA6A43CA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054DA-CC78-4CE0-9394-36216A08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44799-0904-4E32-A101-CFEF7574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0238A-9091-4835-ABD9-A9364849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75031-B26A-4ED5-8DE9-2F480EBE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D058F-5C7F-4EB8-B86E-9645D50C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8B530-2967-4393-8882-B5E3994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EB597-F721-4D37-B3C7-2B8075C9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9CC-0503-4BD8-98F9-32F1EF6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92BB7-A2B7-417F-93D1-1E21C499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E797D-3804-47E5-891E-9CEB5D6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6663C-A3A9-4032-A852-ACC3CBBA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12BDD-74DA-429F-886C-1BD3EA3D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E797F-F5E4-4D03-80C1-D61EAD1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B278E-9648-4F4C-B602-CF2281C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9C164-A2FE-4141-8B46-1D1C6101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C81D8-C52C-459F-AB06-51C36CD3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4433D-5657-4842-9CFB-FF689D68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F49-F83A-4774-9F97-B1402297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460F-CE6D-46C8-9662-4053E9C3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10D-CA52-4F0F-BC06-BFA8207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A01-76B7-470D-B928-E5B0ABA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BCA4-C644-4B86-892D-C6E9D09B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AE78-EED1-43BD-A898-F58ED9B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4960-CDC1-42A9-9FA7-6DAA882A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F0D-12A8-4130-967D-5A8FC132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00CD-9021-4B20-A988-8A371D76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66F8-965B-4A14-88C6-C336682D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FE32-C1B9-48C4-A4D5-E6DECF5B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AED7-C939-4BD3-ACDB-3FCD526B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B6FF-807D-42F6-B066-2ED8AD54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0B58-5E7C-4C54-8E0D-6D5E18D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392-19EB-4278-8440-3938D4E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2C57-0864-48C2-93C2-639B95B2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BDC1-EA49-4736-8476-B5D2EC1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8439-080E-47AC-82E3-797D3AB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FF4D-7930-4E58-829C-8ACB1A3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4469-28CE-482E-B8FD-6E980BC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E502-8D55-438D-9B05-7E00F3E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1C17-3BE9-4861-8AE3-FFB4A9C7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F16B-BC40-41A0-B55E-6AD6C69A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AD5B-649C-453D-8BCF-CA9471BC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AE1E-A97D-4EA9-AE3C-3D18527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03F-257D-48BB-A225-458FF04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B3B0-B007-4E68-AA8E-5063C67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8FF6-C03F-4A85-AB59-DF16433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7D1C-4860-41EF-A485-1DC390E3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E1C6-B52B-4418-A1D6-0BF4CA0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E00E-F390-47BB-AB7F-71154D8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0819-55CE-465E-9F3E-44D24D2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CD75-90AB-4476-929B-5F37550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03F5-B018-4EA9-9C36-BB895485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7838-CFAD-4BF2-ADEC-8B0D50FA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420B-96DB-4AA8-B371-ED90757D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2CB-C151-47EF-B3FB-57694988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9638-54D8-4DDE-8A6B-66BA777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78F4-2D39-4F59-84CF-DB8489FA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C350-F0C2-4156-BFAE-6FC7472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8A7A-BFDF-41B7-9ED7-6078B68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55166-B5DC-42D1-B85F-0B7F2DBB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8EA0-C100-41CF-B97D-94B6FA27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95CC-7FF8-4FE9-8341-0579A64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C405-1CD2-47F3-9E5F-10B7B44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4452-81A0-427A-B18F-430C139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901E4-B181-490D-939D-3B57C697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853-9487-4CA4-B9B7-927BC907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D766-3606-4AB0-A4B0-1E4AC504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4FD2-9712-4ED1-8D43-E96A3F11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0060-BE0D-4F22-A8B1-25AF645F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7F021-9563-441A-B933-FF11FB47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5814-EC67-4A73-A42A-27EA25F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02AA-7081-43B4-A07E-1E45AAB2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4A84-21FF-4072-A553-B8E67AEB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1761E-FFBD-49CB-9BBC-A491873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780AF-79D4-4A17-AC88-1B90B7C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486E-C046-4075-9088-C9C590C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C29-203B-47EC-920B-99356F3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4833-52C1-4B58-99CA-A5510EDB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E9D9A-DE94-4E26-89CC-FD4CA9F0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97A6C-19C4-4C6C-9570-A574FB4A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38EE-00E9-4CF8-A098-FF0C0231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2177-FE5E-4D98-B69C-6268665A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3B64-0B03-4614-A0AF-7B86BB6D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342A-7DEE-425F-B920-7372F2B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8DED-C75D-42DE-8B92-989782C5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AC13C-C26F-4D3F-9203-40CA472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7114-0E65-4065-BDD5-B7E1D5A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2F1-D35E-49FE-B1AB-25EC797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96A0-87CE-43E9-B9A1-FB5951F3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FBF73-0B96-41AB-BE9D-8A2B7321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608D-4F8B-47CA-BC08-43F9AC2E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8B7D-2089-45FF-A7DF-C385F5E7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353A-EE49-437E-B9C0-D16D68FB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D87B-22E0-475E-B49E-5E7CA66F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79110-9FA5-455D-A4E3-0023ADE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23EE-E9AA-4338-84AF-46FFF43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6EB18-8431-4029-A706-DDBE54AC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5ADC-F1D1-4D64-A84B-DF9472D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917-97E8-48BB-A53C-7A1A5E1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23A8-663E-41A0-9F73-C94BBFBD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77D46-FD90-4650-99FC-62B92097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91F4-2468-49B0-82E2-B5085896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C597-3868-4338-8CC5-9E12CB5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9B3C-F6E7-4311-8129-60228C83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6CBD-0A22-47C0-AC3F-AE78F222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564D9-D23B-4F16-BA41-AE50DD65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3D51D-731A-43E5-ABEC-9401476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ED981-29B5-4C95-AA61-A7880FB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5A8FB-2378-47E0-BAD9-9BECC25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b0f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0E4E-2A4D-412D-AEAE-016D0E13169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E8F-178B-462A-9DD6-AC1FF4EF7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8CA-67BE-4B0A-B5EE-5B925DEF9B8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D14E-B994-4E05-AAA5-5D6BDED0F4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447D-5808-4733-8052-C8EF712DD59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715B-2007-48C8-9F47-3523957C4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769-B5F4-45A6-8319-1FAE2D5C1D5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05C-4D1C-4902-8CF5-BC13AC235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DD66-C8F6-44C8-BF48-51DD2A8F671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A6A3-13A8-40F9-8DCD-E53AF41C4D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2098-A49E-40B4-A488-7FD1D105F3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EF70-4F38-4A25-9BF9-3863AB6221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b0f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D2E0-3398-4A0A-A3EC-634102181CFC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349-0C5C-4686-8001-8EB193C3ECF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AD8E-3E47-43FB-9EA8-AFFC9E7E9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5A9-65DA-4EAD-9CE7-4121CEF5F13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D0C9-8246-4607-9F85-0D3A66BC1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B945-CB4C-4345-B2C0-58C74443088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D274-7A22-4558-91ED-90C236C188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1EA-DB7A-4923-B2B4-A6EABD77CCE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A5A5-3F20-48B1-8959-0BBD5D3F5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473-0FDA-4641-8E10-65FB9BB2619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7DC-9100-42FE-A33C-A24FE2459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2C9-75DA-4FAB-9202-BF06264B902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CBC6-AB31-4545-BF8A-F9933BF67C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基于单片机的电子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密码锁设计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曾鹤琼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李栋梁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电子信息工程</a:t>
            </a:r>
            <a:endParaRPr b="1" lang="en-US" sz="2800" spc="-1" strike="noStrike">
              <a:solidFill>
                <a:srgbClr val="00b0f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4643280" y="126828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0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1619280" y="2205000"/>
            <a:ext cx="720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所设计的系统中包含了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T89C51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CD1602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ED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EEPROM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蜂鸣器，输入部件（键盘）等部分，通过键盘输入信息功能在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CD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ED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上显示，并做出相应指示作用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在整个设计系统中充分掌握各模块电路的工作原理，对硬件电路进行设计，使用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语言编写全部的驱动程序。本系统用于智能数字密码锁、功耗小、显示直观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由于个人在知识面和能力方面还有限，再加上条件的限制，智能数字密码锁的保安度等各项技术指标的提高、诸多功能的完善还需要进一步的研究和开发，此外在完成基本功能的基础上，还需要努力提高软件的效率、硬件系统的稳定性、进一步降低系统功耗等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6ca5d8"/>
                    </a:gs>
                    <a:gs pos="100000">
                      <a:srgbClr val="cbb61d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6ca5d8"/>
                  </a:gs>
                  <a:gs pos="100000">
                    <a:srgbClr val="cbb61d"/>
                  </a:gs>
                </a:gsLst>
                <a:lin ang="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419640" y="134136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66"/>
                </a:solidFill>
                <a:latin typeface="宋体"/>
                <a:ea typeface="宋体"/>
              </a:rPr>
              <a:t>结  束</a:t>
            </a:r>
            <a:endParaRPr b="0" lang="en-US" sz="8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6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0" lang="en-US" sz="7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Text Box 12"/>
          <p:cNvSpPr/>
          <p:nvPr/>
        </p:nvSpPr>
        <p:spPr>
          <a:xfrm>
            <a:off x="4915080" y="5508720"/>
            <a:ext cx="34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pptelf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yanyijingling.com</a:t>
            </a:r>
            <a:r>
              <a:rPr b="0" lang="zh-CN" sz="1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1311120" y="139212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每一份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都在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页以上，要做就做精品！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1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28" name="组合 1"/>
          <p:cNvGrpSpPr/>
          <p:nvPr/>
        </p:nvGrpSpPr>
        <p:grpSpPr>
          <a:xfrm>
            <a:off x="1908000" y="3902040"/>
            <a:ext cx="1841760" cy="246240"/>
            <a:chOff x="1908000" y="3902040"/>
            <a:chExt cx="1841760" cy="246240"/>
          </a:xfrm>
        </p:grpSpPr>
        <p:sp>
          <p:nvSpPr>
            <p:cNvPr id="729" name="Text Box 25"/>
            <p:cNvSpPr/>
            <p:nvPr/>
          </p:nvSpPr>
          <p:spPr>
            <a:xfrm>
              <a:off x="2118960" y="3902040"/>
              <a:ext cx="15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免费分享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Rectangle 26"/>
            <p:cNvSpPr/>
            <p:nvPr/>
          </p:nvSpPr>
          <p:spPr>
            <a:xfrm>
              <a:off x="1908000" y="39020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1" name="Text Box 29"/>
          <p:cNvSpPr/>
          <p:nvPr/>
        </p:nvSpPr>
        <p:spPr>
          <a:xfrm>
            <a:off x="751680" y="2319480"/>
            <a:ext cx="4546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扫一扫：关注我们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2" name="组合 34"/>
          <p:cNvGrpSpPr/>
          <p:nvPr/>
        </p:nvGrpSpPr>
        <p:grpSpPr>
          <a:xfrm>
            <a:off x="5789520" y="3887640"/>
            <a:ext cx="1841760" cy="246240"/>
            <a:chOff x="5789520" y="3887640"/>
            <a:chExt cx="1841760" cy="246240"/>
          </a:xfrm>
        </p:grpSpPr>
        <p:sp>
          <p:nvSpPr>
            <p:cNvPr id="733" name="Text Box 25"/>
            <p:cNvSpPr/>
            <p:nvPr/>
          </p:nvSpPr>
          <p:spPr>
            <a:xfrm>
              <a:off x="5922720" y="3887640"/>
              <a:ext cx="16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定期赠送精品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Rectangle 26"/>
            <p:cNvSpPr/>
            <p:nvPr/>
          </p:nvSpPr>
          <p:spPr>
            <a:xfrm>
              <a:off x="5789520" y="38876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4"/>
          <p:cNvSpPr/>
          <p:nvPr/>
        </p:nvSpPr>
        <p:spPr>
          <a:xfrm>
            <a:off x="2484360" y="220500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27280" y="2276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AutoShape 28"/>
          <p:cNvSpPr/>
          <p:nvPr/>
        </p:nvSpPr>
        <p:spPr>
          <a:xfrm>
            <a:off x="2484360" y="292428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2627280" y="3068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AutoShape 32"/>
          <p:cNvSpPr/>
          <p:nvPr/>
        </p:nvSpPr>
        <p:spPr>
          <a:xfrm>
            <a:off x="2484360" y="3645000"/>
            <a:ext cx="685800" cy="685800"/>
          </a:xfrm>
          <a:prstGeom prst="diamond">
            <a:avLst/>
          </a:prstGeom>
          <a:solidFill>
            <a:srgbClr val="ff0000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34"/>
          <p:cNvSpPr/>
          <p:nvPr/>
        </p:nvSpPr>
        <p:spPr>
          <a:xfrm>
            <a:off x="147816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36"/>
          <p:cNvSpPr/>
          <p:nvPr/>
        </p:nvSpPr>
        <p:spPr>
          <a:xfrm>
            <a:off x="2484360" y="4437000"/>
            <a:ext cx="685800" cy="685800"/>
          </a:xfrm>
          <a:prstGeom prst="diamond">
            <a:avLst/>
          </a:prstGeom>
          <a:solidFill>
            <a:srgbClr val="0000ff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205308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3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4"/>
          <p:cNvSpPr/>
          <p:nvPr/>
        </p:nvSpPr>
        <p:spPr>
          <a:xfrm>
            <a:off x="3851280" y="22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a5d8"/>
                </a:solidFill>
                <a:latin typeface="黑体"/>
                <a:ea typeface="黑体"/>
              </a:rPr>
              <a:t>引言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45"/>
          <p:cNvSpPr/>
          <p:nvPr/>
        </p:nvSpPr>
        <p:spPr>
          <a:xfrm>
            <a:off x="3780000" y="29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da4f"/>
                </a:solidFill>
                <a:latin typeface="黑体"/>
                <a:ea typeface="黑体"/>
              </a:rPr>
              <a:t>总体概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46"/>
          <p:cNvSpPr/>
          <p:nvPr/>
        </p:nvSpPr>
        <p:spPr>
          <a:xfrm>
            <a:off x="2484360" y="5229360"/>
            <a:ext cx="685800" cy="685800"/>
          </a:xfrm>
          <a:prstGeom prst="diamond">
            <a:avLst/>
          </a:prstGeom>
          <a:solidFill>
            <a:srgbClr val="339966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Text Box 47"/>
          <p:cNvSpPr/>
          <p:nvPr/>
        </p:nvSpPr>
        <p:spPr>
          <a:xfrm>
            <a:off x="2627280" y="37162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Text Box 48"/>
          <p:cNvSpPr/>
          <p:nvPr/>
        </p:nvSpPr>
        <p:spPr>
          <a:xfrm>
            <a:off x="2627280" y="4581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Text Box 49"/>
          <p:cNvSpPr/>
          <p:nvPr/>
        </p:nvSpPr>
        <p:spPr>
          <a:xfrm>
            <a:off x="2627280" y="5300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Text Box 50"/>
          <p:cNvSpPr/>
          <p:nvPr/>
        </p:nvSpPr>
        <p:spPr>
          <a:xfrm>
            <a:off x="3780000" y="3716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总体方案设计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Text Box 51"/>
          <p:cNvSpPr/>
          <p:nvPr/>
        </p:nvSpPr>
        <p:spPr>
          <a:xfrm>
            <a:off x="3708360" y="443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主要的设计实施过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Text Box 52"/>
          <p:cNvSpPr/>
          <p:nvPr/>
        </p:nvSpPr>
        <p:spPr>
          <a:xfrm>
            <a:off x="3780000" y="52293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bca8"/>
                </a:solidFill>
                <a:latin typeface="黑体"/>
                <a:ea typeface="黑体"/>
              </a:rPr>
              <a:t>结论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Text Box 54"/>
          <p:cNvSpPr/>
          <p:nvPr/>
        </p:nvSpPr>
        <p:spPr>
          <a:xfrm>
            <a:off x="3924360" y="119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黑体"/>
                <a:ea typeface="黑体"/>
              </a:rPr>
              <a:t>目录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378000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7"/>
          <p:cNvSpPr/>
          <p:nvPr/>
        </p:nvSpPr>
        <p:spPr>
          <a:xfrm>
            <a:off x="900000" y="1197000"/>
            <a:ext cx="76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引言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900000" y="2421000"/>
            <a:ext cx="784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在日常的生活和工作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住宅与部门的安全防范、单位的文件档案、财务报表以及一些个人资料的保存多以加锁的办法来解决。若使用传统的机械式钥匙开锁，人们常需携带多把钥匙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使用极不方便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且钥匙丢失后安全性即大打折扣。随着科学技术的不断发展，人们对日常生活中的安全保险器件的要求越来越高。为满足人们对锁的使用要求，增加其安全性，用密码代替钥匙的密码锁应运而生。密码锁具有安全性高、成本低、功耗低、易操作等优点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随着人们对安全的重视和科技的发展，许多电子智能锁（指纹识别、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IC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卡辨认）已在国内外相继面世。但是这些产品的特点是针对特定的指纹和有效卡，只能适用于保密要求的箱、柜、门等。而且指纹识识别器若在公共场所使用存在容易机械损坏，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IC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卡还存在容易丢失、损坏等特点。加上其成本较高，一定程度上限制了这类产品的普及和推广。鉴于目前的技术水平与市场的接收程度，电子密码锁是这类电子防盗产品的主流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378000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6"/>
          <p:cNvSpPr/>
          <p:nvPr/>
        </p:nvSpPr>
        <p:spPr>
          <a:xfrm>
            <a:off x="0" y="126828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总体概述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468360" y="2492280"/>
            <a:ext cx="828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基于以上思路，本次设计使用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TMEL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公司的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T89C51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实现一基于单片机的智能电子密码锁的设计，其主要具有如下功能：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设置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位密码，密码通过键盘输入，若密码正确，则将锁打开。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密码可以由用户自己修改设定（只支持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位密码），初始密码输入成功后才能修改密码。修改密码之前必须再次输入密码，在输入新密码时候需要二次确认，以防止误操作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３、报警功能。密码输入错误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1602LCD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会出现错误提示，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ED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发光二极管提示，蜂鸣器连续响三次。密码输入正确时，同样显示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、密码防掉电消失功能。（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24C02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3708360" y="0"/>
            <a:ext cx="5143680" cy="933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6"/>
          <p:cNvSpPr/>
          <p:nvPr/>
        </p:nvSpPr>
        <p:spPr>
          <a:xfrm>
            <a:off x="1908000" y="1268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总体设计方案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2124000" y="220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3.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设计思路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11280" y="292428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电子密码锁的设计主要由三部分组成：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4×4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矩阵键盘接口电路、输出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CD1602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显示电路。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24C02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密码保存防掉电数据消失功能，另外系统还有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LED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提示灯，报警蜂鸣器等。设计原理框图如下：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9"/>
          <p:cNvGrpSpPr/>
          <p:nvPr/>
        </p:nvGrpSpPr>
        <p:grpSpPr>
          <a:xfrm>
            <a:off x="1187280" y="3860640"/>
            <a:ext cx="5616720" cy="2478240"/>
            <a:chOff x="1187280" y="3860640"/>
            <a:chExt cx="5616720" cy="2478240"/>
          </a:xfrm>
        </p:grpSpPr>
        <p:sp>
          <p:nvSpPr>
            <p:cNvPr id="615" name="AutoShape 10"/>
            <p:cNvSpPr/>
            <p:nvPr/>
          </p:nvSpPr>
          <p:spPr>
            <a:xfrm>
              <a:off x="1187280" y="3860640"/>
              <a:ext cx="5616720" cy="24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3539520" y="4055400"/>
              <a:ext cx="1172880" cy="20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AT89C5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7" name="Rectangle 12"/>
            <p:cNvSpPr/>
            <p:nvPr/>
          </p:nvSpPr>
          <p:spPr>
            <a:xfrm>
              <a:off x="1454400" y="4055400"/>
              <a:ext cx="11721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键盘输入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1454400" y="4624560"/>
              <a:ext cx="11728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复位电路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1454400" y="5194080"/>
              <a:ext cx="117288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密码存储电路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0" name="Rectangle 15"/>
            <p:cNvSpPr/>
            <p:nvPr/>
          </p:nvSpPr>
          <p:spPr>
            <a:xfrm>
              <a:off x="1454400" y="5763240"/>
              <a:ext cx="117288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晶振电路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1" name="Rectangle 16"/>
            <p:cNvSpPr/>
            <p:nvPr/>
          </p:nvSpPr>
          <p:spPr>
            <a:xfrm>
              <a:off x="5494320" y="4055400"/>
              <a:ext cx="1042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电源输入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Rectangle 17"/>
            <p:cNvSpPr/>
            <p:nvPr/>
          </p:nvSpPr>
          <p:spPr>
            <a:xfrm>
              <a:off x="5494320" y="4529520"/>
              <a:ext cx="104220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显示电路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3" name="Rectangle 18"/>
            <p:cNvSpPr/>
            <p:nvPr/>
          </p:nvSpPr>
          <p:spPr>
            <a:xfrm>
              <a:off x="5494320" y="5004000"/>
              <a:ext cx="104220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报警电路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4" name="Rectangle 19"/>
            <p:cNvSpPr/>
            <p:nvPr/>
          </p:nvSpPr>
          <p:spPr>
            <a:xfrm>
              <a:off x="5494320" y="5574240"/>
              <a:ext cx="1042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开锁电路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Line 20"/>
            <p:cNvSpPr/>
            <p:nvPr/>
          </p:nvSpPr>
          <p:spPr>
            <a:xfrm>
              <a:off x="2627640" y="4244760"/>
              <a:ext cx="91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6" name="Line 21"/>
            <p:cNvSpPr/>
            <p:nvPr/>
          </p:nvSpPr>
          <p:spPr>
            <a:xfrm>
              <a:off x="2627640" y="4719600"/>
              <a:ext cx="91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Line 22"/>
            <p:cNvSpPr/>
            <p:nvPr/>
          </p:nvSpPr>
          <p:spPr>
            <a:xfrm>
              <a:off x="2627640" y="5858280"/>
              <a:ext cx="91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23"/>
            <p:cNvSpPr/>
            <p:nvPr/>
          </p:nvSpPr>
          <p:spPr>
            <a:xfrm>
              <a:off x="4712400" y="4149720"/>
              <a:ext cx="78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24"/>
            <p:cNvSpPr/>
            <p:nvPr/>
          </p:nvSpPr>
          <p:spPr>
            <a:xfrm>
              <a:off x="4712400" y="4719600"/>
              <a:ext cx="78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25"/>
            <p:cNvSpPr/>
            <p:nvPr/>
          </p:nvSpPr>
          <p:spPr>
            <a:xfrm>
              <a:off x="4712400" y="5194080"/>
              <a:ext cx="78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26"/>
            <p:cNvSpPr/>
            <p:nvPr/>
          </p:nvSpPr>
          <p:spPr>
            <a:xfrm>
              <a:off x="4712400" y="5763240"/>
              <a:ext cx="78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27"/>
            <p:cNvSpPr/>
            <p:nvPr/>
          </p:nvSpPr>
          <p:spPr>
            <a:xfrm>
              <a:off x="2627640" y="5288760"/>
              <a:ext cx="91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6"/>
          <p:cNvSpPr/>
          <p:nvPr/>
        </p:nvSpPr>
        <p:spPr>
          <a:xfrm>
            <a:off x="3780000" y="1628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3.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关键问题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1042920" y="2708280"/>
            <a:ext cx="7272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密码锁设计的关键问题是实现密码的输入、清除、更改、开锁等功能：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、密码输入功能：首先必须选择登陆模式：数字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键以普通用户进入，数字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键高级用户进入。输入密码时在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1602LCD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上显示“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*”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每输入一个数字，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LCD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上向右移一格，同时“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*”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加一个。至到输入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个“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*”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为此，若一次性输入大于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个密码，则只保留前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位密码，按“确定”生效。若按“取消”键可以减一位密码，密码清除功能，防止误输。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、密码更改功能：将输入的值作为新的密码。（程序的初始密码是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个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0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）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、当密码输入成功后，或者密码修改成功后，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LCD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上有提示成功字符，同时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LED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闪烁提示，蜂鸣器开始奏乐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《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两只老虎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》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，所有提示完成后，返回到初始状态。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4000680" y="50472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2987640" y="134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3.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总体方框图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0" y="306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3419640" y="1916280"/>
            <a:ext cx="1944360" cy="431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3419640" y="1989000"/>
            <a:ext cx="20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等待用户选择级别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Line 10"/>
          <p:cNvSpPr/>
          <p:nvPr/>
        </p:nvSpPr>
        <p:spPr>
          <a:xfrm>
            <a:off x="4356000" y="2349360"/>
            <a:ext cx="0" cy="287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1187280" y="3645000"/>
            <a:ext cx="1511640" cy="431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5867280" y="2781360"/>
            <a:ext cx="1511280" cy="431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13"/>
          <p:cNvSpPr/>
          <p:nvPr/>
        </p:nvSpPr>
        <p:spPr>
          <a:xfrm flipH="1">
            <a:off x="2124000" y="2637000"/>
            <a:ext cx="4464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6588000" y="2637000"/>
            <a:ext cx="0" cy="144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2124000" y="2637000"/>
            <a:ext cx="0" cy="144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1258920" y="2852640"/>
            <a:ext cx="18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用户１进入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1258920" y="2781360"/>
            <a:ext cx="1511280" cy="431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Text Box 18"/>
          <p:cNvSpPr/>
          <p:nvPr/>
        </p:nvSpPr>
        <p:spPr>
          <a:xfrm>
            <a:off x="6084720" y="2852640"/>
            <a:ext cx="18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用户</a:t>
            </a: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进入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19"/>
          <p:cNvSpPr/>
          <p:nvPr/>
        </p:nvSpPr>
        <p:spPr>
          <a:xfrm>
            <a:off x="1979640" y="328464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5867280" y="3573360"/>
            <a:ext cx="1511280" cy="432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21"/>
          <p:cNvSpPr/>
          <p:nvPr/>
        </p:nvSpPr>
        <p:spPr>
          <a:xfrm>
            <a:off x="6588000" y="321300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1116000" y="3645000"/>
            <a:ext cx="194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键盘输入密码验证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Text Box 23"/>
          <p:cNvSpPr/>
          <p:nvPr/>
        </p:nvSpPr>
        <p:spPr>
          <a:xfrm>
            <a:off x="5796000" y="3645000"/>
            <a:ext cx="194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键盘输入密码验证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2268360" y="4581360"/>
            <a:ext cx="1729080" cy="1079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250920" y="4653000"/>
            <a:ext cx="1728720" cy="1008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5724360" y="4438800"/>
            <a:ext cx="1800360" cy="790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27"/>
          <p:cNvSpPr/>
          <p:nvPr/>
        </p:nvSpPr>
        <p:spPr>
          <a:xfrm>
            <a:off x="5724360" y="5446800"/>
            <a:ext cx="1729080" cy="574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28"/>
          <p:cNvSpPr/>
          <p:nvPr/>
        </p:nvSpPr>
        <p:spPr>
          <a:xfrm>
            <a:off x="3059280" y="5950080"/>
            <a:ext cx="1728720" cy="525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Line 35"/>
          <p:cNvSpPr/>
          <p:nvPr/>
        </p:nvSpPr>
        <p:spPr>
          <a:xfrm flipH="1">
            <a:off x="899640" y="4076640"/>
            <a:ext cx="792360" cy="576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Line 36"/>
          <p:cNvSpPr/>
          <p:nvPr/>
        </p:nvSpPr>
        <p:spPr>
          <a:xfrm>
            <a:off x="2268360" y="4076640"/>
            <a:ext cx="576360" cy="503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971640" y="39337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277308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Text Box 40"/>
          <p:cNvSpPr/>
          <p:nvPr/>
        </p:nvSpPr>
        <p:spPr>
          <a:xfrm>
            <a:off x="2411280" y="4653000"/>
            <a:ext cx="1440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LCD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LED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BUT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显示正解的信息清除密码返回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Line 41"/>
          <p:cNvSpPr/>
          <p:nvPr/>
        </p:nvSpPr>
        <p:spPr>
          <a:xfrm>
            <a:off x="3995640" y="4797360"/>
            <a:ext cx="287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 flipV="1">
            <a:off x="4356000" y="2565000"/>
            <a:ext cx="0" cy="2158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Text Box 43"/>
          <p:cNvSpPr/>
          <p:nvPr/>
        </p:nvSpPr>
        <p:spPr>
          <a:xfrm>
            <a:off x="395280" y="4724280"/>
            <a:ext cx="14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LCD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LED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BUT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显示正解的信息，奏乐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Text Box 44"/>
          <p:cNvSpPr/>
          <p:nvPr/>
        </p:nvSpPr>
        <p:spPr>
          <a:xfrm>
            <a:off x="3348000" y="6165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结束返回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Line 45"/>
          <p:cNvSpPr/>
          <p:nvPr/>
        </p:nvSpPr>
        <p:spPr>
          <a:xfrm>
            <a:off x="4788000" y="6165720"/>
            <a:ext cx="3638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Line 46"/>
          <p:cNvSpPr/>
          <p:nvPr/>
        </p:nvSpPr>
        <p:spPr>
          <a:xfrm flipV="1">
            <a:off x="8388360" y="2133360"/>
            <a:ext cx="0" cy="4066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47"/>
          <p:cNvSpPr/>
          <p:nvPr/>
        </p:nvSpPr>
        <p:spPr>
          <a:xfrm flipH="1">
            <a:off x="5364000" y="2133720"/>
            <a:ext cx="3027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5867280" y="4365720"/>
            <a:ext cx="1460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输入修改密码两次密码比较成功了吗？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52"/>
          <p:cNvSpPr/>
          <p:nvPr/>
        </p:nvSpPr>
        <p:spPr>
          <a:xfrm>
            <a:off x="6659640" y="4005360"/>
            <a:ext cx="0" cy="431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53"/>
          <p:cNvSpPr/>
          <p:nvPr/>
        </p:nvSpPr>
        <p:spPr>
          <a:xfrm flipH="1">
            <a:off x="4356000" y="3789360"/>
            <a:ext cx="1511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Text Box 54"/>
          <p:cNvSpPr/>
          <p:nvPr/>
        </p:nvSpPr>
        <p:spPr>
          <a:xfrm>
            <a:off x="5078160" y="3070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55"/>
          <p:cNvSpPr/>
          <p:nvPr/>
        </p:nvSpPr>
        <p:spPr>
          <a:xfrm>
            <a:off x="608652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Text Box 57"/>
          <p:cNvSpPr/>
          <p:nvPr/>
        </p:nvSpPr>
        <p:spPr>
          <a:xfrm>
            <a:off x="6302160" y="51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Text Box 58"/>
          <p:cNvSpPr/>
          <p:nvPr/>
        </p:nvSpPr>
        <p:spPr>
          <a:xfrm>
            <a:off x="7669080" y="4221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59"/>
          <p:cNvSpPr/>
          <p:nvPr/>
        </p:nvSpPr>
        <p:spPr>
          <a:xfrm>
            <a:off x="7524720" y="4654440"/>
            <a:ext cx="647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Line 60"/>
          <p:cNvSpPr/>
          <p:nvPr/>
        </p:nvSpPr>
        <p:spPr>
          <a:xfrm flipV="1">
            <a:off x="8172360" y="3789000"/>
            <a:ext cx="0" cy="863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Line 61"/>
          <p:cNvSpPr/>
          <p:nvPr/>
        </p:nvSpPr>
        <p:spPr>
          <a:xfrm flipH="1">
            <a:off x="7380360" y="3789360"/>
            <a:ext cx="792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Text Box 62"/>
          <p:cNvSpPr/>
          <p:nvPr/>
        </p:nvSpPr>
        <p:spPr>
          <a:xfrm>
            <a:off x="5724360" y="5446800"/>
            <a:ext cx="172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LCD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LED,</a:t>
            </a:r>
            <a:r>
              <a:rPr b="0" lang="zh-CN" sz="1500" spc="-1" strike="noStrike">
                <a:solidFill>
                  <a:srgbClr val="000066"/>
                </a:solidFill>
                <a:latin typeface="Times New Roman"/>
                <a:ea typeface="宋体"/>
              </a:rPr>
              <a:t>显示正解，蜂鸣器奏乐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Line 63"/>
          <p:cNvSpPr/>
          <p:nvPr/>
        </p:nvSpPr>
        <p:spPr>
          <a:xfrm>
            <a:off x="6659640" y="5229360"/>
            <a:ext cx="0" cy="252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Line 65"/>
          <p:cNvSpPr/>
          <p:nvPr/>
        </p:nvSpPr>
        <p:spPr>
          <a:xfrm flipH="1">
            <a:off x="4355640" y="573408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Line 67"/>
          <p:cNvSpPr/>
          <p:nvPr/>
        </p:nvSpPr>
        <p:spPr>
          <a:xfrm flipV="1">
            <a:off x="4356000" y="4797360"/>
            <a:ext cx="0" cy="936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Line 68"/>
          <p:cNvSpPr/>
          <p:nvPr/>
        </p:nvSpPr>
        <p:spPr>
          <a:xfrm>
            <a:off x="971640" y="5661000"/>
            <a:ext cx="0" cy="611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Line 70"/>
          <p:cNvSpPr/>
          <p:nvPr/>
        </p:nvSpPr>
        <p:spPr>
          <a:xfrm>
            <a:off x="1042920" y="6237360"/>
            <a:ext cx="1979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Line 71"/>
          <p:cNvSpPr/>
          <p:nvPr/>
        </p:nvSpPr>
        <p:spPr>
          <a:xfrm>
            <a:off x="7451640" y="5734080"/>
            <a:ext cx="9748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5"/>
          <p:cNvSpPr/>
          <p:nvPr/>
        </p:nvSpPr>
        <p:spPr>
          <a:xfrm>
            <a:off x="2627280" y="1268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主要的设计实施过程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979640" y="2492280"/>
            <a:ext cx="65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、选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公司的单片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T89C51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，以及选购其他电子元器件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、使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PROTEUS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软件设计硬件电路原理图，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、使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Keil uVision3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软件编写单片机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语言程序、仿真、软件调试。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、使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PROTEUS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软件进行模拟软、硬件调试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、程序优化，扩展功能设计，最后，联合软、硬件调试电路板。完成本次结业设计。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index3_r2_c2" descr="http://www.scuecgs.net.cn/images/index3_r2_c2.jpg"/>
          <p:cNvPicPr/>
          <p:nvPr/>
        </p:nvPicPr>
        <p:blipFill>
          <a:blip r:embed="rId1"/>
          <a:stretch/>
        </p:blipFill>
        <p:spPr>
          <a:xfrm>
            <a:off x="3780000" y="0"/>
            <a:ext cx="5143320" cy="9334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5"/>
          <p:cNvSpPr/>
          <p:nvPr/>
        </p:nvSpPr>
        <p:spPr>
          <a:xfrm>
            <a:off x="2916360" y="1125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硬件仿真图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4" name="Picture 6" descr="截图03"/>
          <p:cNvPicPr/>
          <p:nvPr/>
        </p:nvPicPr>
        <p:blipFill>
          <a:blip r:embed="rId2"/>
          <a:stretch/>
        </p:blipFill>
        <p:spPr>
          <a:xfrm>
            <a:off x="1332000" y="1773360"/>
            <a:ext cx="7343640" cy="4246560"/>
          </a:xfrm>
          <a:prstGeom prst="rect">
            <a:avLst/>
          </a:prstGeom>
          <a:ln w="0">
            <a:noFill/>
          </a:ln>
        </p:spPr>
      </p:pic>
      <p:sp>
        <p:nvSpPr>
          <p:cNvPr id="695" name="AutoShape 7"/>
          <p:cNvSpPr/>
          <p:nvPr/>
        </p:nvSpPr>
        <p:spPr>
          <a:xfrm>
            <a:off x="3348000" y="2205000"/>
            <a:ext cx="1008000" cy="503280"/>
          </a:xfrm>
          <a:prstGeom prst="wedgeRoundRectCallout">
            <a:avLst>
              <a:gd name="adj1" fmla="val -65120"/>
              <a:gd name="adj2" fmla="val 98578"/>
              <a:gd name="adj3" fmla="val 16667"/>
            </a:avLst>
          </a:prstGeom>
          <a:solidFill>
            <a:srgbClr val="cbb61d"/>
          </a:solidFill>
          <a:ln w="93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4*4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键盘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2627280" y="5445000"/>
            <a:ext cx="1081080" cy="576360"/>
          </a:xfrm>
          <a:prstGeom prst="wedgeRoundRectCallout">
            <a:avLst>
              <a:gd name="adj1" fmla="val 82453"/>
              <a:gd name="adj2" fmla="val -85263"/>
              <a:gd name="adj3" fmla="val 16667"/>
            </a:avLst>
          </a:prstGeom>
          <a:solidFill>
            <a:srgbClr val="cbb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AT89C5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AutoShape 9"/>
          <p:cNvSpPr/>
          <p:nvPr/>
        </p:nvSpPr>
        <p:spPr>
          <a:xfrm>
            <a:off x="6948360" y="1773360"/>
            <a:ext cx="1152720" cy="431640"/>
          </a:xfrm>
          <a:prstGeom prst="wedgeRoundRectCallout">
            <a:avLst>
              <a:gd name="adj1" fmla="val -44902"/>
              <a:gd name="adj2" fmla="val 69851"/>
              <a:gd name="adj3" fmla="val 16667"/>
            </a:avLst>
          </a:prstGeom>
          <a:solidFill>
            <a:srgbClr val="cbb61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LCD160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8317080" y="2276640"/>
            <a:ext cx="502920" cy="936360"/>
          </a:xfrm>
          <a:prstGeom prst="wedgeRoundRectCallout">
            <a:avLst>
              <a:gd name="adj1" fmla="val -43689"/>
              <a:gd name="adj2" fmla="val 73050"/>
              <a:gd name="adj3" fmla="val 16667"/>
            </a:avLst>
          </a:prstGeom>
          <a:solidFill>
            <a:srgbClr val="cbb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10K</a:t>
            </a:r>
            <a:r>
              <a:rPr b="0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排阻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7524720" y="4221000"/>
            <a:ext cx="1224000" cy="360360"/>
          </a:xfrm>
          <a:prstGeom prst="wedgeRoundRectCallout">
            <a:avLst>
              <a:gd name="adj1" fmla="val -55578"/>
              <a:gd name="adj2" fmla="val 89648"/>
              <a:gd name="adj3" fmla="val 16667"/>
            </a:avLst>
          </a:prstGeom>
          <a:solidFill>
            <a:srgbClr val="cbb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24C0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AutoShape 15"/>
          <p:cNvSpPr/>
          <p:nvPr/>
        </p:nvSpPr>
        <p:spPr>
          <a:xfrm>
            <a:off x="4572000" y="6021360"/>
            <a:ext cx="1081080" cy="432000"/>
          </a:xfrm>
          <a:prstGeom prst="wedgeRoundRectCallout">
            <a:avLst>
              <a:gd name="adj1" fmla="val 61162"/>
              <a:gd name="adj2" fmla="val -63601"/>
              <a:gd name="adj3" fmla="val 16667"/>
            </a:avLst>
          </a:prstGeom>
          <a:solidFill>
            <a:srgbClr val="cbb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74LS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Bella </cp:lastModifiedBy>
  <dcterms:modified xsi:type="dcterms:W3CDTF">2015-01-22T02:51:13Z</dcterms:modified>
  <cp:revision>37</cp:revision>
  <dc:subject/>
  <dc:title>论文名称</dc:title>
</cp:coreProperties>
</file>