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wmf" ContentType="image/x-wmf"/>
  <Override PartName="/ppt/media/image13.jpeg" ContentType="image/jpeg"/>
  <Override PartName="/ppt/media/image20.gif" ContentType="image/gif"/>
  <Override PartName="/ppt/media/image26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8.jpeg" ContentType="image/jpeg"/>
  <Override PartName="/ppt/media/image8.gif" ContentType="image/gif"/>
  <Override PartName="/ppt/media/image10.gif" ContentType="image/gif"/>
  <Override PartName="/ppt/media/image22.wmf" ContentType="image/x-wmf"/>
  <Override PartName="/ppt/media/image30.gif" ContentType="image/gif"/>
  <Override PartName="/ppt/media/image31.jpeg" ContentType="image/jpeg"/>
  <Override PartName="/ppt/media/image12.jpeg" ContentType="image/jpeg"/>
  <Override PartName="/ppt/media/image4.png" ContentType="image/png"/>
  <Override PartName="/ppt/media/image1.gif" ContentType="image/gif"/>
  <Override PartName="/ppt/media/image27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29.wmf" ContentType="image/x-wmf"/>
  <Override PartName="/ppt/media/image19.jpeg" ContentType="image/jpeg"/>
  <Override PartName="/ppt/media/image2.gif" ContentType="image/gif"/>
  <Override PartName="/ppt/media/image28.png" ContentType="image/png"/>
  <Override PartName="/ppt/media/image14.png" ContentType="image/png"/>
  <Override PartName="/ppt/media/image15.jpeg" ContentType="image/jpeg"/>
  <Override PartName="/ppt/media/image9.gif" ContentType="image/gif"/>
  <Override PartName="/ppt/media/image16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6365-AC97-402F-BF19-B21DBAEA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F91A-4BC3-4365-92CE-99F05F44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4599-1956-432A-8194-3370DE04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81DB-9C5D-400F-B44B-5639FA8E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A52B-C7AE-46A7-98E2-3038BD44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DB60-7B5B-4049-933E-9FC62CEE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A43D-3249-420B-B7F0-734CC9CF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B2F5-36C0-4CFB-88F4-443209B8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B1F2-0805-4D6F-8E5A-E351A4BA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87BC-2A60-4E95-BACC-A198CD92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7772-9141-40AE-8CF3-915D149D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B4CB-8FC9-4DBA-8EA0-68FAEEE8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C8C2-5E08-4BA1-92F2-7E38EA77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B0D6-CCC0-4B27-88AF-A99BE99B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C5A0-4554-4799-B350-604D208A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674E-47AE-4C76-ACF6-570ECA17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1F87-5D02-4669-ACB5-16CBB045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B20-A711-4D03-A9BE-101794C4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8084-E83F-4758-8AFD-6985B545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FD34-A838-437E-AA5B-BD7C608E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D25F-A71F-4B79-B6A5-C14406DD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1BD4-541F-4738-9801-505AC6DC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EB3F-675C-4BD7-92E7-E79CE52C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1F71-A81B-48E4-8839-A4FE1453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C279-0D78-452A-AA2C-DF629FFE8F4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39" name="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5D29-3C57-4ADB-A638-90EB0779F40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6160" y="4318200"/>
            <a:ext cx="980640" cy="1159920"/>
            <a:chOff x="7796160" y="4318200"/>
            <a:chExt cx="980640" cy="1159920"/>
          </a:xfrm>
        </p:grpSpPr>
        <p:sp>
          <p:nvSpPr>
            <p:cNvPr id="103" name=""/>
            <p:cNvSpPr/>
            <p:nvPr/>
          </p:nvSpPr>
          <p:spPr>
            <a:xfrm rot="7320000">
              <a:off x="7791480" y="46591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788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4400" y="462168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6160" y="4318200"/>
              <a:ext cx="980640" cy="1159920"/>
              <a:chOff x="7796160" y="4318200"/>
              <a:chExt cx="980640" cy="115992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232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6920" y="4650840"/>
                <a:ext cx="1058760" cy="4946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6280" y="4757760"/>
                <a:ext cx="74916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000" y="455976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2920" y="475956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8.pn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256,14,&#24187;&#28783;&#29255; 14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765000"/>
            <a:ext cx="1944720" cy="2159280"/>
          </a:xfrm>
          <a:prstGeom prst="star5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11280" y="620640"/>
            <a:ext cx="1729080" cy="2448000"/>
          </a:xfrm>
          <a:prstGeom prst="triangle">
            <a:avLst>
              <a:gd name="adj" fmla="val 50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11280" y="907920"/>
            <a:ext cx="1873440" cy="2016360"/>
          </a:xfrm>
          <a:custGeom>
            <a:avLst/>
            <a:gdLst>
              <a:gd name="textAreaLeft" fmla="*/ 0 w 1873440"/>
              <a:gd name="textAreaRight" fmla="*/ 1873800 w 1873440"/>
              <a:gd name="textAreaTop" fmla="*/ 524520 h 2016360"/>
              <a:gd name="textAreaBottom" fmla="*/ 149184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1052640"/>
            <a:ext cx="1368360" cy="1655640"/>
          </a:xfrm>
          <a:custGeom>
            <a:avLst/>
            <a:gdLst>
              <a:gd name="textAreaLeft" fmla="*/ 0 w 1368360"/>
              <a:gd name="textAreaRight" fmla="*/ 1368720 w 1368360"/>
              <a:gd name="textAreaTop" fmla="*/ 430560 h 1655640"/>
              <a:gd name="textAreaBottom" fmla="*/ 122508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4360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4284720" y="1916280"/>
            <a:ext cx="1366920" cy="1512720"/>
            <a:chOff x="4284720" y="1916280"/>
            <a:chExt cx="1366920" cy="1512720"/>
          </a:xfrm>
        </p:grpSpPr>
        <p:sp>
          <p:nvSpPr>
            <p:cNvPr id="260" name=""/>
            <p:cNvSpPr/>
            <p:nvPr/>
          </p:nvSpPr>
          <p:spPr>
            <a:xfrm>
              <a:off x="4294080" y="1916280"/>
              <a:ext cx="0" cy="1512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84720" y="3429000"/>
              <a:ext cx="13669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51960" y="4508640"/>
            <a:ext cx="895680" cy="1296720"/>
            <a:chOff x="651960" y="4508640"/>
            <a:chExt cx="895680" cy="1296720"/>
          </a:xfrm>
        </p:grpSpPr>
        <p:sp>
          <p:nvSpPr>
            <p:cNvPr id="263" name=""/>
            <p:cNvSpPr/>
            <p:nvPr/>
          </p:nvSpPr>
          <p:spPr>
            <a:xfrm>
              <a:off x="1547640" y="4508640"/>
              <a:ext cx="0" cy="1296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651960" y="5733720"/>
              <a:ext cx="865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124000" y="1125360"/>
            <a:ext cx="1512720" cy="1366920"/>
            <a:chOff x="2124000" y="1125360"/>
            <a:chExt cx="1512720" cy="1366920"/>
          </a:xfrm>
        </p:grpSpPr>
        <p:sp>
          <p:nvSpPr>
            <p:cNvPr id="266" name=""/>
            <p:cNvSpPr/>
            <p:nvPr/>
          </p:nvSpPr>
          <p:spPr>
            <a:xfrm flipH="1">
              <a:off x="2124000" y="1134720"/>
              <a:ext cx="1512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24000" y="1125360"/>
              <a:ext cx="0" cy="1366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9" name=""/>
          <p:cNvGrpSpPr/>
          <p:nvPr/>
        </p:nvGrpSpPr>
        <p:grpSpPr>
          <a:xfrm>
            <a:off x="5940360" y="2349000"/>
            <a:ext cx="1368360" cy="2088000"/>
            <a:chOff x="5940360" y="2349000"/>
            <a:chExt cx="1368360" cy="2088000"/>
          </a:xfrm>
        </p:grpSpPr>
        <p:sp>
          <p:nvSpPr>
            <p:cNvPr id="270" name=""/>
            <p:cNvSpPr/>
            <p:nvPr/>
          </p:nvSpPr>
          <p:spPr>
            <a:xfrm flipV="1">
              <a:off x="5940360" y="4005000"/>
              <a:ext cx="13683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6372000" y="2349000"/>
              <a:ext cx="936720" cy="1655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3000">
    <p:checker dir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879640" y="2735280"/>
            <a:ext cx="6264360" cy="412272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6310800" y="3213000"/>
            <a:ext cx="1272240" cy="1783800"/>
            <a:chOff x="6310800" y="3213000"/>
            <a:chExt cx="1272240" cy="1783800"/>
          </a:xfrm>
        </p:grpSpPr>
        <p:sp>
          <p:nvSpPr>
            <p:cNvPr id="274" name=""/>
            <p:cNvSpPr/>
            <p:nvPr/>
          </p:nvSpPr>
          <p:spPr>
            <a:xfrm>
              <a:off x="6310800" y="3213000"/>
              <a:ext cx="1272240" cy="351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994440" y="3556800"/>
              <a:ext cx="553320" cy="144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405400" y="5415120"/>
            <a:ext cx="1471320" cy="677880"/>
            <a:chOff x="5405400" y="5415120"/>
            <a:chExt cx="1471320" cy="677880"/>
          </a:xfrm>
        </p:grpSpPr>
        <p:sp>
          <p:nvSpPr>
            <p:cNvPr id="277" name=""/>
            <p:cNvSpPr/>
            <p:nvPr/>
          </p:nvSpPr>
          <p:spPr>
            <a:xfrm flipH="1">
              <a:off x="6609960" y="5415120"/>
              <a:ext cx="266760" cy="677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5405400" y="5630760"/>
              <a:ext cx="1225440" cy="431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0" y="-33480"/>
            <a:ext cx="5003640" cy="362448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3132000" y="692280"/>
            <a:ext cx="863640" cy="792000"/>
            <a:chOff x="3132000" y="692280"/>
            <a:chExt cx="863640" cy="792000"/>
          </a:xfrm>
        </p:grpSpPr>
        <p:sp>
          <p:nvSpPr>
            <p:cNvPr id="281" name=""/>
            <p:cNvSpPr/>
            <p:nvPr/>
          </p:nvSpPr>
          <p:spPr>
            <a:xfrm>
              <a:off x="3132000" y="692280"/>
              <a:ext cx="8636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95640" y="692280"/>
              <a:ext cx="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131640" y="2060640"/>
            <a:ext cx="863640" cy="792000"/>
            <a:chOff x="3131640" y="2060640"/>
            <a:chExt cx="863640" cy="792000"/>
          </a:xfrm>
        </p:grpSpPr>
        <p:sp>
          <p:nvSpPr>
            <p:cNvPr id="284" name=""/>
            <p:cNvSpPr/>
            <p:nvPr/>
          </p:nvSpPr>
          <p:spPr>
            <a:xfrm>
              <a:off x="3995280" y="2060640"/>
              <a:ext cx="0" cy="792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3131640" y="2852640"/>
              <a:ext cx="863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311120" y="620280"/>
            <a:ext cx="792360" cy="863640"/>
            <a:chOff x="1311120" y="620280"/>
            <a:chExt cx="792360" cy="863640"/>
          </a:xfrm>
        </p:grpSpPr>
        <p:sp>
          <p:nvSpPr>
            <p:cNvPr id="287" name=""/>
            <p:cNvSpPr/>
            <p:nvPr/>
          </p:nvSpPr>
          <p:spPr>
            <a:xfrm flipV="1">
              <a:off x="1311120" y="620280"/>
              <a:ext cx="0" cy="86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11120" y="620280"/>
              <a:ext cx="792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290240" y="1988640"/>
            <a:ext cx="865080" cy="863640"/>
            <a:chOff x="1290240" y="1988640"/>
            <a:chExt cx="865080" cy="863640"/>
          </a:xfrm>
        </p:grpSpPr>
        <p:sp>
          <p:nvSpPr>
            <p:cNvPr id="290" name=""/>
            <p:cNvSpPr/>
            <p:nvPr/>
          </p:nvSpPr>
          <p:spPr>
            <a:xfrm flipH="1">
              <a:off x="1290240" y="2852280"/>
              <a:ext cx="865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290240" y="1988640"/>
              <a:ext cx="0" cy="863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5688000" cy="38336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2374920" cy="3591000"/>
          </a:xfrm>
          <a:prstGeom prst="rect">
            <a:avLst/>
          </a:prstGeom>
          <a:ln w="0">
            <a:noFill/>
          </a:ln>
        </p:spPr>
      </p:pic>
      <p:grpSp>
        <p:nvGrpSpPr>
          <p:cNvPr id="294" name=""/>
          <p:cNvGrpSpPr/>
          <p:nvPr/>
        </p:nvGrpSpPr>
        <p:grpSpPr>
          <a:xfrm>
            <a:off x="468360" y="404640"/>
            <a:ext cx="574560" cy="647640"/>
            <a:chOff x="468360" y="404640"/>
            <a:chExt cx="574560" cy="647640"/>
          </a:xfrm>
        </p:grpSpPr>
        <p:sp>
          <p:nvSpPr>
            <p:cNvPr id="295" name=""/>
            <p:cNvSpPr/>
            <p:nvPr/>
          </p:nvSpPr>
          <p:spPr>
            <a:xfrm flipH="1">
              <a:off x="468360" y="404640"/>
              <a:ext cx="5745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8360" y="404640"/>
              <a:ext cx="0" cy="64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2195280" y="406440"/>
            <a:ext cx="647640" cy="574560"/>
            <a:chOff x="2195280" y="406440"/>
            <a:chExt cx="647640" cy="574560"/>
          </a:xfrm>
        </p:grpSpPr>
        <p:sp>
          <p:nvSpPr>
            <p:cNvPr id="298" name=""/>
            <p:cNvSpPr/>
            <p:nvPr/>
          </p:nvSpPr>
          <p:spPr>
            <a:xfrm flipV="1">
              <a:off x="2842920" y="406440"/>
              <a:ext cx="0" cy="57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195280" y="406440"/>
              <a:ext cx="64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68360" y="3429000"/>
            <a:ext cx="647640" cy="574560"/>
            <a:chOff x="468360" y="3429000"/>
            <a:chExt cx="647640" cy="574560"/>
          </a:xfrm>
        </p:grpSpPr>
        <p:sp>
          <p:nvSpPr>
            <p:cNvPr id="301" name=""/>
            <p:cNvSpPr/>
            <p:nvPr/>
          </p:nvSpPr>
          <p:spPr>
            <a:xfrm>
              <a:off x="468360" y="3429000"/>
              <a:ext cx="0" cy="57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8360" y="4003560"/>
              <a:ext cx="64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268360" y="3357360"/>
            <a:ext cx="574560" cy="647640"/>
            <a:chOff x="2268360" y="3357360"/>
            <a:chExt cx="574560" cy="647640"/>
          </a:xfrm>
        </p:grpSpPr>
        <p:sp>
          <p:nvSpPr>
            <p:cNvPr id="304" name=""/>
            <p:cNvSpPr/>
            <p:nvPr/>
          </p:nvSpPr>
          <p:spPr>
            <a:xfrm>
              <a:off x="2268360" y="4005000"/>
              <a:ext cx="5745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842920" y="3357360"/>
              <a:ext cx="0" cy="64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6720" y="1917720"/>
            <a:ext cx="574560" cy="647640"/>
            <a:chOff x="3276720" y="1917720"/>
            <a:chExt cx="574560" cy="647640"/>
          </a:xfrm>
        </p:grpSpPr>
        <p:sp>
          <p:nvSpPr>
            <p:cNvPr id="307" name=""/>
            <p:cNvSpPr/>
            <p:nvPr/>
          </p:nvSpPr>
          <p:spPr>
            <a:xfrm flipH="1">
              <a:off x="3276720" y="1917720"/>
              <a:ext cx="57456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76720" y="1917720"/>
              <a:ext cx="0" cy="647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8316720" y="1917720"/>
            <a:ext cx="647640" cy="574560"/>
            <a:chOff x="8316720" y="1917720"/>
            <a:chExt cx="647640" cy="574560"/>
          </a:xfrm>
        </p:grpSpPr>
        <p:sp>
          <p:nvSpPr>
            <p:cNvPr id="310" name=""/>
            <p:cNvSpPr/>
            <p:nvPr/>
          </p:nvSpPr>
          <p:spPr>
            <a:xfrm flipV="1">
              <a:off x="8964360" y="1917720"/>
              <a:ext cx="0" cy="5745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8316720" y="1917720"/>
              <a:ext cx="64764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276720" y="5157720"/>
            <a:ext cx="647640" cy="574560"/>
            <a:chOff x="3276720" y="5157720"/>
            <a:chExt cx="647640" cy="574560"/>
          </a:xfrm>
        </p:grpSpPr>
        <p:sp>
          <p:nvSpPr>
            <p:cNvPr id="313" name=""/>
            <p:cNvSpPr/>
            <p:nvPr/>
          </p:nvSpPr>
          <p:spPr>
            <a:xfrm>
              <a:off x="3276720" y="5157720"/>
              <a:ext cx="0" cy="5745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76720" y="5732280"/>
              <a:ext cx="64764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8388360" y="5085000"/>
            <a:ext cx="574560" cy="647640"/>
            <a:chOff x="8388360" y="5085000"/>
            <a:chExt cx="574560" cy="647640"/>
          </a:xfrm>
        </p:grpSpPr>
        <p:sp>
          <p:nvSpPr>
            <p:cNvPr id="316" name=""/>
            <p:cNvSpPr/>
            <p:nvPr/>
          </p:nvSpPr>
          <p:spPr>
            <a:xfrm>
              <a:off x="8388360" y="5732640"/>
              <a:ext cx="57456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8962920" y="5085000"/>
              <a:ext cx="0" cy="647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9" name=""/>
          <p:cNvGrpSpPr/>
          <p:nvPr/>
        </p:nvGrpSpPr>
        <p:grpSpPr>
          <a:xfrm>
            <a:off x="6516720" y="189000"/>
            <a:ext cx="2232000" cy="763560"/>
            <a:chOff x="6516720" y="189000"/>
            <a:chExt cx="2232000" cy="763560"/>
          </a:xfrm>
        </p:grpSpPr>
        <p:sp>
          <p:nvSpPr>
            <p:cNvPr id="320" name=""/>
            <p:cNvSpPr/>
            <p:nvPr/>
          </p:nvSpPr>
          <p:spPr>
            <a:xfrm>
              <a:off x="6516720" y="189000"/>
              <a:ext cx="2232000" cy="763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96720" y="253080"/>
              <a:ext cx="1862280" cy="63504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做一做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 txBox="1"/>
          <p:nvPr/>
        </p:nvSpPr>
        <p:spPr>
          <a:xfrm>
            <a:off x="1116000" y="2852640"/>
            <a:ext cx="6629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开动脑筋，小组合作，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一起来做一个角吧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050920" y="1197000"/>
            <a:ext cx="623268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让我们来体验吧！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90720" y="692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红角</a:t>
            </a:r>
            <a:r>
              <a:rPr b="1" lang="zh-CN" sz="2400" spc="-1" strike="noStrike">
                <a:solidFill>
                  <a:srgbClr val="703dff"/>
                </a:solidFill>
                <a:latin typeface="宋体"/>
              </a:rPr>
              <a:t>和蓝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11970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66120" y="2008080"/>
            <a:ext cx="108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宋体"/>
              </a:rPr>
              <a:t>几何王国里有一对好朋友，一个叫蓝角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宋体"/>
              </a:rPr>
              <a:t>一个叫红角．可是有一天，他俩吵起来了．</a:t>
            </a:r>
            <a:r>
              <a:rPr b="1" lang="en-US" sz="2800" spc="-1" strike="noStrike">
                <a:solidFill>
                  <a:srgbClr val="703d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8317080" y="6524640"/>
            <a:ext cx="358560" cy="333360"/>
          </a:xfrm>
          <a:custGeom>
            <a:avLst/>
            <a:gdLst>
              <a:gd name="textAreaLeft" fmla="*/ 20520 w 358560"/>
              <a:gd name="textAreaRight" fmla="*/ 338040 w 358560"/>
              <a:gd name="textAreaTop" fmla="*/ 20520 h 333360"/>
              <a:gd name="textAreaBottom" fmla="*/ 312840 h 333360"/>
            </a:gdLst>
            <a:ahLst/>
            <a:rect l="textAreaLeft" t="textAreaTop" r="textAreaRight" b="textAreaBottom"/>
            <a:pathLst>
              <a:path w="23231" h="21600">
                <a:moveTo>
                  <a:pt x="0" y="0"/>
                </a:moveTo>
                <a:lnTo>
                  <a:pt x="23231" y="0"/>
                </a:lnTo>
                <a:lnTo>
                  <a:pt x="23231" y="21600"/>
                </a:lnTo>
                <a:lnTo>
                  <a:pt x="0" y="21600"/>
                </a:lnTo>
                <a:close/>
              </a:path>
              <a:path fill="lightenLess" w="23231" h="21600">
                <a:moveTo>
                  <a:pt x="0" y="0"/>
                </a:moveTo>
                <a:lnTo>
                  <a:pt x="23231" y="0"/>
                </a:lnTo>
                <a:lnTo>
                  <a:pt x="21881" y="1350"/>
                </a:lnTo>
                <a:lnTo>
                  <a:pt x="1350" y="1350"/>
                </a:lnTo>
                <a:close/>
              </a:path>
              <a:path fill="darken" w="23231" h="21600">
                <a:moveTo>
                  <a:pt x="23231" y="0"/>
                </a:moveTo>
                <a:lnTo>
                  <a:pt x="23231" y="21600"/>
                </a:lnTo>
                <a:lnTo>
                  <a:pt x="21881" y="20250"/>
                </a:lnTo>
                <a:lnTo>
                  <a:pt x="21881" y="1350"/>
                </a:lnTo>
                <a:close/>
              </a:path>
              <a:path fill="darkenLess" w="23231" h="21600">
                <a:moveTo>
                  <a:pt x="2323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881" y="20250"/>
                </a:lnTo>
                <a:close/>
              </a:path>
              <a:path fill="lighten" w="2323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3231" h="21600">
                <a:moveTo>
                  <a:pt x="4572" y="3756"/>
                </a:moveTo>
                <a:lnTo>
                  <a:pt x="18659" y="10800"/>
                </a:lnTo>
                <a:lnTo>
                  <a:pt x="4572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76360" y="6524640"/>
            <a:ext cx="431640" cy="333360"/>
          </a:xfrm>
          <a:custGeom>
            <a:avLst/>
            <a:gdLst>
              <a:gd name="textAreaLeft" fmla="*/ 20520 w 431640"/>
              <a:gd name="textAreaRight" fmla="*/ 411120 w 431640"/>
              <a:gd name="textAreaTop" fmla="*/ 20520 h 333360"/>
              <a:gd name="textAreaBottom" fmla="*/ 31284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611" y="1350"/>
                </a:lnTo>
                <a:lnTo>
                  <a:pt x="1350" y="135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611" y="20250"/>
                </a:lnTo>
                <a:lnTo>
                  <a:pt x="26611" y="135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611" y="2025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961" h="21600">
                <a:moveTo>
                  <a:pt x="6937" y="10800"/>
                </a:moveTo>
                <a:lnTo>
                  <a:pt x="21024" y="3756"/>
                </a:lnTo>
                <a:lnTo>
                  <a:pt x="21024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838080" y="1447920"/>
            <a:ext cx="3810240" cy="0"/>
          </a:xfrm>
          <a:prstGeom prst="line">
            <a:avLst/>
          </a:prstGeom>
          <a:ln w="9360">
            <a:solidFill>
              <a:srgbClr val="7191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>
            <a:hlinkClick r:id="" action="ppaction://hlinkshowjump?jump=nextslide"/>
          </p:cNvPr>
          <p:cNvSpPr/>
          <p:nvPr/>
        </p:nvSpPr>
        <p:spPr>
          <a:xfrm>
            <a:off x="-76320" y="6400800"/>
            <a:ext cx="9220320" cy="457200"/>
          </a:xfrm>
          <a:prstGeom prst="rect">
            <a:avLst/>
          </a:prstGeom>
          <a:solidFill>
            <a:srgbClr val="7191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2e9fe"/>
                </a:solidFill>
                <a:latin typeface="Times New Roman"/>
                <a:ea typeface="华文隶书"/>
              </a:rPr>
              <a:t>下  一  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38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 rot="2700000">
            <a:off x="4501800" y="979560"/>
            <a:ext cx="69840" cy="1657440"/>
          </a:xfrm>
          <a:prstGeom prst="rect">
            <a:avLst/>
          </a:prstGeom>
          <a:solidFill>
            <a:srgbClr val="f729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260000" y="3448080"/>
            <a:ext cx="3241800" cy="69840"/>
            <a:chOff x="1260000" y="3448080"/>
            <a:chExt cx="3241800" cy="69840"/>
          </a:xfrm>
        </p:grpSpPr>
        <p:sp>
          <p:nvSpPr>
            <p:cNvPr id="334" name=""/>
            <p:cNvSpPr/>
            <p:nvPr/>
          </p:nvSpPr>
          <p:spPr>
            <a:xfrm rot="5400000">
              <a:off x="3638160" y="2654280"/>
              <a:ext cx="69840" cy="1657440"/>
            </a:xfrm>
            <a:prstGeom prst="rect">
              <a:avLst/>
            </a:prstGeom>
            <a:solidFill>
              <a:srgbClr val="f729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2053800" y="2654280"/>
              <a:ext cx="6984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 rot="5400000">
            <a:off x="5078520" y="2635200"/>
            <a:ext cx="69840" cy="1657440"/>
          </a:xfrm>
          <a:prstGeom prst="rect">
            <a:avLst/>
          </a:prstGeom>
          <a:solidFill>
            <a:srgbClr val="f729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2700000">
            <a:off x="3420720" y="2058840"/>
            <a:ext cx="69840" cy="1657440"/>
          </a:xfrm>
          <a:prstGeom prst="rect">
            <a:avLst/>
          </a:prstGeom>
          <a:solidFill>
            <a:srgbClr val="f729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845080" y="2277000"/>
            <a:ext cx="1663560" cy="1223280"/>
            <a:chOff x="2845080" y="2277000"/>
            <a:chExt cx="1663560" cy="1223280"/>
          </a:xfrm>
        </p:grpSpPr>
        <p:sp>
          <p:nvSpPr>
            <p:cNvPr id="339" name=""/>
            <p:cNvSpPr/>
            <p:nvPr/>
          </p:nvSpPr>
          <p:spPr>
            <a:xfrm rot="2700000">
              <a:off x="3420720" y="2058840"/>
              <a:ext cx="69840" cy="1657440"/>
            </a:xfrm>
            <a:prstGeom prst="rect">
              <a:avLst/>
            </a:prstGeom>
            <a:solidFill>
              <a:srgbClr val="0202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5400000">
              <a:off x="3645000" y="2636640"/>
              <a:ext cx="69840" cy="1657440"/>
            </a:xfrm>
            <a:prstGeom prst="rect">
              <a:avLst/>
            </a:prstGeom>
            <a:solidFill>
              <a:srgbClr val="0202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5724360" y="6499080"/>
            <a:ext cx="648000" cy="35892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703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08720" y="6499080"/>
            <a:ext cx="647640" cy="35892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703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93080" y="6499080"/>
            <a:ext cx="647640" cy="35892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703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9280" y="189000"/>
            <a:ext cx="1728720" cy="916920"/>
          </a:xfrm>
          <a:prstGeom prst="rect">
            <a:avLst/>
          </a:prstGeom>
          <a:solidFill>
            <a:srgbClr val="66ff3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验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777080" y="6499080"/>
            <a:ext cx="647640" cy="35892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703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文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462880" y="6499080"/>
            <a:ext cx="647640" cy="35892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703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文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46240" y="182520"/>
            <a:ext cx="2329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点“移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“移” ，蓝角左右移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“长”，角的两边延长收回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“张”，角的一边张开收回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“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”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合使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58920" y="4005360"/>
            <a:ext cx="69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角的大小与边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长短没有关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16000" y="49417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角的大小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两边张开的大小有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>
            <a:hlinkClick r:id="" action="ppaction://hlinkshowjump?jump=nextslide"/>
          </p:cNvPr>
          <p:cNvSpPr/>
          <p:nvPr/>
        </p:nvSpPr>
        <p:spPr>
          <a:xfrm>
            <a:off x="5364000" y="6524640"/>
            <a:ext cx="358920" cy="333360"/>
          </a:xfrm>
          <a:custGeom>
            <a:avLst/>
            <a:gdLst>
              <a:gd name="textAreaLeft" fmla="*/ 20520 w 358920"/>
              <a:gd name="textAreaRight" fmla="*/ 338400 w 358920"/>
              <a:gd name="textAreaTop" fmla="*/ 20520 h 333360"/>
              <a:gd name="textAreaBottom" fmla="*/ 312840 h 333360"/>
            </a:gdLst>
            <a:ahLst/>
            <a:rect l="textAreaLeft" t="textAreaTop" r="textAreaRight" b="textAreaBottom"/>
            <a:pathLst>
              <a:path w="23254" h="21600">
                <a:moveTo>
                  <a:pt x="0" y="0"/>
                </a:moveTo>
                <a:lnTo>
                  <a:pt x="23254" y="0"/>
                </a:lnTo>
                <a:lnTo>
                  <a:pt x="23254" y="21600"/>
                </a:lnTo>
                <a:lnTo>
                  <a:pt x="0" y="21600"/>
                </a:lnTo>
                <a:close/>
              </a:path>
              <a:path fill="lightenLess" w="23254" h="21600">
                <a:moveTo>
                  <a:pt x="0" y="0"/>
                </a:moveTo>
                <a:lnTo>
                  <a:pt x="23254" y="0"/>
                </a:lnTo>
                <a:lnTo>
                  <a:pt x="21904" y="1350"/>
                </a:lnTo>
                <a:lnTo>
                  <a:pt x="1350" y="1350"/>
                </a:lnTo>
                <a:close/>
              </a:path>
              <a:path fill="darken" w="23254" h="21600">
                <a:moveTo>
                  <a:pt x="23254" y="0"/>
                </a:moveTo>
                <a:lnTo>
                  <a:pt x="23254" y="21600"/>
                </a:lnTo>
                <a:lnTo>
                  <a:pt x="21904" y="20250"/>
                </a:lnTo>
                <a:lnTo>
                  <a:pt x="21904" y="1350"/>
                </a:lnTo>
                <a:close/>
              </a:path>
              <a:path fill="darkenLess" w="23254" h="21600">
                <a:moveTo>
                  <a:pt x="2325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904" y="20250"/>
                </a:lnTo>
                <a:close/>
              </a:path>
              <a:path fill="lighten" w="2325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3254" h="21600">
                <a:moveTo>
                  <a:pt x="4583" y="3756"/>
                </a:moveTo>
                <a:lnTo>
                  <a:pt x="18671" y="10800"/>
                </a:lnTo>
                <a:lnTo>
                  <a:pt x="4583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76360" y="6524640"/>
            <a:ext cx="431640" cy="333360"/>
          </a:xfrm>
          <a:custGeom>
            <a:avLst/>
            <a:gdLst>
              <a:gd name="textAreaLeft" fmla="*/ 20520 w 431640"/>
              <a:gd name="textAreaRight" fmla="*/ 411120 w 431640"/>
              <a:gd name="textAreaTop" fmla="*/ 20520 h 333360"/>
              <a:gd name="textAreaBottom" fmla="*/ 31284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611" y="1350"/>
                </a:lnTo>
                <a:lnTo>
                  <a:pt x="1350" y="135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611" y="20250"/>
                </a:lnTo>
                <a:lnTo>
                  <a:pt x="26611" y="135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611" y="2025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961" h="21600">
                <a:moveTo>
                  <a:pt x="6937" y="10800"/>
                </a:moveTo>
                <a:lnTo>
                  <a:pt x="21024" y="3756"/>
                </a:lnTo>
                <a:lnTo>
                  <a:pt x="21024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"/>
                            </p:stCondLst>
                            <p:childTnLst>
                              <p:par>
                                <p:cTn id="3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22222E-006 L 0.39375 2.22222E-006 E">
                                      <p:cBhvr>
                                        <p:cTn id="314" dur="3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2.22222E-006 L 3.05556E-006 2.22222E-006 E">
                                      <p:cBhvr>
                                        <p:cTn id="318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31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3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340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799940">
                                      <p:cBhvr>
                                        <p:cTn id="344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95280" y="533520"/>
            <a:ext cx="34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画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1341360"/>
            <a:ext cx="4535280" cy="4824360"/>
          </a:xfrm>
          <a:prstGeom prst="cloudCallout">
            <a:avLst>
              <a:gd name="adj1" fmla="val -17134"/>
              <a:gd name="adj2" fmla="val -9985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一个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起，用尺子向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不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方向画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两条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就画成一个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838080" y="1447920"/>
            <a:ext cx="3810240" cy="0"/>
          </a:xfrm>
          <a:prstGeom prst="line">
            <a:avLst/>
          </a:prstGeom>
          <a:ln w="9360">
            <a:solidFill>
              <a:srgbClr val="7191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7498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2e9fe"/>
                </a:solidFill>
                <a:latin typeface="Times New Roman"/>
                <a:ea typeface="华文隶书"/>
              </a:rPr>
              <a:t>下  一  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280360" cy="602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95280" y="868320"/>
            <a:ext cx="2590920" cy="220968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3611520"/>
            <a:ext cx="24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角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888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229600" y="6033960"/>
            <a:ext cx="914400" cy="824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286240" y="533520"/>
            <a:ext cx="3171960" cy="3001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105520" y="361152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五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角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259000" y="3581280"/>
            <a:ext cx="4550040" cy="825120"/>
            <a:chOff x="2259000" y="3581280"/>
            <a:chExt cx="4550040" cy="825120"/>
          </a:xfrm>
        </p:grpSpPr>
        <p:sp>
          <p:nvSpPr>
            <p:cNvPr id="163" name=""/>
            <p:cNvSpPr/>
            <p:nvPr/>
          </p:nvSpPr>
          <p:spPr>
            <a:xfrm>
              <a:off x="2259000" y="35812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角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62560" y="35812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角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259000" y="3595680"/>
            <a:ext cx="4550040" cy="825120"/>
            <a:chOff x="2259000" y="3595680"/>
            <a:chExt cx="4550040" cy="825120"/>
          </a:xfrm>
        </p:grpSpPr>
        <p:sp>
          <p:nvSpPr>
            <p:cNvPr id="166" name=""/>
            <p:cNvSpPr/>
            <p:nvPr/>
          </p:nvSpPr>
          <p:spPr>
            <a:xfrm>
              <a:off x="2259000" y="35956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角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62560" y="359568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角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990720" y="5181480"/>
            <a:ext cx="6553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这两个图形中都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58560" y="51814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黑体"/>
              </a:rPr>
              <a:t>角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359" name=""/>
          <p:cNvGrpSpPr/>
          <p:nvPr/>
        </p:nvGrpSpPr>
        <p:grpSpPr>
          <a:xfrm>
            <a:off x="539640" y="620640"/>
            <a:ext cx="1952640" cy="908280"/>
            <a:chOff x="539640" y="620640"/>
            <a:chExt cx="1952640" cy="908280"/>
          </a:xfrm>
        </p:grpSpPr>
        <p:sp>
          <p:nvSpPr>
            <p:cNvPr id="360" name=""/>
            <p:cNvSpPr/>
            <p:nvPr/>
          </p:nvSpPr>
          <p:spPr>
            <a:xfrm>
              <a:off x="539640" y="620640"/>
              <a:ext cx="1952640" cy="908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96960" y="696960"/>
              <a:ext cx="1629360" cy="75528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画一画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547640" y="1989000"/>
            <a:ext cx="59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朋友，请你画一个角，并且标出它们的各部分名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900000" y="549360"/>
            <a:ext cx="3278160" cy="1125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>
                      <a:alpha val="50000"/>
                    </a:srgbClr>
                  </a:outerShdw>
                </a:effectLst>
                <a:latin typeface="隶书"/>
              </a:rPr>
              <a:t>总结：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>
                    <a:alpha val="5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65" name=""/>
          <p:cNvSpPr/>
          <p:nvPr/>
        </p:nvSpPr>
        <p:spPr>
          <a:xfrm>
            <a:off x="3431880" y="2133720"/>
            <a:ext cx="275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华文中宋"/>
                <a:ea typeface="华文中宋"/>
              </a:rPr>
              <a:t>小小角，真简单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40360" y="3198960"/>
            <a:ext cx="118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华文中宋"/>
                <a:ea typeface="华文中宋"/>
              </a:rPr>
              <a:t>一个顶点两条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438000" y="4037040"/>
            <a:ext cx="275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华文中宋"/>
                <a:ea typeface="华文中宋"/>
              </a:rPr>
              <a:t>画角时，要牢记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11520" y="4959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华文中宋"/>
                <a:ea typeface="华文中宋"/>
              </a:rPr>
              <a:t>先画顶点再画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72" name=""/>
          <p:cNvSpPr/>
          <p:nvPr/>
        </p:nvSpPr>
        <p:spPr>
          <a:xfrm>
            <a:off x="1066680" y="1752480"/>
            <a:ext cx="2590920" cy="20574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0800000">
            <a:off x="5334120" y="1981080"/>
            <a:ext cx="2590560" cy="1828800"/>
          </a:xfrm>
          <a:custGeom>
            <a:avLst/>
            <a:gdLst>
              <a:gd name="textAreaLeft" fmla="*/ 569520 w 2590560"/>
              <a:gd name="textAreaRight" fmla="*/ 2021040 w 2590560"/>
              <a:gd name="textAreaTop" fmla="*/ 402120 h 1828800"/>
              <a:gd name="textAreaBottom" fmla="*/ 14266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67400" y="3581280"/>
            <a:ext cx="3038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57800" y="358128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8268000">
            <a:off x="2100960" y="163044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79" swAng="5387252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79" swAng="538725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6262800">
            <a:off x="5745240" y="1674720"/>
            <a:ext cx="456120" cy="455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77" y="44"/>
                </a:moveTo>
                <a:arcTo wR="10800" hR="10800" stAng="-5088490" swAng="4747563"/>
                <a:lnTo>
                  <a:pt x="10800" y="10800"/>
                </a:lnTo>
                <a:close/>
              </a:path>
              <a:path fill="none" w="21600" h="21600">
                <a:moveTo>
                  <a:pt x="11777" y="44"/>
                </a:moveTo>
                <a:arcTo wR="10800" hR="10800" stAng="-5088490" swAng="4747563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9994800">
            <a:off x="7059600" y="1730880"/>
            <a:ext cx="456840" cy="45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77" y="44"/>
                </a:moveTo>
                <a:arcTo wR="10800" hR="10800" stAng="-5088490" swAng="5398385"/>
                <a:lnTo>
                  <a:pt x="10800" y="10800"/>
                </a:lnTo>
                <a:close/>
              </a:path>
              <a:path fill="none" w="21600" h="21600">
                <a:moveTo>
                  <a:pt x="11777" y="44"/>
                </a:moveTo>
                <a:arcTo wR="10800" hR="10800" stAng="-5088490" swAng="539838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13249200">
            <a:off x="7706880" y="3463560"/>
            <a:ext cx="307800" cy="416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946" y="468"/>
                </a:moveTo>
                <a:arcTo wR="10800" hR="10800" stAng="-4383918" swAng="6192631"/>
                <a:lnTo>
                  <a:pt x="10800" y="10800"/>
                </a:lnTo>
                <a:close/>
              </a:path>
              <a:path fill="none" w="21600" h="21600">
                <a:moveTo>
                  <a:pt x="13946" y="468"/>
                </a:moveTo>
                <a:arcTo wR="10800" hR="10800" stAng="-4383918" swAng="6192631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13249200">
            <a:off x="3363480" y="3463560"/>
            <a:ext cx="307800" cy="416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946" y="468"/>
                </a:moveTo>
                <a:arcTo wR="10800" hR="10800" stAng="-4383918" swAng="6192631"/>
                <a:lnTo>
                  <a:pt x="10800" y="10800"/>
                </a:lnTo>
                <a:close/>
              </a:path>
              <a:path fill="none" w="21600" h="21600">
                <a:moveTo>
                  <a:pt x="13946" y="468"/>
                </a:moveTo>
                <a:arcTo wR="10800" hR="10800" stAng="-4383918" swAng="6192631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-2543040" y="-1179360"/>
            <a:ext cx="5086080" cy="41148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3059280" y="18900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朋友，下面每个图形分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几个角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787040" y="4068720"/>
            <a:ext cx="9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个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78160" y="4038480"/>
            <a:ext cx="9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个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116000" y="189000"/>
            <a:ext cx="1952640" cy="907920"/>
            <a:chOff x="1116000" y="189000"/>
            <a:chExt cx="1952640" cy="907920"/>
          </a:xfrm>
        </p:grpSpPr>
        <p:sp>
          <p:nvSpPr>
            <p:cNvPr id="386" name=""/>
            <p:cNvSpPr/>
            <p:nvPr/>
          </p:nvSpPr>
          <p:spPr>
            <a:xfrm>
              <a:off x="1116000" y="189000"/>
              <a:ext cx="1952640" cy="907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73320" y="265320"/>
              <a:ext cx="1629360" cy="75492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数一数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7236000" y="0"/>
            <a:ext cx="1647720" cy="18763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250920" y="476280"/>
            <a:ext cx="676908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>
                    <a:alpha val="84000"/>
                  </a:srgbClr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我来考考大家的眼力：下面图形中有几个角？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>
                  <a:alpha val="84000"/>
                </a:srgbClr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3059280" y="1916280"/>
            <a:ext cx="2665080" cy="2376360"/>
            <a:chOff x="3059280" y="1916280"/>
            <a:chExt cx="2665080" cy="2376360"/>
          </a:xfrm>
        </p:grpSpPr>
        <p:sp>
          <p:nvSpPr>
            <p:cNvPr id="392" name=""/>
            <p:cNvSpPr/>
            <p:nvPr/>
          </p:nvSpPr>
          <p:spPr>
            <a:xfrm flipV="1">
              <a:off x="3059280" y="1916280"/>
              <a:ext cx="0" cy="2370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59280" y="4286520"/>
              <a:ext cx="2665080" cy="61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564000" y="4508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３个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059280" y="2565360"/>
            <a:ext cx="1728720" cy="17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83640" y="3789360"/>
            <a:ext cx="115128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42200" y="3933720"/>
            <a:ext cx="43416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04000" y="4005360"/>
            <a:ext cx="28800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250920" y="0"/>
            <a:ext cx="1952640" cy="907920"/>
            <a:chOff x="250920" y="0"/>
            <a:chExt cx="1952640" cy="907920"/>
          </a:xfrm>
        </p:grpSpPr>
        <p:sp>
          <p:nvSpPr>
            <p:cNvPr id="400" name=""/>
            <p:cNvSpPr/>
            <p:nvPr/>
          </p:nvSpPr>
          <p:spPr>
            <a:xfrm>
              <a:off x="250920" y="0"/>
              <a:ext cx="1952640" cy="907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8240" y="76320"/>
              <a:ext cx="1629360" cy="75492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考一考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0" y="2133720"/>
            <a:ext cx="2532240" cy="28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304920" y="304920"/>
            <a:ext cx="8610480" cy="65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、填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⑴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一个角有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(     )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个顶点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(     )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条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⑵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三角形有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(     )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个角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正方形有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(     )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个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⑶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画角时先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(                ),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再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(                     )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、判断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⑴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边越长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角就越大。                        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(        )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⑵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角的大小与边的长短无关。         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(       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⑶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一个角只有两条边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一个顶点。    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38280" y="990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8320" y="990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439360" y="1676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341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613600" y="228600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定顶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22096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画两条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96400" y="342900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823200">
            <a:off x="6231240" y="40381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823200">
            <a:off x="6231240" y="46479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6918480" y="3962520"/>
            <a:ext cx="2057400" cy="232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179280" y="260280"/>
            <a:ext cx="6770880" cy="1370880"/>
            <a:chOff x="179280" y="260280"/>
            <a:chExt cx="6770880" cy="1370880"/>
          </a:xfrm>
        </p:grpSpPr>
        <p:sp>
          <p:nvSpPr>
            <p:cNvPr id="415" name=""/>
            <p:cNvSpPr txBox="1"/>
            <p:nvPr/>
          </p:nvSpPr>
          <p:spPr>
            <a:xfrm>
              <a:off x="179280" y="260280"/>
              <a:ext cx="216072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Right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宋体"/>
                </a:rPr>
                <a:t>数一数</a:t>
              </a:r>
              <a:endParaRPr b="0" lang="en-US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  <a:ea typeface="宋体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746080" y="866880"/>
              <a:ext cx="4204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33cc"/>
                  </a:solidFill>
                  <a:latin typeface="Arial"/>
                  <a:ea typeface="华文隶书"/>
                </a:rPr>
                <a:t>：下面图形中各有几个角？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539640" y="3357720"/>
            <a:ext cx="2016360" cy="1295280"/>
          </a:xfrm>
          <a:custGeom>
            <a:avLst/>
            <a:gdLst>
              <a:gd name="textAreaLeft" fmla="*/ 443160 w 2016360"/>
              <a:gd name="textAreaRight" fmla="*/ 1573200 w 201636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703dff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634920" y="2781360"/>
            <a:ext cx="1460520" cy="1871280"/>
            <a:chOff x="3634920" y="2781360"/>
            <a:chExt cx="1460520" cy="1871280"/>
          </a:xfrm>
        </p:grpSpPr>
        <p:grpSp>
          <p:nvGrpSpPr>
            <p:cNvPr id="419" name=""/>
            <p:cNvGrpSpPr/>
            <p:nvPr/>
          </p:nvGrpSpPr>
          <p:grpSpPr>
            <a:xfrm>
              <a:off x="3634920" y="2781360"/>
              <a:ext cx="1460520" cy="1871280"/>
              <a:chOff x="3634920" y="2781360"/>
              <a:chExt cx="1460520" cy="1871280"/>
            </a:xfrm>
          </p:grpSpPr>
          <p:sp>
            <p:nvSpPr>
              <p:cNvPr id="420" name=""/>
              <p:cNvSpPr/>
              <p:nvPr/>
            </p:nvSpPr>
            <p:spPr>
              <a:xfrm flipH="1">
                <a:off x="3634920" y="2781360"/>
                <a:ext cx="1054440" cy="1871280"/>
              </a:xfrm>
              <a:prstGeom prst="line">
                <a:avLst/>
              </a:prstGeom>
              <a:ln w="572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3635280" y="4652640"/>
                <a:ext cx="1460160" cy="0"/>
              </a:xfrm>
              <a:prstGeom prst="line">
                <a:avLst/>
              </a:prstGeom>
              <a:ln w="5724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 flipV="1">
              <a:off x="3663720" y="3634920"/>
              <a:ext cx="1370160" cy="1009800"/>
            </a:xfrm>
            <a:prstGeom prst="line">
              <a:avLst/>
            </a:prstGeom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156360" y="3502080"/>
            <a:ext cx="2160720" cy="1006560"/>
            <a:chOff x="6156360" y="3502080"/>
            <a:chExt cx="2160720" cy="1006560"/>
          </a:xfrm>
        </p:grpSpPr>
        <p:sp>
          <p:nvSpPr>
            <p:cNvPr id="424" name=""/>
            <p:cNvSpPr/>
            <p:nvPr/>
          </p:nvSpPr>
          <p:spPr>
            <a:xfrm>
              <a:off x="6156360" y="4005360"/>
              <a:ext cx="2160720" cy="503280"/>
            </a:xfrm>
            <a:custGeom>
              <a:avLst/>
              <a:gdLst>
                <a:gd name="textAreaLeft" fmla="*/ 475200 w 2160720"/>
                <a:gd name="textAreaRight" fmla="*/ 1685520 w 2160720"/>
                <a:gd name="textAreaTop" fmla="*/ 110520 h 503280"/>
                <a:gd name="textAreaBottom" fmla="*/ 39276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703dff"/>
            </a:solidFill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0800000">
              <a:off x="6156360" y="3502080"/>
              <a:ext cx="2160720" cy="503280"/>
            </a:xfrm>
            <a:custGeom>
              <a:avLst/>
              <a:gdLst>
                <a:gd name="textAreaLeft" fmla="*/ 475200 w 2160720"/>
                <a:gd name="textAreaRight" fmla="*/ 1685520 w 2160720"/>
                <a:gd name="textAreaTop" fmla="*/ 110520 h 503280"/>
                <a:gd name="textAreaBottom" fmla="*/ 39276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703dff"/>
            </a:solidFill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650880" y="3394080"/>
            <a:ext cx="182520" cy="243000"/>
          </a:xfrm>
          <a:custGeom>
            <a:avLst/>
            <a:gdLst/>
            <a:ahLst/>
            <a:rect l="l" t="t" r="r" b="b"/>
            <a:pathLst>
              <a:path w="115" h="153">
                <a:moveTo>
                  <a:pt x="115" y="0"/>
                </a:moveTo>
                <a:cubicBezTo>
                  <a:pt x="111" y="26"/>
                  <a:pt x="113" y="105"/>
                  <a:pt x="76" y="128"/>
                </a:cubicBezTo>
                <a:cubicBezTo>
                  <a:pt x="53" y="142"/>
                  <a:pt x="0" y="153"/>
                  <a:pt x="0" y="153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74880" y="4449600"/>
            <a:ext cx="244440" cy="163800"/>
          </a:xfrm>
          <a:custGeom>
            <a:avLst/>
            <a:gdLst/>
            <a:ahLst/>
            <a:rect l="l" t="t" r="r" b="b"/>
            <a:pathLst>
              <a:path w="154" h="103">
                <a:moveTo>
                  <a:pt x="0" y="0"/>
                </a:moveTo>
                <a:cubicBezTo>
                  <a:pt x="21" y="4"/>
                  <a:pt x="44" y="4"/>
                  <a:pt x="64" y="13"/>
                </a:cubicBezTo>
                <a:cubicBezTo>
                  <a:pt x="92" y="26"/>
                  <a:pt x="141" y="64"/>
                  <a:pt x="141" y="64"/>
                </a:cubicBezTo>
                <a:cubicBezTo>
                  <a:pt x="145" y="77"/>
                  <a:pt x="154" y="103"/>
                  <a:pt x="154" y="103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68360" y="3367080"/>
            <a:ext cx="141480" cy="304920"/>
          </a:xfrm>
          <a:custGeom>
            <a:avLst/>
            <a:gdLst/>
            <a:ahLst/>
            <a:rect l="l" t="t" r="r" b="b"/>
            <a:pathLst>
              <a:path w="89" h="192">
                <a:moveTo>
                  <a:pt x="0" y="0"/>
                </a:moveTo>
                <a:cubicBezTo>
                  <a:pt x="4" y="38"/>
                  <a:pt x="3" y="78"/>
                  <a:pt x="12" y="115"/>
                </a:cubicBezTo>
                <a:cubicBezTo>
                  <a:pt x="22" y="154"/>
                  <a:pt x="64" y="167"/>
                  <a:pt x="89" y="1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865160" y="4368960"/>
            <a:ext cx="268560" cy="244440"/>
          </a:xfrm>
          <a:custGeom>
            <a:avLst/>
            <a:gdLst/>
            <a:ahLst/>
            <a:rect l="l" t="t" r="r" b="b"/>
            <a:pathLst>
              <a:path w="169" h="154">
                <a:moveTo>
                  <a:pt x="169" y="0"/>
                </a:moveTo>
                <a:cubicBezTo>
                  <a:pt x="63" y="15"/>
                  <a:pt x="70" y="7"/>
                  <a:pt x="15" y="90"/>
                </a:cubicBezTo>
                <a:cubicBezTo>
                  <a:pt x="0" y="136"/>
                  <a:pt x="3" y="115"/>
                  <a:pt x="3" y="15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51280" y="4317840"/>
            <a:ext cx="114120" cy="119160"/>
          </a:xfrm>
          <a:custGeom>
            <a:avLst/>
            <a:gdLst/>
            <a:ahLst/>
            <a:rect l="l" t="t" r="r" b="b"/>
            <a:pathLst>
              <a:path w="77" h="51">
                <a:moveTo>
                  <a:pt x="0" y="0"/>
                </a:moveTo>
                <a:cubicBezTo>
                  <a:pt x="25" y="9"/>
                  <a:pt x="77" y="17"/>
                  <a:pt x="77" y="51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105440" y="4348080"/>
            <a:ext cx="134640" cy="265320"/>
          </a:xfrm>
          <a:custGeom>
            <a:avLst/>
            <a:gdLst/>
            <a:ahLst/>
            <a:rect l="l" t="t" r="r" b="b"/>
            <a:pathLst>
              <a:path w="85" h="167">
                <a:moveTo>
                  <a:pt x="0" y="0"/>
                </a:moveTo>
                <a:cubicBezTo>
                  <a:pt x="85" y="29"/>
                  <a:pt x="76" y="87"/>
                  <a:pt x="76" y="167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83040" y="4043520"/>
            <a:ext cx="396720" cy="588960"/>
          </a:xfrm>
          <a:custGeom>
            <a:avLst/>
            <a:gdLst/>
            <a:ahLst/>
            <a:rect l="l" t="t" r="r" b="b"/>
            <a:pathLst>
              <a:path w="250" h="371">
                <a:moveTo>
                  <a:pt x="0" y="0"/>
                </a:moveTo>
                <a:cubicBezTo>
                  <a:pt x="13" y="9"/>
                  <a:pt x="24" y="20"/>
                  <a:pt x="38" y="26"/>
                </a:cubicBezTo>
                <a:cubicBezTo>
                  <a:pt x="63" y="37"/>
                  <a:pt x="115" y="51"/>
                  <a:pt x="115" y="51"/>
                </a:cubicBezTo>
                <a:cubicBezTo>
                  <a:pt x="189" y="101"/>
                  <a:pt x="186" y="162"/>
                  <a:pt x="230" y="231"/>
                </a:cubicBezTo>
                <a:cubicBezTo>
                  <a:pt x="250" y="311"/>
                  <a:pt x="243" y="264"/>
                  <a:pt x="243" y="371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75400" y="3532320"/>
            <a:ext cx="219240" cy="145800"/>
          </a:xfrm>
          <a:custGeom>
            <a:avLst/>
            <a:gdLst/>
            <a:ahLst/>
            <a:rect l="l" t="t" r="r" b="b"/>
            <a:pathLst>
              <a:path w="138" h="92">
                <a:moveTo>
                  <a:pt x="138" y="0"/>
                </a:moveTo>
                <a:cubicBezTo>
                  <a:pt x="127" y="11"/>
                  <a:pt x="119" y="26"/>
                  <a:pt x="105" y="34"/>
                </a:cubicBezTo>
                <a:cubicBezTo>
                  <a:pt x="0" y="92"/>
                  <a:pt x="60" y="31"/>
                  <a:pt x="26" y="6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26240" y="3525840"/>
            <a:ext cx="250920" cy="108000"/>
          </a:xfrm>
          <a:custGeom>
            <a:avLst/>
            <a:gdLst/>
            <a:ahLst/>
            <a:rect l="l" t="t" r="r" b="b"/>
            <a:pathLst>
              <a:path w="158" h="68">
                <a:moveTo>
                  <a:pt x="0" y="0"/>
                </a:moveTo>
                <a:cubicBezTo>
                  <a:pt x="42" y="62"/>
                  <a:pt x="85" y="68"/>
                  <a:pt x="158" y="6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562800" y="4365720"/>
            <a:ext cx="250920" cy="135000"/>
          </a:xfrm>
          <a:custGeom>
            <a:avLst/>
            <a:gdLst/>
            <a:ahLst/>
            <a:rect l="l" t="t" r="r" b="b"/>
            <a:pathLst>
              <a:path w="158" h="85">
                <a:moveTo>
                  <a:pt x="0" y="6"/>
                </a:moveTo>
                <a:cubicBezTo>
                  <a:pt x="38" y="10"/>
                  <a:pt x="79" y="0"/>
                  <a:pt x="113" y="17"/>
                </a:cubicBezTo>
                <a:cubicBezTo>
                  <a:pt x="137" y="29"/>
                  <a:pt x="158" y="85"/>
                  <a:pt x="158" y="85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709040" y="4356000"/>
            <a:ext cx="179280" cy="127080"/>
          </a:xfrm>
          <a:custGeom>
            <a:avLst/>
            <a:gdLst/>
            <a:ahLst/>
            <a:rect l="l" t="t" r="r" b="b"/>
            <a:pathLst>
              <a:path w="113" h="80">
                <a:moveTo>
                  <a:pt x="113" y="0"/>
                </a:moveTo>
                <a:cubicBezTo>
                  <a:pt x="71" y="9"/>
                  <a:pt x="0" y="21"/>
                  <a:pt x="0" y="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275520" y="3908520"/>
            <a:ext cx="54000" cy="36360"/>
          </a:xfrm>
          <a:custGeom>
            <a:avLst/>
            <a:gdLst/>
            <a:ahLst/>
            <a:rect l="l" t="t" r="r" b="b"/>
            <a:pathLst>
              <a:path w="34" h="23">
                <a:moveTo>
                  <a:pt x="0" y="0"/>
                </a:moveTo>
                <a:cubicBezTo>
                  <a:pt x="11" y="8"/>
                  <a:pt x="34" y="23"/>
                  <a:pt x="34" y="23"/>
                </a:cubicBezTo>
                <a:cubicBezTo>
                  <a:pt x="34" y="23"/>
                  <a:pt x="11" y="8"/>
                  <a:pt x="0" y="0"/>
                </a:cubicBezTo>
                <a:close/>
              </a:path>
            </a:pathLst>
          </a:custGeom>
          <a:solidFill>
            <a:srgbClr val="ffef66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365880" y="4016520"/>
            <a:ext cx="76320" cy="239400"/>
          </a:xfrm>
          <a:custGeom>
            <a:avLst/>
            <a:gdLst/>
            <a:ahLst/>
            <a:rect l="l" t="t" r="r" b="b"/>
            <a:pathLst>
              <a:path w="48" h="151">
                <a:moveTo>
                  <a:pt x="48" y="0"/>
                </a:moveTo>
                <a:cubicBezTo>
                  <a:pt x="44" y="23"/>
                  <a:pt x="46" y="47"/>
                  <a:pt x="37" y="68"/>
                </a:cubicBezTo>
                <a:cubicBezTo>
                  <a:pt x="0" y="151"/>
                  <a:pt x="3" y="75"/>
                  <a:pt x="3" y="113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104320" y="3873600"/>
            <a:ext cx="79200" cy="125280"/>
          </a:xfrm>
          <a:custGeom>
            <a:avLst/>
            <a:gdLst/>
            <a:ahLst/>
            <a:rect l="l" t="t" r="r" b="b"/>
            <a:pathLst>
              <a:path w="50" h="79">
                <a:moveTo>
                  <a:pt x="50" y="0"/>
                </a:moveTo>
                <a:cubicBezTo>
                  <a:pt x="0" y="32"/>
                  <a:pt x="16" y="9"/>
                  <a:pt x="16" y="7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997760" y="4016520"/>
            <a:ext cx="69840" cy="179280"/>
          </a:xfrm>
          <a:custGeom>
            <a:avLst/>
            <a:gdLst/>
            <a:ahLst/>
            <a:rect l="l" t="t" r="r" b="b"/>
            <a:pathLst>
              <a:path w="44" h="113">
                <a:moveTo>
                  <a:pt x="10" y="0"/>
                </a:moveTo>
                <a:cubicBezTo>
                  <a:pt x="23" y="101"/>
                  <a:pt x="0" y="69"/>
                  <a:pt x="44" y="113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372360" y="3789360"/>
            <a:ext cx="215640" cy="503280"/>
          </a:xfrm>
          <a:custGeom>
            <a:avLst/>
            <a:gdLst/>
            <a:ahLst/>
            <a:rect l="l" t="t" r="r" b="b"/>
            <a:pathLst>
              <a:path w="79" h="282">
                <a:moveTo>
                  <a:pt x="0" y="0"/>
                </a:moveTo>
                <a:cubicBezTo>
                  <a:pt x="43" y="29"/>
                  <a:pt x="63" y="74"/>
                  <a:pt x="79" y="124"/>
                </a:cubicBezTo>
                <a:cubicBezTo>
                  <a:pt x="75" y="165"/>
                  <a:pt x="76" y="207"/>
                  <a:pt x="68" y="248"/>
                </a:cubicBezTo>
                <a:cubicBezTo>
                  <a:pt x="65" y="261"/>
                  <a:pt x="46" y="282"/>
                  <a:pt x="46" y="28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896240" y="3782880"/>
            <a:ext cx="136440" cy="520920"/>
          </a:xfrm>
          <a:custGeom>
            <a:avLst/>
            <a:gdLst/>
            <a:ahLst/>
            <a:rect l="l" t="t" r="r" b="b"/>
            <a:pathLst>
              <a:path w="86" h="328">
                <a:moveTo>
                  <a:pt x="86" y="0"/>
                </a:moveTo>
                <a:cubicBezTo>
                  <a:pt x="29" y="18"/>
                  <a:pt x="55" y="0"/>
                  <a:pt x="29" y="79"/>
                </a:cubicBezTo>
                <a:cubicBezTo>
                  <a:pt x="25" y="90"/>
                  <a:pt x="18" y="113"/>
                  <a:pt x="18" y="113"/>
                </a:cubicBezTo>
                <a:cubicBezTo>
                  <a:pt x="26" y="234"/>
                  <a:pt x="0" y="260"/>
                  <a:pt x="63" y="32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18080" y="5126040"/>
            <a:ext cx="96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35640" y="5157720"/>
            <a:ext cx="96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33440" y="5157720"/>
            <a:ext cx="127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0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956720" y="6021360"/>
            <a:ext cx="936360" cy="76536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b200"/>
                </a:solidFill>
                <a:uFillTx/>
                <a:latin typeface="Arial"/>
                <a:hlinkClick r:id="rId1"/>
              </a:rPr>
              <a:t>奖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981080" y="152388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</a:rPr>
              <a:t>剪剪看，看谁的手巧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28800" y="29718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要求：剪一刀，分别剪出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个角、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个角、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个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"/>
          <p:cNvGrpSpPr/>
          <p:nvPr/>
        </p:nvGrpSpPr>
        <p:grpSpPr>
          <a:xfrm>
            <a:off x="1905120" y="1600200"/>
            <a:ext cx="5104800" cy="3124080"/>
            <a:chOff x="1905120" y="1600200"/>
            <a:chExt cx="5104800" cy="3124080"/>
          </a:xfrm>
        </p:grpSpPr>
        <p:sp>
          <p:nvSpPr>
            <p:cNvPr id="450" name=""/>
            <p:cNvSpPr/>
            <p:nvPr/>
          </p:nvSpPr>
          <p:spPr>
            <a:xfrm>
              <a:off x="1905120" y="1600200"/>
              <a:ext cx="1828440" cy="990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81480" y="1600200"/>
              <a:ext cx="1828440" cy="990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04960" y="3733920"/>
              <a:ext cx="1828440" cy="990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5867280" y="1219320"/>
            <a:ext cx="457200" cy="16002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71800" y="3457440"/>
            <a:ext cx="2666880" cy="1447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38280" y="1295280"/>
            <a:ext cx="167652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2700360" y="235080"/>
            <a:ext cx="446400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5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华文行楷"/>
              </a:rPr>
              <a:t>谢谢！</a:t>
            </a:r>
            <a:endParaRPr b="1" lang="en-US" sz="8000" spc="-1" strike="noStrike">
              <a:ln w="0">
                <a:noFill/>
              </a:ln>
              <a:gradFill rotWithShape="0">
                <a:gsLst>
                  <a:gs pos="0">
                    <a:srgbClr val="ff66ff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diamond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09480" y="1066680"/>
            <a:ext cx="75438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角的初步认识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 rot="3426000">
            <a:off x="555120" y="892080"/>
            <a:ext cx="2063880" cy="209556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1648080" y="1642320"/>
            <a:ext cx="586800" cy="659520"/>
            <a:chOff x="1648080" y="1642320"/>
            <a:chExt cx="586800" cy="659520"/>
          </a:xfrm>
        </p:grpSpPr>
        <p:sp>
          <p:nvSpPr>
            <p:cNvPr id="173" name=""/>
            <p:cNvSpPr/>
            <p:nvPr/>
          </p:nvSpPr>
          <p:spPr>
            <a:xfrm flipH="1">
              <a:off x="1648080" y="1642320"/>
              <a:ext cx="586800" cy="289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1648080" y="1931760"/>
              <a:ext cx="539640" cy="370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348000" y="620640"/>
            <a:ext cx="2448000" cy="251928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4572000" y="1411200"/>
            <a:ext cx="360360" cy="505080"/>
            <a:chOff x="4572000" y="1411200"/>
            <a:chExt cx="360360" cy="505080"/>
          </a:xfrm>
        </p:grpSpPr>
        <p:sp>
          <p:nvSpPr>
            <p:cNvPr id="177" name=""/>
            <p:cNvSpPr/>
            <p:nvPr/>
          </p:nvSpPr>
          <p:spPr>
            <a:xfrm>
              <a:off x="4586040" y="1411200"/>
              <a:ext cx="0" cy="505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2000" y="1916280"/>
              <a:ext cx="36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300720" y="1341360"/>
            <a:ext cx="2772000" cy="84924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6472080" y="1377360"/>
            <a:ext cx="2457360" cy="831600"/>
            <a:chOff x="6472080" y="1377360"/>
            <a:chExt cx="2457360" cy="831600"/>
          </a:xfrm>
        </p:grpSpPr>
        <p:sp>
          <p:nvSpPr>
            <p:cNvPr id="181" name=""/>
            <p:cNvSpPr/>
            <p:nvPr/>
          </p:nvSpPr>
          <p:spPr>
            <a:xfrm>
              <a:off x="6472080" y="1377360"/>
              <a:ext cx="1219680" cy="831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7691760" y="1377720"/>
              <a:ext cx="1237680" cy="83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8317080" y="6524640"/>
            <a:ext cx="358560" cy="333360"/>
          </a:xfrm>
          <a:custGeom>
            <a:avLst/>
            <a:gdLst>
              <a:gd name="textAreaLeft" fmla="*/ 20520 w 358560"/>
              <a:gd name="textAreaRight" fmla="*/ 338040 w 358560"/>
              <a:gd name="textAreaTop" fmla="*/ 20520 h 333360"/>
              <a:gd name="textAreaBottom" fmla="*/ 312840 h 333360"/>
            </a:gdLst>
            <a:ahLst/>
            <a:rect l="textAreaLeft" t="textAreaTop" r="textAreaRight" b="textAreaBottom"/>
            <a:pathLst>
              <a:path w="23231" h="21600">
                <a:moveTo>
                  <a:pt x="0" y="0"/>
                </a:moveTo>
                <a:lnTo>
                  <a:pt x="23231" y="0"/>
                </a:lnTo>
                <a:lnTo>
                  <a:pt x="23231" y="21600"/>
                </a:lnTo>
                <a:lnTo>
                  <a:pt x="0" y="21600"/>
                </a:lnTo>
                <a:close/>
              </a:path>
              <a:path fill="lightenLess" w="23231" h="21600">
                <a:moveTo>
                  <a:pt x="0" y="0"/>
                </a:moveTo>
                <a:lnTo>
                  <a:pt x="23231" y="0"/>
                </a:lnTo>
                <a:lnTo>
                  <a:pt x="21881" y="1350"/>
                </a:lnTo>
                <a:lnTo>
                  <a:pt x="1350" y="1350"/>
                </a:lnTo>
                <a:close/>
              </a:path>
              <a:path fill="darken" w="23231" h="21600">
                <a:moveTo>
                  <a:pt x="23231" y="0"/>
                </a:moveTo>
                <a:lnTo>
                  <a:pt x="23231" y="21600"/>
                </a:lnTo>
                <a:lnTo>
                  <a:pt x="21881" y="20250"/>
                </a:lnTo>
                <a:lnTo>
                  <a:pt x="21881" y="1350"/>
                </a:lnTo>
                <a:close/>
              </a:path>
              <a:path fill="darkenLess" w="23231" h="21600">
                <a:moveTo>
                  <a:pt x="2323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881" y="20250"/>
                </a:lnTo>
                <a:close/>
              </a:path>
              <a:path fill="lighten" w="2323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3231" h="21600">
                <a:moveTo>
                  <a:pt x="4572" y="3756"/>
                </a:moveTo>
                <a:lnTo>
                  <a:pt x="18659" y="10800"/>
                </a:lnTo>
                <a:lnTo>
                  <a:pt x="4572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76360" y="6524640"/>
            <a:ext cx="431640" cy="333360"/>
          </a:xfrm>
          <a:custGeom>
            <a:avLst/>
            <a:gdLst>
              <a:gd name="textAreaLeft" fmla="*/ 20520 w 431640"/>
              <a:gd name="textAreaRight" fmla="*/ 411120 w 431640"/>
              <a:gd name="textAreaTop" fmla="*/ 20520 h 333360"/>
              <a:gd name="textAreaBottom" fmla="*/ 31284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611" y="1350"/>
                </a:lnTo>
                <a:lnTo>
                  <a:pt x="1350" y="135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611" y="20250"/>
                </a:lnTo>
                <a:lnTo>
                  <a:pt x="26611" y="135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611" y="2025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961" h="21600">
                <a:moveTo>
                  <a:pt x="6937" y="10800"/>
                </a:moveTo>
                <a:lnTo>
                  <a:pt x="21024" y="3756"/>
                </a:lnTo>
                <a:lnTo>
                  <a:pt x="21024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649880" y="3987000"/>
            <a:ext cx="587160" cy="659520"/>
            <a:chOff x="1649880" y="3987000"/>
            <a:chExt cx="587160" cy="659520"/>
          </a:xfrm>
        </p:grpSpPr>
        <p:sp>
          <p:nvSpPr>
            <p:cNvPr id="186" name=""/>
            <p:cNvSpPr/>
            <p:nvPr/>
          </p:nvSpPr>
          <p:spPr>
            <a:xfrm flipH="1">
              <a:off x="1649880" y="3987000"/>
              <a:ext cx="587160" cy="289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1649880" y="4276440"/>
              <a:ext cx="540000" cy="370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643280" y="4148280"/>
            <a:ext cx="360360" cy="504720"/>
            <a:chOff x="4643280" y="4148280"/>
            <a:chExt cx="360360" cy="504720"/>
          </a:xfrm>
        </p:grpSpPr>
        <p:sp>
          <p:nvSpPr>
            <p:cNvPr id="189" name=""/>
            <p:cNvSpPr/>
            <p:nvPr/>
          </p:nvSpPr>
          <p:spPr>
            <a:xfrm>
              <a:off x="4657320" y="4148280"/>
              <a:ext cx="0" cy="504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43280" y="4653000"/>
              <a:ext cx="36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254640" y="3898440"/>
            <a:ext cx="2457360" cy="831600"/>
            <a:chOff x="6254640" y="3898440"/>
            <a:chExt cx="2457360" cy="831600"/>
          </a:xfrm>
        </p:grpSpPr>
        <p:sp>
          <p:nvSpPr>
            <p:cNvPr id="192" name=""/>
            <p:cNvSpPr/>
            <p:nvPr/>
          </p:nvSpPr>
          <p:spPr>
            <a:xfrm>
              <a:off x="6254640" y="3898440"/>
              <a:ext cx="1219680" cy="831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7474320" y="3898800"/>
              <a:ext cx="1237680" cy="83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2895120" y="1828800"/>
            <a:ext cx="3657960" cy="2590920"/>
            <a:chOff x="2895120" y="1828800"/>
            <a:chExt cx="3657960" cy="2590920"/>
          </a:xfrm>
        </p:grpSpPr>
        <p:sp>
          <p:nvSpPr>
            <p:cNvPr id="195" name=""/>
            <p:cNvSpPr/>
            <p:nvPr/>
          </p:nvSpPr>
          <p:spPr>
            <a:xfrm flipH="1">
              <a:off x="2895120" y="1828800"/>
              <a:ext cx="2590920" cy="2590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95480" y="4419720"/>
              <a:ext cx="3657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276720" y="2514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47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顶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4648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895120" y="1828800"/>
            <a:ext cx="2590920" cy="2590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4419720"/>
            <a:ext cx="3657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7400" y="76212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角的组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43240" y="4114800"/>
            <a:ext cx="185760" cy="285840"/>
          </a:xfrm>
          <a:custGeom>
            <a:avLst/>
            <a:gdLst/>
            <a:ahLst/>
            <a:rect l="l" t="t" r="r" b="b"/>
            <a:pathLst>
              <a:path w="117" h="180">
                <a:moveTo>
                  <a:pt x="0" y="0"/>
                </a:moveTo>
                <a:cubicBezTo>
                  <a:pt x="18" y="6"/>
                  <a:pt x="36" y="12"/>
                  <a:pt x="54" y="18"/>
                </a:cubicBezTo>
                <a:cubicBezTo>
                  <a:pt x="109" y="36"/>
                  <a:pt x="117" y="134"/>
                  <a:pt x="117" y="1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4343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295280" y="5410080"/>
            <a:ext cx="6934320" cy="1066680"/>
            <a:chOff x="1295280" y="5410080"/>
            <a:chExt cx="6934320" cy="1066680"/>
          </a:xfrm>
        </p:grpSpPr>
        <p:sp>
          <p:nvSpPr>
            <p:cNvPr id="206" name=""/>
            <p:cNvSpPr/>
            <p:nvPr/>
          </p:nvSpPr>
          <p:spPr>
            <a:xfrm>
              <a:off x="1295280" y="5410080"/>
              <a:ext cx="6934320" cy="10666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47560" y="5562360"/>
              <a:ext cx="6782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一个角有一个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顶点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   两条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边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324000" y="0"/>
            <a:ext cx="8568720" cy="5971680"/>
            <a:chOff x="324000" y="0"/>
            <a:chExt cx="8568720" cy="597168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2729880" cy="181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2826360" y="72360"/>
              <a:ext cx="606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9900"/>
                  </a:solidFill>
                  <a:latin typeface="Times New Roman"/>
                </a:rPr>
                <a:t>下面的图形，哪些是角？哪些不是角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930240" y="1813320"/>
              <a:ext cx="1744200" cy="1233000"/>
              <a:chOff x="930240" y="1813320"/>
              <a:chExt cx="1744200" cy="1233000"/>
            </a:xfrm>
          </p:grpSpPr>
          <p:sp>
            <p:nvSpPr>
              <p:cNvPr id="212" name=""/>
              <p:cNvSpPr/>
              <p:nvPr/>
            </p:nvSpPr>
            <p:spPr>
              <a:xfrm>
                <a:off x="930240" y="2539080"/>
                <a:ext cx="1744200" cy="507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flipV="1">
                <a:off x="1384920" y="1813320"/>
                <a:ext cx="1289160" cy="1233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3736440" y="1740960"/>
              <a:ext cx="1895760" cy="1160640"/>
            </a:xfrm>
            <a:custGeom>
              <a:avLst/>
              <a:gdLst/>
              <a:ahLst/>
              <a:rect l="l" t="t" r="r" b="b"/>
              <a:pathLst>
                <a:path w="1671" h="1011">
                  <a:moveTo>
                    <a:pt x="1244" y="0"/>
                  </a:moveTo>
                  <a:cubicBezTo>
                    <a:pt x="1051" y="142"/>
                    <a:pt x="0" y="695"/>
                    <a:pt x="71" y="853"/>
                  </a:cubicBezTo>
                  <a:cubicBezTo>
                    <a:pt x="142" y="1011"/>
                    <a:pt x="1338" y="929"/>
                    <a:pt x="1671" y="94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466320" y="1450800"/>
              <a:ext cx="2274480" cy="1451160"/>
              <a:chOff x="6466320" y="1450800"/>
              <a:chExt cx="2274480" cy="1451160"/>
            </a:xfrm>
          </p:grpSpPr>
          <p:sp>
            <p:nvSpPr>
              <p:cNvPr id="216" name=""/>
              <p:cNvSpPr/>
              <p:nvPr/>
            </p:nvSpPr>
            <p:spPr>
              <a:xfrm>
                <a:off x="6466320" y="1450800"/>
                <a:ext cx="530640" cy="145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996960" y="2901960"/>
                <a:ext cx="1743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5522040" y="4078440"/>
              <a:ext cx="1018800" cy="120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6566760" y="4120920"/>
              <a:ext cx="1265040" cy="1189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143800" y="3845160"/>
              <a:ext cx="1819800" cy="1523520"/>
              <a:chOff x="2143800" y="3845160"/>
              <a:chExt cx="1819800" cy="1523520"/>
            </a:xfrm>
          </p:grpSpPr>
          <p:sp>
            <p:nvSpPr>
              <p:cNvPr id="221" name=""/>
              <p:cNvSpPr/>
              <p:nvPr/>
            </p:nvSpPr>
            <p:spPr>
              <a:xfrm>
                <a:off x="2143800" y="5368680"/>
                <a:ext cx="18198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19400" y="3845160"/>
                <a:ext cx="1743840" cy="1160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1309680" y="3047040"/>
              <a:ext cx="121284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19000" y="3047040"/>
              <a:ext cx="8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00440" y="3047040"/>
              <a:ext cx="83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   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02320" y="5512320"/>
              <a:ext cx="60624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14760" y="5513760"/>
              <a:ext cx="60624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7380360" y="2060640"/>
            <a:ext cx="5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54960" y="425916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00520" y="470052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84440" y="232416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94360" y="22590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51160" y="29242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46800" y="3933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64720" y="4437000"/>
            <a:ext cx="10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×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73240" y="388152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19280" y="2924280"/>
            <a:ext cx="4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96360" y="3068640"/>
            <a:ext cx="4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55560" y="2997360"/>
            <a:ext cx="10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828800" y="609480"/>
            <a:ext cx="556272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95480" y="83808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判断角的儿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2819520"/>
            <a:ext cx="7086600" cy="3429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90920" y="3124080"/>
            <a:ext cx="6553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角的顶点尖尖的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角的两边直直的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不尖不直不是角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85920" cy="20574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76320" y="4724280"/>
            <a:ext cx="14446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835280" y="2743200"/>
            <a:ext cx="509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和你的同桌说一说你周围的哪些地方有角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362320" y="1828800"/>
            <a:ext cx="1752480" cy="561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76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324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楷体_GB2312"/>
              </a:rPr>
              <a:t>找一找</a:t>
            </a:r>
            <a:endParaRPr b="1" lang="en-US" sz="4400" spc="1" strike="noStrike">
              <a:ln w="324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楷体_GB2312"/>
              <a:ea typeface="楷体_GB2312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213000"/>
            <a:ext cx="1908000" cy="2951280"/>
          </a:xfrm>
          <a:custGeom>
            <a:avLst/>
            <a:gdLst/>
            <a:ahLst/>
            <a:rect l="l" t="t" r="r" b="b"/>
            <a:pathLst>
              <a:path w="2630" h="3085">
                <a:moveTo>
                  <a:pt x="1681" y="187"/>
                </a:moveTo>
                <a:lnTo>
                  <a:pt x="1470" y="49"/>
                </a:lnTo>
                <a:lnTo>
                  <a:pt x="1270" y="0"/>
                </a:lnTo>
                <a:lnTo>
                  <a:pt x="907" y="0"/>
                </a:lnTo>
                <a:lnTo>
                  <a:pt x="776" y="86"/>
                </a:lnTo>
                <a:lnTo>
                  <a:pt x="776" y="141"/>
                </a:lnTo>
                <a:lnTo>
                  <a:pt x="529" y="443"/>
                </a:lnTo>
                <a:lnTo>
                  <a:pt x="565" y="516"/>
                </a:lnTo>
                <a:lnTo>
                  <a:pt x="638" y="543"/>
                </a:lnTo>
                <a:lnTo>
                  <a:pt x="629" y="717"/>
                </a:lnTo>
                <a:lnTo>
                  <a:pt x="730" y="744"/>
                </a:lnTo>
                <a:lnTo>
                  <a:pt x="803" y="927"/>
                </a:lnTo>
                <a:lnTo>
                  <a:pt x="968" y="1028"/>
                </a:lnTo>
                <a:lnTo>
                  <a:pt x="1114" y="1183"/>
                </a:lnTo>
                <a:lnTo>
                  <a:pt x="1059" y="1220"/>
                </a:lnTo>
                <a:lnTo>
                  <a:pt x="922" y="1220"/>
                </a:lnTo>
                <a:lnTo>
                  <a:pt x="702" y="1147"/>
                </a:lnTo>
                <a:lnTo>
                  <a:pt x="657" y="1000"/>
                </a:lnTo>
                <a:lnTo>
                  <a:pt x="574" y="982"/>
                </a:lnTo>
                <a:lnTo>
                  <a:pt x="236" y="1092"/>
                </a:lnTo>
                <a:lnTo>
                  <a:pt x="0" y="1179"/>
                </a:lnTo>
                <a:lnTo>
                  <a:pt x="44" y="1366"/>
                </a:lnTo>
                <a:lnTo>
                  <a:pt x="17" y="1412"/>
                </a:lnTo>
                <a:lnTo>
                  <a:pt x="35" y="1558"/>
                </a:lnTo>
                <a:lnTo>
                  <a:pt x="26" y="1668"/>
                </a:lnTo>
                <a:lnTo>
                  <a:pt x="117" y="1723"/>
                </a:lnTo>
                <a:lnTo>
                  <a:pt x="209" y="1951"/>
                </a:lnTo>
                <a:lnTo>
                  <a:pt x="300" y="2015"/>
                </a:lnTo>
                <a:lnTo>
                  <a:pt x="474" y="1979"/>
                </a:lnTo>
                <a:lnTo>
                  <a:pt x="574" y="2180"/>
                </a:lnTo>
                <a:lnTo>
                  <a:pt x="657" y="2472"/>
                </a:lnTo>
                <a:lnTo>
                  <a:pt x="666" y="3012"/>
                </a:lnTo>
                <a:lnTo>
                  <a:pt x="1004" y="3085"/>
                </a:lnTo>
                <a:lnTo>
                  <a:pt x="1416" y="3048"/>
                </a:lnTo>
                <a:lnTo>
                  <a:pt x="1608" y="2966"/>
                </a:lnTo>
                <a:lnTo>
                  <a:pt x="1882" y="2902"/>
                </a:lnTo>
                <a:lnTo>
                  <a:pt x="1882" y="2747"/>
                </a:lnTo>
                <a:lnTo>
                  <a:pt x="1754" y="2664"/>
                </a:lnTo>
                <a:lnTo>
                  <a:pt x="1800" y="2600"/>
                </a:lnTo>
                <a:lnTo>
                  <a:pt x="1717" y="2555"/>
                </a:lnTo>
                <a:lnTo>
                  <a:pt x="1653" y="2472"/>
                </a:lnTo>
                <a:lnTo>
                  <a:pt x="1617" y="2417"/>
                </a:lnTo>
                <a:lnTo>
                  <a:pt x="1672" y="2381"/>
                </a:lnTo>
                <a:lnTo>
                  <a:pt x="1723" y="2177"/>
                </a:lnTo>
                <a:lnTo>
                  <a:pt x="1745" y="2061"/>
                </a:lnTo>
                <a:lnTo>
                  <a:pt x="2046" y="2189"/>
                </a:lnTo>
                <a:lnTo>
                  <a:pt x="2147" y="2171"/>
                </a:lnTo>
                <a:lnTo>
                  <a:pt x="2229" y="1997"/>
                </a:lnTo>
                <a:lnTo>
                  <a:pt x="2293" y="1951"/>
                </a:lnTo>
                <a:lnTo>
                  <a:pt x="2504" y="1988"/>
                </a:lnTo>
                <a:lnTo>
                  <a:pt x="2549" y="1915"/>
                </a:lnTo>
                <a:lnTo>
                  <a:pt x="2577" y="1823"/>
                </a:lnTo>
                <a:lnTo>
                  <a:pt x="2630" y="1723"/>
                </a:lnTo>
                <a:lnTo>
                  <a:pt x="2549" y="1649"/>
                </a:lnTo>
                <a:lnTo>
                  <a:pt x="2622" y="1512"/>
                </a:lnTo>
                <a:lnTo>
                  <a:pt x="2558" y="1494"/>
                </a:lnTo>
                <a:lnTo>
                  <a:pt x="2440" y="1540"/>
                </a:lnTo>
                <a:lnTo>
                  <a:pt x="2366" y="1531"/>
                </a:lnTo>
                <a:lnTo>
                  <a:pt x="2284" y="1659"/>
                </a:lnTo>
                <a:lnTo>
                  <a:pt x="2174" y="1649"/>
                </a:lnTo>
                <a:lnTo>
                  <a:pt x="2046" y="1677"/>
                </a:lnTo>
                <a:lnTo>
                  <a:pt x="2120" y="1485"/>
                </a:lnTo>
                <a:lnTo>
                  <a:pt x="2229" y="1412"/>
                </a:lnTo>
                <a:lnTo>
                  <a:pt x="2293" y="1311"/>
                </a:lnTo>
                <a:lnTo>
                  <a:pt x="2266" y="1192"/>
                </a:lnTo>
                <a:lnTo>
                  <a:pt x="2238" y="1101"/>
                </a:lnTo>
                <a:lnTo>
                  <a:pt x="2275" y="964"/>
                </a:lnTo>
                <a:lnTo>
                  <a:pt x="2494" y="726"/>
                </a:lnTo>
                <a:lnTo>
                  <a:pt x="2458" y="561"/>
                </a:lnTo>
                <a:lnTo>
                  <a:pt x="2366" y="424"/>
                </a:lnTo>
                <a:lnTo>
                  <a:pt x="2174" y="333"/>
                </a:lnTo>
                <a:lnTo>
                  <a:pt x="1992" y="251"/>
                </a:lnTo>
                <a:lnTo>
                  <a:pt x="1681" y="187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5435640" y="2565360"/>
            <a:ext cx="1368360" cy="1943280"/>
            <a:chOff x="5435640" y="2565360"/>
            <a:chExt cx="1368360" cy="1943280"/>
          </a:xfrm>
        </p:grpSpPr>
        <p:sp>
          <p:nvSpPr>
            <p:cNvPr id="252" name=""/>
            <p:cNvSpPr/>
            <p:nvPr/>
          </p:nvSpPr>
          <p:spPr>
            <a:xfrm>
              <a:off x="5435640" y="2565360"/>
              <a:ext cx="1224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59640" y="2565360"/>
              <a:ext cx="144360" cy="194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971640" y="981000"/>
            <a:ext cx="215640" cy="360360"/>
            <a:chOff x="971640" y="981000"/>
            <a:chExt cx="215640" cy="360360"/>
          </a:xfrm>
        </p:grpSpPr>
        <p:sp>
          <p:nvSpPr>
            <p:cNvPr id="255" name=""/>
            <p:cNvSpPr/>
            <p:nvPr/>
          </p:nvSpPr>
          <p:spPr>
            <a:xfrm>
              <a:off x="971640" y="981000"/>
              <a:ext cx="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71640" y="981000"/>
              <a:ext cx="2156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12:54:36Z</dcterms:created>
  <dc:creator>karon</dc:creator>
  <dc:description/>
  <dc:language>en-US</dc:language>
  <cp:lastModifiedBy>微软用户</cp:lastModifiedBy>
  <dcterms:modified xsi:type="dcterms:W3CDTF">2015-09-14T09:04:15Z</dcterms:modified>
  <cp:revision>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